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556-BA0D-4545-8EDB-83739582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930-FB25-4A64-AE32-80195CB0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22C-23D4-4380-AB40-92DA28C3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8B2-F276-4722-A1F5-E9DD3632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A49-046D-4409-B141-BC8C493A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32E-DA50-4184-B793-F35FE13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96C-370E-4984-ACCC-DE1B1D6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11E-82D8-4953-943A-2D16666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B78-E7D9-4B8E-932B-C3E0A4C3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B77-E660-4A00-B7D6-1104F7A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29E-87BA-4A74-B151-41B6DE7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813-F3B8-4DBE-A188-54D2AF4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A18-6AA0-4814-8F40-63E80E85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námica de Cuencas Sediment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sidencia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33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olevantamiento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6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principales de Cuen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ll apart (transt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post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crat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Compr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exto tectó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extens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delimitada por fallas nor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2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ona de la litósfera donde ha a ocurrido deformación extensional. Gran extensión y adelgazamiento litosfé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&gt;200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&gt;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efecto “doming” (alzamiento térmico) en el centro menos importante que la subsidenci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 cuencas exten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imero sedimentos son continetales (lacustres A&gt; S o fluviales S &gt;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n el borde alzado existe una superficie de erosión que permite la generación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xiste agrad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l sistema es endorreico se formaran evapori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xiste contacto con el océano se encontraran depósitos marinos que pasarán de proximales a distales en la medida que se profundiza l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xtensiva" descr=""/>
          <p:cNvPicPr/>
          <p:nvPr/>
        </p:nvPicPr>
        <p:blipFill>
          <a:blip r:embed="rId1"/>
          <a:stretch/>
        </p:blipFill>
        <p:spPr>
          <a:xfrm>
            <a:off x="2373480" y="1057320"/>
            <a:ext cx="4395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arp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scarp2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scarp3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347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38320" y="581040"/>
            <a:ext cx="6867360" cy="5511600"/>
            <a:chOff x="1138320" y="581040"/>
            <a:chExt cx="6867360" cy="5511600"/>
          </a:xfrm>
        </p:grpSpPr>
        <p:grpSp>
          <p:nvGrpSpPr>
            <p:cNvPr id="80" name=""/>
            <p:cNvGrpSpPr/>
            <p:nvPr/>
          </p:nvGrpSpPr>
          <p:grpSpPr>
            <a:xfrm>
              <a:off x="1143000" y="585720"/>
              <a:ext cx="6858000" cy="5502240"/>
              <a:chOff x="1143000" y="585720"/>
              <a:chExt cx="6858000" cy="550224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355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38320" y="581040"/>
              <a:ext cx="6867360" cy="5511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image46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97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Nivel Base: nivel de equilibrio teórico sin erosión ni sedimentación. Sobre éste domina la erosión y bajo éste la sedi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acio de acomodación (A): Espacio libre dentro de una cuenca para preservar s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ujo sedimentario (S): aporte de sedimentos a un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sedimentaria: lugar donde hay sedimentación y preservacion de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usas que generan un Rift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cción del manto.  (Rift Pa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umas. (Rift Act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lapso gravit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lab pull y Ridge pu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omodo contraccional (Indentación tectón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554040"/>
            <a:ext cx="6629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ull apart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estructuras limitadas por dos fallas transformantes cuya geometría en relevo deja una depresión intermedia que sirve de área de depósito. Son fallas de dirección o de desgar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dos en sistema trascu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tores con fallas normales y de r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n variación de profundidad entre los bordes y el centro de la cue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cho 10-5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-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frío: deformación de la corteza fal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caliente: deformación de toda la litósfe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os bordes de la cuenca se encuentran sistemas de conos aluviales y brec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&gt;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depósitos lacustres inic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 cuenca se abre al océano habrá sedimentación marina profu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ullapart" descr=""/>
          <p:cNvPicPr/>
          <p:nvPr/>
        </p:nvPicPr>
        <p:blipFill>
          <a:blip r:embed="rId1"/>
          <a:stretch/>
        </p:blipFill>
        <p:spPr>
          <a:xfrm>
            <a:off x="1965240" y="612720"/>
            <a:ext cx="5211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post-exten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roduce flexuramiento post extensión de tipo termal o isostacia. La subsidencia termal disminuye con el tiempo. La subsidencia por carga o isostacia es mayor o igual que la 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f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rgen pas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ost extensión sobre corteza contin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No hay deform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500- 2000 Km (Forma de pap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fundidad 3-5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de formación 100- 200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ordes no se alzan o lo hacen ligeramente y el centro sub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ja velocidad de subsidencia (&lt; 50 m/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se está en un continente se produce el desarrollo de un sistema fluv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sta corresponde a un sistema marino habra desarrollo de deltas y cuencas carbon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general son sistemas de baja energía sin presencia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ntracratonica" descr=""/>
          <p:cNvPicPr/>
          <p:nvPr/>
        </p:nvPicPr>
        <p:blipFill>
          <a:blip r:embed="rId1"/>
          <a:stretch/>
        </p:blipFill>
        <p:spPr>
          <a:xfrm>
            <a:off x="1965240" y="569880"/>
            <a:ext cx="5211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0-3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~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0-20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Depósitos marinos de platafor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por subsidencia termal hay gran espacio de acomodación por lo que se ve retrogradación, luego subdicencia decrece lo que se ve reflejado en prograd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erfil de depos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6104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argenpasivo" descr=""/>
          <p:cNvPicPr/>
          <p:nvPr/>
        </p:nvPicPr>
        <p:blipFill>
          <a:blip r:embed="rId1"/>
          <a:stretch/>
        </p:blipFill>
        <p:spPr>
          <a:xfrm>
            <a:off x="2359080" y="960480"/>
            <a:ext cx="4425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Compres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exuración por carga (cabalg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100- 300 Km, dependiendo de la rigidez flexural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rgo depende del orógeno al cual se relaci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20-3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subsidencia 10 m/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y el centro se mantiene fijo o bien se alza liger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Deformación va migrando hacia el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Generación de fallas inversas al interior de la cuenca deformando los sedimentos generando dos cuencas menores (Piggy 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 medida que la cuenca se rellena de sedimentos aumenta la rigidez flexural por lo cual disminuye la subsidencia y la cuenca se ensanc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pueden generar cuencas intramontanas y trian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n la base se encuentran depositos de tipo turbidíticos por alta pendiente y rápida subsid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uede haber inluencia mar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Como la cordillera va creciendo va aumentando el flujo sedimentario unido a una disminución de la subsidencia puede producir una colmatración de la cuenca y predominio de depósitos continentales en los niveles superiore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ntepais" descr=""/>
          <p:cNvPicPr/>
          <p:nvPr/>
        </p:nvPicPr>
        <p:blipFill>
          <a:blip r:embed="rId1"/>
          <a:stretch/>
        </p:blipFill>
        <p:spPr>
          <a:xfrm>
            <a:off x="1928880" y="334800"/>
            <a:ext cx="52848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de ante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Se produce por el crecimiento y alzamiento del prisma de acreción que genera una subsidencia relativa en el antear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Km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Largo 450-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20-4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locidad de subsidencia variable (25 a 250 m/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Bordes no se alzan o ligeramente y centro sub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un comportamiento cí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eservación de sedimentos en la cu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β erosión por subdu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 etapa de creación del prisma se produce depositación de turbiditas hacia la f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cuenca tiene principalemente depositos fluviales deltaicos y carbona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ntearco" descr=""/>
          <p:cNvPicPr/>
          <p:nvPr/>
        </p:nvPicPr>
        <p:blipFill>
          <a:blip r:embed="rId1"/>
          <a:stretch/>
        </p:blipFill>
        <p:spPr>
          <a:xfrm>
            <a:off x="1901880" y="322200"/>
            <a:ext cx="53402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ratigrafía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ontinu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p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w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ord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run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rquitectura sedimen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3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ctores que controlan el registr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ubsidencia: Hundimiento progresivo de un sector de la cor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érmica: se produce por 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atación y contracción térmica. Existen puntos calientes en la corteza que pueden producir dilataciones en zonas de la corteza, cuando esa zona se enfría y empieza la contracción, se produce una depresión mientras dure la contracción, la cuen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ectónica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na zona distensiva que da lugar a la formación de fallas normales y un consiguiente reajuste hidrostátic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Flexuración: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e produce una deformación elástica por carga en zonas de orógeno. Las fallas inversas llegan a acumular fallas sucesivas de escamas de rocas que no están en equilibrio isostático, al restaurarse éste se produce la 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stas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tenemos una zona a la que se le añade una masa de magma más densa, eso implica más masa con lo que el reajuste isostático produce una depre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iramiento de la corteza y ascenso pasivo de la astenosfera. Son las típicas cuencas oceánicas. Se produce un estiramiento de corteza por una fuerza de contracción que da lugar a un rifting (conjunto escalonado de fallas normales) que produce el ascenso pasivo de astenosfera. La astenosfera aflora en la línea de rif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bio de fase. Cuando al haber un cambio de fase de los minerales éstos aumentan su masa y el equilibrio isostático produce una de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46:05Z</dcterms:created>
  <dc:creator>Luisa Pinto</dc:creator>
  <dc:description/>
  <dc:language>en-US</dc:language>
  <cp:lastModifiedBy>Eduardo Casas</cp:lastModifiedBy>
  <dcterms:modified xsi:type="dcterms:W3CDTF">2005-10-10T23:28:47Z</dcterms:modified>
  <cp:revision>29</cp:revision>
  <dc:subject/>
  <dc:title>Dinámica de Cuencas Sedimentarias</dc:title>
</cp:coreProperties>
</file>