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25DB-7F14-413B-9DB7-A64ECD464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7D15-CBCA-4213-8A16-59D63B96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41B3-60FB-466F-ABCD-3FD159AB1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4936-90AC-4B26-8076-5BE2A88F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F9B5-2C5A-46EA-B4CE-BC3FB8B8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0C80-B6FA-4CE0-B6B1-416FFEE0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24CD-7997-4B59-8D00-A403817C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1373-7C3F-44F4-8ED5-E6E80B39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9728-9500-4D1B-A6C9-000422DE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644E-C265-4B18-834E-EDD02DA5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7C7A-1DEE-41EB-A6F7-C10079EE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201B-8AE9-4CA9-9ACA-1321A76D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D1F2-79B1-4FA7-BD51-65BA50056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inámica de Cuencas Sedimentar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ovimientos Verti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subsidencia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4338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ovimientos verti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solevantamiento" descr=""/>
          <p:cNvPicPr/>
          <p:nvPr/>
        </p:nvPicPr>
        <p:blipFill>
          <a:blip r:embed="rId1"/>
          <a:stretch/>
        </p:blipFill>
        <p:spPr>
          <a:xfrm>
            <a:off x="2362320" y="838080"/>
            <a:ext cx="4363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Tipos principales de Cuen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uencas extens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Grab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ull apart (transtens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uencas post extens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ntracratón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argen P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uencas Compres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ntepaí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nte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ntexto tectón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1238400"/>
            <a:ext cx="72392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uencas extensiona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Grab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uenca delimitada por fallas norm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ncho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5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o hasta 20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de formación ~ 10 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des se alzan ligeramente y el centro subsi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a velocidad de subsid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Generalmente es simét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R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Zona de la litósfera donde ha a ocurrido deformación extensional. Gran extensión y adelgazamiento litosféri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ncho &gt;200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o hasta &gt;100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de formación ~ 10 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des se alzan ligeramente y el centro subsi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a velocidad de subsid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Generalmente es simét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e un efecto “doming” (alzamiento térmico) en el centro menos importante que la subsidencia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stratigrafía cuencas extens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Primero sedimentos son continetales (lacustres A&gt; S o fluviales S &gt;A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En el borde alzado existe una superficie de erosión que permite la generación de conglomerad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Existe agradació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Si el sistema es endorreico se formaran evaporit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Si existe contacto con el océano se encontraran depósitos marinos que pasarán de proximales a distales en la medida que se profundiza la cuen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extensiva" descr=""/>
          <p:cNvPicPr/>
          <p:nvPr/>
        </p:nvPicPr>
        <p:blipFill>
          <a:blip r:embed="rId1"/>
          <a:stretch/>
        </p:blipFill>
        <p:spPr>
          <a:xfrm>
            <a:off x="2373480" y="1057320"/>
            <a:ext cx="439560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scarp1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3505320" cy="2452680"/>
          </a:xfrm>
          <a:prstGeom prst="rect">
            <a:avLst/>
          </a:prstGeom>
          <a:ln w="0">
            <a:noFill/>
          </a:ln>
        </p:spPr>
      </p:pic>
      <p:pic>
        <p:nvPicPr>
          <p:cNvPr id="77" name="scarp2" descr=""/>
          <p:cNvPicPr/>
          <p:nvPr/>
        </p:nvPicPr>
        <p:blipFill>
          <a:blip r:embed="rId2"/>
          <a:stretch/>
        </p:blipFill>
        <p:spPr>
          <a:xfrm>
            <a:off x="4724280" y="990720"/>
            <a:ext cx="3505320" cy="2463840"/>
          </a:xfrm>
          <a:prstGeom prst="rect">
            <a:avLst/>
          </a:prstGeom>
          <a:ln w="0">
            <a:noFill/>
          </a:ln>
        </p:spPr>
      </p:pic>
      <p:pic>
        <p:nvPicPr>
          <p:cNvPr id="78" name="scarp3" descr=""/>
          <p:cNvPicPr/>
          <p:nvPr/>
        </p:nvPicPr>
        <p:blipFill>
          <a:blip r:embed="rId3"/>
          <a:stretch/>
        </p:blipFill>
        <p:spPr>
          <a:xfrm>
            <a:off x="3352680" y="3809880"/>
            <a:ext cx="347040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1138320" y="581040"/>
            <a:ext cx="6867360" cy="5511600"/>
            <a:chOff x="1138320" y="581040"/>
            <a:chExt cx="6867360" cy="5511600"/>
          </a:xfrm>
        </p:grpSpPr>
        <p:grpSp>
          <p:nvGrpSpPr>
            <p:cNvPr id="80" name=""/>
            <p:cNvGrpSpPr/>
            <p:nvPr/>
          </p:nvGrpSpPr>
          <p:grpSpPr>
            <a:xfrm>
              <a:off x="1143000" y="585720"/>
              <a:ext cx="6858000" cy="5502240"/>
              <a:chOff x="1143000" y="585720"/>
              <a:chExt cx="6858000" cy="5502240"/>
            </a:xfrm>
          </p:grpSpPr>
          <p:sp>
            <p:nvSpPr>
              <p:cNvPr id="81" name=""/>
              <p:cNvSpPr/>
              <p:nvPr/>
            </p:nvSpPr>
            <p:spPr>
              <a:xfrm>
                <a:off x="1143000" y="585720"/>
                <a:ext cx="6858000" cy="55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s-ES" sz="355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143000" y="585720"/>
                <a:ext cx="6858000" cy="5502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1138320" y="581040"/>
              <a:ext cx="6867360" cy="55116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" name="image46" descr=""/>
          <p:cNvPicPr/>
          <p:nvPr/>
        </p:nvPicPr>
        <p:blipFill>
          <a:blip r:embed="rId1"/>
          <a:stretch/>
        </p:blipFill>
        <p:spPr>
          <a:xfrm>
            <a:off x="2438280" y="533520"/>
            <a:ext cx="429732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Nivel Base: nivel de equilibrio teórico sin erosión ni sedimentación. Sobre éste domina la erosión y bajo éste la sedimen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spacio de acomodación (A): Espacio libre dentro de una cuenca para preservar sedi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Flujo sedimentario (S): aporte de sedimentos a una cuen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uenca sedimentaria: lugar donde hay sedimentación y preservacion de sedi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usas que generan un Rift</a:t>
            </a: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nvección del manto.  (Rift Pasiv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lumas. (Rift Activ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lapso gravitacion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lab pull y Ridge pu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comodo contraccional (Indentación tectónic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47920" y="554040"/>
            <a:ext cx="662940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ull apart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on estructuras limitadas por dos fallas transformantes cuya geometría en relevo deja una depresión intermedia que sirve de área de depósito. Son fallas de dirección o de desgar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ormados en sistema trascur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ectores con fallas normales y de rum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Gran variación de profundidad entre los bordes y el centro de la cuen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ncho 10-50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o 10-5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undidad 1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de formación ~ 10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des no se alzan o lo hacen ligeramente y el centro subside fuerte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a velocidad de subsid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ull apart frío: deformación de la corteza fall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ull apart caliente: deformación de toda la litósfe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stratigraf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n los bordes de la cuenca se encuentran sistemas de conos aluviales y brech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&gt;S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depósitos lacustres inici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i la cuenca se abre al océano habrá sedimentación marina profun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grad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ullapart" descr=""/>
          <p:cNvPicPr/>
          <p:nvPr/>
        </p:nvPicPr>
        <p:blipFill>
          <a:blip r:embed="rId1"/>
          <a:stretch/>
        </p:blipFill>
        <p:spPr>
          <a:xfrm>
            <a:off x="1965240" y="612720"/>
            <a:ext cx="52117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uencas post-extensio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e produce flexuramiento post extensión de tipo termal o isostacia. La subsidencia termal disminuye con el tiempo. La subsidencia por carga o isostacia es mayor o igual que la te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Graben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uenca intracrató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ift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Margen pasi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uenca intracratón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Post extensión sobre corteza continent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No hay deform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o hasta 500- 2000 Km (Forma de pap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ofundidad 3-5 K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iempo de formación 100- 200 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ordes no se alzan o lo hacen ligeramente y el centro sub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ja velocidad de subsidencia (&lt; 50 m/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stratigraf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i se está en un continente se produce el desarrollo de un sistema fluv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i esta corresponde a un sistema marino habra desarrollo de deltas y cuencas carbonat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n general son sistemas de baja energía sin presencia de conglomerad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ntracratonica" descr=""/>
          <p:cNvPicPr/>
          <p:nvPr/>
        </p:nvPicPr>
        <p:blipFill>
          <a:blip r:embed="rId1"/>
          <a:stretch/>
        </p:blipFill>
        <p:spPr>
          <a:xfrm>
            <a:off x="1965240" y="569880"/>
            <a:ext cx="521172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Margen Pasi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imét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o 100-30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undidad ~3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de formación ~ 100-200 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des no se alzan o lo hacen ligeramente y el centro subside fuerte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stratigraf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Depósitos marinos de platafor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comienzo por subsidencia termal hay gran espacio de acomodación por lo que se ve retrogradación, luego subdicencia decrece lo que se ve reflejado en progradac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Perfil de deposi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1538280"/>
            <a:ext cx="861048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margenpasivo" descr=""/>
          <p:cNvPicPr/>
          <p:nvPr/>
        </p:nvPicPr>
        <p:blipFill>
          <a:blip r:embed="rId1"/>
          <a:stretch/>
        </p:blipFill>
        <p:spPr>
          <a:xfrm>
            <a:off x="2359080" y="960480"/>
            <a:ext cx="442584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uencas Compresiv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uenca de ante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Flexuración por carga (cabalgamien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ncho 100- 300 Km, dependiendo de la rigidez flexural de la cort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Largo depende del orógeno al cual se relacio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rofundidad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5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20-30 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ocidad de subsidencia 10 m/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des se alzan y el centro se mantiene fijo o bien se alza ligerame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Deformación va migrando hacia el ante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Generación de fallas inversas al interior de la cuenca deformando los sedimentos generando dos cuencas menores (Piggy bac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A medida que la cuenca se rellena de sedimentos aumenta la rigidez flexural por lo cual disminuye la subsidencia y la cuenca se ensanch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Se pueden generar cuencas intramontanas y triangul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stratigraf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En la base se encuentran depositos de tipo turbidíticos por alta pendiente y rápida subsidenci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Puede haber inluencia mari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Como la cordillera va creciendo va aumentando el flujo sedimentario unido a una disminución de la subsidencia puede producir una colmatración de la cuenca y predominio de depósitos continentales en los niveles superiores.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antepais" descr=""/>
          <p:cNvPicPr/>
          <p:nvPr/>
        </p:nvPicPr>
        <p:blipFill>
          <a:blip r:embed="rId1"/>
          <a:stretch/>
        </p:blipFill>
        <p:spPr>
          <a:xfrm>
            <a:off x="1928880" y="334800"/>
            <a:ext cx="5284800" cy="618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uenca de antear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Se produce por el crecimiento y alzamiento del prisma de acreción que genera una subsidencia relativa en el antear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Ancho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50 Km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Largo 450- 50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Profundidad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5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iempo 20-40 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Velocidad de subsidencia variable (25 a 250 m/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Bordes no se alzan o ligeramente y centro sub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115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Existe un comportamiento cícl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stado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 preservación de sedimentos en la cuen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do β erosión por subduc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igraf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n etapa de creación del prisma se produce depositación de turbiditas hacia la fo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 cuenca tiene principalemente depositos fluviales deltaicos y carbonat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antearco" descr=""/>
          <p:cNvPicPr/>
          <p:nvPr/>
        </p:nvPicPr>
        <p:blipFill>
          <a:blip r:embed="rId1"/>
          <a:stretch/>
        </p:blipFill>
        <p:spPr>
          <a:xfrm>
            <a:off x="1901880" y="322200"/>
            <a:ext cx="534024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Estratigrafía sísm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Discontinuida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Top l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Down l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On l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oncorda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Trun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Fac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Arquitectura sediment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56386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ovimiento Rela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4724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Factores que controlan el registro sediment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ovimientos verti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Subsidencia: Hundimiento progresivo de un sector de la cort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Térmica: se produce por d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latación y contracción térmica. Existen puntos calientes en la corteza que pueden producir dilataciones en zonas de la corteza, cuando esa zona se enfría y empieza la contracción, se produce una depresión mientras dure la contracción, la cuenc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7620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 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Tectónica: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una zona distensiva que da lugar a la formación de fallas normales y un consiguiente reajuste hidrostátic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Flexuración: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Se produce una deformación elástica por carga en zonas de orógeno. Las fallas inversas llegan a acumular fallas sucesivas de escamas de rocas que no están en equilibrio isostático, al restaurarse éste se produce la cuenca de ante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762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I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ostasia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i tenemos una zona a la que se le añade una masa de magma más densa, eso implica más masa con lo que el reajuste isostático produce una depres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iramiento de la corteza y ascenso pasivo de la astenosfera. Son las típicas cuencas oceánicas. Se produce un estiramiento de corteza por una fuerza de contracción que da lugar a un rifting (conjunto escalonado de fallas normales) que produce el ascenso pasivo de astenosfera. La astenosfera aflora en la línea de rift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mbio de fase. Cuando al haber un cambio de fase de los minerales éstos aumentan su masa y el equilibrio isostático produce una depr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5:46:05Z</dcterms:created>
  <dc:creator>Luisa Pinto</dc:creator>
  <dc:description/>
  <dc:language>en-US</dc:language>
  <cp:lastModifiedBy>Eduardo Casas</cp:lastModifiedBy>
  <dcterms:modified xsi:type="dcterms:W3CDTF">2005-10-10T23:28:47Z</dcterms:modified>
  <cp:revision>29</cp:revision>
  <dc:subject/>
  <dc:title>Dinámica de Cuencas Sedimentarias</dc:title>
</cp:coreProperties>
</file>