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BCF-B52E-49D1-92CF-0FC067A3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B32-72A2-46C4-A391-5B9853E1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A02-602B-4A2A-9CDC-DD658C90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A44-E592-4F8E-8D4B-92D27C0F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41E-16AB-440F-860D-35E47E62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E8F-E3D8-48B5-A2B1-62E6436C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464-DFE1-4FEA-A376-EDDA8698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CCE-7072-415E-BB22-A6500B49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299-BCC6-4501-986F-532F60C1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A9D1-13B5-4764-92EC-C0DB017C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044-7A15-4180-A950-8BD8DE97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D42-D4A3-4B29-99F3-0FD6AB6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A05D-7423-4367-A3D0-35E635119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mplo de Tectónica Exten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ructural Avan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duardo C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62120" y="685800"/>
          <a:ext cx="3504960" cy="25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3504960" cy="25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724280" y="3352680"/>
          <a:ext cx="3505320" cy="25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352680"/>
                    <a:ext cx="35053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533520"/>
          <a:ext cx="5181480" cy="27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181480" cy="27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343400" y="3429000"/>
          <a:ext cx="3971880" cy="30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429000"/>
                    <a:ext cx="397188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609480"/>
          <a:ext cx="358128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358128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724280" y="3200400"/>
          <a:ext cx="3657600" cy="289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00400"/>
                    <a:ext cx="36576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85800" y="3733920"/>
          <a:ext cx="35812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733920"/>
                    <a:ext cx="3581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762120"/>
          <a:ext cx="4191120" cy="22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419112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14800" y="3352680"/>
          <a:ext cx="4495680" cy="28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352680"/>
                    <a:ext cx="449568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920" y="304920"/>
          <a:ext cx="329544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32954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133720" y="1066680"/>
          <a:ext cx="337176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066680"/>
                    <a:ext cx="33717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505320" y="3048120"/>
          <a:ext cx="4495680" cy="297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048120"/>
                    <a:ext cx="4495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304920"/>
          <a:ext cx="5867280" cy="37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586728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" name=""/>
          <p:cNvGrpSpPr/>
          <p:nvPr/>
        </p:nvGrpSpPr>
        <p:grpSpPr>
          <a:xfrm>
            <a:off x="1905120" y="4114800"/>
            <a:ext cx="6705000" cy="2514240"/>
            <a:chOff x="1905120" y="4114800"/>
            <a:chExt cx="6705000" cy="2514240"/>
          </a:xfrm>
        </p:grpSpPr>
        <p:grpSp>
          <p:nvGrpSpPr>
            <p:cNvPr id="82" name=""/>
            <p:cNvGrpSpPr/>
            <p:nvPr/>
          </p:nvGrpSpPr>
          <p:grpSpPr>
            <a:xfrm>
              <a:off x="1941480" y="4145400"/>
              <a:ext cx="6631200" cy="2451240"/>
              <a:chOff x="1941480" y="4145400"/>
              <a:chExt cx="6631200" cy="24512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1941480" y="4145400"/>
                <a:ext cx="3268800" cy="379800"/>
                <a:chOff x="1941480" y="4145400"/>
                <a:chExt cx="3268800" cy="3798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941480" y="4145400"/>
                  <a:ext cx="3268800" cy="37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INIT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941480" y="4145400"/>
                  <a:ext cx="3268800" cy="37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210640" y="4145400"/>
                <a:ext cx="3362040" cy="379800"/>
                <a:chOff x="5210640" y="4145400"/>
                <a:chExt cx="3362040" cy="3798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210640" y="4145400"/>
                  <a:ext cx="3362040" cy="37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210640" y="4145400"/>
                  <a:ext cx="3362040" cy="37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941480" y="4525560"/>
                <a:ext cx="3268800" cy="2071080"/>
                <a:chOff x="1941480" y="4525560"/>
                <a:chExt cx="3268800" cy="207108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1941480" y="4525560"/>
                  <a:ext cx="3268440" cy="2070720"/>
                  <a:chOff x="1941480" y="4525560"/>
                  <a:chExt cx="3268440" cy="2070720"/>
                </a:xfrm>
              </p:grpSpPr>
              <p:grpSp>
                <p:nvGrpSpPr>
                  <p:cNvPr id="91" name=""/>
                  <p:cNvGrpSpPr/>
                  <p:nvPr/>
                </p:nvGrpSpPr>
                <p:grpSpPr>
                  <a:xfrm>
                    <a:off x="1959480" y="4540680"/>
                    <a:ext cx="3231000" cy="2039040"/>
                    <a:chOff x="1959480" y="4540680"/>
                    <a:chExt cx="3231000" cy="2039040"/>
                  </a:xfrm>
                </p:grpSpPr>
                <p:grpSp>
                  <p:nvGrpSpPr>
                    <p:cNvPr id="92" name=""/>
                    <p:cNvGrpSpPr/>
                    <p:nvPr/>
                  </p:nvGrpSpPr>
                  <p:grpSpPr>
                    <a:xfrm>
                      <a:off x="1959480" y="4540680"/>
                      <a:ext cx="1614960" cy="254520"/>
                      <a:chOff x="1959480" y="4540680"/>
                      <a:chExt cx="1614960" cy="254520"/>
                    </a:xfrm>
                  </p:grpSpPr>
                  <p:sp>
                    <p:nvSpPr>
                      <p:cNvPr id="93" name=""/>
                      <p:cNvSpPr/>
                      <p:nvPr/>
                    </p:nvSpPr>
                    <p:spPr>
                      <a:xfrm>
                        <a:off x="1959480" y="454068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LEF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" name=""/>
                      <p:cNvSpPr/>
                      <p:nvPr/>
                    </p:nvSpPr>
                    <p:spPr>
                      <a:xfrm>
                        <a:off x="1959480" y="454068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5" name=""/>
                    <p:cNvGrpSpPr/>
                    <p:nvPr/>
                  </p:nvGrpSpPr>
                  <p:grpSpPr>
                    <a:xfrm>
                      <a:off x="3574800" y="4540680"/>
                      <a:ext cx="1615680" cy="254520"/>
                      <a:chOff x="3574800" y="4540680"/>
                      <a:chExt cx="1615680" cy="254520"/>
                    </a:xfrm>
                  </p:grpSpPr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3574800" y="454068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IGH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" name=""/>
                      <p:cNvSpPr/>
                      <p:nvPr/>
                    </p:nvSpPr>
                    <p:spPr>
                      <a:xfrm>
                        <a:off x="3574800" y="454068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8" name=""/>
                    <p:cNvGrpSpPr/>
                    <p:nvPr/>
                  </p:nvGrpSpPr>
                  <p:grpSpPr>
                    <a:xfrm>
                      <a:off x="1959480" y="4795560"/>
                      <a:ext cx="3231000" cy="254160"/>
                      <a:chOff x="1959480" y="4795560"/>
                      <a:chExt cx="3231000" cy="254160"/>
                    </a:xfrm>
                  </p:grpSpPr>
                  <p:sp>
                    <p:nvSpPr>
                      <p:cNvPr id="99" name=""/>
                      <p:cNvSpPr/>
                      <p:nvPr/>
                    </p:nvSpPr>
                    <p:spPr>
                      <a:xfrm>
                        <a:off x="1959480" y="479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above panel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" name=""/>
                      <p:cNvSpPr/>
                      <p:nvPr/>
                    </p:nvSpPr>
                    <p:spPr>
                      <a:xfrm>
                        <a:off x="1959480" y="479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1" name=""/>
                    <p:cNvGrpSpPr/>
                    <p:nvPr/>
                  </p:nvGrpSpPr>
                  <p:grpSpPr>
                    <a:xfrm>
                      <a:off x="1959480" y="5050440"/>
                      <a:ext cx="1614960" cy="254520"/>
                      <a:chOff x="1959480" y="5050440"/>
                      <a:chExt cx="1614960" cy="254520"/>
                    </a:xfrm>
                  </p:grpSpPr>
                  <p:sp>
                    <p:nvSpPr>
                      <p:cNvPr id="102" name=""/>
                      <p:cNvSpPr/>
                      <p:nvPr/>
                    </p:nvSpPr>
                    <p:spPr>
                      <a:xfrm>
                        <a:off x="1959480" y="505044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1959480" y="505044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4" name=""/>
                    <p:cNvGrpSpPr/>
                    <p:nvPr/>
                  </p:nvGrpSpPr>
                  <p:grpSpPr>
                    <a:xfrm>
                      <a:off x="3574800" y="5050440"/>
                      <a:ext cx="1615680" cy="254520"/>
                      <a:chOff x="3574800" y="5050440"/>
                      <a:chExt cx="1615680" cy="254520"/>
                    </a:xfrm>
                  </p:grpSpPr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3574800" y="505044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3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3574800" y="505044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1959480" y="5305680"/>
                      <a:ext cx="1614960" cy="254160"/>
                      <a:chOff x="1959480" y="5305680"/>
                      <a:chExt cx="1614960" cy="25416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1959480" y="530568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4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1959480" y="530568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" name=""/>
                    <p:cNvGrpSpPr/>
                    <p:nvPr/>
                  </p:nvGrpSpPr>
                  <p:grpSpPr>
                    <a:xfrm>
                      <a:off x="3574800" y="5305680"/>
                      <a:ext cx="1615680" cy="254160"/>
                      <a:chOff x="3574800" y="5305680"/>
                      <a:chExt cx="1615680" cy="254160"/>
                    </a:xfrm>
                  </p:grpSpPr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3574800" y="530568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5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3574800" y="530568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3" name=""/>
                    <p:cNvGrpSpPr/>
                    <p:nvPr/>
                  </p:nvGrpSpPr>
                  <p:grpSpPr>
                    <a:xfrm>
                      <a:off x="1959480" y="5560200"/>
                      <a:ext cx="1614960" cy="254520"/>
                      <a:chOff x="1959480" y="5560200"/>
                      <a:chExt cx="1614960" cy="254520"/>
                    </a:xfrm>
                  </p:grpSpPr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1959480" y="556020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6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B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1959480" y="556020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6" name=""/>
                    <p:cNvGrpSpPr/>
                    <p:nvPr/>
                  </p:nvGrpSpPr>
                  <p:grpSpPr>
                    <a:xfrm>
                      <a:off x="3574800" y="5560200"/>
                      <a:ext cx="1615680" cy="254520"/>
                      <a:chOff x="3574800" y="5560200"/>
                      <a:chExt cx="1615680" cy="254520"/>
                    </a:xfrm>
                  </p:grpSpPr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3574800" y="556020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7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B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574800" y="556020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1959480" y="5815440"/>
                      <a:ext cx="1614960" cy="254160"/>
                      <a:chOff x="1959480" y="5815440"/>
                      <a:chExt cx="1614960" cy="25416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1959480" y="581544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8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1959480" y="5815440"/>
                        <a:ext cx="161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2" name=""/>
                    <p:cNvGrpSpPr/>
                    <p:nvPr/>
                  </p:nvGrpSpPr>
                  <p:grpSpPr>
                    <a:xfrm>
                      <a:off x="3574800" y="5815440"/>
                      <a:ext cx="1615680" cy="254160"/>
                      <a:chOff x="3574800" y="5815440"/>
                      <a:chExt cx="1615680" cy="254160"/>
                    </a:xfrm>
                  </p:grpSpPr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574800" y="581544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9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574800" y="5815440"/>
                        <a:ext cx="161568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5" name=""/>
                    <p:cNvGrpSpPr/>
                    <p:nvPr/>
                  </p:nvGrpSpPr>
                  <p:grpSpPr>
                    <a:xfrm>
                      <a:off x="1959480" y="6070320"/>
                      <a:ext cx="1614960" cy="254520"/>
                      <a:chOff x="1959480" y="6070320"/>
                      <a:chExt cx="1614960" cy="254520"/>
                    </a:xfrm>
                  </p:grpSpPr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1959480" y="607032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0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1959480" y="6070320"/>
                        <a:ext cx="161496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8" name=""/>
                    <p:cNvGrpSpPr/>
                    <p:nvPr/>
                  </p:nvGrpSpPr>
                  <p:grpSpPr>
                    <a:xfrm>
                      <a:off x="3574800" y="6070320"/>
                      <a:ext cx="1615680" cy="254520"/>
                      <a:chOff x="3574800" y="6070320"/>
                      <a:chExt cx="1615680" cy="254520"/>
                    </a:xfrm>
                  </p:grpSpPr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3574800" y="607032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3574800" y="6070320"/>
                        <a:ext cx="161568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1" name=""/>
                    <p:cNvGrpSpPr/>
                    <p:nvPr/>
                  </p:nvGrpSpPr>
                  <p:grpSpPr>
                    <a:xfrm>
                      <a:off x="1959480" y="6325560"/>
                      <a:ext cx="3231000" cy="254160"/>
                      <a:chOff x="1959480" y="6325560"/>
                      <a:chExt cx="3231000" cy="254160"/>
                    </a:xfrm>
                  </p:grpSpPr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1959480" y="632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below panel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1959480" y="6325560"/>
                        <a:ext cx="323100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4" name=""/>
                  <p:cNvSpPr/>
                  <p:nvPr/>
                </p:nvSpPr>
                <p:spPr>
                  <a:xfrm>
                    <a:off x="1941480" y="4525560"/>
                    <a:ext cx="3268440" cy="2070720"/>
                  </a:xfrm>
                  <a:prstGeom prst="rect">
                    <a:avLst/>
                  </a:prstGeom>
                  <a:noFill/>
                  <a:ln w="2232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>
                  <a:off x="1941480" y="4525560"/>
                  <a:ext cx="3268800" cy="207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210640" y="4525560"/>
                <a:ext cx="3362040" cy="2071080"/>
                <a:chOff x="5210640" y="4525560"/>
                <a:chExt cx="3362040" cy="207108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5210640" y="4525560"/>
                  <a:ext cx="3361680" cy="2070720"/>
                  <a:chOff x="5210640" y="4525560"/>
                  <a:chExt cx="3361680" cy="2070720"/>
                </a:xfrm>
              </p:grpSpPr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5228640" y="4540680"/>
                    <a:ext cx="3324960" cy="2039040"/>
                    <a:chOff x="5228640" y="4540680"/>
                    <a:chExt cx="3324960" cy="2039040"/>
                  </a:xfrm>
                </p:grpSpPr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5228640" y="4540680"/>
                      <a:ext cx="1662120" cy="254520"/>
                      <a:chOff x="5228640" y="4540680"/>
                      <a:chExt cx="1662120" cy="254520"/>
                    </a:xfrm>
                  </p:grpSpPr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522864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LEF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522864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2" name=""/>
                    <p:cNvGrpSpPr/>
                    <p:nvPr/>
                  </p:nvGrpSpPr>
                  <p:grpSpPr>
                    <a:xfrm>
                      <a:off x="6891120" y="4540680"/>
                      <a:ext cx="1662120" cy="254520"/>
                      <a:chOff x="6891120" y="4540680"/>
                      <a:chExt cx="1662120" cy="254520"/>
                    </a:xfrm>
                  </p:grpSpPr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689112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RIGHT SIDE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6891120" y="454068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5" name=""/>
                    <p:cNvGrpSpPr/>
                    <p:nvPr/>
                  </p:nvGrpSpPr>
                  <p:grpSpPr>
                    <a:xfrm>
                      <a:off x="5228640" y="4795560"/>
                      <a:ext cx="3324960" cy="254160"/>
                      <a:chOff x="5228640" y="4795560"/>
                      <a:chExt cx="3324960" cy="254160"/>
                    </a:xfrm>
                  </p:grpSpPr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5228640" y="479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above panel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5228640" y="479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8" name=""/>
                    <p:cNvGrpSpPr/>
                    <p:nvPr/>
                  </p:nvGrpSpPr>
                  <p:grpSpPr>
                    <a:xfrm>
                      <a:off x="5228640" y="5050440"/>
                      <a:ext cx="1662120" cy="254520"/>
                      <a:chOff x="5228640" y="5050440"/>
                      <a:chExt cx="1662120" cy="254520"/>
                    </a:xfrm>
                  </p:grpSpPr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522864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522864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1" name=""/>
                    <p:cNvGrpSpPr/>
                    <p:nvPr/>
                  </p:nvGrpSpPr>
                  <p:grpSpPr>
                    <a:xfrm>
                      <a:off x="6891120" y="5050440"/>
                      <a:ext cx="1662120" cy="254520"/>
                      <a:chOff x="6891120" y="5050440"/>
                      <a:chExt cx="1662120" cy="254520"/>
                    </a:xfrm>
                  </p:grpSpPr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689112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3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6891120" y="505044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4" name=""/>
                    <p:cNvGrpSpPr/>
                    <p:nvPr/>
                  </p:nvGrpSpPr>
                  <p:grpSpPr>
                    <a:xfrm>
                      <a:off x="5228640" y="5305680"/>
                      <a:ext cx="1662120" cy="254160"/>
                      <a:chOff x="5228640" y="5305680"/>
                      <a:chExt cx="1662120" cy="254160"/>
                    </a:xfrm>
                  </p:grpSpPr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522864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4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522864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7" name=""/>
                    <p:cNvGrpSpPr/>
                    <p:nvPr/>
                  </p:nvGrpSpPr>
                  <p:grpSpPr>
                    <a:xfrm>
                      <a:off x="6891120" y="5305680"/>
                      <a:ext cx="1662120" cy="254160"/>
                      <a:chOff x="6891120" y="5305680"/>
                      <a:chExt cx="1662120" cy="254160"/>
                    </a:xfrm>
                  </p:grpSpPr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689112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5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A &amp; B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6891120" y="530568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0" name=""/>
                    <p:cNvGrpSpPr/>
                    <p:nvPr/>
                  </p:nvGrpSpPr>
                  <p:grpSpPr>
                    <a:xfrm>
                      <a:off x="5228640" y="5560200"/>
                      <a:ext cx="1662120" cy="254520"/>
                      <a:chOff x="5228640" y="5560200"/>
                      <a:chExt cx="1662120" cy="254520"/>
                    </a:xfrm>
                  </p:grpSpPr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522864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6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A,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522864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3" name=""/>
                    <p:cNvGrpSpPr/>
                    <p:nvPr/>
                  </p:nvGrpSpPr>
                  <p:grpSpPr>
                    <a:xfrm>
                      <a:off x="6891120" y="5560200"/>
                      <a:ext cx="1662120" cy="254520"/>
                      <a:chOff x="6891120" y="5560200"/>
                      <a:chExt cx="1662120" cy="254520"/>
                    </a:xfrm>
                  </p:grpSpPr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689112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7. </a:t>
                        </a:r>
                        <a:r>
                          <a:rPr b="0" lang="es-ES" sz="600" spc="-1" strike="noStrike">
                            <a:solidFill>
                              <a:srgbClr val="800000"/>
                            </a:solidFill>
                            <a:latin typeface="Verdana"/>
                          </a:rPr>
                          <a:t>Folded in A,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6891120" y="556020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6" name=""/>
                    <p:cNvGrpSpPr/>
                    <p:nvPr/>
                  </p:nvGrpSpPr>
                  <p:grpSpPr>
                    <a:xfrm>
                      <a:off x="5228640" y="5815440"/>
                      <a:ext cx="1662120" cy="254160"/>
                      <a:chOff x="5228640" y="5815440"/>
                      <a:chExt cx="1662120" cy="254160"/>
                    </a:xfrm>
                  </p:grpSpPr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522864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8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522864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" name=""/>
                    <p:cNvGrpSpPr/>
                    <p:nvPr/>
                  </p:nvGrpSpPr>
                  <p:grpSpPr>
                    <a:xfrm>
                      <a:off x="6891120" y="5815440"/>
                      <a:ext cx="1662120" cy="254160"/>
                      <a:chOff x="6891120" y="5815440"/>
                      <a:chExt cx="1662120" cy="254160"/>
                    </a:xfrm>
                  </p:grpSpPr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689112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9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B &amp;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6891120" y="5815440"/>
                        <a:ext cx="166212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228640" y="6070320"/>
                      <a:ext cx="1662120" cy="254520"/>
                      <a:chOff x="5228640" y="6070320"/>
                      <a:chExt cx="1662120" cy="254520"/>
                    </a:xfrm>
                  </p:grpSpPr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522864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0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522864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6891120" y="6070320"/>
                      <a:ext cx="1662120" cy="254520"/>
                      <a:chOff x="6891120" y="6070320"/>
                      <a:chExt cx="1662120" cy="25452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689112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1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Folded in C only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6891120" y="6070320"/>
                        <a:ext cx="1662120" cy="25452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" name=""/>
                    <p:cNvGrpSpPr/>
                    <p:nvPr/>
                  </p:nvGrpSpPr>
                  <p:grpSpPr>
                    <a:xfrm>
                      <a:off x="5228640" y="6325560"/>
                      <a:ext cx="3324960" cy="254160"/>
                      <a:chOff x="5228640" y="6325560"/>
                      <a:chExt cx="3324960" cy="254160"/>
                    </a:xfrm>
                  </p:grpSpPr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5228640" y="632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12. </a:t>
                        </a:r>
                        <a:r>
                          <a:rPr b="0" lang="es-ES" sz="6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Undeformed rocks below panel C.</a:t>
                        </a:r>
                        <a:endPara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5228640" y="6325560"/>
                        <a:ext cx="3324960" cy="254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81" name=""/>
                  <p:cNvSpPr/>
                  <p:nvPr/>
                </p:nvSpPr>
                <p:spPr>
                  <a:xfrm>
                    <a:off x="5210640" y="4525560"/>
                    <a:ext cx="3361680" cy="2070720"/>
                  </a:xfrm>
                  <a:prstGeom prst="rect">
                    <a:avLst/>
                  </a:prstGeom>
                  <a:noFill/>
                  <a:ln w="2232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5210640" y="4525560"/>
                  <a:ext cx="3362040" cy="207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1905120" y="4114800"/>
              <a:ext cx="6705000" cy="2514240"/>
            </a:xfrm>
            <a:prstGeom prst="rect">
              <a:avLst/>
            </a:prstGeom>
            <a:noFill/>
            <a:ln w="460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03:17:59Z</dcterms:created>
  <dc:creator>Depto. Geología</dc:creator>
  <dc:description/>
  <dc:language>en-US</dc:language>
  <cp:lastModifiedBy>Eduardo Casas</cp:lastModifiedBy>
  <dcterms:modified xsi:type="dcterms:W3CDTF">2005-09-27T02:01:47Z</dcterms:modified>
  <cp:revision>3</cp:revision>
  <dc:subject/>
  <dc:title>Ejemplo de Tectónica Extensional</dc:title>
</cp:coreProperties>
</file>