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9817-2297-4F54-80C3-8EB378396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127E-AE80-414D-83F2-CC9307E4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9AF0-21C6-44C8-9914-9EEB20626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94F2-4712-4020-AFBF-C66550451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F4C2-0793-4C82-ADAD-1AFD6709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B816-C276-4800-9FD5-1BA7DF93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219A-0281-4720-A326-CB73D8B3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A5BC-022B-403A-8D7E-E6DBD37D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0CD5-FBDE-4E5C-8242-C8438B26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522C-BE72-49BB-BBE6-BD5A0D8D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F869-F8F1-45B3-9C21-5F0480A0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A919-C66F-4427-9157-85A0C06E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6446-4C0E-4810-BC57-C0F61B659B1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Falla de San Andr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627120"/>
            <a:ext cx="8229600" cy="57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47920" y="122400"/>
            <a:ext cx="6248160" cy="66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5.-Régimen Transpresional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Plio-Pleistoc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212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A los 5 Ma el régimen tectónico cambia dada una reestructuración del contacto sur de las placas. El margen este de la placa Pacífica pasa a estar en el Golfo de California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El régimen transtensional termina y comienza la transpresión, representada por dos sistema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Big Bend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San Bernardin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Comienzan a generarse acortamientos y alzamiento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- Evolución Cuatern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762120" y="12952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Se estima que el tectonismo cuaternario ha deformado alrededor de 160.000 k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 lo largo de la fa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Actualmente la falla se puede dividir en tres segmentos principale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-Parte norte, dividida principalmente en do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mas; La falla Heyward y la falla Calav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-Segmento central, en el cual la falla está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rmada por un segmento continuo y sin grande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mif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.-La parte sur, representada por las fallas San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Jacinto y Elsin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6480"/>
            <a:ext cx="7391160" cy="66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3440" y="295200"/>
            <a:ext cx="883944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39680" y="684360"/>
            <a:ext cx="8888400" cy="55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 la parte central, la mayoría del desplazamiento lo genera la traza principal, en donde alcanza hasta 3,5 cm/añ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 desplazamiento en los extremos de la falla (Norte y Sur), se distribuye ampliamente en muchas fallas activas, algunas de las cuales pueden superar el deslizamiento de la traza princip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do el desplazamiento originado por la zona de Falla de San Andrés es insuficiente para generar el movimiento relativo de las placas Norteamericana y Pacífica (5,1 cm/año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- Evolución Cuatern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76212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Fallas inversas con tendencia E-W y NW-SE ocurren cerca de muchas fallas de rumbo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El máximo alzamiento ocurre en Punta Gorda y en Transverse Ranges (0,5-1 cm/añ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Se estima que la falla tendría una profundidad aproximada de 16 k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- Evolución Cuatern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80880" y="49320"/>
            <a:ext cx="8382240" cy="67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- Características Gener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212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Zona de falla de 150 km de ancho y 1300 km de lar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rientación general NN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alla transformante que pone en contacto las placas Pacífica y Norteameric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égimen tectónico actual transpres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vimiento dex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3551400" cy="6629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838680" y="762120"/>
            <a:ext cx="5305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-Contexto geológico de la z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Margen oeste de la placa Norteamericana en subducción durante el Mesozoico y el Cenozoic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Reorganización de morfologías durante el neógen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Subducción continua durante el Paleógen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Acercamiento de la dorsal este de la placa Pacífica durante el Oligocen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Subducción de litósfera joven y bouyante explicaría período de deformación y alzamiento tectónic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- Transición del borde de las pla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A los 27 Ma (Oligoceno), intersección de la dorsal pacífica este con la fosa, con lo cual se origina un margen transtensional y cambia el contacto entra plac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Siempre existió una componente extensional en el movimiento del marg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Actividad volcánica y formación de cuencas en el oligoceno evidenciarían fase transtensional del borde de las plac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7480" y="270000"/>
            <a:ext cx="891540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01028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4.-Régimen Transtensional Mioc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19-12 Ma, migración al NW del punto triple Mendocino (Al Norte); El punto triple del sur (Rivera) permanece estacionario. Al sur y norte  de estos puntos la subducción sigu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12-5 Ma: Punto triple Rivera comienza a migrar al sur debido a que la dorsal es subducid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Rotaciones horarias de 80° a 110° de la Transversal Range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6160" y="374760"/>
            <a:ext cx="883908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08:17:16Z</dcterms:created>
  <dc:creator>Patricio</dc:creator>
  <dc:description/>
  <dc:language>en-US</dc:language>
  <cp:lastModifiedBy>Esteban</cp:lastModifiedBy>
  <dcterms:modified xsi:type="dcterms:W3CDTF">2004-08-25T05:09:07Z</dcterms:modified>
  <cp:revision>8</cp:revision>
  <dc:subject/>
  <dc:title>La Falla de San Andrés</dc:title>
</cp:coreProperties>
</file>