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A59-F028-4E64-88E1-0B650FFD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AD1-0782-4CD1-92F0-B0B4619D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249-2A98-4D21-8DA6-65D986C5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7E8-0F45-4551-A9D7-CB3D61EA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05A-1234-49D6-AB92-F130121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AAF-CA33-4DCD-AE12-7EB798E0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7E0-90CA-4E56-9809-FF7A769A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222-B076-424C-ACAF-7AEB467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178-F6E4-4F34-815A-7FB5A8EE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59B-A765-4295-BCB7-5EA5187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38F-731F-4EFC-B174-DAF5EE9A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943-C034-4536-B846-AD087B5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4AC-3389-4C1E-B71B-03A87445659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lla de San And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627120"/>
            <a:ext cx="82296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22400"/>
            <a:ext cx="62481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.-Régimen Transpresional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lio-Pleist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5 Ma el régimen tectónico cambia dada una reestructuración del contacto sur de las placas. El margen este de la placa Pacífica pasa a estar en el Golfo de Californi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régimen transtensional termina y comienza la transpresión, representada por dos sistem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ig Ben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an Bernardi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ienzan a generarse acortamientos y alzamient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el tectonismo cuaternario ha deformado alrededor de 160.000 k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o largo de la f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ualmente la falla se puede dividir en tres segmentos principal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Parte norte, dividida principalmente en d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as; La falla Heyward y la falla Calav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Segmento central, en el cual la falla está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da por un segmento continuo y sin gran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m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La parte sur, representada por las fallas S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cinto y Elsi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480"/>
            <a:ext cx="7391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3440" y="295200"/>
            <a:ext cx="8839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9680" y="684360"/>
            <a:ext cx="888840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la parte central, la mayoría del desplazamiento lo genera la traza principal, en donde alcanza hasta 3,5 cm/añ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desplazamiento en los extremos de la falla (Norte y Sur), se distribuye ampliamente en muchas fallas activas, algunas de las cuales pueden superar el deslizamiento de la traza princip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o el desplazamiento originado por la zona de Falla de San Andrés es insuficiente para generar el movimiento relativo de las placas Norteamericana y Pacífica (5,1 cm/añ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Fallas inversas con tendencia E-W y NW-SE ocurren cerca de muchas fallas de rumb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l máximo alzamiento ocurre en Punta Gorda y en Transverse Ranges (0,5-1 cm/añ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estima que la falla tendría una profundidad aproximada de 16 k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- Evolución Cuatern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49320"/>
            <a:ext cx="838224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Características 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alla de 150 km de ancho y 1300 km de l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ientación general NN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 transformante que pone en contacto las placas Pacífica y Norteameric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égimen tectónico actual transpr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imiento dex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551400" cy="6629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38680" y="762120"/>
            <a:ext cx="53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Contexto geológico de la z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Margen oeste de la placa Norteamericana en subducción durante el Mesozoico y el Cenozo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eorganización de morfologías durante el n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continua durante el Paleóg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ercamiento de la dorsal este de la placa Pacífica durante el Oligoc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ubducción de litósfera joven y bouyante explicaría período de deformación y alzamiento tectón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Transición del borde de las pla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 los 27 Ma (Oligoceno), intersección de la dorsal pacífica este con la fosa, con lo cual se origina un margen transtensional y cambia el contacto entra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empre existió una componente extensional en el movimiento del mar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ctividad volcánica y formación de cuencas en el oligoceno evidenciarían fase transtensional del borde de las pla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480" y="270000"/>
            <a:ext cx="89154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10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.-Régimen Transtensional Mioc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9-12 Ma, migración al NW del punto triple Mendocino (Al Norte); El punto triple del sur (Rivera) permanece estacionario. Al sur y norte  de estos puntos la subducción sig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12-5 Ma: Punto triple Rivera comienza a migrar al sur debido a que la dorsal es subducid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otaciones horarias de 80° a 110° de la Transversal Rang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6160" y="374760"/>
            <a:ext cx="8839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08:17:16Z</dcterms:created>
  <dc:creator>Patricio</dc:creator>
  <dc:description/>
  <dc:language>en-US</dc:language>
  <cp:lastModifiedBy>Esteban</cp:lastModifiedBy>
  <dcterms:modified xsi:type="dcterms:W3CDTF">2004-08-25T05:09:07Z</dcterms:modified>
  <cp:revision>8</cp:revision>
  <dc:subject/>
  <dc:title>La Falla de San Andrés</dc:title>
</cp:coreProperties>
</file>