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45EA-D8EC-4C68-89B9-6153B22FC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1AB8-D80F-4DE3-8C12-3E2BBD898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A963-FA2A-42E1-8E91-DC7836211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1F19-41DF-42B1-9D64-2D46FABBD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FE0E-2A5C-4BAA-BF13-5715BDCD7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1590-334E-4043-AC45-DB0A36569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AD2F-5CD0-4AA7-A0AD-DA3BA05CE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45EE-83D8-4747-B14D-22F30F433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4879-FB4F-4789-A22D-420F7CA06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191F-C9E3-4E83-97CE-06EE5EE2D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3EB2-D565-46D8-9025-A6DDD3D82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05AA-2FE6-47A3-BBE1-7855AAA0A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8D901-0E78-4388-A309-78A9D8AE08C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Arial"/>
              </a:rPr>
              <a:t>TERRAZAS MARIN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000" y="404640"/>
            <a:ext cx="84358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Terrazas marinas son escalones, una superficie plana ligeramente inclinada hacia la costa limitada por un escar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332000" y="2276640"/>
            <a:ext cx="7235640" cy="40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5715000" cy="4292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572000" y="3500280"/>
            <a:ext cx="4248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00"/>
              </a:buClr>
              <a:buFont typeface="Wingding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Superficie de abra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00"/>
              </a:buClr>
              <a:buFont typeface="Wingding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Existe un retroceso del acantil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6624720" cy="43178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419640" y="5013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Testigos de el retroceso de un acantil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Arial"/>
              </a:rPr>
              <a:t>Gén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Cambios eustáticos</a:t>
            </a:r>
            <a:r>
              <a:rPr b="1" lang="es-CL" sz="3200" spc="-1" strike="noStrike">
                <a:solidFill>
                  <a:srgbClr val="ffff00"/>
                </a:solidFill>
                <a:latin typeface="Wingdings"/>
                <a:ea typeface="Wingdings"/>
              </a:rPr>
              <a:t></a:t>
            </a: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 Baja del nivel del m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Tectónica </a:t>
            </a:r>
            <a:r>
              <a:rPr b="1" lang="es-CL" sz="3200" spc="-1" strike="noStrike">
                <a:solidFill>
                  <a:srgbClr val="ffff00"/>
                </a:solidFill>
                <a:latin typeface="Wingdings"/>
                <a:ea typeface="Wingdings"/>
              </a:rPr>
              <a:t></a:t>
            </a: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 Alzamiento de la co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Arial"/>
              </a:rPr>
              <a:t>Para tomar en cu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250920" y="1484280"/>
            <a:ext cx="8507160" cy="4678560"/>
            <a:chOff x="250920" y="1484280"/>
            <a:chExt cx="8507160" cy="4678560"/>
          </a:xfrm>
        </p:grpSpPr>
        <p:pic>
          <p:nvPicPr>
            <p:cNvPr id="58" name="" descr=""/>
            <p:cNvPicPr/>
            <p:nvPr/>
          </p:nvPicPr>
          <p:blipFill>
            <a:blip r:embed="rId2"/>
            <a:stretch/>
          </p:blipFill>
          <p:spPr>
            <a:xfrm>
              <a:off x="250920" y="1484280"/>
              <a:ext cx="8507160" cy="467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 txBox="1"/>
            <p:nvPr/>
          </p:nvSpPr>
          <p:spPr>
            <a:xfrm>
              <a:off x="250920" y="1484280"/>
              <a:ext cx="8507160" cy="4678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 flipV="1">
            <a:off x="3200400" y="-351000"/>
            <a:ext cx="882504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881440" y="0"/>
            <a:ext cx="3066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7T14:32:29Z</dcterms:created>
  <dc:creator>Juan</dc:creator>
  <dc:description/>
  <dc:language>en-US</dc:language>
  <cp:lastModifiedBy>Juan</cp:lastModifiedBy>
  <dcterms:modified xsi:type="dcterms:W3CDTF">2005-11-21T18:33:44Z</dcterms:modified>
  <cp:revision>4</cp:revision>
  <dc:subject/>
  <dc:title>TERRAZA MARINAS</dc:title>
</cp:coreProperties>
</file>