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B71-EF07-4213-B8C8-411C8FE5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CCB-9F71-4CE6-BEC3-8E56B4BC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6F3-2F4C-4BFD-81D7-822B5C35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A9E-FD9F-429F-92D7-8766473C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68A-73AB-4C7F-A3C6-9116464D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633-158E-4E3E-A04F-48ECA796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DF9-1B55-470B-94B3-2C96F14D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131-CE05-48D3-A0FF-52044620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C86-3B05-43C4-9E80-5975903A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C44-D61F-4587-A142-720BFDE4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75E-5181-4857-9628-C9CFA51B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519-CB38-465B-B9EE-34CAE1B2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4174-93FF-4B41-8C06-6728C8AC33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TERRAZAS MAR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rrazas marinas son escalones, una superficie plana ligeramente inclinada hacia la costa limitada por un escar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2276640"/>
            <a:ext cx="723564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500280"/>
            <a:ext cx="42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Superficie de abra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xiste un retroceso del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624720" cy="431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19640" y="5013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Testigos de el retroceso de un acanti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ambios eustáticos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Baja del nivel del 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Tectónica </a:t>
            </a:r>
            <a:r>
              <a:rPr b="1" lang="es-CL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Alzamiento de la c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Para tomar en cu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0920" y="1484280"/>
            <a:ext cx="8507160" cy="4678560"/>
            <a:chOff x="250920" y="1484280"/>
            <a:chExt cx="8507160" cy="46785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50920" y="1484280"/>
              <a:ext cx="8507160" cy="46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 txBox="1"/>
            <p:nvPr/>
          </p:nvSpPr>
          <p:spPr>
            <a:xfrm>
              <a:off x="250920" y="1484280"/>
              <a:ext cx="8507160" cy="467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3200400" y="-351000"/>
            <a:ext cx="88250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81440" y="0"/>
            <a:ext cx="306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4:32:29Z</dcterms:created>
  <dc:creator>Juan</dc:creator>
  <dc:description/>
  <dc:language>en-US</dc:language>
  <cp:lastModifiedBy>Juan</cp:lastModifiedBy>
  <dcterms:modified xsi:type="dcterms:W3CDTF">2005-11-21T18:33:44Z</dcterms:modified>
  <cp:revision>4</cp:revision>
  <dc:subject/>
  <dc:title>TERRAZA MARINAS</dc:title>
</cp:coreProperties>
</file>