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2F8-74B0-49B6-8114-D94F94A4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353-F1C5-473E-8884-D538A272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DF4-C529-4471-B42C-199645D8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BB2-D2CB-45A6-B828-07DFAF19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5E2-EF2B-4B48-ABD3-C3842493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FC1-252E-44A3-ACC0-A536E7C5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4EB-4078-47C7-B5EE-0E0BC5DF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218-C7FF-4A20-B290-CD77295C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5C3-234B-4209-94AB-3C59F85D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27E-3E45-4443-B413-8F7D9149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1B6-62EC-40EC-AA5D-FDDEB184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522-3015-4D61-9C8B-963C50AD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A680-1223-4392-AD3E-4AF5C5EF6C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TERRAZAS MAR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8435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rrazas marinas son escalones, una superficie plana ligeramente inclinada hacia la costa limitada por un escar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7235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028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Superficie de abra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xiste un retroceso del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624720" cy="431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19640" y="5013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estigos de el retroceso de un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ambios eustáticos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Baja del nivel del 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ectónica 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Alzamiento de la c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Para tomar en cu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0920" y="1484280"/>
            <a:ext cx="8507160" cy="4678560"/>
            <a:chOff x="250920" y="1484280"/>
            <a:chExt cx="8507160" cy="46785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50920" y="1484280"/>
              <a:ext cx="8507160" cy="46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 txBox="1"/>
            <p:nvPr/>
          </p:nvSpPr>
          <p:spPr>
            <a:xfrm>
              <a:off x="250920" y="1484280"/>
              <a:ext cx="8507160" cy="467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3200400" y="-351000"/>
            <a:ext cx="88250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81440" y="0"/>
            <a:ext cx="306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4:32:29Z</dcterms:created>
  <dc:creator>Juan</dc:creator>
  <dc:description/>
  <dc:language>en-US</dc:language>
  <cp:lastModifiedBy>Juan</cp:lastModifiedBy>
  <dcterms:modified xsi:type="dcterms:W3CDTF">2005-11-21T18:33:44Z</dcterms:modified>
  <cp:revision>4</cp:revision>
  <dc:subject/>
  <dc:title>TERRAZA MARINAS</dc:title>
</cp:coreProperties>
</file>