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ACC-2D1F-495E-84A4-A99DD711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560-2C0A-421F-9CF4-64360B3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C3E-8213-46F1-BBDC-7181C45E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E7C-ED9C-4559-B4E2-B204FAFA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4E4-7F62-4D61-B6F4-BF10142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A19-A24B-4D66-AE3D-64844464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91A-51CD-48E0-B18D-510F6091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BEF-7A07-4F5F-BD44-D42A4039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DE0-AC04-47B9-9429-1FCD6A79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72D-BC49-4849-9420-5DB5DF81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77D-80B3-4071-AEA3-6FC3FE72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813-D90A-4A63-876E-7B4EE51A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7082-DEE7-45DC-8E15-005EABC308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TERRAZAS MAR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rrazas marinas son escalones, una superficie plana ligeramente inclinada hacia la costa limitada por un escar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7235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028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Superficie de abra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xiste un retroceso del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624720" cy="431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19640" y="5013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estigos de el retroceso de un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ambios eustáticos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Baja del nivel del 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ectónica 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Alzamiento de la c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Para tomar en cu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0920" y="1484280"/>
            <a:ext cx="8507160" cy="4678560"/>
            <a:chOff x="250920" y="1484280"/>
            <a:chExt cx="8507160" cy="46785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50920" y="1484280"/>
              <a:ext cx="8507160" cy="46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250920" y="1484280"/>
              <a:ext cx="8507160" cy="467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3200400" y="-351000"/>
            <a:ext cx="88250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1440" y="0"/>
            <a:ext cx="306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4:32:29Z</dcterms:created>
  <dc:creator>Juan</dc:creator>
  <dc:description/>
  <dc:language>en-US</dc:language>
  <cp:lastModifiedBy>Juan</cp:lastModifiedBy>
  <dcterms:modified xsi:type="dcterms:W3CDTF">2005-11-21T18:33:44Z</dcterms:modified>
  <cp:revision>4</cp:revision>
  <dc:subject/>
  <dc:title>TERRAZA MARINAS</dc:title>
</cp:coreProperties>
</file>