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D70-8899-4166-8F9B-D1FA008D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457-5B52-41B6-92C3-92DA71A1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FF4-DD18-4291-87D6-D9883104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9C7-8DF1-48AE-BA85-50CA01E5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203-B015-4444-8505-D58396C2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A31-10D2-4262-BCAC-F3C4C690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8BC-75D3-4244-A852-7E4FDD24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77C-AD77-4EA5-8ADF-5C0A91A1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C14-1E63-4FC9-9423-2B7FEBFF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9AB-6BEE-4742-AD9C-641807EF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264-1B69-4ED2-B49A-5787A40F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09B-B62F-48A0-9FB4-2FA3C868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1CE5-4DD7-45D7-9A52-CF005896F3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TERRAZAS MAR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8435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Terrazas marinas son escalones, una superficie plana ligeramente inclinada hacia la costa limitada por un escar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7235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0280"/>
            <a:ext cx="42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Superficie de abra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xiste un retroceso del acanti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624720" cy="431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19640" y="5013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estigos de el retroceso de un acanti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ambios eustáticos</a:t>
            </a:r>
            <a:r>
              <a:rPr b="1" lang="es-CL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Baja del nivel del 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ectónica </a:t>
            </a:r>
            <a:r>
              <a:rPr b="1" lang="es-CL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Alzamiento de la c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Para tomar en cu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0920" y="1484280"/>
            <a:ext cx="8507160" cy="4678560"/>
            <a:chOff x="250920" y="1484280"/>
            <a:chExt cx="8507160" cy="467856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250920" y="1484280"/>
              <a:ext cx="8507160" cy="46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 txBox="1"/>
            <p:nvPr/>
          </p:nvSpPr>
          <p:spPr>
            <a:xfrm>
              <a:off x="250920" y="1484280"/>
              <a:ext cx="8507160" cy="467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3200400" y="-351000"/>
            <a:ext cx="88250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81440" y="0"/>
            <a:ext cx="306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4:32:29Z</dcterms:created>
  <dc:creator>Juan</dc:creator>
  <dc:description/>
  <dc:language>en-US</dc:language>
  <cp:lastModifiedBy>Juan</cp:lastModifiedBy>
  <dcterms:modified xsi:type="dcterms:W3CDTF">2005-11-21T18:33:44Z</dcterms:modified>
  <cp:revision>4</cp:revision>
  <dc:subject/>
  <dc:title>TERRAZA MARINAS</dc:title>
</cp:coreProperties>
</file>