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32DB4-6794-47C6-8386-5A2084636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73FC8-C060-4C62-BEB0-47CBEF93D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0B63B-437A-403C-BFC0-C813F4D10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34F25-6C68-4FA6-BF6A-DCFF2C9EE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DC2D2-EF43-4676-99B8-F16BFAC2A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1EDB3-7FA1-49A7-9AB4-1C3EC2FB5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B1C02-C073-408C-989B-95B72ACDB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C8820-C9B4-4165-B386-D4D140EF2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8B664-A064-49C4-9DDF-ED002680B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C23B9-F9A2-4651-8D57-60829D74A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7732B-5E51-41D7-9428-FAF2306E1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A71F8-B718-4392-B56B-A5A1F234A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E9FB8-7FBA-4D38-BFDA-43544CC088BB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00"/>
                </a:solidFill>
                <a:latin typeface="Arial"/>
              </a:rPr>
              <a:t>TERRAZAS MARIN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000" y="404640"/>
            <a:ext cx="843588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00"/>
                </a:solidFill>
                <a:latin typeface="Arial"/>
              </a:rPr>
              <a:t>Terrazas marinas son escalones, una superficie plana ligeramente inclinada hacia la costa limitada por un escarp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1332000" y="2276640"/>
            <a:ext cx="7235640" cy="40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68360" y="260280"/>
            <a:ext cx="5715000" cy="42926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4572000" y="3500280"/>
            <a:ext cx="4248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ff00"/>
              </a:buClr>
              <a:buFont typeface="Wingding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00"/>
                </a:solidFill>
                <a:latin typeface="Arial"/>
              </a:rPr>
              <a:t>Superficie de abras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00"/>
              </a:buClr>
              <a:buFont typeface="Wingding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00"/>
                </a:solidFill>
                <a:latin typeface="Arial"/>
              </a:rPr>
              <a:t>Existe un retroceso del acantil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6624720" cy="43178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419640" y="5013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00"/>
                </a:solidFill>
                <a:latin typeface="Arial"/>
              </a:rPr>
              <a:t>Testigos de el retroceso de un acantil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00"/>
                </a:solidFill>
                <a:latin typeface="Arial"/>
              </a:rPr>
              <a:t>Géne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00"/>
                </a:solidFill>
                <a:latin typeface="Arial"/>
              </a:rPr>
              <a:t>Cambios eustáticos</a:t>
            </a:r>
            <a:r>
              <a:rPr b="1" lang="es-CL" sz="3200" spc="-1" strike="noStrike">
                <a:solidFill>
                  <a:srgbClr val="ffff00"/>
                </a:solidFill>
                <a:latin typeface="Wingdings"/>
                <a:ea typeface="Wingdings"/>
              </a:rPr>
              <a:t></a:t>
            </a:r>
            <a:r>
              <a:rPr b="1" lang="es-CL" sz="3200" spc="-1" strike="noStrike">
                <a:solidFill>
                  <a:srgbClr val="ffff00"/>
                </a:solidFill>
                <a:latin typeface="Arial"/>
              </a:rPr>
              <a:t> Baja del nivel del m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00"/>
                </a:solidFill>
                <a:latin typeface="Arial"/>
              </a:rPr>
              <a:t>Tectónica </a:t>
            </a:r>
            <a:r>
              <a:rPr b="1" lang="es-CL" sz="3200" spc="-1" strike="noStrike">
                <a:solidFill>
                  <a:srgbClr val="ffff00"/>
                </a:solidFill>
                <a:latin typeface="Wingdings"/>
                <a:ea typeface="Wingdings"/>
              </a:rPr>
              <a:t></a:t>
            </a:r>
            <a:r>
              <a:rPr b="1" lang="es-CL" sz="3200" spc="-1" strike="noStrike">
                <a:solidFill>
                  <a:srgbClr val="ffff00"/>
                </a:solidFill>
                <a:latin typeface="Arial"/>
              </a:rPr>
              <a:t> Alzamiento de la cos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00"/>
                </a:solidFill>
                <a:latin typeface="Arial"/>
              </a:rPr>
              <a:t>Para tomar en cuen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250920" y="1484280"/>
            <a:ext cx="8507160" cy="4678560"/>
            <a:chOff x="250920" y="1484280"/>
            <a:chExt cx="8507160" cy="4678560"/>
          </a:xfrm>
        </p:grpSpPr>
        <p:pic>
          <p:nvPicPr>
            <p:cNvPr id="58" name="" descr=""/>
            <p:cNvPicPr/>
            <p:nvPr/>
          </p:nvPicPr>
          <p:blipFill>
            <a:blip r:embed="rId2"/>
            <a:stretch/>
          </p:blipFill>
          <p:spPr>
            <a:xfrm>
              <a:off x="250920" y="1484280"/>
              <a:ext cx="8507160" cy="467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 txBox="1"/>
            <p:nvPr/>
          </p:nvSpPr>
          <p:spPr>
            <a:xfrm>
              <a:off x="250920" y="1484280"/>
              <a:ext cx="8507160" cy="4678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799"/>
                </a:spcBef>
                <a:buClr>
                  <a:srgbClr val="ffff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 flipV="1">
            <a:off x="3200400" y="-351000"/>
            <a:ext cx="8825040" cy="6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2881440" y="0"/>
            <a:ext cx="3066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7T14:32:29Z</dcterms:created>
  <dc:creator>Juan</dc:creator>
  <dc:description/>
  <dc:language>en-US</dc:language>
  <cp:lastModifiedBy>Juan</cp:lastModifiedBy>
  <dcterms:modified xsi:type="dcterms:W3CDTF">2005-11-21T18:33:44Z</dcterms:modified>
  <cp:revision>4</cp:revision>
  <dc:subject/>
  <dc:title>TERRAZA MARINAS</dc:title>
</cp:coreProperties>
</file>