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110-4884-434C-B758-71056AB0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7AD-1770-40A1-A061-4A185AB9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183-73AA-4540-924D-5D2D852D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2FD-8E48-456C-BEA6-9254FE9E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1565-FC30-4169-AE4C-20491424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AC7F-6B65-4B28-8685-71E70804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D126-1552-43CF-8981-03E1FC6F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5003-BE87-4B0D-9A18-F09CE7D2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BBC3-5760-4AB8-836F-E071B181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3D67-AEE2-4374-B82B-D6349005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825C-1B0C-4BDD-9081-9231BB6A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CE0-76F3-4B95-BDE4-E22A16A4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792F-FE51-4202-9ABD-7EDB9029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6E1B-461D-43C4-8BFC-8AB0228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DB70-923E-44F5-8308-0ADE7C52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1C9-60F7-46F2-8053-613018B9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F3C5-3D07-420B-95AE-83229417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BC0-3646-4B4F-91BE-525B7F11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9B0-FC44-46B0-8B6B-2BAF3B6B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6F3-1416-4E97-A9A4-3F1FFC3B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B94-FA06-4404-B377-A0344437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579-404D-494B-B8BA-62293F6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C42-8534-4D42-8F09-C873FD5E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622-0656-4B77-9A39-23707FF9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DE46-0B32-46AB-B95E-2F7A1574D8A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875A-A7A6-43D1-A97D-003430E05A4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198108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DIAGENES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E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ROCAS CARBONATAD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7" name="59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5943600" cy="44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72200" y="1752480"/>
            <a:ext cx="2971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Cemento gravitac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vadosa desde agua de poros marinas en zonas intermarteales o supramareales, o bien de aguas meteoricas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Cemento en mosaico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017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5294160" cy="4038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2743200"/>
            <a:ext cx="24382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poiquilotópi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loquemos dolomiti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60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546732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19920" y="2286000"/>
            <a:ext cx="28954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en mosaico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ción composicional de c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emento de calcita ferrosa precipita en condiciones reductor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 freático continental (LM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62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038480" cy="348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8120" y="914400"/>
            <a:ext cx="4114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sintaxial (</a:t>
            </a: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)            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Zona freático continenta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7" name="68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4014720" cy="350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75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715000" cy="4133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133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Pseudoesparita en la matriz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7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69736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380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057400"/>
            <a:ext cx="2438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Dolomita en una matriz de pseudoesparita con parches de micrit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Notar diferencias de tamañ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676520"/>
            <a:ext cx="38862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Cemento (ortoesparita)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ristales sobre bordes de gran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olaridad de tamaños, aumentan los cx desde las paredes hasta el centro del por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uniones triples enfaciales (180°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rect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usencia de estructuras relict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ímite entre partículas y cemento bien defini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os ejes mayores de los cristaless se orientan perpendiculares a los plannos de crecimien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1676520"/>
            <a:ext cx="35812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Pseudoespa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bordes de granos difuso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polariadad de tamañ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uniones triples enfacia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sutura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Mosaicos cristalinos con cristales de varios tamaños diferent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artículas esparíticas intersectadas por cristales de espari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Granos flotando, que no pueden sostenerse por si mism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resencia de fantasm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0" name="porosidad%20copiar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84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88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819760" cy="429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5530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er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90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530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móld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28600"/>
            <a:ext cx="761976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ROCESOS DIAGENÉTIC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Micritiz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ompac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ducción porosidad prim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emen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llena espacios que compactación no eliminó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Disolu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reación porosidad secund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emplazo (silicificación, dolomitización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quím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cristalización (pseudoesparita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fís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9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6095880" cy="4593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1440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ra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Geopétal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52680" y="990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1" name="99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212" name="100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411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emplazo                              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5" name="10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216" name="103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14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de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8" name="107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2674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108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                             silicific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1" name="Image8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334120" cy="4002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9920" y="20574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Oolitos silicific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52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334120" cy="445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43600" y="16002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Algas endolíticas (verde azules) excavan en materiales esqueléticos. Posteriormente, cuando mueren, los espacios son rellenados por mic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54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86400" cy="443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5880" y="2743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olitos micritiz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71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34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288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stráco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Image52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3233880" cy="165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91320" y="129528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ompactació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Mecánica (temprana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Química (Presión-disolució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69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380200" cy="426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981080"/>
            <a:ext cx="2286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En peloides, deformación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Posterior precipitación de cemento esparít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49568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5715000" cy="236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762120"/>
            <a:ext cx="4495680" cy="289548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09880"/>
            <a:ext cx="5715000" cy="236232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8380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Principales ambientes de cementación y tipos de cement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76720" y="1752480"/>
            <a:ext cx="228600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733560" y="2286000"/>
            <a:ext cx="190476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962520" y="2590560"/>
            <a:ext cx="1676160" cy="5331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038480" y="289512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35812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590920"/>
            <a:ext cx="373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Sintaxial, mosaico, poiquilotópico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057400"/>
            <a:ext cx="2819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Menisco y gravitacional</a:t>
            </a: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50532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Drusy (HMC-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97180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Drusy y menisco (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6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5861160" cy="4214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0" y="914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4724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685800"/>
            <a:ext cx="289548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Dos generacion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 cemento drusy (fibroso-isópaco): 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x de igual tamaño alrededor de los granos. La fabrica fibrosa-radial correspnde a aragonito (originalmente)  invertido a calcita, ó a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HMC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mari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 cemento en mosaico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        continental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alcita ferrosa .      Condiciones reductor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57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6553080" cy="4740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2057400"/>
            <a:ext cx="16765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en menis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guas meteóricas en zona vado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952880" y="2666880"/>
            <a:ext cx="1981440" cy="175284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5840" y="2362320"/>
            <a:ext cx="3048120" cy="99036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20:31:07Z</dcterms:created>
  <dc:creator>Carolita</dc:creator>
  <dc:description/>
  <dc:language>en-US</dc:language>
  <cp:lastModifiedBy>cliente</cp:lastModifiedBy>
  <dcterms:modified xsi:type="dcterms:W3CDTF">2004-08-13T02:55:14Z</dcterms:modified>
  <cp:revision>22</cp:revision>
  <dc:subject/>
  <dc:title>Presentación de PowerPoint</dc:title>
</cp:coreProperties>
</file>