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712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27C-1928-4ABC-9F86-C5D583E4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65CF-BE7C-45DE-96B8-AC322F8A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3E3-7820-470B-B79F-FADD52B9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114E-C1D1-4A4E-996E-74344405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25F0-57D4-4708-83EC-736085DE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BCCC-5B48-4029-A8F8-6959400A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D725-7F3A-4A76-9DCF-417EE540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673B-A9C6-4475-BBDF-DBAAA588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358D-102F-408B-9757-F122FBC7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97A7-6B56-4008-9564-28A678B9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E981-A84C-4CDC-9AAA-972920DB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39F-A17B-4BBB-9657-A2CDA5C1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334E-2B70-435F-8C3D-5FE7423F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DAC9-52B3-4B79-9022-3479DADA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5FD3-9B7F-4657-9BA6-17D256C8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39C4-A27E-4C20-A4F2-EAFE288A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4AF8-9D84-4DF1-9A92-ABAB1980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72D-E727-4C73-911A-066850DF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8761-8B62-4C5F-9CFE-A1D29F96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05CE-5A57-4CBF-937D-DA299F8B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DAC-79CD-4ABB-B98F-75D46FD6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1A31-5E4F-47BB-B26D-1E90CD63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9E1-12EF-4055-87AE-CEE72812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858E-219B-4433-B4C2-A9B77E32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E582-161A-4A58-A98A-985FE980E76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F41F-7F00-4866-8C07-FB59E23177AD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90720" y="1981080"/>
            <a:ext cx="7391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01016"/>
                </a:solidFill>
                <a:latin typeface="Arial Black"/>
              </a:rPr>
              <a:t>DIAGENESIS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01016"/>
                </a:solidFill>
                <a:latin typeface="Arial Black"/>
              </a:rPr>
              <a:t>EN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101016"/>
                </a:solidFill>
                <a:latin typeface="Arial Black"/>
              </a:rPr>
              <a:t>ROCAS CARBONATADAS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144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7" name="59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5943600" cy="4438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172200" y="1752480"/>
            <a:ext cx="29718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1°Cemento gravitaciona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Zona vadosa desde agua de poros marinas en zonas intermarteales o supramareales, o bien de aguas meteoricas (LMC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2°Cemento en mosaico(LMC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mage017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5294160" cy="4038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400800" y="2743200"/>
            <a:ext cx="243828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Cemento poiquilotópico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Aloquemos dolomitizad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30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60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5467320" cy="4648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019920" y="2286000"/>
            <a:ext cx="2895480" cy="28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Cemento en mosaico: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Zonación composicional de cx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Cemento de calcita ferrosa precipita en condiciones reductora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Zona freático continental (LMC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62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4038480" cy="3484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48120" y="914400"/>
            <a:ext cx="41148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Cemento sintaxial (</a:t>
            </a: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LMC)            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Zona freático continental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7" name="68" descr=""/>
          <p:cNvPicPr/>
          <p:nvPr/>
        </p:nvPicPr>
        <p:blipFill>
          <a:blip r:embed="rId3"/>
          <a:stretch/>
        </p:blipFill>
        <p:spPr>
          <a:xfrm>
            <a:off x="4876920" y="2133720"/>
            <a:ext cx="4014720" cy="3504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38080" y="228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75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5715000" cy="4133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77120" y="21337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Pseudoesparita en la matriz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3049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cristal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77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5697360" cy="4572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38080" y="3808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304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cristal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2057400"/>
            <a:ext cx="24386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545472"/>
                </a:solidFill>
                <a:latin typeface="Times New Roman"/>
              </a:rPr>
              <a:t>Dolomita en una matriz de pseudoesparita con parches de micrita.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545472"/>
                </a:solidFill>
                <a:latin typeface="Times New Roman"/>
              </a:rPr>
              <a:t>Notar diferencias de tamaños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304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cristal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676520"/>
            <a:ext cx="38862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545472"/>
                </a:solidFill>
                <a:uFillTx/>
                <a:latin typeface="Times New Roman"/>
                <a:ea typeface="Times New Roman"/>
              </a:rPr>
              <a:t>Cemento (ortoesparita)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ristales sobre bordes de gran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olaridad de tamaños, aumentan los cx desde las paredes hasta el centro del por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uniones triples enfaciales (180°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ontactos rect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usencia de estructuras relicta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ímite entre partículas y cemento bien definid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Los ejes mayores de los cristaless se orientan perpendiculares a los plannos de crecimient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1676520"/>
            <a:ext cx="35812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545472"/>
                </a:solidFill>
                <a:uFillTx/>
                <a:latin typeface="Times New Roman"/>
                <a:ea typeface="Times New Roman"/>
              </a:rPr>
              <a:t>Pseudoespari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bordes de granos difuso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o polariadad de tamañ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no uniones triples enfacial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contactos suturad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Mosaicos cristalinos con cristales de varios tamaños diferent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artículas esparíticas intersectadas por cristales de esparit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Granos flotando, que no pueden sostenerse por si mismo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Presencia de fantasma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90720" y="30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0" name="porosidad%20copiar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7684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90720" y="304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2" name="88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5819760" cy="4294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55308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intergranul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90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53080" y="2514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móldic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304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28600"/>
            <a:ext cx="7619760" cy="61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ROCESOS DIAGENÉTIC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Micritiz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Compact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Reducción porosidad prima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Cementa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Rellena espacios que compactación no eliminó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Disolución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Creación porosidad secundaria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Reemplazo (silicificación, dolomitización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Cambio químic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10101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Arial Black"/>
              </a:rPr>
              <a:t>Recristalización (pseudoesparita)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101016"/>
                </a:solidFill>
                <a:latin typeface="Arial Black"/>
              </a:rPr>
              <a:t>Cambio físico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97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6095880" cy="4593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914400" y="228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porosid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28195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Intragranula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Geopétal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352680" y="990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Dolom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1" name="99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4038480" cy="3809880"/>
          </a:xfrm>
          <a:prstGeom prst="rect">
            <a:avLst/>
          </a:prstGeom>
          <a:ln w="0">
            <a:noFill/>
          </a:ln>
        </p:spPr>
      </p:pic>
      <p:pic>
        <p:nvPicPr>
          <p:cNvPr id="212" name="100" descr=""/>
          <p:cNvPicPr/>
          <p:nvPr/>
        </p:nvPicPr>
        <p:blipFill>
          <a:blip r:embed="rId3"/>
          <a:stretch/>
        </p:blipFill>
        <p:spPr>
          <a:xfrm>
            <a:off x="4724280" y="1828800"/>
            <a:ext cx="4114800" cy="3809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914400" y="30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5472"/>
                </a:solidFill>
                <a:latin typeface="Arial Black"/>
              </a:rPr>
              <a:t>reemplaz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14400" y="380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reemplazo                              dolom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5" name="102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3886200"/>
          </a:xfrm>
          <a:prstGeom prst="rect">
            <a:avLst/>
          </a:prstGeom>
          <a:ln w="0">
            <a:noFill/>
          </a:ln>
        </p:spPr>
      </p:pic>
      <p:pic>
        <p:nvPicPr>
          <p:cNvPr id="216" name="103" descr=""/>
          <p:cNvPicPr/>
          <p:nvPr/>
        </p:nvPicPr>
        <p:blipFill>
          <a:blip r:embed="rId3"/>
          <a:stretch/>
        </p:blipFill>
        <p:spPr>
          <a:xfrm>
            <a:off x="4800600" y="1523880"/>
            <a:ext cx="4148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3520" y="3049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dedolom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18" name="107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426744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108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267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90720" y="3049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5472"/>
                </a:solidFill>
                <a:latin typeface="Arial Black"/>
              </a:rPr>
              <a:t>reemplazo                             silicific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21" name="Image86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5334120" cy="40021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19920" y="205740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01016"/>
                </a:solidFill>
                <a:latin typeface="Times New Roman"/>
              </a:rPr>
              <a:t>Oolitos silicificad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micr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8" name="52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5334120" cy="4457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943600" y="1600200"/>
            <a:ext cx="2666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45472"/>
                </a:solidFill>
                <a:latin typeface="Times New Roman"/>
              </a:rPr>
              <a:t>Algas endolíticas (verde azules) excavan en materiales esqueléticos. Posteriormente, cuando mueren, los espacios son rellenados por micri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080" y="30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micritiz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1" name="54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5486400" cy="4435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95880" y="2743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Oolitos micritizad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ompac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4" name="71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5334120" cy="4349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28800" y="5562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101016"/>
                </a:solidFill>
                <a:latin typeface="Times New Roman"/>
              </a:rPr>
              <a:t>ostrácod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6" name="Image52" descr=""/>
          <p:cNvPicPr/>
          <p:nvPr/>
        </p:nvPicPr>
        <p:blipFill>
          <a:blip r:embed="rId3"/>
          <a:stretch/>
        </p:blipFill>
        <p:spPr>
          <a:xfrm>
            <a:off x="5715000" y="3581280"/>
            <a:ext cx="3233880" cy="1657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791320" y="1295280"/>
            <a:ext cx="3352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Compactació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1010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Mecánica (temprana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10101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Química (Presión-disolución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69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5380200" cy="4267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3808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ompac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1981080"/>
            <a:ext cx="2286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En peloides, deformación.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Posterior precipitación de cemento esparítico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4495680" cy="2895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5715000" cy="236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" y="762120"/>
            <a:ext cx="4495680" cy="2895480"/>
          </a:xfrm>
          <a:prstGeom prst="rect">
            <a:avLst/>
          </a:prstGeom>
          <a:noFill/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809880"/>
            <a:ext cx="5715000" cy="2362320"/>
          </a:xfrm>
          <a:prstGeom prst="rect">
            <a:avLst/>
          </a:prstGeom>
          <a:noFill/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8380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01016"/>
                </a:solidFill>
                <a:latin typeface="Times New Roman"/>
              </a:rPr>
              <a:t>Principales ambientes de cementación y tipos de cement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276720" y="1752480"/>
            <a:ext cx="2286000" cy="5335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733560" y="2286000"/>
            <a:ext cx="1904760" cy="4572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962520" y="2590560"/>
            <a:ext cx="1676160" cy="5331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038480" y="2895120"/>
            <a:ext cx="1828800" cy="7621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35812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2590920"/>
            <a:ext cx="3733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28289e"/>
                </a:solidFill>
                <a:latin typeface="Times New Roman"/>
              </a:rPr>
              <a:t>Sintaxial, mosaico, poiquilotópico (LMC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057400"/>
            <a:ext cx="2819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28289e"/>
                </a:solidFill>
                <a:latin typeface="Times New Roman"/>
              </a:rPr>
              <a:t>Menisco y gravitacional</a:t>
            </a:r>
            <a:r>
              <a:rPr b="0" lang="es-MX" sz="1500" spc="-1" strike="noStrike">
                <a:solidFill>
                  <a:srgbClr val="28289e"/>
                </a:solidFill>
                <a:latin typeface="Times New Roman"/>
              </a:rPr>
              <a:t> (LMC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3505320"/>
            <a:ext cx="205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28289e"/>
                </a:solidFill>
                <a:latin typeface="Times New Roman"/>
              </a:rPr>
              <a:t>Drusy (HMC-arag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2971800"/>
            <a:ext cx="2362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28289e"/>
                </a:solidFill>
                <a:latin typeface="Times New Roman"/>
              </a:rPr>
              <a:t>Drusy y menisco (arag)</a:t>
            </a:r>
            <a:endParaRPr b="0" lang="en-US" sz="15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56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5861160" cy="4214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58000" y="914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47242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685800"/>
            <a:ext cx="2895480" cy="50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Dos generacion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1° cemento drusy (fibroso-isópaco): </a:t>
            </a: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cx de igual tamaño alrededor de los granos. La fabrica fibrosa-radial correspnde a aragonito (originalmente)  invertido a calcita, ó a </a:t>
            </a: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HMC</a:t>
            </a:r>
            <a:r>
              <a:rPr b="0" lang="es-MX" sz="1800" spc="-1" strike="noStrike">
                <a:solidFill>
                  <a:srgbClr val="10101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     </a:t>
            </a: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Zona freático marin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2° cemento en mosaico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     </a:t>
            </a: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Zona freático         continental (LMC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01016"/>
                </a:solidFill>
                <a:latin typeface="Times New Roman"/>
              </a:rPr>
              <a:t>Calcita ferrosa .      Condiciones reductora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04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57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6553080" cy="4740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14400" y="228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Arial Black"/>
              </a:rPr>
              <a:t>cementació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2057400"/>
            <a:ext cx="167652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Cemento en menisco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Aguas meteóricas en zona vadosa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1016"/>
                </a:solidFill>
                <a:latin typeface="Times New Roman"/>
              </a:rPr>
              <a:t>LMC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952880" y="2666880"/>
            <a:ext cx="1981440" cy="1752840"/>
          </a:xfrm>
          <a:prstGeom prst="line">
            <a:avLst/>
          </a:prstGeom>
          <a:ln w="28440">
            <a:solidFill>
              <a:srgbClr val="94b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885840" y="2362320"/>
            <a:ext cx="3048120" cy="990360"/>
          </a:xfrm>
          <a:prstGeom prst="line">
            <a:avLst/>
          </a:prstGeom>
          <a:ln w="28440">
            <a:solidFill>
              <a:srgbClr val="94b90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20:31:07Z</dcterms:created>
  <dc:creator>Carolita</dc:creator>
  <dc:description/>
  <dc:language>en-US</dc:language>
  <cp:lastModifiedBy>cliente</cp:lastModifiedBy>
  <dcterms:modified xsi:type="dcterms:W3CDTF">2004-08-13T02:55:14Z</dcterms:modified>
  <cp:revision>22</cp:revision>
  <dc:subject/>
  <dc:title>Presentación de PowerPoint</dc:title>
</cp:coreProperties>
</file>