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67658-F9B1-41F0-A080-32AF83B8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0A14-744F-40E7-ACB7-6F834884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8C46-6A94-4058-BF43-2F80C29B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3ECA-8325-4BBE-ABAE-6DB79E2A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FAF2-7657-45BE-9061-6EDB9334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BCBA-6179-4D2C-9F4D-3C255EBE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EF5D-DB54-4CD5-8815-21EFE724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0420-16ED-45C2-9234-0F0242CC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48A5-A0E9-4EC5-85F1-395BB293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DEA2-972B-4CDB-98C8-6DE53F93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69EE-9B82-4FB8-9D4B-E0C20145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983D-A7B6-4EB6-9791-0F5FB560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8CA2-DF85-4A2D-8324-5132864D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EF00-932A-48BA-ABFD-820B967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6570-72EF-4296-BF92-C847FA03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ED9A-111A-4C98-B0F3-DD7847B9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7525-0544-49C2-9DBE-64931358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141C-935D-4E70-876B-2B3FD2B7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9BA3-904F-4AA1-BEC6-AECCA0B8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4EC27-72AB-4693-893D-13A0B56C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6D300-AFC8-4346-8EF8-8D55FA81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B609-F8CC-4149-823C-8EDF57DD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34E3-CE0B-46E0-944D-AD1E518C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A711-3AAC-480C-A6C8-E14EC2E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2CE4-C1CA-440F-B0C4-B9BAEAE3D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30CC-DED1-479A-9997-9A526549A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44892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l curso y 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1: rocas carbonatadas y silicic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2: interpretación de ambientes sed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rtaciones sobre ambientes sedimentarios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1 &lt; 4,5 =&gt; examen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2 &lt; 4,5 =&gt; examen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inal: C1*0.40 + C2*0.40 + Disert*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examen(parte dada)(40%) + control x(40%) + disertaciòn (20%) &lt; 3.7 =&gt; re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7 &lt; examen(parte dada)(40%) + controlx(40%) + disertaciòn(20%) &lt; 4.0 =&gt; recu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ecuperativo reemplaza la nota 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emento espa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44754" t="29862" r="8007" b="23820"/>
          <a:stretch/>
        </p:blipFill>
        <p:spPr>
          <a:xfrm>
            <a:off x="971640" y="1674720"/>
            <a:ext cx="7056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609480"/>
            <a:ext cx="73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oqu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o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nos esqueléticos, fósiles): Restos completos o fragmentados de los equeletos construidos por organismos. Ej: moluscos (pelecípodos, gasterópodos, cefalópodos), braquiópodos, equinodermos, briozoos, foraminíferos, corales, algas calcáre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cualquier ambiente marino o continental. Los diferentes grupos, géneros o especies están restringidos a determinados subamb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 entre las con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0000" y="1125360"/>
            <a:ext cx="62640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989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57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rópodos y fragmentos de bival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pina de equinodermo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0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nia de Bryozoos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72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15760" y="2476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strac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41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337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aminíferos (nummu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89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94840" y="304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oraminíferos (Mili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oideos (foraminíf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102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a Clase Auxiliar Sedimentologí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Abril: Diagénesis en rocas carbon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  Abril: Clasificación de rocas carbonat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Marzo: Componentes de rocas carbonat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Abril: Rocas silisiclá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Abril: Clasificación de rocas silisiclá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Abril: Rep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Mayo: Contr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Mayo: Disertaciones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ayo: Disertaciones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Mayo: Vacaciones mitad de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Junio: Clase 1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Junio: Clase 2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Junio: Clase 3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Junio: Contro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80560" y="9540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ro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algas de agua dul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23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0880" y="17136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s codia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1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22400" y="171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 r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623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78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288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ragmento 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7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os agreg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pestones, lumps): granos complejos que consisten en varias partículas (bioclastos, ooides, peloides) unidas entre sí por micrita o cemento esparítico. Normalmente tienen formas lobulares irregulares subredondeadas y botr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submareales o intermareales c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ción restring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76640" y="2476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no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118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7621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oid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queléticos, de forma ovoidal, compuestos por micrita con una estructura interna masiva. Tamaños variables, aunque generalmente entre 0,1 y 0,5 m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: producto de la actividad fecal de organismos (pellets fecales), por destrucción y homogeneización de la estructura interna de partículas previas por abrasión mecánica o erosión biológica, retrabajo y redondeamiento de barros calcáreos (intraclastos fi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ambientes protegidos (lagoons y llanuras mareales), en cavidades dentro de arrecif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96200" y="17136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l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13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92376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a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trabajados de sedimento débilmente consolidad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ntro de una cuenca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acción de corrientes, oleaje, deslizami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rfología típica es de fragmentos generalmente angulosos, de tamaños variables compuestos de barro micrítico y/o fragmentos de bioclastos u otros gr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lquier zona de plataforma, talud o llanura abisal, con aumentos bruscos de energía que retrabaja sedimentos previamente depositados. Areas intermareales o supramareales, canales mareales, taludes mari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su modo de formación, l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ósitos de intraclastos muestran una fuerte homogene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cuanto a las características externas e internas de estos fra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a Carbonatada es aquella que está formada por más del 50% de minerales carbonatados (aragonito, calcita alta en Mg, calcita baja en Mg, dolomita, 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27000" y="95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tracla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94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10666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lastos (litoclasto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dondeados o angulosos procedentes de la erosión d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as carbonatad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antiguas y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s al ambiente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era de la cuenca). La estructura interna corresponda a la de la roca carbonatada que ha sufrido procesos de diagénesis mas o men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distinción entre intraclastos y extraclastos, un extraclasto po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iles más antiguos al contenido fosilífero de la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ículas truncadas en el borde del 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s de cementación bien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ia de vetillas rellenas por cementos o compactación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732480" y="304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ra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81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620640"/>
            <a:ext cx="861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olitos (ooides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de forma esférca o subesférica, que consisten en una o más láminas concéntric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 (grano de cuarzo, bioclasto,...). Tamaños usualmente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ores a 2 mm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ecuentemente entre 0,2-0,5 mm, con buena selección (mayores a 2 mm se llaman pisoides o pisoli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superficiales: sólo una lámina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normales: varias láminas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compuestos: varios aloquemos menores envueltos en conjunto por láminas concént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por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ción inorgánica (química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aguas marinas tropicales, en áreas de plataforma somera ( menos de 5 metros de profundidad, a veces hasta 10-15 m.)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ta energ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mbién lagoons, ríos y la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146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94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24080" y="457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94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colitos (oncoide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con laminación micrít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. La precipitación de las láminas es debido a l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de alg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año muy variabl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centímetros y decímetros, co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la selec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romatolitos también son construidos por la acción de algas, son matas de algas fosilizadas. Estas matas son formadas por filamentos de algas verde-azules. Las láminas, frecuentemente, tienen una forma irregul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574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nc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1460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bloque pul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8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09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c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07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69000" y="68580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s de rocas carbonat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916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as carbonatadas detrít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formadas por fragmentos procedentes de la erosión de rocas carbonatadas preexistentes. Genéticamente son similares a un sedimento terrígeno, pero con los granos de naturaleza carbon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3434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zas autócto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   constituidas por componentes carbonáticos originados primariamente, por procesos químicos o bioquímicos, en un determinado ambiente de sedimentación (continental o marino). Estas constituyen la mayor parte de las rocas carbonatadas dentro del registro estrati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78720" y="628560"/>
            <a:ext cx="28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ye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153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quemos (aloquímico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ualquier tipo de partícula carbonatada de origen bioquímico o químico, que denota un alto grado de organización y complejidad y que normalmente ha sufrido algún grado de transpor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oudyOl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Material intergranul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20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triz o barro carbonatado compuesto por un agregado de cristales finos menores a 4 micras de aragonito a calcita rica en Mg. Por diagénesis se transforman en cristales de calcita baja en M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microscopio se ve como una masa homogénea criptocristalina y oscura, normalmente de color p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ige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-Precipitación química (lagoons hipersal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cipitación bioquímica por fotosíntesis de algas (lagoons y lagos de agua dul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sintegración de algas verdes (halimeda, penicill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ioero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gradación mecánica de esquele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parazones de nanoplac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mencionar que la micrita es un material primario en la formación de la ro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3486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6002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bientes de formación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s protegido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aja energí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caso contrario los pequeños cristales serían dispersados por las aguas cuando hay agitación. (lagoons continentales, lagoons, plataforma profunda, fondos abis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52388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toesparita):  Término usado genéricamente para los cementos carbonatados. El cemento esparítico es un agregado de cristales de carbonato (aragonito o calcita) de tamaños mayores a las 4 micras que precipitan en los huecos existentes entre los granos de un sedimento carbonatado, o en los huecos internos de estas partíc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esparita: se forma por procesos neomórficos de recrist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09:18Z</dcterms:created>
  <dc:creator>Carolita</dc:creator>
  <dc:description/>
  <dc:language>en-US</dc:language>
  <cp:lastModifiedBy>Luisa Pinto</cp:lastModifiedBy>
  <dcterms:modified xsi:type="dcterms:W3CDTF">2005-03-17T18:54:55Z</dcterms:modified>
  <cp:revision>15</cp:revision>
  <dc:subject/>
  <dc:title>  Rocas carbonatadas  </dc:title>
</cp:coreProperties>
</file>