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65B1-A5A4-4FA9-A332-6BFBC10D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8A56-21CC-4EB5-81DA-CBE6F4A8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530B-F3C0-4834-A2AD-CE41C36F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7AAF-7966-40B7-B36B-1EC874C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C96D-5B5D-456B-B234-070AE916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474A-184D-432A-96CD-E6CBAECE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6B40-9C03-4A25-8DB1-458BA4F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9065-E085-4DA3-8E39-C298DD0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F70F-69C4-4D77-9554-A4043179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E3C1-26C7-4722-906D-8C2F4DF8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167-0D07-42A1-9932-756237FA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9E0F-5067-4BDF-9895-B9254227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7477-AFAC-4428-B1E7-4F23538B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57EB-FF2B-48B7-B905-9C0DFC7B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CB33-0E53-4332-96F3-72CD56F8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5C4-A1B4-4B4B-B527-31DB97EC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ABE-01CE-478C-AB18-66862789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7795-4E9B-47D5-A8C9-2E413E1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F1F8-1E78-4560-9FC5-50EF3556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33F1-6090-4A09-86C9-A6F32502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8E28C-3954-4237-96B7-E1138204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EB8BC-E6B8-4C63-9E2D-78AA011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1462-EB97-4700-9A06-06988B66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D189-A7A1-429A-9E67-6A07ED95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C99F-2898-4304-B391-DC47AD876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745-1137-4D46-8255-88EC345DB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 Clase Auxiliar Sedimentologí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Abril: Diagénesis en rocas carbon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 Abril: Clasificación de rocas carbonat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Marzo: Componentes de rocas carbonat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Abril: Rocas silisiclá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Abril: Clasificación de rocas silisiclá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Abril: Rep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Mayo: Contr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Mayo: Disertaciones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ayo: Disertaciones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Mayo: Vacaciones mitad de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Junio: Clase 1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Junio: Clase 2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Junio: Clase 3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Junio: Contr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Luisa Pinto</cp:lastModifiedBy>
  <dcterms:modified xsi:type="dcterms:W3CDTF">2005-03-17T18:54:55Z</dcterms:modified>
  <cp:revision>15</cp:revision>
  <dc:subject/>
  <dc:title>  Rocas carbonatadas  </dc:title>
</cp:coreProperties>
</file>