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7123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AEAB8-2538-4C66-90E7-CF2F633B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1A2A-35A5-4C56-8E38-A3D2B694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01F6D-E400-470B-B253-3B41B1269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E1E45-4465-433A-B3C3-C73CE9235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C462-4A7E-4DDD-AF9E-E619AC49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13AD-B4F6-4279-BCE3-B30636D6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A61E-814F-41F7-B093-3CFAD22D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C12D-F5AC-4DDF-983D-84D6C72B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AF90-98CC-46C5-B135-AD547464A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EB46-6A9C-452D-9DA7-83091B3D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BBD4-91E7-4ED7-BC28-037E68CB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92AD-1201-44ED-805A-E424F8F6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CB5C-7B55-4F11-BBFC-4C372546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7A43-7624-45DF-9C3B-95EA16C6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CC2D-4F0D-4425-B9ED-CAB2BA9D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BC4C-B1EA-45D5-B032-489F5671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0DD3-05A0-4FA7-A158-C9E39CED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DD931-E6F0-4BF6-8FAE-ECC46DA4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A07F0-A93E-489E-93F8-87249EDC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A2945-09FE-4566-9807-27747E0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887E7-3636-4F4A-BBE9-2304E347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44F4-49E8-4467-9910-EA9A3077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3514-0D58-44ED-985B-3564EC68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167B-5FAE-4EAF-A75C-AAE61758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CF0A-94BA-4B22-8516-D09C1C5462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92D7-B6E2-48A5-9B8C-181785EE4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9448920" cy="60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glas del curso y 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1: rocas carbonatadas y siliciclás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ol 2: interpretación de ambientes sedi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sertaciones sobre ambientes sedimentarios (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1 &lt; 4,5 =&gt; examen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 C2 &lt; 4,5 =&gt; examen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final: C1*0.40 + C2*0.40 + Disert*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examen(parte dada)(40%) + control x(40%) + disertaciòn (20%) &lt; 3.7 =&gt; reprob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7 &lt; examen(parte dada)(40%) + controlx(40%) + disertaciòn(20%) &lt; 4.0 =&gt; recuper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ecuperativo reemplaza la nota correspond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emento esparí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44754" t="29862" r="8007" b="23820"/>
          <a:stretch/>
        </p:blipFill>
        <p:spPr>
          <a:xfrm>
            <a:off x="971640" y="1674720"/>
            <a:ext cx="70563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14400" y="609480"/>
            <a:ext cx="73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loque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io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nos esqueléticos, fósiles): Restos completos o fragmentados de los equeletos construidos por organismos. Ej: moluscos (pelecípodos, gasterópodos, cefalópodos), braquiópodos, equinodermos, briozoos, foraminíferos, corales, algas calcáreas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cualquier ambiente marino o continental. Los diferentes grupos, géneros o especies están restringidos a determinados subamb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cia entre las con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40000" y="1125360"/>
            <a:ext cx="6264000" cy="53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989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7400" y="457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astrópodos y fragmentos de bival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638680" cy="40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3880" y="4572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pina de equinodermo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068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52388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lonia de Bryozoos (sección transver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6721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515760" y="247680"/>
            <a:ext cx="211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strac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0418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133720" y="380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oraminíferos (nummul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8968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94840" y="304920"/>
            <a:ext cx="45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oraminíferos (Milióli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05120" y="304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rbitoideos (foraminífe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51024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a Clase Auxiliar Sedimentologí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 Abril: Diagénesis en rocas carbon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  Abril: Clasificación de rocas carbonat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Marzo: Componentes de rocas carbonat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Abril: Rocas silisiclá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Abril: Clasificación de rocas silisiclá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 Abril: Rep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 Mayo: Contr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Mayo: Disertaciones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ayo: Disertaciones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 Mayo: Vacaciones mitad de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 Junio: Clase 1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Junio: Clase 2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Junio: Clase 3 amb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Junio: Control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80560" y="95400"/>
            <a:ext cx="36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rofi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algas de agua dul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23200" cy="47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0880" y="171360"/>
            <a:ext cx="282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s codiac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1024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722400" y="171360"/>
            <a:ext cx="1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lga ro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44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62320" y="533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78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28800" y="457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ragmento braquióp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072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3716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os agregad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grapestones, lumps): granos complejos que consisten en varias partículas (bioclastos, ooides, peloides) unidas entre sí por micrita o cemento esparítico. Normalmente tienen formas lobulares irregulares subredondeadas y botroid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submareales o intermareales con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ción restringid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176640" y="24768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ano agre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21180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762120"/>
            <a:ext cx="7238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eloid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queléticos, de forma ovoidal, compuestos por micrita con una estructura interna masiva. Tamaños variables, aunque generalmente entre 0,1 y 0,5 mm de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en: producto de la actividad fecal de organismos (pellets fecales), por destrucción y homogeneización de la estructura interna de partículas previas por abrasión mecánica o erosión biológica, retrabajo y redondeamiento de barros calcáreos (intraclastos fin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ambientes protegidos (lagoons y llanuras mareales), en cavidades dentro de arrecif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796200" y="17136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lo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59133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923760"/>
            <a:ext cx="8610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raclast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trabajados de sedimento débilmente consolidado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ntro de una cuenca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r la acción de corrientes, oleaje, deslizamient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rfología típica es de fragmentos generalmente angulosos, de tamaños variables compuestos de barro micrítico y/o fragmentos de bioclastos u otros gr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ualquier zona de plataforma, talud o llanura abisal, con aumentos bruscos de energía que retrabaja sedimentos previamente depositados. Areas intermareales o supramareales, canales mareales, taludes mari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ido a su modo de formación, los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ósitos de intraclastos muestran una fuerte homogeneidad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cuanto a las características externas e internas de estos fra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190512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ef: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ca Carbonatada es aquella que está formada por más del 50% de minerales carbonatados (aragonito, calcita alta en Mg, calcita baja en Mg, dolomita, otr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627000" y="9540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ntracla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294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280" y="106668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aclastos (litoclasto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gmentos redondeados o angulosos procedentes de la erosión d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cas carbonatad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ás antiguas y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ernas al ambiente de sediment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uera de la cuenca). La estructura interna corresponda a la de la roca carbonatada que ha sufrido procesos de diagénesis mas o menos inten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distinción entre intraclastos y extraclastos, un extraclasto pos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siles más antiguos al contenido fosilífero de la ro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ículas truncadas en el borde del 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idencias de cementación bien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ia de vetillas rellenas por cementos o compactación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des desgas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732480" y="3049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xtracla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2881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620640"/>
            <a:ext cx="861048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olitos (ooides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de forma esférca o subesférica, que consisten en una o más láminas concéntricas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es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 (grano de cuarzo, bioclasto,...). Tamaños usualmente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nores a 2 mm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recuentemente entre 0,2-0,5 mm, con buena selección (mayores a 2 mm se llaman pisoides o pisolito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superficiales: sólo una lámina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normales: varias láminas alrededor del núc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olitos compuestos: varios aloquemos menores envueltos en conjunto por láminas concéntric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bientes de formación: por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ción inorgánica (química)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 aguas marinas tropicales, en áreas de plataforma somera ( menos de 5 metros de profundidad, a veces hasta 10-15 m.) </a:t>
            </a:r>
            <a:r>
              <a:rPr b="1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ta energía</a:t>
            </a: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ambién lagoons, ríos y lag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14600" y="533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2946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24080" y="457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942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17524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colitos (oncoide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ranos no esqueléticos, con laminación micrític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gular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rededor de un núcleo. La precipitación de las láminas es debido a la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dad de alg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maño muy variable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asta centímetros y decímetros, con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la selec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 diferencia de los ooli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stromatolitos también son construidos por la acción de algas, son matas de algas fosilizadas. Estas matas son formadas por filamentos de algas verde-azules. Las láminas, frecuentemente, tienen una forma irregular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057400" y="533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ncol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129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514600" y="4572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bloque pul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218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09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romatolitos (c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072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69000" y="685800"/>
            <a:ext cx="5926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ipos de rocas carbonatad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2240" y="27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191628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as carbonatadas detrít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 formadas por fragmentos procedentes de la erosión de rocas carbonatadas preexistentes. Genéticamente son similares a un sedimento terrígeno, pero con los granos de naturaleza carbonat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343400"/>
            <a:ext cx="8077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izas autócton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   constituidas por componentes carbonáticos originados primariamente, por procesos químicos o bioquímicos, en un determinado ambiente de sedimentación (continental o marino). Estas constituyen la mayor parte de las rocas carbonatadas dentro del registro estratigrá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78720" y="628560"/>
            <a:ext cx="28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yent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1773360"/>
            <a:ext cx="815328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oquemos (aloquímicos)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Cualquier tipo de partícula carbonatada de origen bioquímico o químico, que denota un alto grado de organización y complejidad y que normalmente ha sufrido algún grado de transpor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oudyOlSt B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2. Material intergranular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620640"/>
            <a:ext cx="86043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atriz o barro carbonatado compuesto por un agregado de cristales finos menores a 4 micras de aragonito a calcita rica en Mg. Por diagénesis se transforman en cristales de calcita baja en M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microscopio se ve como una masa homogénea criptocristalina y oscura, normalmente de color par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ige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   -Precipitación química (lagoons hipersalin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ecipitación bioquímica por fotosíntesis de algas (lagoons y lagos de agua dul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sintegración de algas verdes (halimeda, penicillu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ioero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egradación mecánica de esqueletos biocl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ctividad bacter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parazones de nanoplac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importante mencionar que la micrita es un material primario en la formación de la roc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63486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6002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mbientes de formación: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os protegidos,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baja energí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n caso contrario los pequeños cristales serían dispersados por las aguas cuando hay agitación. (lagoons continentales, lagoons, plataforma profunda, fondos abisal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14400" y="152388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arita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rtoesparita):  Término usado genéricamente para los cementos carbonatados. El cemento esparítico es un agregado de cristales de carbonato (aragonito o calcita) de tamaños mayores a las 4 micras que precipitan en los huecos existentes entre los granos de un sedimento carbonatado, o en los huecos internos de estas partícu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esparita: se forma por procesos neomórficos de recrista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6:09:18Z</dcterms:created>
  <dc:creator>Carolita</dc:creator>
  <dc:description/>
  <dc:language>en-US</dc:language>
  <cp:lastModifiedBy>Luisa Pinto</cp:lastModifiedBy>
  <dcterms:modified xsi:type="dcterms:W3CDTF">2005-03-17T18:54:55Z</dcterms:modified>
  <cp:revision>15</cp:revision>
  <dc:subject/>
  <dc:title>  Rocas carbonatadas  </dc:title>
</cp:coreProperties>
</file>