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8.wmf" ContentType="image/x-wmf"/>
  <Override PartName="/ppt/media/image5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0.jpeg" ContentType="image/jpeg"/>
  <Override PartName="/ppt/media/image3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28.jpeg" ContentType="image/jpeg"/>
  <Override PartName="/ppt/media/image23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wmf" ContentType="image/x-wmf"/>
  <Override PartName="/ppt/media/image20.jpeg" ContentType="image/jpeg"/>
  <Override PartName="/ppt/media/image21.jpeg" ContentType="image/jpeg"/>
  <Override PartName="/ppt/media/image2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402-9F00-4F24-A14C-69B9237B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1CF-B343-48BF-BABB-93717CBD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0AF-EBE5-4174-B5AF-B773C31B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DA4-D379-46EB-AAFE-4DC45360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99B-EF22-4A82-A6CF-8A8969D0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9A7-5BBE-43A2-AD25-63C0F2EC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4F2-275B-409B-870D-99D6150F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D10-ACDA-4888-96AE-4831ED10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A8F-61B7-4FAC-9A9B-4E1C9088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4FF-60B2-4F8E-B51E-788D6759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A09-1DEA-4591-85D4-FA46360D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350-3011-41FC-B88B-7C4D46B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9B6E-DD48-4C04-B0F5-3D1585AC5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41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Rocas Ultramáficas (IC &gt;9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gclas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¿Que hace que los magmas sub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a principal fuerza que causa que los magmas suban es su “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buoyancia”,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s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decir su diferencia de densidad con las rocas que lo rod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10666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¿Como se emplazan los cuerpos intrusiv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urante la mayor parte del siglo XX se penso que el emplazamiento de los grandes batolitos se producía por la teoría del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diapirismo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ntes de su emplazamiento los magmas deben de haber ascendido unos 10-40 k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canismo de Propagación por fractura (diques alimentad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mplazamiento tabular en planos de debilidad (planos de estratificación, fallas, clivajes, etc) y ahí el magma se extiende later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ruden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905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on aquellas que cristalizan en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Para llegar a superficie el magma debe primero emplazarse (como las rocas intrusivas) en las llamadas </a:t>
            </a: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ámaras magmáticas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y luego cuando la presión de volátiles excede la carga del techo este se fractura y permite el ascenso del magma a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extrusivas efu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no fragmentadas, comúnmente con burbujas de ga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lava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us características morfológicas reflejan la composición del magma y su reolo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iscosidad dicta si es que la lava se extiende como una lámina delgada o como u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domo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lavas basálticas pueden extenderse cientos de km. desde su origen, mientras que magmas más ácidos (riolitas) solo muestran extensiones mucho meno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Ba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vesicular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5268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ndesita" descr=""/>
          <p:cNvPicPr/>
          <p:nvPr/>
        </p:nvPicPr>
        <p:blipFill>
          <a:blip r:embed="rId1"/>
          <a:stretch/>
        </p:blipFill>
        <p:spPr>
          <a:xfrm>
            <a:off x="1447920" y="1647720"/>
            <a:ext cx="7162560" cy="4481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1964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5038"/>
                </a:moveTo>
                <a:lnTo>
                  <a:pt x="17806" y="12044"/>
                </a:lnTo>
                <a:lnTo>
                  <a:pt x="3794" y="1905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iol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iolita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94640" cy="4251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11964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gclas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901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deas prev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ígneas se forman por cristalización desde un mag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gm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: mezcla móvil de sólidos, líquidos y fases gaseosas. Los magmas en superficie varían en T° entre 1200°C-700°C, sus densidades tb varían entre los 2.2-3.0 gr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confundir fundido (melt) 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(el fundido gobierna el comportamiento dinámico del magma y le da su movil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 explo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artículas juvenile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omez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, escoria)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cristales junto con posibl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ragmentos accidentale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son expulsados fuera del conducto y dispersos a través del aire o el agua y depositados en la 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Todos estos fragmentos son llamados en su conjunto como piroclastos o tefra y dependiendo de su tamaño so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ceniz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lapilli o bloques-bomb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pósitos piroclasticos basálticos son de una extensión muy local comparados a los depósitos generados por magmas riolíticos (decenas de k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ceni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oba%20de%20ceniza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lapil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oba%20de%20lapilli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351840" cy="417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1981080"/>
            <a:ext cx="0" cy="4114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3581280"/>
            <a:ext cx="91440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cm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ro1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114800" cy="3457800"/>
          </a:xfrm>
          <a:prstGeom prst="rect">
            <a:avLst/>
          </a:prstGeom>
          <a:ln w="0">
            <a:noFill/>
          </a:ln>
        </p:spPr>
      </p:pic>
      <p:pic>
        <p:nvPicPr>
          <p:cNvPr id="102" name="piro2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3847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52600" y="1397160"/>
            <a:ext cx="6240600" cy="40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600200"/>
          <a:ext cx="8305920" cy="407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30592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Generación de mag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rechamente unido a la tectónica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mbios en la T, P y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stasi1" descr=""/>
          <p:cNvPicPr/>
          <p:nvPr/>
        </p:nvPicPr>
        <p:blipFill>
          <a:blip r:embed="rId1"/>
          <a:stretch/>
        </p:blipFill>
        <p:spPr>
          <a:xfrm>
            <a:off x="1219320" y="1719360"/>
            <a:ext cx="67816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iferenciación mag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rie de Bo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erie%20bowen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54640" cy="470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324480" y="2895480"/>
            <a:ext cx="2589480" cy="2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saltos y gabr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05720" y="4267080"/>
            <a:ext cx="215568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esitas y dior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10280" y="5791320"/>
            <a:ext cx="188604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itos y riol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72200" y="-223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cer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Fraccionación cristal-fundido (gravitacional, por flujo, porconvección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paración fisica de fundidos inmis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ab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similación de contaminantes sol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zcla de 2 o más mag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 de rocas Ign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fáb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fabrica magmática es controlada por procesos cinéticos dependientes del tiempo en el magma solidificandose (tasa de enfriamien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4 tipos: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nerí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, afanítica, vitrea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volcaniclás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a en sus relaciones de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mplazadas sobre la superficie (rocas volcánicas), en la corteza somera (rocas hipabisales) y en la corteza profunda (rocas intrusiv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18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mineralog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els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feldespatos c/s cuarzo. (granitos, riolitas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Maf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biotitas, piroxenos, olivinos, anfibol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máfico: muy ricas en Fe-Mg y muy pobres o sin F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lasificación I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el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% de mxs m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Leucocrát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0-35%                 Melanocrático: 65-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socrático: 35-65%                Ultramáfico: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9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composi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agramas de 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ipos de rocas í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cristaliza a profundidad (variable) en la tie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se enfría y cristaliza sobre la superficie (no en su tota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457840" y="-428904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concentración de SiO</a:t>
            </a:r>
            <a:r>
              <a:rPr b="0" lang="es-ES_tradnl" sz="28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2 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(wt %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ácida &gt; 66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intermedia  52-66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básica 45-5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básica  45 o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Otros pará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ncentración de Al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3,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T, REE, isotopí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omo" descr=""/>
          <p:cNvPicPr/>
          <p:nvPr/>
        </p:nvPicPr>
        <p:blipFill>
          <a:blip r:embed="rId1"/>
          <a:stretch/>
        </p:blipFill>
        <p:spPr>
          <a:xfrm>
            <a:off x="760320" y="1047600"/>
            <a:ext cx="7621560" cy="4762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0199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3794" y="4231"/>
                </a:moveTo>
                <a:lnTo>
                  <a:pt x="17806" y="11238"/>
                </a:lnTo>
                <a:lnTo>
                  <a:pt x="3794" y="182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365040"/>
          <a:ext cx="86104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5040"/>
                    <a:ext cx="86104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8600" y="62485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14299" y="11238"/>
                </a:moveTo>
                <a:lnTo>
                  <a:pt x="3794" y="18244"/>
                </a:lnTo>
                <a:lnTo>
                  <a:pt x="3794" y="4231"/>
                </a:lnTo>
                <a:close/>
              </a:path>
              <a:path fill="darken" w="21600" h="22476">
                <a:moveTo>
                  <a:pt x="16144" y="4231"/>
                </a:moveTo>
                <a:lnTo>
                  <a:pt x="16144" y="18244"/>
                </a:lnTo>
                <a:lnTo>
                  <a:pt x="17806" y="18244"/>
                </a:lnTo>
                <a:lnTo>
                  <a:pt x="17806" y="42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Holl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83640" cy="443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27228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5402"/>
                </a:moveTo>
                <a:lnTo>
                  <a:pt x="17806" y="12408"/>
                </a:lnTo>
                <a:lnTo>
                  <a:pt x="3794" y="1941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ava" descr=""/>
          <p:cNvPicPr/>
          <p:nvPr/>
        </p:nvPicPr>
        <p:blipFill>
          <a:blip r:embed="rId1"/>
          <a:stretch/>
        </p:blipFill>
        <p:spPr>
          <a:xfrm>
            <a:off x="641520" y="600120"/>
            <a:ext cx="7859520" cy="5657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omez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4114800" cy="2575080"/>
          </a:xfrm>
          <a:prstGeom prst="rect">
            <a:avLst/>
          </a:prstGeom>
          <a:ln w="0">
            <a:noFill/>
          </a:ln>
        </p:spPr>
      </p:pic>
      <p:pic>
        <p:nvPicPr>
          <p:cNvPr id="140" name="scoria" descr=""/>
          <p:cNvPicPr/>
          <p:nvPr/>
        </p:nvPicPr>
        <p:blipFill>
          <a:blip r:embed="rId2"/>
          <a:stretch/>
        </p:blipFill>
        <p:spPr>
          <a:xfrm>
            <a:off x="5054760" y="1066680"/>
            <a:ext cx="3289320" cy="5257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omba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3889080" cy="2433600"/>
          </a:xfrm>
          <a:prstGeom prst="rect">
            <a:avLst/>
          </a:prstGeom>
          <a:ln w="0">
            <a:noFill/>
          </a:ln>
        </p:spPr>
      </p:pic>
      <p:pic>
        <p:nvPicPr>
          <p:cNvPr id="143" name="lapili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445280" cy="2781360"/>
          </a:xfrm>
          <a:prstGeom prst="rect">
            <a:avLst/>
          </a:prstGeom>
          <a:ln w="0">
            <a:noFill/>
          </a:ln>
        </p:spPr>
      </p:pic>
      <p:pic>
        <p:nvPicPr>
          <p:cNvPr id="144" name="ceniza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3657600" cy="2289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40564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 o plutó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 forman desde magmas que han intruido a rocas preexistentes  y que cristalizan bajo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Generalmente faneriticas (cxs visibles a simple vis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mplia variedad composi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588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09588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5425"/>
                </a:moveTo>
                <a:lnTo>
                  <a:pt x="17806" y="12432"/>
                </a:lnTo>
                <a:lnTo>
                  <a:pt x="3794" y="1943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incipales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ni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ranito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954760" cy="398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19596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Granodior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ranodiorita" descr=""/>
          <p:cNvPicPr/>
          <p:nvPr/>
        </p:nvPicPr>
        <p:blipFill>
          <a:blip r:embed="rId1"/>
          <a:stretch/>
        </p:blipFill>
        <p:spPr>
          <a:xfrm>
            <a:off x="3417840" y="152280"/>
            <a:ext cx="516564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8672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ab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abro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57819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sificación de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gclas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23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23:30:30Z</dcterms:created>
  <dc:creator>ariel.</dc:creator>
  <dc:description/>
  <dc:language>en-US</dc:language>
  <cp:lastModifiedBy>marcelo</cp:lastModifiedBy>
  <dcterms:modified xsi:type="dcterms:W3CDTF">2004-03-25T16:42:39Z</dcterms:modified>
  <cp:revision>22</cp:revision>
  <dc:subject/>
  <dc:title>ROCAS IGNEAS</dc:title>
</cp:coreProperties>
</file>