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0.jpeg" ContentType="image/jpeg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1C8-E77B-49AB-B0F9-F4053131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B5B-E314-4805-B598-2421D21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E3E-E529-45FC-A12E-15326748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E80-E00C-459C-B4EA-85839E32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D4C-505C-495F-AF22-D0B091B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CAA-E9D9-4F8F-A387-8E06E5EB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6D8-5A21-4FA1-AE53-402150E1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C15-8A22-4EBF-95A8-C45F2BA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417-89FA-46D8-A980-12EE2E03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9EB-633B-490B-9690-BE6DCC4D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ABD-83DA-47CF-AEFC-94C24F3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6D7-C900-4B90-9F99-805AB59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E226-FFF9-464E-9C16-9D2CAE42D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41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Rocas Ultramáficas (IC &gt;9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gclas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¿Que hace que los magmas sub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a principal fuerza que causa que los magmas suban es su “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buoyancia”,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decir su diferencia de densidad con las rocas que lo rod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¿Como se emplazan los cuerpos intrusiv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urante la mayor parte del siglo XX se penso que el emplazamiento de los grandes batolitos se producía por la teoría del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pirism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ntes de su emplazamiento los magmas deben de haber ascendido unos 10-4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canismo de Propagación por fractura (diques alimentad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mplazamiento tabular en planos de debilidad (planos de estratificación, fallas, clivajes, etc) y ahí el magma se extiende later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ruden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05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on aquellas que cristalizan en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ara llegar a superficie el magma debe primero emplazarse (como las rocas intrusivas) en las llamadas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ámaras magmática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luego cuando la presión de volátiles excede la carga del techo este se fractura y permite el ascenso del magma a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extrusivas efu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no fragmentadas, comúnmente con burbujas de ga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av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us características morfológicas reflejan la composición del magma y su re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iscosidad dicta si es que la lava se extiende como una lámina delgada o como u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om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lavas basálticas pueden extenderse cientos de km. desde su origen, mientras que magmas más ácidos (riolitas) solo muestran extensiones mucho men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a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vesicular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5268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ndesita" descr=""/>
          <p:cNvPicPr/>
          <p:nvPr/>
        </p:nvPicPr>
        <p:blipFill>
          <a:blip r:embed="rId1"/>
          <a:stretch/>
        </p:blipFill>
        <p:spPr>
          <a:xfrm>
            <a:off x="1447920" y="1647720"/>
            <a:ext cx="7162560" cy="44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1964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5038"/>
                </a:moveTo>
                <a:lnTo>
                  <a:pt x="17806" y="12044"/>
                </a:lnTo>
                <a:lnTo>
                  <a:pt x="3794" y="190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io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iolit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94640" cy="425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1964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gcla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901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deas prev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ígneas se forman por cristalización desde un ma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gm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 mezcla móvil de sólidos, líquidos y fases gaseosas. Los magmas en superficie varían en T° entre 1200°C-700°C, sus densidades tb varían entre los 2.2-3.0 gr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confundir fundido (melt) 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(el fundido gobierna el comportamiento dinámico del magma y le da su mov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 explo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artículas juvenile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mez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, escoria)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cristales junto con posibl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ragmentos accidentale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son expulsados fuera del conducto y dispersos a través del aire o el agua y depositados en l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Todos estos fragmentos son llamados en su conjunto como piroclastos o tefra y dependiendo de su tamaño so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eniz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lapilli o bloques-bomb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pósitos piroclasticos basálticos son de una extensión muy local comparados a los depósitos generados por magmas riolíticos (decenas de k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cen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oba%20de%20ceniz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lapi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oba%20de%20lapilli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351840" cy="41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1981080"/>
            <a:ext cx="0" cy="4114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581280"/>
            <a:ext cx="9144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c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ro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4800" cy="3457800"/>
          </a:xfrm>
          <a:prstGeom prst="rect">
            <a:avLst/>
          </a:prstGeom>
          <a:ln w="0">
            <a:noFill/>
          </a:ln>
        </p:spPr>
      </p:pic>
      <p:pic>
        <p:nvPicPr>
          <p:cNvPr id="102" name="piro2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2600" y="1397160"/>
            <a:ext cx="624060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600200"/>
          <a:ext cx="8305920" cy="407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059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Generación de mag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rechamente unido a la tectónic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mbios en la T, P 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tasi1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7816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iferenciación m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rie de B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erie%20bowen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54640" cy="47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324480" y="2895480"/>
            <a:ext cx="25894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altos y gabr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4267080"/>
            <a:ext cx="21556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esitas y dior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10280" y="5791320"/>
            <a:ext cx="18860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itos y riol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72200" y="-22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Fraccionación cristal-fundido (gravitacional, por flujo, porconvección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paración fisica de fundidos inmis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a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similación de contaminantes so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zcla de 2 o más ma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 de rocas Ign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fáb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fabrica magmática es controlada por procesos cinéticos dependientes del tiempo en el magma solidificandose (tasa de enfriami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4 tipos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nerí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afanítica, vitrea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olcaniclás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a en sus relacion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mplazadas sobre la superficie (rocas volcánicas), en la corteza somera (rocas hipabisales) y en la corteza profunda (rocas intrus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mineralo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els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feldespatos c/s cuarzo. (granitos, riolita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af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biotitas, piroxenos, olivinos, anfibol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máfico: muy ricas en Fe-Mg y muy pobres o sin F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lasificación I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el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% de mxs m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ucocrát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0-35%                 Melanocrático: 65-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socrático: 35-65%                Ultramáfico: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composi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agramas de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ipos de rocas í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cristaliza a profundidad (variable) en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se enfría y cristaliza sobre la superficie (no en su tot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57840" y="-4289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concentración de SiO</a:t>
            </a:r>
            <a:r>
              <a:rPr b="0" lang="es-ES_tradnl" sz="28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2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(wt %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ácida &gt; 66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termedia  52-66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básica 45-5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básica  45 o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Otr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centración de A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T, REE, isotop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omo" descr=""/>
          <p:cNvPicPr/>
          <p:nvPr/>
        </p:nvPicPr>
        <p:blipFill>
          <a:blip r:embed="rId1"/>
          <a:stretch/>
        </p:blipFill>
        <p:spPr>
          <a:xfrm>
            <a:off x="760320" y="1047600"/>
            <a:ext cx="7621560" cy="476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199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3794" y="4231"/>
                </a:moveTo>
                <a:lnTo>
                  <a:pt x="17806" y="11238"/>
                </a:lnTo>
                <a:lnTo>
                  <a:pt x="3794" y="182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365040"/>
          <a:ext cx="86104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040"/>
                    <a:ext cx="86104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62485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14299" y="11238"/>
                </a:moveTo>
                <a:lnTo>
                  <a:pt x="3794" y="18244"/>
                </a:lnTo>
                <a:lnTo>
                  <a:pt x="3794" y="4231"/>
                </a:lnTo>
                <a:close/>
              </a:path>
              <a:path fill="darken" w="21600" h="22476">
                <a:moveTo>
                  <a:pt x="16144" y="4231"/>
                </a:moveTo>
                <a:lnTo>
                  <a:pt x="16144" y="18244"/>
                </a:lnTo>
                <a:lnTo>
                  <a:pt x="17806" y="18244"/>
                </a:lnTo>
                <a:lnTo>
                  <a:pt x="17806" y="42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Holl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83640" cy="443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27228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va" descr=""/>
          <p:cNvPicPr/>
          <p:nvPr/>
        </p:nvPicPr>
        <p:blipFill>
          <a:blip r:embed="rId1"/>
          <a:stretch/>
        </p:blipFill>
        <p:spPr>
          <a:xfrm>
            <a:off x="641520" y="600120"/>
            <a:ext cx="7859520" cy="565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omez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140" name="scoria" descr=""/>
          <p:cNvPicPr/>
          <p:nvPr/>
        </p:nvPicPr>
        <p:blipFill>
          <a:blip r:embed="rId2"/>
          <a:stretch/>
        </p:blipFill>
        <p:spPr>
          <a:xfrm>
            <a:off x="5054760" y="1066680"/>
            <a:ext cx="328932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omba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38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lapili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2781360"/>
          </a:xfrm>
          <a:prstGeom prst="rect">
            <a:avLst/>
          </a:prstGeom>
          <a:ln w="0">
            <a:noFill/>
          </a:ln>
        </p:spPr>
      </p:pic>
      <p:pic>
        <p:nvPicPr>
          <p:cNvPr id="144" name="ceniza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657600" cy="2289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0564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 o plutó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 forman desde magmas que han intruido a rocas preexistentes  y que cristalizan bajo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Generalmente faneriticas (cxs visibles a simple vi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mplia variedad compos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588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9588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5425"/>
                </a:moveTo>
                <a:lnTo>
                  <a:pt x="17806" y="12432"/>
                </a:lnTo>
                <a:lnTo>
                  <a:pt x="3794" y="194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incipales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ni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nito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954760" cy="39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19596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Granodio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anodiorita" descr=""/>
          <p:cNvPicPr/>
          <p:nvPr/>
        </p:nvPicPr>
        <p:blipFill>
          <a:blip r:embed="rId1"/>
          <a:stretch/>
        </p:blipFill>
        <p:spPr>
          <a:xfrm>
            <a:off x="3417840" y="152280"/>
            <a:ext cx="516564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bro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57819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sificación de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gclas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23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3:30:30Z</dcterms:created>
  <dc:creator>ariel.</dc:creator>
  <dc:description/>
  <dc:language>en-US</dc:language>
  <cp:lastModifiedBy>marcelo</cp:lastModifiedBy>
  <dcterms:modified xsi:type="dcterms:W3CDTF">2004-03-25T16:42:39Z</dcterms:modified>
  <cp:revision>22</cp:revision>
  <dc:subject/>
  <dc:title>ROCAS IGNEAS</dc:title>
</cp:coreProperties>
</file>