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18.wmf" ContentType="image/x-wmf"/>
  <Override PartName="/ppt/media/image5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0.jpeg" ContentType="image/jpeg"/>
  <Override PartName="/ppt/media/image3.jpeg" ContentType="image/jpeg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28.jpeg" ContentType="image/jpeg"/>
  <Override PartName="/ppt/media/image23.wmf" ContentType="image/x-wmf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9.wmf" ContentType="image/x-wmf"/>
  <Override PartName="/ppt/media/image20.jpeg" ContentType="image/jpeg"/>
  <Override PartName="/ppt/media/image21.jpeg" ContentType="image/jpeg"/>
  <Override PartName="/ppt/media/image2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1B3-873D-4E21-82E6-0D7ACA13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A2B-8085-4C30-9CBF-4E7D7108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065-DEB8-4B36-BB7F-36F41CA3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3BC-391B-4273-B759-5865FC30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A51-978F-4E30-9E45-AAD62F4B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B8A4-256E-418B-BADB-934C520E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23F-0154-4D63-B8BD-9101D526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F75-04EC-4F1C-A7C4-8DE09622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138-44CB-47EF-80D2-48D9DC32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725-5ECF-48EB-9A39-7E444E83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4F0-1FA4-4FE3-9DFA-54719B56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755-0793-44C5-A88B-A8288E9E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7257-07F6-4935-9457-7C1B5CC62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8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CAS IGN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L41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Rocas Ultramáficas (IC &gt;9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igclas3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400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¿Que hace que los magmas sub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La principal fuerza que causa que los magmas suban es su “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buoyancia”,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es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decir su diferencia de densidad con las rocas que lo rod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81680" y="1066680"/>
            <a:ext cx="185760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¿Como se emplazan los cuerpos intrusiv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urante la mayor parte del siglo XX se penso que el emplazamiento de los grandes batolitos se producía por la teoría del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diapirismo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Antes de su emplazamiento los magmas deben de haber ascendido unos 10-40 k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Mecanismo de Propagación por fractura (diques alimentador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mplazamiento tabular en planos de debilidad (planos de estratificación, fallas, clivajes, etc) y ahí el magma se extiende later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ruden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9056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on aquellas que cristalizan en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Para llegar a superficie el magma debe primero emplazarse (como las rocas intrusivas) en las llamadas </a:t>
            </a: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cámaras magmáticas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y luego cuando la presión de volátiles excede la carga del techo este se fractura y permite el ascenso del magma a la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extrusivas efus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Rocas no fragmentadas, comúnmente con burbujas de gas (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lavas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Sus características morfológicas reflejan la composición del magma y su reolo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Viscosidad dicta si es que la lava se extiende como una lámina delgada o como un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domo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Las lavas basálticas pueden extenderse cientos de km. desde su origen, mientras que magmas más ácidos (riolitas) solo muestran extensiones mucho meno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Basal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Bvesicular" descr=""/>
          <p:cNvPicPr/>
          <p:nvPr/>
        </p:nvPicPr>
        <p:blipFill>
          <a:blip r:embed="rId1"/>
          <a:stretch/>
        </p:blipFill>
        <p:spPr>
          <a:xfrm>
            <a:off x="3124080" y="990720"/>
            <a:ext cx="5268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d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ndesita" descr=""/>
          <p:cNvPicPr/>
          <p:nvPr/>
        </p:nvPicPr>
        <p:blipFill>
          <a:blip r:embed="rId1"/>
          <a:stretch/>
        </p:blipFill>
        <p:spPr>
          <a:xfrm>
            <a:off x="1447920" y="1647720"/>
            <a:ext cx="7162560" cy="4481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11964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5038"/>
                </a:moveTo>
                <a:lnTo>
                  <a:pt x="17806" y="12044"/>
                </a:lnTo>
                <a:lnTo>
                  <a:pt x="3794" y="1905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iol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riolita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94640" cy="4251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611964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lasificació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igclas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9012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Ideas prev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Rocas ígneas se forman por cristalización desde un mag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Magma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: mezcla móvil de sólidos, líquidos y fases gaseosas. Los magmas en superficie varían en T° entre 1200°C-700°C, sus densidades tb varían entre los 2.2-3.0 gr/cm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No confundir fundido (melt) y m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(el fundido gobierna el comportamiento dinámico del magma y le da su movil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 explos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artículas juveniles (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omez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, escoria)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, cristales junto con posibl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ragmentos accidentales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son expulsados fuera del conducto y dispersos a través del aire o el agua y depositados en la superfic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Todos estos fragmentos son llamados en su conjunto como piroclastos o tefra y dependiendo de su tamaño son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ceniza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, lapilli o bloques-bomb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epósitos piroclasticos basálticos son de una extensión muy local comparados a los depósitos generados por magmas riolíticos (decenas de k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oba de ceni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toba%20de%20ceniza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2388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Toba de lapil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toba%20de%20lapilli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6351840" cy="4178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3880" y="1981080"/>
            <a:ext cx="0" cy="4114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3581280"/>
            <a:ext cx="914400" cy="4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cm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119640"/>
            <a:ext cx="814320" cy="738360"/>
          </a:xfrm>
          <a:custGeom>
            <a:avLst/>
            <a:gdLst>
              <a:gd name="textAreaLeft" fmla="*/ 47880 w 814320"/>
              <a:gd name="textAreaRight" fmla="*/ 766800 w 8143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3821" h="21600">
                <a:moveTo>
                  <a:pt x="0" y="0"/>
                </a:moveTo>
                <a:lnTo>
                  <a:pt x="23821" y="0"/>
                </a:lnTo>
                <a:lnTo>
                  <a:pt x="23821" y="21600"/>
                </a:lnTo>
                <a:lnTo>
                  <a:pt x="0" y="21600"/>
                </a:lnTo>
                <a:close/>
              </a:path>
              <a:path fill="lightenLess" w="23821" h="21600">
                <a:moveTo>
                  <a:pt x="0" y="0"/>
                </a:moveTo>
                <a:lnTo>
                  <a:pt x="23821" y="0"/>
                </a:lnTo>
                <a:lnTo>
                  <a:pt x="22421" y="1400"/>
                </a:lnTo>
                <a:lnTo>
                  <a:pt x="1400" y="1400"/>
                </a:lnTo>
                <a:close/>
              </a:path>
              <a:path fill="darken" w="23821" h="21600">
                <a:moveTo>
                  <a:pt x="23821" y="0"/>
                </a:moveTo>
                <a:lnTo>
                  <a:pt x="23821" y="21600"/>
                </a:lnTo>
                <a:lnTo>
                  <a:pt x="22421" y="20200"/>
                </a:lnTo>
                <a:lnTo>
                  <a:pt x="22421" y="1400"/>
                </a:lnTo>
                <a:close/>
              </a:path>
              <a:path fill="darkenLess" w="23821" h="21600">
                <a:moveTo>
                  <a:pt x="23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1" y="20200"/>
                </a:lnTo>
                <a:close/>
              </a:path>
              <a:path fill="lighten" w="23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1" h="21600">
                <a:moveTo>
                  <a:pt x="4904" y="3794"/>
                </a:moveTo>
                <a:lnTo>
                  <a:pt x="18917" y="10800"/>
                </a:lnTo>
                <a:lnTo>
                  <a:pt x="49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ro1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114800" cy="3457800"/>
          </a:xfrm>
          <a:prstGeom prst="rect">
            <a:avLst/>
          </a:prstGeom>
          <a:ln w="0">
            <a:noFill/>
          </a:ln>
        </p:spPr>
      </p:pic>
      <p:pic>
        <p:nvPicPr>
          <p:cNvPr id="102" name="piro2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38472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m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52600" y="1397160"/>
            <a:ext cx="6240600" cy="406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57200" y="1600200"/>
          <a:ext cx="8305920" cy="407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30592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808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Generación de mag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strechamente unido a la tectónica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mbios en la T, P y 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Estasi1" descr=""/>
          <p:cNvPicPr/>
          <p:nvPr/>
        </p:nvPicPr>
        <p:blipFill>
          <a:blip r:embed="rId1"/>
          <a:stretch/>
        </p:blipFill>
        <p:spPr>
          <a:xfrm>
            <a:off x="1219320" y="1719360"/>
            <a:ext cx="67816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Diferenciación mag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erie de Bow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serie%20bowen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254640" cy="4701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324480" y="2895480"/>
            <a:ext cx="2589480" cy="2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saltos y gabr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705720" y="4267080"/>
            <a:ext cx="215568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desitas y diorit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010280" y="5791320"/>
            <a:ext cx="188604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nitos y riolit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72200" y="-223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cesos a sistema cer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Fraccionación cristal-fundido (gravitacional, por flujo, porconvección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Separación fisica de fundidos inmisc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cesos a sistema abie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Asimilación de contaminantes sol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mezcla de 2 o más mag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lasificación de rocas Ign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su fáb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a fabrica magmática es controlada por procesos cinéticos dependientes del tiempo en el magma solidificandose (tasa de enfriamien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4 tipos: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nerít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, afanítica, vitrea y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volcaniclást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a en sus relaciones de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mplazadas sobre la superficie (rocas volcánicas), en la corteza somera (rocas hipabisales) y en la corteza profunda (rocas intrusiv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1880" y="-43657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la mineralogí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els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feldespatos c/s cuarzo. (granitos, riolitas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Mafic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biotitas, piroxenos, olivinos, anfibola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Ultramáfico: muy ricas en Fe-Mg y muy pobres o sin F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lasificación I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el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% de mxs má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Leucocrátic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0-35%                 Melanocrático: 65-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Mesocrático: 35-65%                Ultramáfico: </a:t>
            </a:r>
            <a:r>
              <a:rPr b="0" lang="es-ES_tradnl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9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su composi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Diagramas de 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ipos de rocas ígn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cas Intrusivas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: el magma cristaliza a profundidad (variable) en la tier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: el magma se enfría y cristaliza sobre la superficie (no en su totalida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457840" y="-428904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la concentración de SiO</a:t>
            </a:r>
            <a:r>
              <a:rPr b="0" lang="es-ES_tradnl" sz="2800" spc="-1" strike="noStrike" u="sng" baseline="-25000">
                <a:solidFill>
                  <a:srgbClr val="ffff00"/>
                </a:solidFill>
                <a:uFillTx/>
                <a:latin typeface="Times New Roman"/>
              </a:rPr>
              <a:t>2 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(wt %)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ácida &gt; 66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intermedia  52-66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básica 45-52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ultrabásica  45 o m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Otros paráme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oncentración de Al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3,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T, REE, isotopí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domo" descr=""/>
          <p:cNvPicPr/>
          <p:nvPr/>
        </p:nvPicPr>
        <p:blipFill>
          <a:blip r:embed="rId1"/>
          <a:stretch/>
        </p:blipFill>
        <p:spPr>
          <a:xfrm>
            <a:off x="760320" y="1047600"/>
            <a:ext cx="7621560" cy="4762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019920"/>
            <a:ext cx="585720" cy="60948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1600" h="22476">
                <a:moveTo>
                  <a:pt x="0" y="0"/>
                </a:moveTo>
                <a:lnTo>
                  <a:pt x="21600" y="0"/>
                </a:lnTo>
                <a:lnTo>
                  <a:pt x="21600" y="22476"/>
                </a:lnTo>
                <a:lnTo>
                  <a:pt x="0" y="22476"/>
                </a:lnTo>
                <a:close/>
              </a:path>
              <a:path fill="lightenLess" w="21600" h="224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76">
                <a:moveTo>
                  <a:pt x="21600" y="0"/>
                </a:moveTo>
                <a:lnTo>
                  <a:pt x="21600" y="22476"/>
                </a:lnTo>
                <a:lnTo>
                  <a:pt x="20200" y="21076"/>
                </a:lnTo>
                <a:lnTo>
                  <a:pt x="20200" y="1400"/>
                </a:lnTo>
                <a:close/>
              </a:path>
              <a:path fill="darkenLess" w="21600" h="22476">
                <a:moveTo>
                  <a:pt x="21600" y="22476"/>
                </a:moveTo>
                <a:lnTo>
                  <a:pt x="0" y="22476"/>
                </a:lnTo>
                <a:lnTo>
                  <a:pt x="1400" y="21076"/>
                </a:lnTo>
                <a:lnTo>
                  <a:pt x="20200" y="21076"/>
                </a:lnTo>
                <a:close/>
              </a:path>
              <a:path fill="lighten" w="21600" h="22476">
                <a:moveTo>
                  <a:pt x="0" y="224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76"/>
                </a:lnTo>
                <a:close/>
              </a:path>
              <a:path fill="darken" w="21600" h="22476">
                <a:moveTo>
                  <a:pt x="3794" y="4231"/>
                </a:moveTo>
                <a:lnTo>
                  <a:pt x="17806" y="11238"/>
                </a:lnTo>
                <a:lnTo>
                  <a:pt x="3794" y="182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228600" y="365040"/>
          <a:ext cx="86104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5040"/>
                    <a:ext cx="86104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28600" y="6248520"/>
            <a:ext cx="585720" cy="60948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1600" h="22476">
                <a:moveTo>
                  <a:pt x="0" y="0"/>
                </a:moveTo>
                <a:lnTo>
                  <a:pt x="21600" y="0"/>
                </a:lnTo>
                <a:lnTo>
                  <a:pt x="21600" y="22476"/>
                </a:lnTo>
                <a:lnTo>
                  <a:pt x="0" y="22476"/>
                </a:lnTo>
                <a:close/>
              </a:path>
              <a:path fill="lightenLess" w="21600" h="224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76">
                <a:moveTo>
                  <a:pt x="21600" y="0"/>
                </a:moveTo>
                <a:lnTo>
                  <a:pt x="21600" y="22476"/>
                </a:lnTo>
                <a:lnTo>
                  <a:pt x="20200" y="21076"/>
                </a:lnTo>
                <a:lnTo>
                  <a:pt x="20200" y="1400"/>
                </a:lnTo>
                <a:close/>
              </a:path>
              <a:path fill="darkenLess" w="21600" h="22476">
                <a:moveTo>
                  <a:pt x="21600" y="22476"/>
                </a:moveTo>
                <a:lnTo>
                  <a:pt x="0" y="22476"/>
                </a:lnTo>
                <a:lnTo>
                  <a:pt x="1400" y="21076"/>
                </a:lnTo>
                <a:lnTo>
                  <a:pt x="20200" y="21076"/>
                </a:lnTo>
                <a:close/>
              </a:path>
              <a:path fill="lighten" w="21600" h="22476">
                <a:moveTo>
                  <a:pt x="0" y="224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76"/>
                </a:lnTo>
                <a:close/>
              </a:path>
              <a:path fill="darken" w="21600" h="22476">
                <a:moveTo>
                  <a:pt x="14299" y="11238"/>
                </a:moveTo>
                <a:lnTo>
                  <a:pt x="3794" y="18244"/>
                </a:lnTo>
                <a:lnTo>
                  <a:pt x="3794" y="4231"/>
                </a:lnTo>
                <a:close/>
              </a:path>
              <a:path fill="darken" w="21600" h="22476">
                <a:moveTo>
                  <a:pt x="16144" y="4231"/>
                </a:moveTo>
                <a:lnTo>
                  <a:pt x="16144" y="18244"/>
                </a:lnTo>
                <a:lnTo>
                  <a:pt x="17806" y="18244"/>
                </a:lnTo>
                <a:lnTo>
                  <a:pt x="17806" y="423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Holl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883640" cy="4430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627228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3794" y="5402"/>
                </a:moveTo>
                <a:lnTo>
                  <a:pt x="17806" y="12408"/>
                </a:lnTo>
                <a:lnTo>
                  <a:pt x="3794" y="1941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lava" descr=""/>
          <p:cNvPicPr/>
          <p:nvPr/>
        </p:nvPicPr>
        <p:blipFill>
          <a:blip r:embed="rId1"/>
          <a:stretch/>
        </p:blipFill>
        <p:spPr>
          <a:xfrm>
            <a:off x="641520" y="600120"/>
            <a:ext cx="7859520" cy="5657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omez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4114800" cy="2575080"/>
          </a:xfrm>
          <a:prstGeom prst="rect">
            <a:avLst/>
          </a:prstGeom>
          <a:ln w="0">
            <a:noFill/>
          </a:ln>
        </p:spPr>
      </p:pic>
      <p:pic>
        <p:nvPicPr>
          <p:cNvPr id="140" name="scoria" descr=""/>
          <p:cNvPicPr/>
          <p:nvPr/>
        </p:nvPicPr>
        <p:blipFill>
          <a:blip r:embed="rId2"/>
          <a:stretch/>
        </p:blipFill>
        <p:spPr>
          <a:xfrm>
            <a:off x="5054760" y="1066680"/>
            <a:ext cx="3289320" cy="5257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4920" y="60199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omba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3889080" cy="2433600"/>
          </a:xfrm>
          <a:prstGeom prst="rect">
            <a:avLst/>
          </a:prstGeom>
          <a:ln w="0">
            <a:noFill/>
          </a:ln>
        </p:spPr>
      </p:pic>
      <p:pic>
        <p:nvPicPr>
          <p:cNvPr id="143" name="lapili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445280" cy="2781360"/>
          </a:xfrm>
          <a:prstGeom prst="rect">
            <a:avLst/>
          </a:prstGeom>
          <a:ln w="0">
            <a:noFill/>
          </a:ln>
        </p:spPr>
      </p:pic>
      <p:pic>
        <p:nvPicPr>
          <p:cNvPr id="144" name="ceniza" descr=""/>
          <p:cNvPicPr/>
          <p:nvPr/>
        </p:nvPicPr>
        <p:blipFill>
          <a:blip r:embed="rId3"/>
          <a:stretch/>
        </p:blipFill>
        <p:spPr>
          <a:xfrm>
            <a:off x="685800" y="1143000"/>
            <a:ext cx="3657600" cy="2289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405640" y="5943600"/>
            <a:ext cx="738360" cy="662040"/>
          </a:xfrm>
          <a:custGeom>
            <a:avLst/>
            <a:gdLst>
              <a:gd name="textAreaLeft" fmla="*/ 42840 w 738360"/>
              <a:gd name="textAreaRight" fmla="*/ 695520 w 7383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89" h="21600">
                <a:moveTo>
                  <a:pt x="0" y="0"/>
                </a:moveTo>
                <a:lnTo>
                  <a:pt x="24089" y="0"/>
                </a:lnTo>
                <a:lnTo>
                  <a:pt x="24089" y="21600"/>
                </a:lnTo>
                <a:lnTo>
                  <a:pt x="0" y="21600"/>
                </a:lnTo>
                <a:close/>
              </a:path>
              <a:path fill="lightenLess" w="24089" h="21600">
                <a:moveTo>
                  <a:pt x="0" y="0"/>
                </a:moveTo>
                <a:lnTo>
                  <a:pt x="24089" y="0"/>
                </a:lnTo>
                <a:lnTo>
                  <a:pt x="22689" y="1400"/>
                </a:lnTo>
                <a:lnTo>
                  <a:pt x="1400" y="1400"/>
                </a:lnTo>
                <a:close/>
              </a:path>
              <a:path fill="darken" w="24089" h="21600">
                <a:moveTo>
                  <a:pt x="24089" y="0"/>
                </a:moveTo>
                <a:lnTo>
                  <a:pt x="24089" y="21600"/>
                </a:lnTo>
                <a:lnTo>
                  <a:pt x="22689" y="20200"/>
                </a:lnTo>
                <a:lnTo>
                  <a:pt x="22689" y="1400"/>
                </a:lnTo>
                <a:close/>
              </a:path>
              <a:path fill="darkenLess" w="24089" h="21600">
                <a:moveTo>
                  <a:pt x="24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9" y="20200"/>
                </a:lnTo>
                <a:close/>
              </a:path>
              <a:path fill="lighten" w="24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89" h="21600">
                <a:moveTo>
                  <a:pt x="5038" y="3794"/>
                </a:moveTo>
                <a:lnTo>
                  <a:pt x="19051" y="10800"/>
                </a:lnTo>
                <a:lnTo>
                  <a:pt x="503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Intrusivas o plutón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e forman desde magmas que han intruido a rocas preexistentes  y que cristalizan bajo la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Generalmente faneriticas (cxs visibles a simple vist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mplia variedad composi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772400" cy="588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6095880"/>
            <a:ext cx="662040" cy="76212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62120"/>
              <a:gd name="textAreaBottom" fmla="*/ 719280 h 762120"/>
            </a:gdLst>
            <a:ahLst/>
            <a:rect l="textAreaLeft" t="textAreaTop" r="textAreaRight" b="textAreaBottom"/>
            <a:pathLst>
              <a:path w="21600" h="24863">
                <a:moveTo>
                  <a:pt x="0" y="0"/>
                </a:moveTo>
                <a:lnTo>
                  <a:pt x="21600" y="0"/>
                </a:lnTo>
                <a:lnTo>
                  <a:pt x="21600" y="24863"/>
                </a:lnTo>
                <a:lnTo>
                  <a:pt x="0" y="24863"/>
                </a:lnTo>
                <a:close/>
              </a:path>
              <a:path fill="lightenLess" w="21600" h="248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63">
                <a:moveTo>
                  <a:pt x="21600" y="0"/>
                </a:moveTo>
                <a:lnTo>
                  <a:pt x="21600" y="24863"/>
                </a:lnTo>
                <a:lnTo>
                  <a:pt x="20200" y="23463"/>
                </a:lnTo>
                <a:lnTo>
                  <a:pt x="20200" y="1400"/>
                </a:lnTo>
                <a:close/>
              </a:path>
              <a:path fill="darkenLess" w="21600" h="24863">
                <a:moveTo>
                  <a:pt x="21600" y="24863"/>
                </a:moveTo>
                <a:lnTo>
                  <a:pt x="0" y="24863"/>
                </a:lnTo>
                <a:lnTo>
                  <a:pt x="1400" y="23463"/>
                </a:lnTo>
                <a:lnTo>
                  <a:pt x="20200" y="23463"/>
                </a:lnTo>
                <a:close/>
              </a:path>
              <a:path fill="lighten" w="21600" h="24863">
                <a:moveTo>
                  <a:pt x="0" y="248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63"/>
                </a:lnTo>
                <a:close/>
              </a:path>
              <a:path fill="darken" w="21600" h="24863">
                <a:moveTo>
                  <a:pt x="3794" y="5425"/>
                </a:moveTo>
                <a:lnTo>
                  <a:pt x="17806" y="12432"/>
                </a:lnTo>
                <a:lnTo>
                  <a:pt x="3794" y="1943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incipales rocas intrusiv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nit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ranito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954760" cy="3981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195960"/>
            <a:ext cx="814320" cy="662040"/>
          </a:xfrm>
          <a:custGeom>
            <a:avLst/>
            <a:gdLst>
              <a:gd name="textAreaLeft" fmla="*/ 42840 w 814320"/>
              <a:gd name="textAreaRight" fmla="*/ 771480 w 8143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6566" h="21600">
                <a:moveTo>
                  <a:pt x="0" y="0"/>
                </a:moveTo>
                <a:lnTo>
                  <a:pt x="26566" y="0"/>
                </a:lnTo>
                <a:lnTo>
                  <a:pt x="26566" y="21600"/>
                </a:lnTo>
                <a:lnTo>
                  <a:pt x="0" y="21600"/>
                </a:lnTo>
                <a:close/>
              </a:path>
              <a:path fill="lightenLess" w="26566" h="21600">
                <a:moveTo>
                  <a:pt x="0" y="0"/>
                </a:moveTo>
                <a:lnTo>
                  <a:pt x="26566" y="0"/>
                </a:lnTo>
                <a:lnTo>
                  <a:pt x="25166" y="1400"/>
                </a:lnTo>
                <a:lnTo>
                  <a:pt x="1400" y="1400"/>
                </a:lnTo>
                <a:close/>
              </a:path>
              <a:path fill="darken" w="26566" h="21600">
                <a:moveTo>
                  <a:pt x="26566" y="0"/>
                </a:moveTo>
                <a:lnTo>
                  <a:pt x="26566" y="21600"/>
                </a:lnTo>
                <a:lnTo>
                  <a:pt x="25166" y="20200"/>
                </a:lnTo>
                <a:lnTo>
                  <a:pt x="25166" y="1400"/>
                </a:lnTo>
                <a:close/>
              </a:path>
              <a:path fill="darkenLess" w="26566" h="21600">
                <a:moveTo>
                  <a:pt x="26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6" y="20200"/>
                </a:lnTo>
                <a:close/>
              </a:path>
              <a:path fill="lighten" w="26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66" h="21600">
                <a:moveTo>
                  <a:pt x="6276" y="3794"/>
                </a:moveTo>
                <a:lnTo>
                  <a:pt x="20289" y="10800"/>
                </a:lnTo>
                <a:lnTo>
                  <a:pt x="627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Granodiori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ranodiorita" descr=""/>
          <p:cNvPicPr/>
          <p:nvPr/>
        </p:nvPicPr>
        <p:blipFill>
          <a:blip r:embed="rId1"/>
          <a:stretch/>
        </p:blipFill>
        <p:spPr>
          <a:xfrm>
            <a:off x="3417840" y="152280"/>
            <a:ext cx="5165640" cy="6172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586728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ab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gabro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5781960" cy="5248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119640"/>
            <a:ext cx="814320" cy="738360"/>
          </a:xfrm>
          <a:custGeom>
            <a:avLst/>
            <a:gdLst>
              <a:gd name="textAreaLeft" fmla="*/ 47880 w 814320"/>
              <a:gd name="textAreaRight" fmla="*/ 766800 w 8143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3821" h="21600">
                <a:moveTo>
                  <a:pt x="0" y="0"/>
                </a:moveTo>
                <a:lnTo>
                  <a:pt x="23821" y="0"/>
                </a:lnTo>
                <a:lnTo>
                  <a:pt x="23821" y="21600"/>
                </a:lnTo>
                <a:lnTo>
                  <a:pt x="0" y="21600"/>
                </a:lnTo>
                <a:close/>
              </a:path>
              <a:path fill="lightenLess" w="23821" h="21600">
                <a:moveTo>
                  <a:pt x="0" y="0"/>
                </a:moveTo>
                <a:lnTo>
                  <a:pt x="23821" y="0"/>
                </a:lnTo>
                <a:lnTo>
                  <a:pt x="22421" y="1400"/>
                </a:lnTo>
                <a:lnTo>
                  <a:pt x="1400" y="1400"/>
                </a:lnTo>
                <a:close/>
              </a:path>
              <a:path fill="darken" w="23821" h="21600">
                <a:moveTo>
                  <a:pt x="23821" y="0"/>
                </a:moveTo>
                <a:lnTo>
                  <a:pt x="23821" y="21600"/>
                </a:lnTo>
                <a:lnTo>
                  <a:pt x="22421" y="20200"/>
                </a:lnTo>
                <a:lnTo>
                  <a:pt x="22421" y="1400"/>
                </a:lnTo>
                <a:close/>
              </a:path>
              <a:path fill="darkenLess" w="23821" h="21600">
                <a:moveTo>
                  <a:pt x="23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1" y="20200"/>
                </a:lnTo>
                <a:close/>
              </a:path>
              <a:path fill="lighten" w="23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1" h="21600">
                <a:moveTo>
                  <a:pt x="4904" y="3794"/>
                </a:moveTo>
                <a:lnTo>
                  <a:pt x="18917" y="10800"/>
                </a:lnTo>
                <a:lnTo>
                  <a:pt x="49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sificación de rocas intrusiv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igclas2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9231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23:30:30Z</dcterms:created>
  <dc:creator>ariel.</dc:creator>
  <dc:description/>
  <dc:language>en-US</dc:language>
  <cp:lastModifiedBy>marcelo</cp:lastModifiedBy>
  <dcterms:modified xsi:type="dcterms:W3CDTF">2004-03-25T16:42:39Z</dcterms:modified>
  <cp:revision>22</cp:revision>
  <dc:subject/>
  <dc:title>ROCAS IGNEAS</dc:title>
</cp:coreProperties>
</file>