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5.png" ContentType="image/png"/>
  <Override PartName="/ppt/media/image17.jpeg" ContentType="image/jpeg"/>
  <Override PartName="/ppt/media/image24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78E-579A-4BA1-80BA-9043D696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FE2-A909-4502-915E-EFB4D9A8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93C-EAC2-461F-9A78-21D6CC02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B77D-9713-4A1C-BB3C-14E9C7B5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4613-F273-401D-A95E-ED6DE256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AA5-3385-445D-9F60-4C695A79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0D45-4B18-4C93-B9EB-87AAED64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FC8-A8C7-495A-8EC9-ACB849E9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A18-7C4E-40A0-8E88-6F5754E1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A00-1179-45CE-A2CC-00B62084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654-F22C-49FC-A058-25909902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3C1-7719-4BEA-B8EA-C7A50755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2C8D-60DB-43A6-BAD4-924BE2061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Garamond"/>
              </a:rPr>
              <a:t>Procesos y Rocas  </a:t>
            </a:r>
            <a:br>
              <a:rPr sz="5400"/>
            </a:br>
            <a:r>
              <a:rPr b="0" lang="es-ES_tradnl" sz="5400" spc="-1" strike="noStrike">
                <a:solidFill>
                  <a:srgbClr val="000000"/>
                </a:solidFill>
                <a:latin typeface="Garamond"/>
              </a:rPr>
              <a:t>Metamórfi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1280" y="50130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80"/>
                </a:solidFill>
                <a:latin typeface="Garamond"/>
              </a:rPr>
              <a:t>GL41C – Fundamentos de Pet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80"/>
                </a:solidFill>
                <a:latin typeface="Garamond"/>
              </a:rPr>
              <a:t>Semestre Otoño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Garamond"/>
              </a:rPr>
              <a:t>TIPOS DE METAMORF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41300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Metamorfismo Regional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=&gt; Alta P y alta Tº 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(zonas orogénicas)</a:t>
            </a:r>
            <a:br>
              <a:rPr sz="2400"/>
            </a:br>
            <a:br>
              <a:rPr sz="2400"/>
            </a:b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Metamorfismo de Contact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=&gt; Alta Tº y variable P 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(zonas aledañas a intrusiones)</a:t>
            </a:r>
            <a:br>
              <a:rPr sz="2400"/>
            </a:br>
            <a:br>
              <a:rPr sz="2400"/>
            </a:b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Metamorfismo Dinámic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=&gt; Alta P y Tº bajas 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(Zonas de Falla)</a:t>
            </a:r>
            <a:br>
              <a:rPr sz="2400"/>
            </a:br>
            <a:br>
              <a:rPr sz="2400"/>
            </a:b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Metamorfismo de Muy Bajo Grad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=&gt; Baja Tº y baja P 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(M. de Carga o M. de Piso Oceán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Garamond"/>
              </a:rPr>
              <a:t>TIPOS DE METAMORF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41300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4134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80"/>
                </a:solidFill>
                <a:latin typeface="Garamond"/>
              </a:rPr>
              <a:t>METAMORFISMO PROGRADO Y RETRO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Conceptos referidos al “camino” seguido por los procesos metamórficos, que podemos o no ver evidenciados en una rxx metamórfica.  Se evidencia según la ocurrencia de asociaciones minerales en equilib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etamorfismo Prógrado =&gt; 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Minerales cada ves 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menos hidra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etamorfismo Retrógrado =&gt; 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Minerales cada ves 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800080"/>
                </a:solidFill>
                <a:latin typeface="Garamond"/>
              </a:rPr>
              <a:t>más hidra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435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CONCEPTOS GENERALES EN LA DESCRIPCIÓN DE RXX METAMÓR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52440" y="1120680"/>
            <a:ext cx="230400" cy="1752840"/>
          </a:xfrm>
          <a:custGeom>
            <a:avLst/>
            <a:gdLst/>
            <a:ahLst/>
            <a:rect l="l" t="t" r="r" b="b"/>
            <a:pathLst>
              <a:path w="145" h="960">
                <a:moveTo>
                  <a:pt x="144" y="0"/>
                </a:moveTo>
                <a:lnTo>
                  <a:pt x="137" y="0"/>
                </a:lnTo>
                <a:lnTo>
                  <a:pt x="129" y="2"/>
                </a:lnTo>
                <a:lnTo>
                  <a:pt x="122" y="3"/>
                </a:lnTo>
                <a:lnTo>
                  <a:pt x="116" y="6"/>
                </a:lnTo>
                <a:lnTo>
                  <a:pt x="110" y="9"/>
                </a:lnTo>
                <a:lnTo>
                  <a:pt x="104" y="14"/>
                </a:lnTo>
                <a:lnTo>
                  <a:pt x="98" y="18"/>
                </a:lnTo>
                <a:lnTo>
                  <a:pt x="93" y="23"/>
                </a:lnTo>
                <a:lnTo>
                  <a:pt x="88" y="29"/>
                </a:lnTo>
                <a:lnTo>
                  <a:pt x="84" y="35"/>
                </a:lnTo>
                <a:lnTo>
                  <a:pt x="81" y="42"/>
                </a:lnTo>
                <a:lnTo>
                  <a:pt x="77" y="49"/>
                </a:lnTo>
                <a:lnTo>
                  <a:pt x="75" y="55"/>
                </a:lnTo>
                <a:lnTo>
                  <a:pt x="73" y="63"/>
                </a:lnTo>
                <a:lnTo>
                  <a:pt x="72" y="72"/>
                </a:lnTo>
                <a:lnTo>
                  <a:pt x="72" y="80"/>
                </a:lnTo>
                <a:lnTo>
                  <a:pt x="72" y="400"/>
                </a:lnTo>
                <a:lnTo>
                  <a:pt x="71" y="407"/>
                </a:lnTo>
                <a:lnTo>
                  <a:pt x="71" y="417"/>
                </a:lnTo>
                <a:lnTo>
                  <a:pt x="69" y="424"/>
                </a:lnTo>
                <a:lnTo>
                  <a:pt x="66" y="431"/>
                </a:lnTo>
                <a:lnTo>
                  <a:pt x="63" y="438"/>
                </a:lnTo>
                <a:lnTo>
                  <a:pt x="60" y="444"/>
                </a:lnTo>
                <a:lnTo>
                  <a:pt x="55" y="451"/>
                </a:lnTo>
                <a:lnTo>
                  <a:pt x="51" y="457"/>
                </a:lnTo>
                <a:lnTo>
                  <a:pt x="46" y="461"/>
                </a:lnTo>
                <a:lnTo>
                  <a:pt x="40" y="466"/>
                </a:lnTo>
                <a:lnTo>
                  <a:pt x="34" y="471"/>
                </a:lnTo>
                <a:lnTo>
                  <a:pt x="28" y="474"/>
                </a:lnTo>
                <a:lnTo>
                  <a:pt x="22" y="477"/>
                </a:lnTo>
                <a:lnTo>
                  <a:pt x="15" y="478"/>
                </a:lnTo>
                <a:lnTo>
                  <a:pt x="7" y="480"/>
                </a:lnTo>
                <a:lnTo>
                  <a:pt x="0" y="480"/>
                </a:lnTo>
                <a:lnTo>
                  <a:pt x="7" y="480"/>
                </a:lnTo>
                <a:lnTo>
                  <a:pt x="15" y="481"/>
                </a:lnTo>
                <a:lnTo>
                  <a:pt x="22" y="483"/>
                </a:lnTo>
                <a:lnTo>
                  <a:pt x="28" y="486"/>
                </a:lnTo>
                <a:lnTo>
                  <a:pt x="34" y="489"/>
                </a:lnTo>
                <a:lnTo>
                  <a:pt x="40" y="494"/>
                </a:lnTo>
                <a:lnTo>
                  <a:pt x="46" y="498"/>
                </a:lnTo>
                <a:lnTo>
                  <a:pt x="51" y="504"/>
                </a:lnTo>
                <a:lnTo>
                  <a:pt x="55" y="509"/>
                </a:lnTo>
                <a:lnTo>
                  <a:pt x="60" y="515"/>
                </a:lnTo>
                <a:lnTo>
                  <a:pt x="63" y="523"/>
                </a:lnTo>
                <a:lnTo>
                  <a:pt x="66" y="529"/>
                </a:lnTo>
                <a:lnTo>
                  <a:pt x="69" y="537"/>
                </a:lnTo>
                <a:lnTo>
                  <a:pt x="71" y="544"/>
                </a:lnTo>
                <a:lnTo>
                  <a:pt x="71" y="552"/>
                </a:lnTo>
                <a:lnTo>
                  <a:pt x="72" y="560"/>
                </a:lnTo>
                <a:lnTo>
                  <a:pt x="72" y="880"/>
                </a:lnTo>
                <a:lnTo>
                  <a:pt x="72" y="887"/>
                </a:lnTo>
                <a:lnTo>
                  <a:pt x="73" y="896"/>
                </a:lnTo>
                <a:lnTo>
                  <a:pt x="75" y="904"/>
                </a:lnTo>
                <a:lnTo>
                  <a:pt x="77" y="910"/>
                </a:lnTo>
                <a:lnTo>
                  <a:pt x="81" y="918"/>
                </a:lnTo>
                <a:lnTo>
                  <a:pt x="84" y="924"/>
                </a:lnTo>
                <a:lnTo>
                  <a:pt x="88" y="930"/>
                </a:lnTo>
                <a:lnTo>
                  <a:pt x="93" y="936"/>
                </a:lnTo>
                <a:lnTo>
                  <a:pt x="98" y="941"/>
                </a:lnTo>
                <a:lnTo>
                  <a:pt x="104" y="946"/>
                </a:lnTo>
                <a:lnTo>
                  <a:pt x="110" y="950"/>
                </a:lnTo>
                <a:lnTo>
                  <a:pt x="116" y="953"/>
                </a:lnTo>
                <a:lnTo>
                  <a:pt x="122" y="956"/>
                </a:lnTo>
                <a:lnTo>
                  <a:pt x="129" y="958"/>
                </a:lnTo>
                <a:lnTo>
                  <a:pt x="137" y="959"/>
                </a:lnTo>
                <a:lnTo>
                  <a:pt x="144" y="959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57360" y="1120680"/>
            <a:ext cx="4724280" cy="17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Pla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Isótr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00360" y="1197000"/>
            <a:ext cx="472428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Bandeamiento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Gne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Esquistocidad fina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Esqui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Esquistocidad gruesa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Fil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Clivaje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Piza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71760" y="1149480"/>
            <a:ext cx="228600" cy="1828800"/>
          </a:xfrm>
          <a:custGeom>
            <a:avLst/>
            <a:gdLst/>
            <a:ahLst/>
            <a:rect l="l" t="t" r="r" b="b"/>
            <a:pathLst>
              <a:path w="145" h="673">
                <a:moveTo>
                  <a:pt x="144" y="0"/>
                </a:moveTo>
                <a:lnTo>
                  <a:pt x="137" y="0"/>
                </a:lnTo>
                <a:lnTo>
                  <a:pt x="129" y="1"/>
                </a:lnTo>
                <a:lnTo>
                  <a:pt x="122" y="2"/>
                </a:lnTo>
                <a:lnTo>
                  <a:pt x="116" y="4"/>
                </a:lnTo>
                <a:lnTo>
                  <a:pt x="110" y="6"/>
                </a:lnTo>
                <a:lnTo>
                  <a:pt x="104" y="10"/>
                </a:lnTo>
                <a:lnTo>
                  <a:pt x="98" y="13"/>
                </a:lnTo>
                <a:lnTo>
                  <a:pt x="93" y="16"/>
                </a:lnTo>
                <a:lnTo>
                  <a:pt x="88" y="20"/>
                </a:lnTo>
                <a:lnTo>
                  <a:pt x="84" y="25"/>
                </a:lnTo>
                <a:lnTo>
                  <a:pt x="81" y="29"/>
                </a:lnTo>
                <a:lnTo>
                  <a:pt x="77" y="34"/>
                </a:lnTo>
                <a:lnTo>
                  <a:pt x="75" y="39"/>
                </a:lnTo>
                <a:lnTo>
                  <a:pt x="73" y="44"/>
                </a:lnTo>
                <a:lnTo>
                  <a:pt x="72" y="51"/>
                </a:lnTo>
                <a:lnTo>
                  <a:pt x="72" y="56"/>
                </a:lnTo>
                <a:lnTo>
                  <a:pt x="72" y="280"/>
                </a:lnTo>
                <a:lnTo>
                  <a:pt x="71" y="285"/>
                </a:lnTo>
                <a:lnTo>
                  <a:pt x="71" y="292"/>
                </a:lnTo>
                <a:lnTo>
                  <a:pt x="69" y="297"/>
                </a:lnTo>
                <a:lnTo>
                  <a:pt x="66" y="302"/>
                </a:lnTo>
                <a:lnTo>
                  <a:pt x="63" y="307"/>
                </a:lnTo>
                <a:lnTo>
                  <a:pt x="60" y="311"/>
                </a:lnTo>
                <a:lnTo>
                  <a:pt x="55" y="316"/>
                </a:lnTo>
                <a:lnTo>
                  <a:pt x="51" y="320"/>
                </a:lnTo>
                <a:lnTo>
                  <a:pt x="46" y="323"/>
                </a:lnTo>
                <a:lnTo>
                  <a:pt x="40" y="326"/>
                </a:lnTo>
                <a:lnTo>
                  <a:pt x="34" y="330"/>
                </a:lnTo>
                <a:lnTo>
                  <a:pt x="28" y="332"/>
                </a:lnTo>
                <a:lnTo>
                  <a:pt x="22" y="334"/>
                </a:lnTo>
                <a:lnTo>
                  <a:pt x="15" y="335"/>
                </a:lnTo>
                <a:lnTo>
                  <a:pt x="7" y="336"/>
                </a:lnTo>
                <a:lnTo>
                  <a:pt x="0" y="336"/>
                </a:lnTo>
                <a:lnTo>
                  <a:pt x="7" y="336"/>
                </a:lnTo>
                <a:lnTo>
                  <a:pt x="15" y="337"/>
                </a:lnTo>
                <a:lnTo>
                  <a:pt x="22" y="338"/>
                </a:lnTo>
                <a:lnTo>
                  <a:pt x="28" y="340"/>
                </a:lnTo>
                <a:lnTo>
                  <a:pt x="34" y="342"/>
                </a:lnTo>
                <a:lnTo>
                  <a:pt x="40" y="346"/>
                </a:lnTo>
                <a:lnTo>
                  <a:pt x="46" y="349"/>
                </a:lnTo>
                <a:lnTo>
                  <a:pt x="51" y="352"/>
                </a:lnTo>
                <a:lnTo>
                  <a:pt x="55" y="356"/>
                </a:lnTo>
                <a:lnTo>
                  <a:pt x="60" y="361"/>
                </a:lnTo>
                <a:lnTo>
                  <a:pt x="63" y="365"/>
                </a:lnTo>
                <a:lnTo>
                  <a:pt x="66" y="370"/>
                </a:lnTo>
                <a:lnTo>
                  <a:pt x="69" y="375"/>
                </a:lnTo>
                <a:lnTo>
                  <a:pt x="71" y="380"/>
                </a:lnTo>
                <a:lnTo>
                  <a:pt x="71" y="387"/>
                </a:lnTo>
                <a:lnTo>
                  <a:pt x="72" y="392"/>
                </a:lnTo>
                <a:lnTo>
                  <a:pt x="72" y="616"/>
                </a:lnTo>
                <a:lnTo>
                  <a:pt x="72" y="621"/>
                </a:lnTo>
                <a:lnTo>
                  <a:pt x="73" y="628"/>
                </a:lnTo>
                <a:lnTo>
                  <a:pt x="75" y="633"/>
                </a:lnTo>
                <a:lnTo>
                  <a:pt x="77" y="637"/>
                </a:lnTo>
                <a:lnTo>
                  <a:pt x="81" y="643"/>
                </a:lnTo>
                <a:lnTo>
                  <a:pt x="84" y="647"/>
                </a:lnTo>
                <a:lnTo>
                  <a:pt x="88" y="651"/>
                </a:lnTo>
                <a:lnTo>
                  <a:pt x="93" y="656"/>
                </a:lnTo>
                <a:lnTo>
                  <a:pt x="98" y="659"/>
                </a:lnTo>
                <a:lnTo>
                  <a:pt x="104" y="662"/>
                </a:lnTo>
                <a:lnTo>
                  <a:pt x="110" y="665"/>
                </a:lnTo>
                <a:lnTo>
                  <a:pt x="116" y="668"/>
                </a:lnTo>
                <a:lnTo>
                  <a:pt x="122" y="670"/>
                </a:lnTo>
                <a:lnTo>
                  <a:pt x="129" y="671"/>
                </a:lnTo>
                <a:lnTo>
                  <a:pt x="137" y="672"/>
                </a:lnTo>
                <a:lnTo>
                  <a:pt x="144" y="672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3141720"/>
            <a:ext cx="144360" cy="2232000"/>
          </a:xfrm>
          <a:custGeom>
            <a:avLst/>
            <a:gdLst/>
            <a:ahLst/>
            <a:rect l="l" t="t" r="r" b="b"/>
            <a:pathLst>
              <a:path w="145" h="769">
                <a:moveTo>
                  <a:pt x="144" y="0"/>
                </a:moveTo>
                <a:lnTo>
                  <a:pt x="137" y="0"/>
                </a:lnTo>
                <a:lnTo>
                  <a:pt x="129" y="1"/>
                </a:lnTo>
                <a:lnTo>
                  <a:pt x="122" y="2"/>
                </a:lnTo>
                <a:lnTo>
                  <a:pt x="116" y="5"/>
                </a:lnTo>
                <a:lnTo>
                  <a:pt x="110" y="7"/>
                </a:lnTo>
                <a:lnTo>
                  <a:pt x="104" y="11"/>
                </a:lnTo>
                <a:lnTo>
                  <a:pt x="98" y="15"/>
                </a:lnTo>
                <a:lnTo>
                  <a:pt x="93" y="20"/>
                </a:lnTo>
                <a:lnTo>
                  <a:pt x="88" y="23"/>
                </a:lnTo>
                <a:lnTo>
                  <a:pt x="84" y="28"/>
                </a:lnTo>
                <a:lnTo>
                  <a:pt x="81" y="34"/>
                </a:lnTo>
                <a:lnTo>
                  <a:pt x="77" y="39"/>
                </a:lnTo>
                <a:lnTo>
                  <a:pt x="75" y="46"/>
                </a:lnTo>
                <a:lnTo>
                  <a:pt x="73" y="52"/>
                </a:lnTo>
                <a:lnTo>
                  <a:pt x="72" y="58"/>
                </a:lnTo>
                <a:lnTo>
                  <a:pt x="72" y="64"/>
                </a:lnTo>
                <a:lnTo>
                  <a:pt x="72" y="320"/>
                </a:lnTo>
                <a:lnTo>
                  <a:pt x="71" y="326"/>
                </a:lnTo>
                <a:lnTo>
                  <a:pt x="71" y="333"/>
                </a:lnTo>
                <a:lnTo>
                  <a:pt x="69" y="340"/>
                </a:lnTo>
                <a:lnTo>
                  <a:pt x="66" y="345"/>
                </a:lnTo>
                <a:lnTo>
                  <a:pt x="63" y="351"/>
                </a:lnTo>
                <a:lnTo>
                  <a:pt x="60" y="356"/>
                </a:lnTo>
                <a:lnTo>
                  <a:pt x="55" y="361"/>
                </a:lnTo>
                <a:lnTo>
                  <a:pt x="51" y="365"/>
                </a:lnTo>
                <a:lnTo>
                  <a:pt x="46" y="369"/>
                </a:lnTo>
                <a:lnTo>
                  <a:pt x="40" y="373"/>
                </a:lnTo>
                <a:lnTo>
                  <a:pt x="34" y="377"/>
                </a:lnTo>
                <a:lnTo>
                  <a:pt x="28" y="379"/>
                </a:lnTo>
                <a:lnTo>
                  <a:pt x="22" y="381"/>
                </a:lnTo>
                <a:lnTo>
                  <a:pt x="15" y="383"/>
                </a:lnTo>
                <a:lnTo>
                  <a:pt x="7" y="384"/>
                </a:lnTo>
                <a:lnTo>
                  <a:pt x="0" y="384"/>
                </a:lnTo>
                <a:lnTo>
                  <a:pt x="7" y="384"/>
                </a:lnTo>
                <a:lnTo>
                  <a:pt x="15" y="385"/>
                </a:lnTo>
                <a:lnTo>
                  <a:pt x="22" y="386"/>
                </a:lnTo>
                <a:lnTo>
                  <a:pt x="28" y="389"/>
                </a:lnTo>
                <a:lnTo>
                  <a:pt x="34" y="391"/>
                </a:lnTo>
                <a:lnTo>
                  <a:pt x="40" y="395"/>
                </a:lnTo>
                <a:lnTo>
                  <a:pt x="46" y="399"/>
                </a:lnTo>
                <a:lnTo>
                  <a:pt x="51" y="404"/>
                </a:lnTo>
                <a:lnTo>
                  <a:pt x="55" y="407"/>
                </a:lnTo>
                <a:lnTo>
                  <a:pt x="60" y="412"/>
                </a:lnTo>
                <a:lnTo>
                  <a:pt x="63" y="418"/>
                </a:lnTo>
                <a:lnTo>
                  <a:pt x="66" y="423"/>
                </a:lnTo>
                <a:lnTo>
                  <a:pt x="69" y="429"/>
                </a:lnTo>
                <a:lnTo>
                  <a:pt x="71" y="436"/>
                </a:lnTo>
                <a:lnTo>
                  <a:pt x="71" y="442"/>
                </a:lnTo>
                <a:lnTo>
                  <a:pt x="72" y="448"/>
                </a:lnTo>
                <a:lnTo>
                  <a:pt x="72" y="704"/>
                </a:lnTo>
                <a:lnTo>
                  <a:pt x="72" y="710"/>
                </a:lnTo>
                <a:lnTo>
                  <a:pt x="73" y="717"/>
                </a:lnTo>
                <a:lnTo>
                  <a:pt x="75" y="723"/>
                </a:lnTo>
                <a:lnTo>
                  <a:pt x="77" y="728"/>
                </a:lnTo>
                <a:lnTo>
                  <a:pt x="81" y="735"/>
                </a:lnTo>
                <a:lnTo>
                  <a:pt x="84" y="739"/>
                </a:lnTo>
                <a:lnTo>
                  <a:pt x="88" y="744"/>
                </a:lnTo>
                <a:lnTo>
                  <a:pt x="93" y="749"/>
                </a:lnTo>
                <a:lnTo>
                  <a:pt x="98" y="753"/>
                </a:lnTo>
                <a:lnTo>
                  <a:pt x="104" y="757"/>
                </a:lnTo>
                <a:lnTo>
                  <a:pt x="110" y="760"/>
                </a:lnTo>
                <a:lnTo>
                  <a:pt x="116" y="763"/>
                </a:lnTo>
                <a:lnTo>
                  <a:pt x="122" y="765"/>
                </a:lnTo>
                <a:lnTo>
                  <a:pt x="129" y="767"/>
                </a:lnTo>
                <a:lnTo>
                  <a:pt x="137" y="768"/>
                </a:lnTo>
                <a:lnTo>
                  <a:pt x="144" y="768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6680" y="3254400"/>
            <a:ext cx="4724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Lepidoblástica (m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Nematoblástica (anfíbolas y piroxen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Granoblástica (cuarzo, feldespa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6680" y="4626000"/>
            <a:ext cx="44193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Porfiroblástica (cristales grandes insertos en masa de cristales pequeñ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760" y="17938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Fáb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40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Tex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58770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Estructura : Homogénea, Masiva, Nodulosa, Brecho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435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CONCEPTOS GENERALES EN LA DESCRIPCIÓN DE RXX METAMÓR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45561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PRINCIPALES MINERALES METAMÓR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1469880"/>
            <a:ext cx="2459160" cy="218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71640" y="10382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ranate (Nes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84720" y="1398600"/>
            <a:ext cx="1681200" cy="2187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940360" y="1398600"/>
            <a:ext cx="2614680" cy="2212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32360" y="9669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urolita (Nes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79280" y="5661000"/>
            <a:ext cx="1152720" cy="992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971640" y="4508640"/>
            <a:ext cx="2743200" cy="1865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148360" y="4456080"/>
            <a:ext cx="2879640" cy="2158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42920" y="3933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inolita (Inos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6720" y="4005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ornblenda (Inos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PRINCIPALES MINERALES METAMÓR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2992320" cy="2252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780000" y="2924280"/>
            <a:ext cx="4608360" cy="3070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92360" y="18446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dalusita (Aluminosilicato, Nes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PRINCIPALES MINERALES METAMÓR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32000" y="1844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lima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43680" y="271944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651640" y="20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Kia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Garamond"/>
              </a:rPr>
              <a:t>PRINCIPALES MINERALES METAMÓR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700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orita (Fil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126828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pidota (Sorosilic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2160720" cy="1446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2455560" cy="205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716360" y="1700280"/>
            <a:ext cx="4032360" cy="2940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11280" y="4363920"/>
            <a:ext cx="26654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Metamorf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Conjunto de procesos isoquímicos que llevan a un cambio mineralógico, textural y estructural de las rocas, al estado sólido, al ser expuestas a condiciones fisicoquímicas distintas a las cuales bajo las que se formaron originalmente*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Efectos del metamorfismo (mx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=&gt; Deformación y reori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=&gt; Recrist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=&gt; Crist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Factores del Metamorf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Tº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(</a:t>
            </a:r>
            <a:r>
              <a:rPr b="0" lang="es-ES_tradnl" sz="2000" spc="-1" strike="noStrike">
                <a:solidFill>
                  <a:srgbClr val="800080"/>
                </a:solidFill>
                <a:latin typeface="Wingdings 3"/>
                <a:ea typeface="Wingdings 3"/>
              </a:rPr>
              <a:t>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Tº o intrusiv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Aporta E (=&gt; Difus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Promueve liberación de fluidos (=&gt; Transpo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Abre estructuras (=&gt; Deform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P 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(</a:t>
            </a:r>
            <a:r>
              <a:rPr b="0" lang="es-ES_tradnl" sz="2000" spc="-1" strike="noStrike">
                <a:solidFill>
                  <a:srgbClr val="800080"/>
                </a:solidFill>
                <a:latin typeface="Wingdings 3"/>
                <a:ea typeface="Wingdings 3"/>
              </a:rPr>
              <a:t>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P o esfuerzos diferenci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Promueve deformación (=&gt; Estruct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Promueve las estructuras más den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Actividad Químic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000" spc="-1" strike="noStrike">
                <a:solidFill>
                  <a:srgbClr val="800080"/>
                </a:solidFill>
                <a:latin typeface="Garamond"/>
              </a:rPr>
              <a:t>(Fluidos estructurales o circunda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Garamond"/>
              </a:rPr>
              <a:t>Incrementa eficiencia de proces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27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Facies Metamór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Concepto de equilibrio m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Refleja las condiciones de formación de la rxx metamór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35440" y="1484280"/>
            <a:ext cx="48639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48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Garamond"/>
              </a:rPr>
              <a:t>Grado Metamór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=&gt;  Concepto que define variables intensivas del proceso metamór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1706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0080"/>
                </a:solidFill>
                <a:latin typeface="Garamond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48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80"/>
                </a:solidFill>
                <a:latin typeface="Garamond"/>
              </a:rPr>
              <a:t>ESTRUCTURA EN RXX METAMÓR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Garamond"/>
              </a:rPr>
              <a:t>Elementos y Conceptos estructur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Foliación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=&gt; Orientación planar penet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orfidoblastos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=&gt; Neo – mi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orfidoclastos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800080"/>
                </a:solidFill>
                <a:latin typeface="Garamond"/>
              </a:rPr>
              <a:t>=&gt; Minerales relictos (o frag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Garamond"/>
              </a:rPr>
              <a:t>ESTRUCTURA EN RXX METAMÓR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Desarrollo de la Fol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=&gt; Sólo generada por stress diferencial (no hidrostát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3384720" cy="1692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417672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9696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Garamond"/>
              </a:rPr>
              <a:t>ESTRUCTURA EN RXX METAMÓR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1636560"/>
            <a:ext cx="4033800" cy="2332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42920" y="4149720"/>
            <a:ext cx="4103640" cy="2371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084720" y="3141720"/>
            <a:ext cx="20163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2:40:37Z</dcterms:created>
  <dc:creator>Gala</dc:creator>
  <dc:description/>
  <dc:language>en-US</dc:language>
  <cp:lastModifiedBy>Marcia</cp:lastModifiedBy>
  <dcterms:modified xsi:type="dcterms:W3CDTF">2004-04-29T02:01:30Z</dcterms:modified>
  <cp:revision>10</cp:revision>
  <dc:subject/>
  <dc:title>Procesos y Rocas   Metamórficas</dc:title>
</cp:coreProperties>
</file>