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422-8A51-443C-B18F-B2440D61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8160-B034-4A48-A3D4-768AB14C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BF0-EED3-4CDE-BD2C-58E6D8FD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D02-8656-41D1-B0EC-DC42B454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560-C5C8-45DD-91D8-069FF467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CA9-B9A3-4A95-B371-BD5E9A0B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B7B-A6A8-4A78-85E2-250CC7AB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F7A-70A0-4508-BD9A-814B41F4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526-0244-4D54-BA13-812FF26A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B2A-BE82-4C01-BBFE-3A6F81B5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58C3-24AC-42D3-B7B0-3FE887D8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1A7-FD10-4142-BB21-AF66DEF0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D58D-5A43-417C-9A2F-F682A6300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7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Rocas Sedimentari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Lutitas, fangolitas y limol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Times New Roman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Tamañ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Limo (limolitas):   0.0039-0.0625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rcilla (fangolitas, lutitas):   &lt; 0.0039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Times New Roman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omposi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Times New Roman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stratificación: Lutitas:             Sí (fis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Fangolitas:        No (no fisible)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505320" y="2819520"/>
            <a:ext cx="2361960" cy="2286000"/>
            <a:chOff x="3505320" y="2819520"/>
            <a:chExt cx="2361960" cy="2286000"/>
          </a:xfrm>
        </p:grpSpPr>
        <p:sp>
          <p:nvSpPr>
            <p:cNvPr id="204" name=""/>
            <p:cNvSpPr/>
            <p:nvPr/>
          </p:nvSpPr>
          <p:spPr>
            <a:xfrm>
              <a:off x="3505320" y="2819520"/>
              <a:ext cx="2361960" cy="2040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34960" y="2976480"/>
              <a:ext cx="6296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922280" y="3410280"/>
              <a:ext cx="3146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237280" y="4028400"/>
              <a:ext cx="3146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394960" y="4332600"/>
              <a:ext cx="4723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764960" y="4634640"/>
              <a:ext cx="0" cy="47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05320" y="4332600"/>
              <a:ext cx="4723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77640" y="3724200"/>
              <a:ext cx="3146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49960" y="3257640"/>
              <a:ext cx="49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89080" y="4251600"/>
              <a:ext cx="162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137840" y="4251600"/>
              <a:ext cx="311400" cy="62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48560" y="4251600"/>
              <a:ext cx="311400" cy="62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99080" y="3257640"/>
              <a:ext cx="0" cy="99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99080" y="3754800"/>
              <a:ext cx="49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180760" y="320040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utita orgá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4960" y="380988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utita petrolí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67640" y="411480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Sapropel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5120" y="49528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utita bitumin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8000" y="48006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Mat. 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47280" y="4800600"/>
            <a:ext cx="10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aCO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01360" y="22860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inerales de arc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6040" y="26668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ut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fangol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8160" y="3505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M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3880" y="411480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Calcilut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87480" y="4038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8880" y="3581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3960" y="3124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3600" y="4800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6600" y="4800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66"/>
                </a:solidFill>
                <a:uFillTx/>
                <a:latin typeface="Times New Roman"/>
              </a:rPr>
              <a:t>Rocas bioclást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lizas bioclá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utócto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ompuesta de fragmentos bioclá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(conchas, huesos...)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Alócto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Tamaño frag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lciruditas  &gt; 2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lcarenitas 0.0625-2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lcilutitas &lt; 0.0625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oquina: roca con más del 80% de restos de organis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715000" y="2057040"/>
            <a:ext cx="53352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2362320"/>
            <a:ext cx="533520" cy="3045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Rocas Quí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calcáreos: Calizas, dolomita,  travertino, cali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ferriferos: Hierro bandeado  (depósitos tipo B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silicios: Ch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fosfáticos: Fosforita, colof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evaporíticos: Yeso, anhidrita, halita, silvita, polihalita, magnesita, carnal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No olvi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Sel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Esferic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Redonde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Madurez textural Vs compos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315200" y="685800"/>
            <a:ext cx="1295280" cy="3933720"/>
          </a:xfrm>
          <a:prstGeom prst="rect">
            <a:avLst/>
          </a:prstGeom>
          <a:ln w="0">
            <a:noFill/>
          </a:ln>
        </p:spPr>
      </p:pic>
      <p:pic>
        <p:nvPicPr>
          <p:cNvPr id="242" name="sorting" descr=""/>
          <p:cNvPicPr/>
          <p:nvPr/>
        </p:nvPicPr>
        <p:blipFill>
          <a:blip r:embed="rId2"/>
          <a:stretch/>
        </p:blipFill>
        <p:spPr>
          <a:xfrm>
            <a:off x="3962520" y="685800"/>
            <a:ext cx="2516040" cy="1878120"/>
          </a:xfrm>
          <a:prstGeom prst="rect">
            <a:avLst/>
          </a:prstGeom>
          <a:ln w="0">
            <a:noFill/>
          </a:ln>
        </p:spPr>
      </p:pic>
      <p:pic>
        <p:nvPicPr>
          <p:cNvPr id="243" name="esfericidad" descr=""/>
          <p:cNvPicPr/>
          <p:nvPr/>
        </p:nvPicPr>
        <p:blipFill>
          <a:blip r:embed="rId3"/>
          <a:stretch/>
        </p:blipFill>
        <p:spPr>
          <a:xfrm>
            <a:off x="3581280" y="2590920"/>
            <a:ext cx="2878200" cy="1888920"/>
          </a:xfrm>
          <a:prstGeom prst="rect">
            <a:avLst/>
          </a:prstGeom>
          <a:ln w="0">
            <a:noFill/>
          </a:ln>
        </p:spPr>
      </p:pic>
      <p:pic>
        <p:nvPicPr>
          <p:cNvPr id="244" name="redondez" descr=""/>
          <p:cNvPicPr/>
          <p:nvPr/>
        </p:nvPicPr>
        <p:blipFill>
          <a:blip r:embed="rId4"/>
          <a:stretch/>
        </p:blipFill>
        <p:spPr>
          <a:xfrm>
            <a:off x="2057400" y="4495680"/>
            <a:ext cx="5045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Estructuras sedimentari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Características morfológicas más grandes que un grano y lo suficientemente pequeña para ser vista en aflor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ndul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Ondulas%20con%20crestas%20rectas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4876920" cy="3251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4266720" y="3505320"/>
            <a:ext cx="685800" cy="5331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lautas                                                    Surcos de arra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Flautas%20en%20turbidita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2845080" cy="4267440"/>
          </a:xfrm>
          <a:prstGeom prst="rect">
            <a:avLst/>
          </a:prstGeom>
          <a:ln w="0">
            <a:noFill/>
          </a:ln>
        </p:spPr>
      </p:pic>
      <p:pic>
        <p:nvPicPr>
          <p:cNvPr id="251" name="Surcos%20de%20arrastre" descr=""/>
          <p:cNvPicPr/>
          <p:nvPr/>
        </p:nvPicPr>
        <p:blipFill>
          <a:blip r:embed="rId2"/>
          <a:stretch/>
        </p:blipFill>
        <p:spPr>
          <a:xfrm>
            <a:off x="4038480" y="182880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676520" y="1523880"/>
            <a:ext cx="838080" cy="5335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stromatolitos                                               Madrigu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Stromatolitos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114800" cy="2938320"/>
          </a:xfrm>
          <a:prstGeom prst="rect">
            <a:avLst/>
          </a:prstGeom>
          <a:ln w="0">
            <a:noFill/>
          </a:ln>
        </p:spPr>
      </p:pic>
      <p:pic>
        <p:nvPicPr>
          <p:cNvPr id="255" name="Madrigueras%20Fodinichnia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40003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ORI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Diagé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Rocas Sediment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Li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Diagénesis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Cambios Químicos y Físicos durante y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brevemente después de su acumu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Litificación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Solid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495680" y="1905120"/>
            <a:ext cx="457200" cy="3045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2666880"/>
            <a:ext cx="3808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54864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De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66"/>
              </a:buClr>
              <a:buFont typeface="Webdings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 u="sng">
                <a:solidFill>
                  <a:srgbClr val="ffff66"/>
                </a:solidFill>
                <a:uFillTx/>
                <a:latin typeface="Times New Roman"/>
              </a:rPr>
              <a:t>Clásticos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piclásticos: Meteorización y erosión de rocas preex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Bioclásticos: Remanentes de organis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iroclásticos: Derivados de erupciones volcánicas (tobas,  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       brechas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66"/>
              </a:buClr>
              <a:buFont typeface="Webdings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 u="sng">
                <a:solidFill>
                  <a:srgbClr val="ffff66"/>
                </a:solidFill>
                <a:uFillTx/>
                <a:latin typeface="Times New Roman"/>
              </a:rPr>
              <a:t>Químic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recipitación de sales disueltas y otros elementos en aguas (océanos, lagos, pantanos.....)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vaporación, sobresaturación, diagénesis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Transp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Grave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ídas y deslizamientos de rocas, flujos de detr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Agu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Mayor agente de transporte. Solución, tracción, saltación, suspen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Ai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Tracción, suspensión, sal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Hie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Suspen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Com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Symbol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Componentes Clást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uarzo, feldespato, micas, arcillas, fragmentos de rocas, granos de caliza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Symbol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Bioclást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Macrofósiles, microfós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Symbol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Piroclást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Bloques, bombas, lapilli, ceniza, vid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Symbol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Quím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rbonatos, sílice, silicatos, fosfatos, sulfuros, sulfatos, cloru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Clas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Partículas, matriz, cemento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iferencia entre matriz y partículas (gra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Tamaño  (arbitra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llena el espacio entre poros, litif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Micrita, esparita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325520" cy="2853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33720" y="2590920"/>
            <a:ext cx="1357200" cy="485640"/>
          </a:xfrm>
          <a:prstGeom prst="rightArrow">
            <a:avLst>
              <a:gd name="adj1" fmla="val 50000"/>
              <a:gd name="adj2" fmla="val 698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3886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66"/>
                </a:solidFill>
                <a:uFillTx/>
                <a:latin typeface="Times New Roman"/>
              </a:rPr>
              <a:t>Rocas Clást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Conglomerados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: % Tamaño mayor a 2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Arenisca      Arenisca     Conglomerado             Conglom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gruesa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aren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0    5                        30               50                               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araconglomerados               Ortoconglom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ligomíctico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olimí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438280"/>
            <a:ext cx="6858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1828800"/>
            <a:ext cx="0" cy="609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1828800"/>
            <a:ext cx="0" cy="609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1981080"/>
            <a:ext cx="0" cy="4572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85800" y="3733920"/>
            <a:ext cx="2469960" cy="941400"/>
            <a:chOff x="685800" y="3733920"/>
            <a:chExt cx="2469960" cy="941400"/>
          </a:xfrm>
        </p:grpSpPr>
        <p:grpSp>
          <p:nvGrpSpPr>
            <p:cNvPr id="65" name=""/>
            <p:cNvGrpSpPr/>
            <p:nvPr/>
          </p:nvGrpSpPr>
          <p:grpSpPr>
            <a:xfrm>
              <a:off x="685800" y="3733920"/>
              <a:ext cx="1006200" cy="941400"/>
              <a:chOff x="685800" y="3733920"/>
              <a:chExt cx="1006200" cy="941400"/>
            </a:xfrm>
          </p:grpSpPr>
          <p:sp>
            <p:nvSpPr>
              <p:cNvPr id="66" name=""/>
              <p:cNvSpPr/>
              <p:nvPr/>
            </p:nvSpPr>
            <p:spPr>
              <a:xfrm>
                <a:off x="685800" y="3733920"/>
                <a:ext cx="1006200" cy="9414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77240" y="4016160"/>
                <a:ext cx="274320" cy="188280"/>
              </a:xfrm>
              <a:prstGeom prst="ellipse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702200">
                <a:off x="1051560" y="4110120"/>
                <a:ext cx="182880" cy="2822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1080400">
                <a:off x="1326240" y="3921840"/>
                <a:ext cx="274320" cy="18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051560" y="3827880"/>
                <a:ext cx="182880" cy="18828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77240" y="4298400"/>
                <a:ext cx="91440" cy="94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26240" y="4204800"/>
                <a:ext cx="274320" cy="188280"/>
              </a:xfrm>
              <a:prstGeom prst="ellipse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143000" y="4393080"/>
                <a:ext cx="274320" cy="18828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20870400">
                <a:off x="868680" y="4392720"/>
                <a:ext cx="182880" cy="188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26240" y="3827880"/>
                <a:ext cx="91440" cy="94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68680" y="3827880"/>
                <a:ext cx="91440" cy="94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2149560" y="3733920"/>
              <a:ext cx="1006200" cy="941400"/>
              <a:chOff x="2149560" y="3733920"/>
              <a:chExt cx="1006200" cy="941400"/>
            </a:xfrm>
          </p:grpSpPr>
          <p:sp>
            <p:nvSpPr>
              <p:cNvPr id="78" name=""/>
              <p:cNvSpPr/>
              <p:nvPr/>
            </p:nvSpPr>
            <p:spPr>
              <a:xfrm>
                <a:off x="2149560" y="3733920"/>
                <a:ext cx="1006200" cy="9414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423880" y="3827880"/>
                <a:ext cx="288720" cy="313560"/>
              </a:xfrm>
              <a:custGeom>
                <a:avLst/>
                <a:gdLst/>
                <a:ahLst/>
                <a:rect l="l" t="t" r="r" b="b"/>
                <a:pathLst>
                  <a:path w="455" h="480">
                    <a:moveTo>
                      <a:pt x="229" y="0"/>
                    </a:moveTo>
                    <a:cubicBezTo>
                      <a:pt x="205" y="68"/>
                      <a:pt x="165" y="108"/>
                      <a:pt x="122" y="160"/>
                    </a:cubicBezTo>
                    <a:cubicBezTo>
                      <a:pt x="112" y="172"/>
                      <a:pt x="108" y="190"/>
                      <a:pt x="95" y="200"/>
                    </a:cubicBezTo>
                    <a:cubicBezTo>
                      <a:pt x="84" y="209"/>
                      <a:pt x="68" y="209"/>
                      <a:pt x="55" y="213"/>
                    </a:cubicBezTo>
                    <a:cubicBezTo>
                      <a:pt x="46" y="240"/>
                      <a:pt x="0" y="319"/>
                      <a:pt x="55" y="347"/>
                    </a:cubicBezTo>
                    <a:cubicBezTo>
                      <a:pt x="87" y="363"/>
                      <a:pt x="126" y="356"/>
                      <a:pt x="162" y="360"/>
                    </a:cubicBezTo>
                    <a:cubicBezTo>
                      <a:pt x="180" y="378"/>
                      <a:pt x="199" y="394"/>
                      <a:pt x="215" y="413"/>
                    </a:cubicBezTo>
                    <a:cubicBezTo>
                      <a:pt x="225" y="425"/>
                      <a:pt x="229" y="443"/>
                      <a:pt x="242" y="453"/>
                    </a:cubicBezTo>
                    <a:cubicBezTo>
                      <a:pt x="253" y="462"/>
                      <a:pt x="328" y="478"/>
                      <a:pt x="335" y="480"/>
                    </a:cubicBezTo>
                    <a:cubicBezTo>
                      <a:pt x="348" y="476"/>
                      <a:pt x="365" y="477"/>
                      <a:pt x="375" y="467"/>
                    </a:cubicBezTo>
                    <a:cubicBezTo>
                      <a:pt x="398" y="444"/>
                      <a:pt x="429" y="387"/>
                      <a:pt x="429" y="387"/>
                    </a:cubicBezTo>
                    <a:cubicBezTo>
                      <a:pt x="433" y="374"/>
                      <a:pt x="440" y="361"/>
                      <a:pt x="442" y="347"/>
                    </a:cubicBezTo>
                    <a:cubicBezTo>
                      <a:pt x="449" y="281"/>
                      <a:pt x="455" y="214"/>
                      <a:pt x="455" y="147"/>
                    </a:cubicBezTo>
                    <a:cubicBezTo>
                      <a:pt x="455" y="41"/>
                      <a:pt x="331" y="98"/>
                      <a:pt x="269" y="53"/>
                    </a:cubicBezTo>
                    <a:cubicBezTo>
                      <a:pt x="251" y="40"/>
                      <a:pt x="242" y="18"/>
                      <a:pt x="229" y="0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771280" y="4366800"/>
                <a:ext cx="164520" cy="125280"/>
              </a:xfrm>
              <a:custGeom>
                <a:avLst/>
                <a:gdLst/>
                <a:ahLst/>
                <a:rect l="l" t="t" r="r" b="b"/>
                <a:pathLst>
                  <a:path w="259" h="192">
                    <a:moveTo>
                      <a:pt x="146" y="0"/>
                    </a:moveTo>
                    <a:cubicBezTo>
                      <a:pt x="86" y="40"/>
                      <a:pt x="39" y="87"/>
                      <a:pt x="0" y="147"/>
                    </a:cubicBezTo>
                    <a:cubicBezTo>
                      <a:pt x="61" y="186"/>
                      <a:pt x="61" y="192"/>
                      <a:pt x="133" y="173"/>
                    </a:cubicBezTo>
                    <a:cubicBezTo>
                      <a:pt x="179" y="143"/>
                      <a:pt x="201" y="106"/>
                      <a:pt x="240" y="67"/>
                    </a:cubicBezTo>
                    <a:cubicBezTo>
                      <a:pt x="244" y="54"/>
                      <a:pt x="259" y="40"/>
                      <a:pt x="253" y="27"/>
                    </a:cubicBezTo>
                    <a:cubicBezTo>
                      <a:pt x="247" y="14"/>
                      <a:pt x="227" y="16"/>
                      <a:pt x="213" y="13"/>
                    </a:cubicBezTo>
                    <a:cubicBezTo>
                      <a:pt x="191" y="7"/>
                      <a:pt x="168" y="4"/>
                      <a:pt x="146" y="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23880" y="4393080"/>
                <a:ext cx="195480" cy="226800"/>
              </a:xfrm>
              <a:custGeom>
                <a:avLst/>
                <a:gdLst/>
                <a:ahLst/>
                <a:rect l="l" t="t" r="r" b="b"/>
                <a:pathLst>
                  <a:path w="308" h="347">
                    <a:moveTo>
                      <a:pt x="288" y="0"/>
                    </a:moveTo>
                    <a:cubicBezTo>
                      <a:pt x="202" y="12"/>
                      <a:pt x="119" y="32"/>
                      <a:pt x="35" y="53"/>
                    </a:cubicBezTo>
                    <a:cubicBezTo>
                      <a:pt x="26" y="71"/>
                      <a:pt x="11" y="87"/>
                      <a:pt x="8" y="107"/>
                    </a:cubicBezTo>
                    <a:cubicBezTo>
                      <a:pt x="0" y="162"/>
                      <a:pt x="76" y="187"/>
                      <a:pt x="115" y="200"/>
                    </a:cubicBezTo>
                    <a:cubicBezTo>
                      <a:pt x="143" y="284"/>
                      <a:pt x="130" y="303"/>
                      <a:pt x="195" y="347"/>
                    </a:cubicBezTo>
                    <a:cubicBezTo>
                      <a:pt x="214" y="309"/>
                      <a:pt x="248" y="280"/>
                      <a:pt x="262" y="240"/>
                    </a:cubicBezTo>
                    <a:cubicBezTo>
                      <a:pt x="273" y="211"/>
                      <a:pt x="270" y="178"/>
                      <a:pt x="275" y="147"/>
                    </a:cubicBezTo>
                    <a:cubicBezTo>
                      <a:pt x="285" y="87"/>
                      <a:pt x="308" y="56"/>
                      <a:pt x="288" y="0"/>
                    </a:cubicBez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851560" y="3930480"/>
                <a:ext cx="173880" cy="253080"/>
              </a:xfrm>
              <a:custGeom>
                <a:avLst/>
                <a:gdLst/>
                <a:ahLst/>
                <a:rect l="l" t="t" r="r" b="b"/>
                <a:pathLst>
                  <a:path w="274" h="387">
                    <a:moveTo>
                      <a:pt x="127" y="0"/>
                    </a:moveTo>
                    <a:cubicBezTo>
                      <a:pt x="123" y="31"/>
                      <a:pt x="123" y="64"/>
                      <a:pt x="114" y="94"/>
                    </a:cubicBezTo>
                    <a:cubicBezTo>
                      <a:pt x="109" y="109"/>
                      <a:pt x="93" y="119"/>
                      <a:pt x="87" y="134"/>
                    </a:cubicBezTo>
                    <a:cubicBezTo>
                      <a:pt x="37" y="265"/>
                      <a:pt x="111" y="146"/>
                      <a:pt x="47" y="240"/>
                    </a:cubicBezTo>
                    <a:cubicBezTo>
                      <a:pt x="34" y="279"/>
                      <a:pt x="0" y="332"/>
                      <a:pt x="34" y="374"/>
                    </a:cubicBezTo>
                    <a:cubicBezTo>
                      <a:pt x="43" y="385"/>
                      <a:pt x="61" y="383"/>
                      <a:pt x="74" y="387"/>
                    </a:cubicBezTo>
                    <a:cubicBezTo>
                      <a:pt x="105" y="383"/>
                      <a:pt x="137" y="383"/>
                      <a:pt x="167" y="374"/>
                    </a:cubicBezTo>
                    <a:cubicBezTo>
                      <a:pt x="217" y="359"/>
                      <a:pt x="202" y="339"/>
                      <a:pt x="234" y="307"/>
                    </a:cubicBezTo>
                    <a:cubicBezTo>
                      <a:pt x="245" y="296"/>
                      <a:pt x="261" y="289"/>
                      <a:pt x="274" y="280"/>
                    </a:cubicBezTo>
                    <a:cubicBezTo>
                      <a:pt x="269" y="227"/>
                      <a:pt x="267" y="173"/>
                      <a:pt x="260" y="120"/>
                    </a:cubicBezTo>
                    <a:cubicBezTo>
                      <a:pt x="258" y="106"/>
                      <a:pt x="258" y="88"/>
                      <a:pt x="247" y="80"/>
                    </a:cubicBezTo>
                    <a:cubicBezTo>
                      <a:pt x="224" y="64"/>
                      <a:pt x="167" y="54"/>
                      <a:pt x="167" y="54"/>
                    </a:cubicBezTo>
                    <a:cubicBezTo>
                      <a:pt x="151" y="4"/>
                      <a:pt x="166" y="20"/>
                      <a:pt x="127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49560" y="4110480"/>
                <a:ext cx="274320" cy="255240"/>
              </a:xfrm>
              <a:custGeom>
                <a:avLst/>
                <a:gdLst/>
                <a:ahLst/>
                <a:rect l="l" t="t" r="r" b="b"/>
                <a:pathLst>
                  <a:path w="391" h="391">
                    <a:moveTo>
                      <a:pt x="297" y="23"/>
                    </a:moveTo>
                    <a:cubicBezTo>
                      <a:pt x="0" y="45"/>
                      <a:pt x="82" y="31"/>
                      <a:pt x="97" y="383"/>
                    </a:cubicBezTo>
                    <a:cubicBezTo>
                      <a:pt x="168" y="379"/>
                      <a:pt x="243" y="391"/>
                      <a:pt x="311" y="370"/>
                    </a:cubicBezTo>
                    <a:cubicBezTo>
                      <a:pt x="338" y="362"/>
                      <a:pt x="358" y="331"/>
                      <a:pt x="364" y="303"/>
                    </a:cubicBezTo>
                    <a:cubicBezTo>
                      <a:pt x="381" y="229"/>
                      <a:pt x="369" y="151"/>
                      <a:pt x="377" y="76"/>
                    </a:cubicBezTo>
                    <a:cubicBezTo>
                      <a:pt x="378" y="62"/>
                      <a:pt x="386" y="49"/>
                      <a:pt x="391" y="36"/>
                    </a:cubicBezTo>
                    <a:cubicBezTo>
                      <a:pt x="335" y="0"/>
                      <a:pt x="366" y="6"/>
                      <a:pt x="297" y="23"/>
                    </a:cubicBez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570760" y="4209480"/>
                <a:ext cx="153720" cy="117360"/>
              </a:xfrm>
              <a:custGeom>
                <a:avLst/>
                <a:gdLst/>
                <a:ahLst/>
                <a:rect l="l" t="t" r="r" b="b"/>
                <a:pathLst>
                  <a:path w="242" h="180">
                    <a:moveTo>
                      <a:pt x="196" y="1"/>
                    </a:moveTo>
                    <a:cubicBezTo>
                      <a:pt x="156" y="5"/>
                      <a:pt x="114" y="0"/>
                      <a:pt x="76" y="14"/>
                    </a:cubicBezTo>
                    <a:cubicBezTo>
                      <a:pt x="61" y="19"/>
                      <a:pt x="60" y="43"/>
                      <a:pt x="49" y="54"/>
                    </a:cubicBezTo>
                    <a:cubicBezTo>
                      <a:pt x="38" y="65"/>
                      <a:pt x="22" y="72"/>
                      <a:pt x="9" y="81"/>
                    </a:cubicBezTo>
                    <a:cubicBezTo>
                      <a:pt x="13" y="103"/>
                      <a:pt x="0" y="141"/>
                      <a:pt x="22" y="148"/>
                    </a:cubicBezTo>
                    <a:cubicBezTo>
                      <a:pt x="125" y="180"/>
                      <a:pt x="159" y="149"/>
                      <a:pt x="222" y="108"/>
                    </a:cubicBezTo>
                    <a:cubicBezTo>
                      <a:pt x="242" y="51"/>
                      <a:pt x="237" y="44"/>
                      <a:pt x="196" y="1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5257800" y="3657600"/>
            <a:ext cx="1006560" cy="914400"/>
            <a:chOff x="5257800" y="3657600"/>
            <a:chExt cx="1006560" cy="914400"/>
          </a:xfrm>
        </p:grpSpPr>
        <p:sp>
          <p:nvSpPr>
            <p:cNvPr id="86" name=""/>
            <p:cNvSpPr/>
            <p:nvPr/>
          </p:nvSpPr>
          <p:spPr>
            <a:xfrm>
              <a:off x="5257800" y="3657600"/>
              <a:ext cx="1006560" cy="9144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49240" y="38404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32120" y="38404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57800" y="4023360"/>
              <a:ext cx="182880" cy="27432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8933000">
              <a:off x="5715360" y="3931920"/>
              <a:ext cx="182880" cy="27432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32120" y="411480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15360" y="420624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230200">
              <a:off x="5623560" y="374868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98240" y="38404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89680" y="420624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23560" y="4389120"/>
              <a:ext cx="274320" cy="18288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40680" y="42976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98240" y="4389120"/>
              <a:ext cx="18288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89680" y="4023360"/>
              <a:ext cx="182880" cy="18288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3202800">
              <a:off x="5486040" y="3703320"/>
              <a:ext cx="91440" cy="18288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98240" y="3749040"/>
              <a:ext cx="18288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9980000">
              <a:off x="6081480" y="384012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40680" y="402336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06800" y="36576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32120" y="402336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23560" y="36576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98240" y="41148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49240" y="429768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72920" y="41148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066680" y="5486400"/>
            <a:ext cx="1006560" cy="914400"/>
            <a:chOff x="1066680" y="5486400"/>
            <a:chExt cx="1006560" cy="914400"/>
          </a:xfrm>
        </p:grpSpPr>
        <p:sp>
          <p:nvSpPr>
            <p:cNvPr id="111" name=""/>
            <p:cNvSpPr/>
            <p:nvPr/>
          </p:nvSpPr>
          <p:spPr>
            <a:xfrm>
              <a:off x="1066680" y="5486400"/>
              <a:ext cx="1006560" cy="9144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58120" y="56692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41000" y="56692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6680" y="5852160"/>
              <a:ext cx="18288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8933000">
              <a:off x="1524240" y="5760720"/>
              <a:ext cx="18288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1000" y="594360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4240" y="603504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230200">
              <a:off x="1432440" y="557748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07120" y="56692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8560" y="603504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32440" y="621792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49560" y="61264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07120" y="6217920"/>
              <a:ext cx="18288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98560" y="585216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3202800">
              <a:off x="1294920" y="553212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07120" y="5577840"/>
              <a:ext cx="18288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9980000">
              <a:off x="1890360" y="566892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49560" y="585216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5680" y="54864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41000" y="585216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32440" y="54864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7120" y="59436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58120" y="612648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1800" y="59436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181480" y="5486400"/>
            <a:ext cx="1006560" cy="914400"/>
            <a:chOff x="5181480" y="5486400"/>
            <a:chExt cx="1006560" cy="914400"/>
          </a:xfrm>
        </p:grpSpPr>
        <p:sp>
          <p:nvSpPr>
            <p:cNvPr id="136" name=""/>
            <p:cNvSpPr/>
            <p:nvPr/>
          </p:nvSpPr>
          <p:spPr>
            <a:xfrm>
              <a:off x="5181480" y="5486400"/>
              <a:ext cx="1006560" cy="91440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72920" y="5760720"/>
              <a:ext cx="274320" cy="18288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702200">
              <a:off x="5547240" y="5851800"/>
              <a:ext cx="182880" cy="27432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1080400">
              <a:off x="5821560" y="5668920"/>
              <a:ext cx="274320" cy="18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47240" y="5577840"/>
              <a:ext cx="182880" cy="18288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72920" y="603504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21920" y="5943600"/>
              <a:ext cx="274320" cy="18288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39040" y="6126480"/>
              <a:ext cx="274320" cy="18288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870400">
              <a:off x="5364000" y="6126120"/>
              <a:ext cx="182880" cy="1828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21920" y="557784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64360" y="557784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Arenis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renitas  &lt; 15% de matr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Wackas  &gt;  15% de matr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renitas (Folk, 196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90920" y="2895480"/>
            <a:ext cx="3657600" cy="2520720"/>
            <a:chOff x="2590920" y="2895480"/>
            <a:chExt cx="3657600" cy="2520720"/>
          </a:xfrm>
        </p:grpSpPr>
        <p:sp>
          <p:nvSpPr>
            <p:cNvPr id="150" name=""/>
            <p:cNvSpPr/>
            <p:nvPr/>
          </p:nvSpPr>
          <p:spPr>
            <a:xfrm>
              <a:off x="2590920" y="2895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520" y="3819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58480" y="3027240"/>
              <a:ext cx="2774520" cy="237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19920" y="3291480"/>
              <a:ext cx="25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67560" y="3687480"/>
              <a:ext cx="75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343760" y="3307680"/>
              <a:ext cx="6840" cy="210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21600" y="3670200"/>
              <a:ext cx="740880" cy="1740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512160" y="3674520"/>
              <a:ext cx="625680" cy="171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345560" y="3027240"/>
              <a:ext cx="50436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63200" y="4347720"/>
              <a:ext cx="25200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084840" y="4743720"/>
              <a:ext cx="113508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000040" y="4300920"/>
              <a:ext cx="64908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598280" y="5007960"/>
              <a:ext cx="100872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02320" y="3516840"/>
              <a:ext cx="39924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4500720" y="3516480"/>
              <a:ext cx="54900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875840" y="289548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Arenita cuarci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358128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Sublitare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4640" y="411480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itare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464832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itare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feldesp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6800" y="541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6960" y="251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272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440" y="47242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Arcosa li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6400" y="41148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Arc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44640" y="34290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Subarc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6400" y="3124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5000" y="3505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3400" y="5410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1480" y="5410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Wackas (Folk, 196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1800" y="1523880"/>
            <a:ext cx="3200400" cy="2819160"/>
            <a:chOff x="2971800" y="1523880"/>
            <a:chExt cx="3200400" cy="2819160"/>
          </a:xfrm>
        </p:grpSpPr>
        <p:sp>
          <p:nvSpPr>
            <p:cNvPr id="181" name=""/>
            <p:cNvSpPr/>
            <p:nvPr/>
          </p:nvSpPr>
          <p:spPr>
            <a:xfrm>
              <a:off x="2971800" y="1523880"/>
              <a:ext cx="3200400" cy="2791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62640" y="1826280"/>
              <a:ext cx="0" cy="251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73680" y="1715040"/>
              <a:ext cx="5788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08160" y="3299760"/>
              <a:ext cx="103644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138280" y="3238200"/>
              <a:ext cx="8636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159440" y="2252880"/>
              <a:ext cx="84852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553560" y="2071440"/>
              <a:ext cx="83628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4735440" y="2071440"/>
              <a:ext cx="70920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47800" y="1826280"/>
              <a:ext cx="28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421160" y="1066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439740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F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8320" y="4191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8600" y="15238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cuarcí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2286000"/>
            <a:ext cx="19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feldespa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31240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arcó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048120"/>
            <a:ext cx="13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li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2286000"/>
            <a:ext cx="16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sublí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4480" y="4343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5360" y="1676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30280" y="2057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20:49:37Z</dcterms:created>
  <dc:creator>ariel.</dc:creator>
  <dc:description/>
  <dc:language>en-US</dc:language>
  <cp:lastModifiedBy>ariel.</cp:lastModifiedBy>
  <dcterms:modified xsi:type="dcterms:W3CDTF">2003-10-29T02:05:39Z</dcterms:modified>
  <cp:revision>13</cp:revision>
  <dc:subject/>
  <dc:title>Rocas Sedimentarias</dc:title>
</cp:coreProperties>
</file>