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7.png" ContentType="image/png"/>
  <Override PartName="/ppt/media/image1.jpeg" ContentType="image/jpeg"/>
  <Override PartName="/ppt/media/image2.wmf" ContentType="image/x-wmf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C0F2-FC4E-4041-86A3-2524EDEBA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6142-3DFD-4F9C-8DDD-75FE4602E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A1EC-5B9D-49D8-93AC-2A1BB9639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6EFC-6473-4A7B-8D3B-7906A31B2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8713-8673-4D1E-9ADE-8B6876A38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8054-11C0-4694-A3D3-41EB93815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0F79-DDFB-4875-A23B-87543DDFF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B00C-13DB-44A6-9921-2149968D2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A427-424F-4232-AD6B-99F6F7372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086E-8561-49FF-A03A-1135D03A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EAAF-8C19-4733-BD89-99D76EDCD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EF11-5429-405F-90D5-4D5D3533A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5D3F3-54F9-4B55-A581-97A9A9C980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7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Rocas Sedimentaria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66"/>
                </a:solidFill>
                <a:uFillTx/>
                <a:latin typeface="Times New Roman"/>
              </a:rPr>
              <a:t>Lutitas, fangolitas y limoli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ff00"/>
              </a:buClr>
              <a:buFont typeface="Times New Roman"/>
              <a:buChar char="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Tamañ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Limo (limolitas):   0.0039-0.0625 m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Arcilla (fangolitas, lutitas):   &lt; 0.0039m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ffff00"/>
              </a:buClr>
              <a:buFont typeface="Times New Roman"/>
              <a:buChar char="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Composi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ffff00"/>
              </a:buClr>
              <a:buFont typeface="Times New Roman"/>
              <a:buChar char="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Estratificación: Lutitas:             Sí (fisi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Fangolitas:        No (no fisible)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505320" y="2819520"/>
            <a:ext cx="2361960" cy="2286000"/>
            <a:chOff x="3505320" y="2819520"/>
            <a:chExt cx="2361960" cy="2286000"/>
          </a:xfrm>
        </p:grpSpPr>
        <p:sp>
          <p:nvSpPr>
            <p:cNvPr id="204" name=""/>
            <p:cNvSpPr/>
            <p:nvPr/>
          </p:nvSpPr>
          <p:spPr>
            <a:xfrm>
              <a:off x="3505320" y="2819520"/>
              <a:ext cx="2361960" cy="2040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134960" y="2976480"/>
              <a:ext cx="629640" cy="15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4922280" y="3410280"/>
              <a:ext cx="314640" cy="15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5237280" y="4028400"/>
              <a:ext cx="314640" cy="15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5394960" y="4332600"/>
              <a:ext cx="472320" cy="15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4764960" y="4634640"/>
              <a:ext cx="0" cy="47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505320" y="4332600"/>
              <a:ext cx="472320" cy="15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977640" y="3724200"/>
              <a:ext cx="314640" cy="15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449960" y="3257640"/>
              <a:ext cx="49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889080" y="4251600"/>
              <a:ext cx="162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4137840" y="4251600"/>
              <a:ext cx="311400" cy="62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948560" y="4251600"/>
              <a:ext cx="311400" cy="62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699080" y="3257640"/>
              <a:ext cx="0" cy="993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699080" y="3754800"/>
              <a:ext cx="49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5180760" y="3200400"/>
            <a:ext cx="15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Times New Roman"/>
              </a:rPr>
              <a:t>Lutita orgán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484960" y="3809880"/>
            <a:ext cx="174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Times New Roman"/>
              </a:rPr>
              <a:t>Lutita petrolíf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867640" y="4114800"/>
            <a:ext cx="12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Times New Roman"/>
              </a:rPr>
              <a:t>Sapropel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85120" y="495288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Times New Roman"/>
              </a:rPr>
              <a:t>Lutita bitumino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868000" y="480060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Mat. 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447280" y="4800600"/>
            <a:ext cx="102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CaCO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501360" y="2286000"/>
            <a:ext cx="26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Minerales de arci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6040" y="266688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Times New Roman"/>
              </a:rPr>
              <a:t>Luti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Times New Roman"/>
              </a:rPr>
              <a:t>fangoli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278160" y="35053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Mar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3880" y="4114800"/>
            <a:ext cx="113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Times New Roman"/>
              </a:rPr>
              <a:t>Calcilut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487480" y="40384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Times New Roma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258880" y="35812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Times New Roma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53960" y="31240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Times New Roman"/>
              </a:rPr>
              <a:t>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963600" y="4800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Times New Roma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06600" y="4800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Times New Roma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 u="sng">
                <a:solidFill>
                  <a:srgbClr val="ffff66"/>
                </a:solidFill>
                <a:uFillTx/>
                <a:latin typeface="Times New Roman"/>
              </a:rPr>
              <a:t>Rocas bioclástic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00"/>
              </a:buClr>
              <a:buFont typeface="Wingding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Calizas bioclástic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Autócto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Compuesta de fragmentos bioclás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(conchas, huesos...)  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   Alócto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Tamaño fragme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Calciruditas  &gt; 2 m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Calcarenitas 0.0625-2 m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Calcilutitas &lt; 0.0625 m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Coquina: roca con más del 80% de restos de organis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5715000" y="2057040"/>
            <a:ext cx="533520" cy="30492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715000" y="2362320"/>
            <a:ext cx="533520" cy="30456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66"/>
                </a:solidFill>
                <a:uFillTx/>
                <a:latin typeface="Times New Roman"/>
              </a:rPr>
              <a:t>Rocas Quím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Web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Depósitos calcáreos: Calizas, dolomita,  travertino, calic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Web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Depósitos ferriferos: Hierro bandeado  (depósitos tipo BI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Web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Depósitos silicios: Che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Web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Depósitos fosfáticos: Fosforita, colofa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Web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Depósitos evaporíticos: Yeso, anhidrita, halita, silvita, polihalita, magnesita, carnali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66"/>
                </a:solidFill>
                <a:uFillTx/>
                <a:latin typeface="Times New Roman"/>
              </a:rPr>
              <a:t>No olvid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Sele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Esferic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Redondea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Madurez textural Vs composi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7315200" y="685800"/>
            <a:ext cx="1295280" cy="3933720"/>
          </a:xfrm>
          <a:prstGeom prst="rect">
            <a:avLst/>
          </a:prstGeom>
          <a:ln w="0">
            <a:noFill/>
          </a:ln>
        </p:spPr>
      </p:pic>
      <p:pic>
        <p:nvPicPr>
          <p:cNvPr id="242" name="sorting" descr=""/>
          <p:cNvPicPr/>
          <p:nvPr/>
        </p:nvPicPr>
        <p:blipFill>
          <a:blip r:embed="rId2"/>
          <a:stretch/>
        </p:blipFill>
        <p:spPr>
          <a:xfrm>
            <a:off x="3962520" y="685800"/>
            <a:ext cx="2516040" cy="1878120"/>
          </a:xfrm>
          <a:prstGeom prst="rect">
            <a:avLst/>
          </a:prstGeom>
          <a:ln w="0">
            <a:noFill/>
          </a:ln>
        </p:spPr>
      </p:pic>
      <p:pic>
        <p:nvPicPr>
          <p:cNvPr id="243" name="esfericidad" descr=""/>
          <p:cNvPicPr/>
          <p:nvPr/>
        </p:nvPicPr>
        <p:blipFill>
          <a:blip r:embed="rId3"/>
          <a:stretch/>
        </p:blipFill>
        <p:spPr>
          <a:xfrm>
            <a:off x="3581280" y="2590920"/>
            <a:ext cx="2878200" cy="1888920"/>
          </a:xfrm>
          <a:prstGeom prst="rect">
            <a:avLst/>
          </a:prstGeom>
          <a:ln w="0">
            <a:noFill/>
          </a:ln>
        </p:spPr>
      </p:pic>
      <p:pic>
        <p:nvPicPr>
          <p:cNvPr id="244" name="redondez" descr=""/>
          <p:cNvPicPr/>
          <p:nvPr/>
        </p:nvPicPr>
        <p:blipFill>
          <a:blip r:embed="rId4"/>
          <a:stretch/>
        </p:blipFill>
        <p:spPr>
          <a:xfrm>
            <a:off x="2057400" y="4495680"/>
            <a:ext cx="504504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66"/>
                </a:solidFill>
                <a:uFillTx/>
                <a:latin typeface="Times New Roman"/>
              </a:rPr>
              <a:t>Estructuras sedimentaria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Monotype Sorts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imes New Roman"/>
              </a:rPr>
              <a:t>Características morfológicas más grandes que un grano y lo suficientemente pequeña para ser vista en aflorami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Monotype Sorts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Onduli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Ondulas%20con%20crestas%20rectas" descr=""/>
          <p:cNvPicPr/>
          <p:nvPr/>
        </p:nvPicPr>
        <p:blipFill>
          <a:blip r:embed="rId1"/>
          <a:stretch/>
        </p:blipFill>
        <p:spPr>
          <a:xfrm>
            <a:off x="2895480" y="2895480"/>
            <a:ext cx="4876920" cy="325116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 flipH="1">
            <a:off x="4266720" y="3505320"/>
            <a:ext cx="685800" cy="53316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Flautas                                                    Surcos de arras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Flautas%20en%20turbidita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2845080" cy="4267440"/>
          </a:xfrm>
          <a:prstGeom prst="rect">
            <a:avLst/>
          </a:prstGeom>
          <a:ln w="0">
            <a:noFill/>
          </a:ln>
        </p:spPr>
      </p:pic>
      <p:pic>
        <p:nvPicPr>
          <p:cNvPr id="251" name="Surcos%20de%20arrastre" descr=""/>
          <p:cNvPicPr/>
          <p:nvPr/>
        </p:nvPicPr>
        <p:blipFill>
          <a:blip r:embed="rId2"/>
          <a:stretch/>
        </p:blipFill>
        <p:spPr>
          <a:xfrm>
            <a:off x="4038480" y="1828800"/>
            <a:ext cx="4800600" cy="32004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1676520" y="1523880"/>
            <a:ext cx="838080" cy="53352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Estromatolitos                                               Madrigue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Stromatolitos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4114800" cy="2938320"/>
          </a:xfrm>
          <a:prstGeom prst="rect">
            <a:avLst/>
          </a:prstGeom>
          <a:ln w="0">
            <a:noFill/>
          </a:ln>
        </p:spPr>
      </p:pic>
      <p:pic>
        <p:nvPicPr>
          <p:cNvPr id="255" name="Madrigueras%20Fodinichnia" descr=""/>
          <p:cNvPicPr/>
          <p:nvPr/>
        </p:nvPicPr>
        <p:blipFill>
          <a:blip r:embed="rId2"/>
          <a:stretch/>
        </p:blipFill>
        <p:spPr>
          <a:xfrm>
            <a:off x="4876920" y="1600200"/>
            <a:ext cx="4000320" cy="40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66"/>
                </a:solidFill>
                <a:uFillTx/>
                <a:latin typeface="Times New Roman"/>
              </a:rPr>
              <a:t>ORIG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Diagén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Rocas Sedimentar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Litif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Diagénesis: </a:t>
            </a:r>
            <a:r>
              <a:rPr b="0" lang="es-ES_tradnl" sz="2800" spc="-1" strike="noStrike">
                <a:solidFill>
                  <a:srgbClr val="ffff66"/>
                </a:solidFill>
                <a:latin typeface="Times New Roman"/>
              </a:rPr>
              <a:t>Cambios Químicos y Físicos durante y </a:t>
            </a:r>
            <a:r>
              <a:rPr b="0" lang="es-ES_tradnl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66"/>
                </a:solidFill>
                <a:latin typeface="Times New Roman"/>
              </a:rPr>
              <a:t>brevemente después de su acumul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66"/>
                </a:solidFill>
                <a:latin typeface="Times New Roman"/>
              </a:rPr>
              <a:t>Litificación</a:t>
            </a:r>
            <a:r>
              <a:rPr b="0" lang="es-ES_tradnl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66"/>
                </a:solidFill>
                <a:latin typeface="Times New Roman"/>
              </a:rPr>
              <a:t>Solidif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4495680" y="1905120"/>
            <a:ext cx="457200" cy="30456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0" y="2666880"/>
            <a:ext cx="380880" cy="228600"/>
          </a:xfrm>
          <a:prstGeom prst="line">
            <a:avLst/>
          </a:prstGeom>
          <a:ln w="28440">
            <a:solidFill>
              <a:srgbClr val="ffff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05320" y="5486400"/>
            <a:ext cx="1214280" cy="485640"/>
          </a:xfrm>
          <a:prstGeom prst="leftRightArrow">
            <a:avLst>
              <a:gd name="adj1" fmla="val 50000"/>
              <a:gd name="adj2" fmla="val 4977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66"/>
                </a:solidFill>
                <a:uFillTx/>
                <a:latin typeface="Times New Roman"/>
              </a:rPr>
              <a:t>Depósi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66"/>
              </a:buClr>
              <a:buFont typeface="Webdings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800" spc="-1" strike="noStrike" u="sng">
                <a:solidFill>
                  <a:srgbClr val="ffff66"/>
                </a:solidFill>
                <a:uFillTx/>
                <a:latin typeface="Times New Roman"/>
              </a:rPr>
              <a:t>Clásticos</a:t>
            </a:r>
            <a:r>
              <a:rPr b="0" lang="es-ES_tradnl" sz="2800" spc="-1" strike="noStrike">
                <a:solidFill>
                  <a:srgbClr val="ffff66"/>
                </a:solidFill>
                <a:latin typeface="Times New Roman"/>
              </a:rPr>
              <a:t>: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Epiclásticos: Meteorización y erosión de rocas preexist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Bioclásticos: Remanentes de organis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Piroclásticos: Derivados de erupciones volcánicas (tobas,       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           brechas)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66"/>
              </a:buClr>
              <a:buFont typeface="Webdings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 u="sng">
                <a:solidFill>
                  <a:srgbClr val="ffff66"/>
                </a:solidFill>
                <a:uFillTx/>
                <a:latin typeface="Times New Roman"/>
              </a:rPr>
              <a:t>Químico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Precipitación de sales disueltas y otros elementos en aguas (océanos, lagos, pantanos.....).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Evaporación, sobresaturación, diagénesis.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66"/>
                </a:solidFill>
                <a:uFillTx/>
                <a:latin typeface="Times New Roman"/>
              </a:rPr>
              <a:t>Transpor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66"/>
                </a:solidFill>
                <a:uFillTx/>
                <a:latin typeface="Times New Roman"/>
              </a:rPr>
              <a:t>Grave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66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ffff66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ffff66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Caídas y deslizamientos de rocas, flujos de detri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66"/>
                </a:solidFill>
                <a:uFillTx/>
                <a:latin typeface="Times New Roman"/>
              </a:rPr>
              <a:t>Agu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Mayor agente de transporte. Solución, tracción, saltación, suspen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66"/>
                </a:solidFill>
                <a:uFillTx/>
                <a:latin typeface="Times New Roman"/>
              </a:rPr>
              <a:t>Ai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66"/>
                </a:solidFill>
                <a:uFillTx/>
                <a:latin typeface="Times New Roman"/>
              </a:rPr>
              <a:t>	</a:t>
            </a:r>
            <a:r>
              <a:rPr b="0" lang="es-ES_tradnl" sz="3200" spc="-1" strike="noStrike" u="sng">
                <a:solidFill>
                  <a:srgbClr val="ffff66"/>
                </a:solidFill>
                <a:uFillTx/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Tracción, suspensión, salt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s-ES_tradnl" sz="3200" spc="-1" strike="noStrike" u="sng">
                <a:solidFill>
                  <a:srgbClr val="ffff66"/>
                </a:solidFill>
                <a:uFillTx/>
                <a:latin typeface="Times New Roman"/>
              </a:rPr>
              <a:t>Hiel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66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ffff66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Suspen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66"/>
                </a:solidFill>
                <a:uFillTx/>
                <a:latin typeface="Times New Roman"/>
              </a:rPr>
              <a:t>Composi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Symbol" charset="2"/>
              <a:buChar char="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66"/>
                </a:solidFill>
                <a:uFillTx/>
                <a:latin typeface="Times New Roman"/>
              </a:rPr>
              <a:t>Componentes Clástic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Cuarzo, feldespato, micas, arcillas, fragmentos de rocas, granos de caliza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Symbol" charset="2"/>
              <a:buChar char="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66"/>
                </a:solidFill>
                <a:uFillTx/>
                <a:latin typeface="Times New Roman"/>
              </a:rPr>
              <a:t>Bioclástic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Macrofósiles, microfósi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Symbol" charset="2"/>
              <a:buChar char="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66"/>
                </a:solidFill>
                <a:uFillTx/>
                <a:latin typeface="Times New Roman"/>
              </a:rPr>
              <a:t>Piroclástic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Bloques, bombas, lapilli, ceniza, vid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Symbol" charset="2"/>
              <a:buChar char="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66"/>
                </a:solidFill>
                <a:uFillTx/>
                <a:latin typeface="Times New Roman"/>
              </a:rPr>
              <a:t>Químic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Carbonatos, sílice, silicatos, fosfatos, sulfuros, sulfatos, clorur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66"/>
                </a:solidFill>
                <a:uFillTx/>
                <a:latin typeface="Times New Roman"/>
              </a:rPr>
              <a:t>Clasific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Partículas, matriz, cemento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Diferencia entre matriz y partículas (gran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Tamaño  (arbitrari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Ce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llena el espacio entre poros, litif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Micrita, esparita ?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162920" y="380880"/>
            <a:ext cx="1325520" cy="2853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133720" y="2590920"/>
            <a:ext cx="1357200" cy="485640"/>
          </a:xfrm>
          <a:prstGeom prst="rightArrow">
            <a:avLst>
              <a:gd name="adj1" fmla="val 50000"/>
              <a:gd name="adj2" fmla="val 698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057400" y="38862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 u="sng">
                <a:solidFill>
                  <a:srgbClr val="ffff66"/>
                </a:solidFill>
                <a:uFillTx/>
                <a:latin typeface="Times New Roman"/>
              </a:rPr>
              <a:t>Rocas Clástic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66"/>
                </a:solidFill>
                <a:uFillTx/>
                <a:latin typeface="Times New Roman"/>
              </a:rPr>
              <a:t>Conglomerados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: % Tamaño mayor a 2 m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Times New Roman"/>
              </a:rPr>
              <a:t>Arenisca      Arenisca     Conglomerado             Conglome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Times New Roman"/>
              </a:rPr>
              <a:t>      </a:t>
            </a:r>
            <a:r>
              <a:rPr b="0" lang="es-ES_tradnl" sz="2000" spc="-1" strike="noStrike">
                <a:solidFill>
                  <a:srgbClr val="ffff66"/>
                </a:solidFill>
                <a:latin typeface="Times New Roman"/>
              </a:rPr>
              <a:t>gruesa</a:t>
            </a:r>
            <a:r>
              <a:rPr b="0" lang="es-ES_tradnl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Times New Roman"/>
              </a:rPr>
              <a:t>areno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Times New Roman"/>
              </a:rPr>
              <a:t>     </a:t>
            </a:r>
            <a:r>
              <a:rPr b="0" lang="es-ES_tradnl" sz="2000" spc="-1" strike="noStrike">
                <a:solidFill>
                  <a:srgbClr val="ffff66"/>
                </a:solidFill>
                <a:latin typeface="Times New Roman"/>
              </a:rPr>
              <a:t>0    5                        30               50                                10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Paraconglomerados               Ortoconglome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Oligomíctico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Polimíc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38080" y="2438280"/>
            <a:ext cx="685800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43000" y="1828800"/>
            <a:ext cx="0" cy="60948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95480" y="1828800"/>
            <a:ext cx="0" cy="60948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14800" y="1981080"/>
            <a:ext cx="0" cy="45720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685800" y="3733920"/>
            <a:ext cx="2469960" cy="941400"/>
            <a:chOff x="685800" y="3733920"/>
            <a:chExt cx="2469960" cy="941400"/>
          </a:xfrm>
        </p:grpSpPr>
        <p:grpSp>
          <p:nvGrpSpPr>
            <p:cNvPr id="65" name=""/>
            <p:cNvGrpSpPr/>
            <p:nvPr/>
          </p:nvGrpSpPr>
          <p:grpSpPr>
            <a:xfrm>
              <a:off x="685800" y="3733920"/>
              <a:ext cx="1006200" cy="941400"/>
              <a:chOff x="685800" y="3733920"/>
              <a:chExt cx="1006200" cy="941400"/>
            </a:xfrm>
          </p:grpSpPr>
          <p:sp>
            <p:nvSpPr>
              <p:cNvPr id="66" name=""/>
              <p:cNvSpPr/>
              <p:nvPr/>
            </p:nvSpPr>
            <p:spPr>
              <a:xfrm>
                <a:off x="685800" y="3733920"/>
                <a:ext cx="1006200" cy="94140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77240" y="4016160"/>
                <a:ext cx="274320" cy="188280"/>
              </a:xfrm>
              <a:prstGeom prst="ellipse">
                <a:avLst/>
              </a:prstGeom>
              <a:solidFill>
                <a:srgbClr val="96969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702200">
                <a:off x="1051560" y="4110120"/>
                <a:ext cx="182880" cy="28224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1080400">
                <a:off x="1326240" y="3921840"/>
                <a:ext cx="274320" cy="188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051560" y="3827880"/>
                <a:ext cx="182880" cy="188280"/>
              </a:xfrm>
              <a:prstGeom prst="ellipse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77240" y="4298400"/>
                <a:ext cx="91440" cy="943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326240" y="4204800"/>
                <a:ext cx="274320" cy="188280"/>
              </a:xfrm>
              <a:prstGeom prst="ellipse">
                <a:avLst/>
              </a:prstGeom>
              <a:solidFill>
                <a:srgbClr val="96969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143000" y="4393080"/>
                <a:ext cx="274320" cy="188280"/>
              </a:xfrm>
              <a:prstGeom prst="ellipse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20870400">
                <a:off x="868680" y="4392720"/>
                <a:ext cx="182880" cy="18828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326240" y="3827880"/>
                <a:ext cx="91440" cy="943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68680" y="3827880"/>
                <a:ext cx="91440" cy="943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2149560" y="3733920"/>
              <a:ext cx="1006200" cy="941400"/>
              <a:chOff x="2149560" y="3733920"/>
              <a:chExt cx="1006200" cy="941400"/>
            </a:xfrm>
          </p:grpSpPr>
          <p:sp>
            <p:nvSpPr>
              <p:cNvPr id="78" name=""/>
              <p:cNvSpPr/>
              <p:nvPr/>
            </p:nvSpPr>
            <p:spPr>
              <a:xfrm>
                <a:off x="2149560" y="3733920"/>
                <a:ext cx="1006200" cy="94140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423880" y="3827880"/>
                <a:ext cx="288720" cy="313560"/>
              </a:xfrm>
              <a:custGeom>
                <a:avLst/>
                <a:gdLst/>
                <a:ahLst/>
                <a:rect l="l" t="t" r="r" b="b"/>
                <a:pathLst>
                  <a:path w="455" h="480">
                    <a:moveTo>
                      <a:pt x="229" y="0"/>
                    </a:moveTo>
                    <a:cubicBezTo>
                      <a:pt x="205" y="68"/>
                      <a:pt x="165" y="108"/>
                      <a:pt x="122" y="160"/>
                    </a:cubicBezTo>
                    <a:cubicBezTo>
                      <a:pt x="112" y="172"/>
                      <a:pt x="108" y="190"/>
                      <a:pt x="95" y="200"/>
                    </a:cubicBezTo>
                    <a:cubicBezTo>
                      <a:pt x="84" y="209"/>
                      <a:pt x="68" y="209"/>
                      <a:pt x="55" y="213"/>
                    </a:cubicBezTo>
                    <a:cubicBezTo>
                      <a:pt x="46" y="240"/>
                      <a:pt x="0" y="319"/>
                      <a:pt x="55" y="347"/>
                    </a:cubicBezTo>
                    <a:cubicBezTo>
                      <a:pt x="87" y="363"/>
                      <a:pt x="126" y="356"/>
                      <a:pt x="162" y="360"/>
                    </a:cubicBezTo>
                    <a:cubicBezTo>
                      <a:pt x="180" y="378"/>
                      <a:pt x="199" y="394"/>
                      <a:pt x="215" y="413"/>
                    </a:cubicBezTo>
                    <a:cubicBezTo>
                      <a:pt x="225" y="425"/>
                      <a:pt x="229" y="443"/>
                      <a:pt x="242" y="453"/>
                    </a:cubicBezTo>
                    <a:cubicBezTo>
                      <a:pt x="253" y="462"/>
                      <a:pt x="328" y="478"/>
                      <a:pt x="335" y="480"/>
                    </a:cubicBezTo>
                    <a:cubicBezTo>
                      <a:pt x="348" y="476"/>
                      <a:pt x="365" y="477"/>
                      <a:pt x="375" y="467"/>
                    </a:cubicBezTo>
                    <a:cubicBezTo>
                      <a:pt x="398" y="444"/>
                      <a:pt x="429" y="387"/>
                      <a:pt x="429" y="387"/>
                    </a:cubicBezTo>
                    <a:cubicBezTo>
                      <a:pt x="433" y="374"/>
                      <a:pt x="440" y="361"/>
                      <a:pt x="442" y="347"/>
                    </a:cubicBezTo>
                    <a:cubicBezTo>
                      <a:pt x="449" y="281"/>
                      <a:pt x="455" y="214"/>
                      <a:pt x="455" y="147"/>
                    </a:cubicBezTo>
                    <a:cubicBezTo>
                      <a:pt x="455" y="41"/>
                      <a:pt x="331" y="98"/>
                      <a:pt x="269" y="53"/>
                    </a:cubicBezTo>
                    <a:cubicBezTo>
                      <a:pt x="251" y="40"/>
                      <a:pt x="242" y="18"/>
                      <a:pt x="229" y="0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771280" y="4366800"/>
                <a:ext cx="164520" cy="125280"/>
              </a:xfrm>
              <a:custGeom>
                <a:avLst/>
                <a:gdLst/>
                <a:ahLst/>
                <a:rect l="l" t="t" r="r" b="b"/>
                <a:pathLst>
                  <a:path w="259" h="192">
                    <a:moveTo>
                      <a:pt x="146" y="0"/>
                    </a:moveTo>
                    <a:cubicBezTo>
                      <a:pt x="86" y="40"/>
                      <a:pt x="39" y="87"/>
                      <a:pt x="0" y="147"/>
                    </a:cubicBezTo>
                    <a:cubicBezTo>
                      <a:pt x="61" y="186"/>
                      <a:pt x="61" y="192"/>
                      <a:pt x="133" y="173"/>
                    </a:cubicBezTo>
                    <a:cubicBezTo>
                      <a:pt x="179" y="143"/>
                      <a:pt x="201" y="106"/>
                      <a:pt x="240" y="67"/>
                    </a:cubicBezTo>
                    <a:cubicBezTo>
                      <a:pt x="244" y="54"/>
                      <a:pt x="259" y="40"/>
                      <a:pt x="253" y="27"/>
                    </a:cubicBezTo>
                    <a:cubicBezTo>
                      <a:pt x="247" y="14"/>
                      <a:pt x="227" y="16"/>
                      <a:pt x="213" y="13"/>
                    </a:cubicBezTo>
                    <a:cubicBezTo>
                      <a:pt x="191" y="7"/>
                      <a:pt x="168" y="4"/>
                      <a:pt x="146" y="0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423880" y="4393080"/>
                <a:ext cx="195480" cy="226800"/>
              </a:xfrm>
              <a:custGeom>
                <a:avLst/>
                <a:gdLst/>
                <a:ahLst/>
                <a:rect l="l" t="t" r="r" b="b"/>
                <a:pathLst>
                  <a:path w="308" h="347">
                    <a:moveTo>
                      <a:pt x="288" y="0"/>
                    </a:moveTo>
                    <a:cubicBezTo>
                      <a:pt x="202" y="12"/>
                      <a:pt x="119" y="32"/>
                      <a:pt x="35" y="53"/>
                    </a:cubicBezTo>
                    <a:cubicBezTo>
                      <a:pt x="26" y="71"/>
                      <a:pt x="11" y="87"/>
                      <a:pt x="8" y="107"/>
                    </a:cubicBezTo>
                    <a:cubicBezTo>
                      <a:pt x="0" y="162"/>
                      <a:pt x="76" y="187"/>
                      <a:pt x="115" y="200"/>
                    </a:cubicBezTo>
                    <a:cubicBezTo>
                      <a:pt x="143" y="284"/>
                      <a:pt x="130" y="303"/>
                      <a:pt x="195" y="347"/>
                    </a:cubicBezTo>
                    <a:cubicBezTo>
                      <a:pt x="214" y="309"/>
                      <a:pt x="248" y="280"/>
                      <a:pt x="262" y="240"/>
                    </a:cubicBezTo>
                    <a:cubicBezTo>
                      <a:pt x="273" y="211"/>
                      <a:pt x="270" y="178"/>
                      <a:pt x="275" y="147"/>
                    </a:cubicBezTo>
                    <a:cubicBezTo>
                      <a:pt x="285" y="87"/>
                      <a:pt x="308" y="56"/>
                      <a:pt x="288" y="0"/>
                    </a:cubicBezTo>
                    <a:close/>
                  </a:path>
                </a:pathLst>
              </a:custGeom>
              <a:blipFill rotWithShape="0">
                <a:blip r:embed="rId6"/>
                <a:srcRect/>
                <a:tile tx="0" ty="0" sx="100000" sy="100000" algn="ctr"/>
              </a:blip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851560" y="3930480"/>
                <a:ext cx="173880" cy="253080"/>
              </a:xfrm>
              <a:custGeom>
                <a:avLst/>
                <a:gdLst/>
                <a:ahLst/>
                <a:rect l="l" t="t" r="r" b="b"/>
                <a:pathLst>
                  <a:path w="274" h="387">
                    <a:moveTo>
                      <a:pt x="127" y="0"/>
                    </a:moveTo>
                    <a:cubicBezTo>
                      <a:pt x="123" y="31"/>
                      <a:pt x="123" y="64"/>
                      <a:pt x="114" y="94"/>
                    </a:cubicBezTo>
                    <a:cubicBezTo>
                      <a:pt x="109" y="109"/>
                      <a:pt x="93" y="119"/>
                      <a:pt x="87" y="134"/>
                    </a:cubicBezTo>
                    <a:cubicBezTo>
                      <a:pt x="37" y="265"/>
                      <a:pt x="111" y="146"/>
                      <a:pt x="47" y="240"/>
                    </a:cubicBezTo>
                    <a:cubicBezTo>
                      <a:pt x="34" y="279"/>
                      <a:pt x="0" y="332"/>
                      <a:pt x="34" y="374"/>
                    </a:cubicBezTo>
                    <a:cubicBezTo>
                      <a:pt x="43" y="385"/>
                      <a:pt x="61" y="383"/>
                      <a:pt x="74" y="387"/>
                    </a:cubicBezTo>
                    <a:cubicBezTo>
                      <a:pt x="105" y="383"/>
                      <a:pt x="137" y="383"/>
                      <a:pt x="167" y="374"/>
                    </a:cubicBezTo>
                    <a:cubicBezTo>
                      <a:pt x="217" y="359"/>
                      <a:pt x="202" y="339"/>
                      <a:pt x="234" y="307"/>
                    </a:cubicBezTo>
                    <a:cubicBezTo>
                      <a:pt x="245" y="296"/>
                      <a:pt x="261" y="289"/>
                      <a:pt x="274" y="280"/>
                    </a:cubicBezTo>
                    <a:cubicBezTo>
                      <a:pt x="269" y="227"/>
                      <a:pt x="267" y="173"/>
                      <a:pt x="260" y="120"/>
                    </a:cubicBezTo>
                    <a:cubicBezTo>
                      <a:pt x="258" y="106"/>
                      <a:pt x="258" y="88"/>
                      <a:pt x="247" y="80"/>
                    </a:cubicBezTo>
                    <a:cubicBezTo>
                      <a:pt x="224" y="64"/>
                      <a:pt x="167" y="54"/>
                      <a:pt x="167" y="54"/>
                    </a:cubicBezTo>
                    <a:cubicBezTo>
                      <a:pt x="151" y="4"/>
                      <a:pt x="166" y="20"/>
                      <a:pt x="127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149560" y="4110480"/>
                <a:ext cx="274320" cy="255240"/>
              </a:xfrm>
              <a:custGeom>
                <a:avLst/>
                <a:gdLst/>
                <a:ahLst/>
                <a:rect l="l" t="t" r="r" b="b"/>
                <a:pathLst>
                  <a:path w="391" h="391">
                    <a:moveTo>
                      <a:pt x="297" y="23"/>
                    </a:moveTo>
                    <a:cubicBezTo>
                      <a:pt x="0" y="45"/>
                      <a:pt x="82" y="31"/>
                      <a:pt x="97" y="383"/>
                    </a:cubicBezTo>
                    <a:cubicBezTo>
                      <a:pt x="168" y="379"/>
                      <a:pt x="243" y="391"/>
                      <a:pt x="311" y="370"/>
                    </a:cubicBezTo>
                    <a:cubicBezTo>
                      <a:pt x="338" y="362"/>
                      <a:pt x="358" y="331"/>
                      <a:pt x="364" y="303"/>
                    </a:cubicBezTo>
                    <a:cubicBezTo>
                      <a:pt x="381" y="229"/>
                      <a:pt x="369" y="151"/>
                      <a:pt x="377" y="76"/>
                    </a:cubicBezTo>
                    <a:cubicBezTo>
                      <a:pt x="378" y="62"/>
                      <a:pt x="386" y="49"/>
                      <a:pt x="391" y="36"/>
                    </a:cubicBezTo>
                    <a:cubicBezTo>
                      <a:pt x="335" y="0"/>
                      <a:pt x="366" y="6"/>
                      <a:pt x="297" y="23"/>
                    </a:cubicBezTo>
                    <a:close/>
                  </a:path>
                </a:pathLst>
              </a:custGeom>
              <a:solidFill>
                <a:srgbClr val="c0c0c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570760" y="4209480"/>
                <a:ext cx="153720" cy="117360"/>
              </a:xfrm>
              <a:custGeom>
                <a:avLst/>
                <a:gdLst/>
                <a:ahLst/>
                <a:rect l="l" t="t" r="r" b="b"/>
                <a:pathLst>
                  <a:path w="242" h="180">
                    <a:moveTo>
                      <a:pt x="196" y="1"/>
                    </a:moveTo>
                    <a:cubicBezTo>
                      <a:pt x="156" y="5"/>
                      <a:pt x="114" y="0"/>
                      <a:pt x="76" y="14"/>
                    </a:cubicBezTo>
                    <a:cubicBezTo>
                      <a:pt x="61" y="19"/>
                      <a:pt x="60" y="43"/>
                      <a:pt x="49" y="54"/>
                    </a:cubicBezTo>
                    <a:cubicBezTo>
                      <a:pt x="38" y="65"/>
                      <a:pt x="22" y="72"/>
                      <a:pt x="9" y="81"/>
                    </a:cubicBezTo>
                    <a:cubicBezTo>
                      <a:pt x="13" y="103"/>
                      <a:pt x="0" y="141"/>
                      <a:pt x="22" y="148"/>
                    </a:cubicBezTo>
                    <a:cubicBezTo>
                      <a:pt x="125" y="180"/>
                      <a:pt x="159" y="149"/>
                      <a:pt x="222" y="108"/>
                    </a:cubicBezTo>
                    <a:cubicBezTo>
                      <a:pt x="242" y="51"/>
                      <a:pt x="237" y="44"/>
                      <a:pt x="196" y="1"/>
                    </a:cubicBezTo>
                    <a:close/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" name=""/>
          <p:cNvGrpSpPr/>
          <p:nvPr/>
        </p:nvGrpSpPr>
        <p:grpSpPr>
          <a:xfrm>
            <a:off x="5257800" y="3657600"/>
            <a:ext cx="1006560" cy="914400"/>
            <a:chOff x="5257800" y="3657600"/>
            <a:chExt cx="1006560" cy="914400"/>
          </a:xfrm>
        </p:grpSpPr>
        <p:sp>
          <p:nvSpPr>
            <p:cNvPr id="86" name=""/>
            <p:cNvSpPr/>
            <p:nvPr/>
          </p:nvSpPr>
          <p:spPr>
            <a:xfrm>
              <a:off x="5257800" y="3657600"/>
              <a:ext cx="1006560" cy="914400"/>
            </a:xfrm>
            <a:prstGeom prst="ellips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349240" y="3840480"/>
              <a:ext cx="182880" cy="182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32120" y="3840480"/>
              <a:ext cx="182880" cy="182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257800" y="4023360"/>
              <a:ext cx="182880" cy="274320"/>
            </a:xfrm>
            <a:prstGeom prst="ellipse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8933000">
              <a:off x="5715360" y="3931920"/>
              <a:ext cx="182880" cy="274320"/>
            </a:xfrm>
            <a:prstGeom prst="ellipse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532120" y="4114800"/>
              <a:ext cx="182880" cy="182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715360" y="4206240"/>
              <a:ext cx="274320" cy="182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rot="2230200">
              <a:off x="5623560" y="3748680"/>
              <a:ext cx="274320" cy="182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98240" y="3840480"/>
              <a:ext cx="182880" cy="182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989680" y="4206240"/>
              <a:ext cx="182880" cy="182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623560" y="4389120"/>
              <a:ext cx="274320" cy="182880"/>
            </a:xfrm>
            <a:prstGeom prst="ellipse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40680" y="4297680"/>
              <a:ext cx="182880" cy="182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98240" y="4389120"/>
              <a:ext cx="182880" cy="914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89680" y="4023360"/>
              <a:ext cx="182880" cy="182880"/>
            </a:xfrm>
            <a:prstGeom prst="ellipse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3202800">
              <a:off x="5486040" y="3703320"/>
              <a:ext cx="91440" cy="182880"/>
            </a:xfrm>
            <a:prstGeom prst="ellipse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98240" y="3749040"/>
              <a:ext cx="182880" cy="914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19980000">
              <a:off x="6081480" y="3840120"/>
              <a:ext cx="91440" cy="182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40680" y="4023360"/>
              <a:ext cx="91440" cy="182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06800" y="3657600"/>
              <a:ext cx="91440" cy="914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532120" y="4023360"/>
              <a:ext cx="91440" cy="914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623560" y="3657600"/>
              <a:ext cx="91440" cy="914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98240" y="4114800"/>
              <a:ext cx="91440" cy="914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349240" y="4297680"/>
              <a:ext cx="91440" cy="914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172920" y="4114800"/>
              <a:ext cx="91440" cy="914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066680" y="5486400"/>
            <a:ext cx="1006560" cy="914400"/>
            <a:chOff x="1066680" y="5486400"/>
            <a:chExt cx="1006560" cy="914400"/>
          </a:xfrm>
        </p:grpSpPr>
        <p:sp>
          <p:nvSpPr>
            <p:cNvPr id="111" name=""/>
            <p:cNvSpPr/>
            <p:nvPr/>
          </p:nvSpPr>
          <p:spPr>
            <a:xfrm>
              <a:off x="1066680" y="5486400"/>
              <a:ext cx="1006560" cy="914400"/>
            </a:xfrm>
            <a:prstGeom prst="ellipse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158120" y="5669280"/>
              <a:ext cx="182880" cy="182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341000" y="5669280"/>
              <a:ext cx="182880" cy="182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066680" y="5852160"/>
              <a:ext cx="18288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18933000">
              <a:off x="1524240" y="5760720"/>
              <a:ext cx="18288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341000" y="5943600"/>
              <a:ext cx="182880" cy="182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24240" y="6035040"/>
              <a:ext cx="274320" cy="182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230200">
              <a:off x="1432440" y="5577480"/>
              <a:ext cx="274320" cy="182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707120" y="5669280"/>
              <a:ext cx="182880" cy="182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798560" y="6035040"/>
              <a:ext cx="182880" cy="182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432440" y="6217920"/>
              <a:ext cx="274320" cy="182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249560" y="6126480"/>
              <a:ext cx="182880" cy="182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707120" y="6217920"/>
              <a:ext cx="182880" cy="914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98560" y="5852160"/>
              <a:ext cx="182880" cy="182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3202800">
              <a:off x="1294920" y="5532120"/>
              <a:ext cx="91440" cy="182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707120" y="5577840"/>
              <a:ext cx="182880" cy="914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19980000">
              <a:off x="1890360" y="5668920"/>
              <a:ext cx="91440" cy="182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249560" y="5852160"/>
              <a:ext cx="91440" cy="182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15680" y="5486400"/>
              <a:ext cx="91440" cy="914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41000" y="5852160"/>
              <a:ext cx="91440" cy="914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432440" y="5486400"/>
              <a:ext cx="91440" cy="914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707120" y="5943600"/>
              <a:ext cx="91440" cy="914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158120" y="6126480"/>
              <a:ext cx="91440" cy="914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81800" y="5943600"/>
              <a:ext cx="91440" cy="914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5181480" y="5486400"/>
            <a:ext cx="1006560" cy="914400"/>
            <a:chOff x="5181480" y="5486400"/>
            <a:chExt cx="1006560" cy="914400"/>
          </a:xfrm>
        </p:grpSpPr>
        <p:sp>
          <p:nvSpPr>
            <p:cNvPr id="136" name=""/>
            <p:cNvSpPr/>
            <p:nvPr/>
          </p:nvSpPr>
          <p:spPr>
            <a:xfrm>
              <a:off x="5181480" y="5486400"/>
              <a:ext cx="1006560" cy="914400"/>
            </a:xfrm>
            <a:prstGeom prst="ellipse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72920" y="5760720"/>
              <a:ext cx="274320" cy="182880"/>
            </a:xfrm>
            <a:prstGeom prst="ellipse">
              <a:avLst/>
            </a:pr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1702200">
              <a:off x="5547240" y="5851800"/>
              <a:ext cx="182880" cy="274320"/>
            </a:xfrm>
            <a:prstGeom prst="ellipse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1080400">
              <a:off x="5821560" y="5668920"/>
              <a:ext cx="274320" cy="182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547240" y="5577840"/>
              <a:ext cx="182880" cy="182880"/>
            </a:xfrm>
            <a:prstGeom prst="ellipse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272920" y="6035040"/>
              <a:ext cx="91440" cy="914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821920" y="5943600"/>
              <a:ext cx="274320" cy="182880"/>
            </a:xfrm>
            <a:prstGeom prst="ellipse">
              <a:avLst/>
            </a:pr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639040" y="6126480"/>
              <a:ext cx="274320" cy="182880"/>
            </a:xfrm>
            <a:prstGeom prst="ellipse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20870400">
              <a:off x="5364000" y="6126120"/>
              <a:ext cx="182880" cy="182880"/>
            </a:xfrm>
            <a:prstGeom prst="ellipse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821920" y="5577840"/>
              <a:ext cx="91440" cy="914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364360" y="5577840"/>
              <a:ext cx="91440" cy="914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66"/>
                </a:solidFill>
                <a:uFillTx/>
                <a:latin typeface="Times New Roman"/>
              </a:rPr>
              <a:t>Arenis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ebdings" charset="2"/>
              <a:buChar char="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Arenitas  &lt; 15% de matri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ebdings" charset="2"/>
              <a:buChar char="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Wackas  &gt;  15% de matri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ebdings" charset="2"/>
              <a:buChar char="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Arenitas (Folk, 1968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590920" y="2895480"/>
            <a:ext cx="3657600" cy="2520720"/>
            <a:chOff x="2590920" y="2895480"/>
            <a:chExt cx="3657600" cy="2520720"/>
          </a:xfrm>
        </p:grpSpPr>
        <p:sp>
          <p:nvSpPr>
            <p:cNvPr id="150" name=""/>
            <p:cNvSpPr/>
            <p:nvPr/>
          </p:nvSpPr>
          <p:spPr>
            <a:xfrm>
              <a:off x="2590920" y="28954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248520" y="38196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958480" y="3027240"/>
              <a:ext cx="2774520" cy="23763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219920" y="3291480"/>
              <a:ext cx="252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967560" y="3687480"/>
              <a:ext cx="756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4343760" y="3307680"/>
              <a:ext cx="6840" cy="2108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521600" y="3670200"/>
              <a:ext cx="740880" cy="1740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3512160" y="3674520"/>
              <a:ext cx="625680" cy="1710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4345560" y="3027240"/>
              <a:ext cx="50436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463200" y="4347720"/>
              <a:ext cx="25200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3084840" y="4743720"/>
              <a:ext cx="113508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5000040" y="4300920"/>
              <a:ext cx="649080" cy="31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4598280" y="5007960"/>
              <a:ext cx="100872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3802320" y="3516840"/>
              <a:ext cx="399240" cy="10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 flipV="1">
              <a:off x="4500720" y="3516480"/>
              <a:ext cx="549000" cy="31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4875840" y="2895480"/>
            <a:ext cx="184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Times New Roman"/>
              </a:rPr>
              <a:t>Arenita cuarcif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81480" y="3581280"/>
            <a:ext cx="13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Times New Roman"/>
              </a:rPr>
              <a:t>Sublitaren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714640" y="4114800"/>
            <a:ext cx="107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Times New Roman"/>
              </a:rPr>
              <a:t>Litaren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638680" y="4648320"/>
            <a:ext cx="12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Times New Roman"/>
              </a:rPr>
              <a:t>Litaren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Times New Roman"/>
              </a:rPr>
              <a:t>feldespá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16800" y="54100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F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116960" y="2514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92720" y="5334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828440" y="472428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Times New Roman"/>
              </a:rPr>
              <a:t>Arcosa li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16400" y="41148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Times New Roman"/>
              </a:rPr>
              <a:t>Arco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744640" y="3429000"/>
            <a:ext cx="11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Times New Roman"/>
              </a:rPr>
              <a:t>Subarco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496400" y="31240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9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725000" y="35053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7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53400" y="54100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191480" y="54100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Wackas (Folk, 196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1800" y="1523880"/>
            <a:ext cx="3200400" cy="2819160"/>
            <a:chOff x="2971800" y="1523880"/>
            <a:chExt cx="3200400" cy="2819160"/>
          </a:xfrm>
        </p:grpSpPr>
        <p:sp>
          <p:nvSpPr>
            <p:cNvPr id="181" name=""/>
            <p:cNvSpPr/>
            <p:nvPr/>
          </p:nvSpPr>
          <p:spPr>
            <a:xfrm>
              <a:off x="2971800" y="1523880"/>
              <a:ext cx="3200400" cy="27914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562640" y="1826280"/>
              <a:ext cx="0" cy="2516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973680" y="1715040"/>
              <a:ext cx="578880" cy="1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008160" y="3299760"/>
              <a:ext cx="1036440" cy="12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5138280" y="3238200"/>
              <a:ext cx="86364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4159440" y="2252880"/>
              <a:ext cx="848520" cy="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3553560" y="2071440"/>
              <a:ext cx="836280" cy="33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flipV="1">
              <a:off x="4735440" y="2071440"/>
              <a:ext cx="709200" cy="33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447800" y="1826280"/>
              <a:ext cx="287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4421160" y="10666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95880" y="4397400"/>
            <a:ext cx="76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F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668320" y="41911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08600" y="152388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Times New Roman"/>
              </a:rPr>
              <a:t>Wacka cuarcíf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828800" y="2286000"/>
            <a:ext cx="196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Times New Roman"/>
              </a:rPr>
              <a:t>Wacka feldespa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447920" y="3124080"/>
            <a:ext cx="26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Times New Roman"/>
              </a:rPr>
              <a:t>Wacka arcós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048120"/>
            <a:ext cx="13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Times New Roman"/>
              </a:rPr>
              <a:t>Wacka li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562720" y="2286000"/>
            <a:ext cx="165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Times New Roman"/>
              </a:rPr>
              <a:t>Wacka sublí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344480" y="43434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Times New Roman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725360" y="16765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Times New Roman"/>
              </a:rPr>
              <a:t>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030280" y="20574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Times New Roman"/>
              </a:rPr>
              <a:t>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20:49:37Z</dcterms:created>
  <dc:creator>ariel.</dc:creator>
  <dc:description/>
  <dc:language>en-US</dc:language>
  <cp:lastModifiedBy>ariel.</cp:lastModifiedBy>
  <dcterms:modified xsi:type="dcterms:W3CDTF">2003-10-29T02:05:39Z</dcterms:modified>
  <cp:revision>13</cp:revision>
  <dc:subject/>
  <dc:title>Rocas Sedimentarias</dc:title>
</cp:coreProperties>
</file>