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858-831E-477A-9AFA-A26AE3A6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90C-35C3-4338-A7B0-FF59FD82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51D-A5C3-481B-B7AE-A88ADBF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589-4D20-43C8-A553-EC7A5715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C99B0-92AE-4540-ABE9-D3EC182A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64B8A-2F6E-4E63-A878-FE137E3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69BCF-748F-4570-8139-1B35C4C1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D96B-1768-440B-92A4-0BD65A6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F6531-A774-4C82-B1D1-8585972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0EA98-3413-4F3D-A394-014189BC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04F8-11F0-496E-9510-7B95902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5E6-91C7-4414-97E3-AA2E3EA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48DB6-3CB1-4758-AA66-C53207E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DDB7-3E3E-4535-9ED9-69BEEFC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F062-AFA3-4D8C-B8A4-28F8C74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AA62C-AA0E-4ECD-9F08-6E2A568E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712CB-C4BE-4C6D-83C4-6D1D9CA3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293-3BF2-4AE7-84D7-0AB4D5F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1D1-48FE-46BF-BAF2-62A546A2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316-1B03-4A1E-B1C5-0FE487F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631-0611-4021-9968-BF2A2AA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86-B3E4-4BFD-A940-048D4A6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5A8-4576-4191-9317-3886CF6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7A9-C194-4986-A47F-FD9EE906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B9B4-471D-4EE0-8534-706160831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DA3-7B56-4CB1-9DEE-1DA9AE4CA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637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562720" y="2057400"/>
            <a:ext cx="3047760" cy="2959200"/>
            <a:chOff x="5562720" y="2057400"/>
            <a:chExt cx="3047760" cy="2959200"/>
          </a:xfrm>
        </p:grpSpPr>
        <p:sp>
          <p:nvSpPr>
            <p:cNvPr id="223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46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328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85800" y="345744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’T’, que pase por a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4784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d de L’T’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743200"/>
            <a:ext cx="91440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67480" y="3276720"/>
            <a:ext cx="685800" cy="862920"/>
            <a:chOff x="7467480" y="3276720"/>
            <a:chExt cx="685800" cy="862920"/>
          </a:xfrm>
        </p:grpSpPr>
        <p:sp>
          <p:nvSpPr>
            <p:cNvPr id="232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6748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3733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bujar un pu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primer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cuarto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do un punto en el tercer cuadrante, rotar la línea de tierra horizontalmente 45º en sentido de los punteros del relo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51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6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64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131400" y="5516640"/>
            <a:ext cx="941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 mejor es usar colores para rectas y planos Aux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8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9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308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312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316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320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331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348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363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77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261936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394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58080" y="2514600"/>
            <a:ext cx="1028520" cy="1967040"/>
          </a:xfrm>
          <a:custGeom>
            <a:avLst/>
            <a:gdLst/>
            <a:ahLst/>
            <a:rect l="l" t="t" r="r" b="b"/>
            <a:pathLst>
              <a:path w="648" h="1239">
                <a:moveTo>
                  <a:pt x="0" y="1239"/>
                </a:moveTo>
                <a:lnTo>
                  <a:pt x="64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638680" y="2133720"/>
            <a:ext cx="2362320" cy="2463120"/>
            <a:chOff x="5638680" y="2133720"/>
            <a:chExt cx="2362320" cy="2463120"/>
          </a:xfrm>
        </p:grpSpPr>
        <p:sp>
          <p:nvSpPr>
            <p:cNvPr id="409" name=""/>
            <p:cNvSpPr/>
            <p:nvPr/>
          </p:nvSpPr>
          <p:spPr>
            <a:xfrm>
              <a:off x="6070680" y="4468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086600" y="2514240"/>
              <a:ext cx="91440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34320" y="21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8680" y="4191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61936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562720" y="2514600"/>
            <a:ext cx="3352680" cy="2539440"/>
            <a:chOff x="5562720" y="2514600"/>
            <a:chExt cx="3352680" cy="2539440"/>
          </a:xfrm>
        </p:grpSpPr>
        <p:sp>
          <p:nvSpPr>
            <p:cNvPr id="419" name=""/>
            <p:cNvSpPr/>
            <p:nvPr/>
          </p:nvSpPr>
          <p:spPr>
            <a:xfrm flipV="1">
              <a:off x="5791320" y="2895480"/>
              <a:ext cx="2743200" cy="182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8200" y="25146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172200" y="2895480"/>
            <a:ext cx="2438280" cy="2310840"/>
            <a:chOff x="6172200" y="2895480"/>
            <a:chExt cx="2438280" cy="2310840"/>
          </a:xfrm>
        </p:grpSpPr>
        <p:grpSp>
          <p:nvGrpSpPr>
            <p:cNvPr id="433" name=""/>
            <p:cNvGrpSpPr/>
            <p:nvPr/>
          </p:nvGrpSpPr>
          <p:grpSpPr>
            <a:xfrm>
              <a:off x="6172200" y="3124080"/>
              <a:ext cx="2438280" cy="2082240"/>
              <a:chOff x="6172200" y="3124080"/>
              <a:chExt cx="2438280" cy="2082240"/>
            </a:xfrm>
          </p:grpSpPr>
          <p:sp>
            <p:nvSpPr>
              <p:cNvPr id="434" name=""/>
              <p:cNvSpPr/>
              <p:nvPr/>
            </p:nvSpPr>
            <p:spPr>
              <a:xfrm flipH="1" flipV="1">
                <a:off x="6172200" y="3657240"/>
                <a:ext cx="838080" cy="1219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3280" y="3124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05720" y="48006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8001000" y="2895480"/>
              <a:ext cx="149400" cy="2556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0" y="0"/>
                  </a:moveTo>
                  <a:lnTo>
                    <a:pt x="94" y="161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010280" y="3164040"/>
            <a:ext cx="1152720" cy="1712880"/>
          </a:xfrm>
          <a:custGeom>
            <a:avLst/>
            <a:gdLst/>
            <a:ahLst/>
            <a:rect l="l" t="t" r="r" b="b"/>
            <a:pathLst>
              <a:path w="726" h="1079">
                <a:moveTo>
                  <a:pt x="726" y="0"/>
                </a:moveTo>
                <a:lnTo>
                  <a:pt x="0" y="1079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osenmann, R., Geometría Descriptiva (para estudiantes de Geologí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a una recta AB y un punto C fuera de ella, trazar una recta horizontal que pase por C y que intersecte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dos rectas AB y CD que se cruzan determinar una recta horizontal de cota Z que intersecte a ambas rectas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terminar la longitud de un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zando una línea de tierra de orientación norte-sur, dibujar en el depurado una recta cuyo rumbo es N45º E y su buzamiento, 30º S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una recta y un punto, verificar si el punto pertenece o no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44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45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46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49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49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85960" y="1531800"/>
              <a:ext cx="7684920" cy="4586400"/>
              <a:chOff x="885960" y="1531800"/>
              <a:chExt cx="7684920" cy="45864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574992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569240" y="16765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 pu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24080" y="2819520"/>
            <a:ext cx="2210040" cy="1523880"/>
            <a:chOff x="3124080" y="2819520"/>
            <a:chExt cx="2210040" cy="1523880"/>
          </a:xfrm>
        </p:grpSpPr>
        <p:sp>
          <p:nvSpPr>
            <p:cNvPr id="510" name=""/>
            <p:cNvSpPr/>
            <p:nvPr/>
          </p:nvSpPr>
          <p:spPr>
            <a:xfrm>
              <a:off x="3124080" y="2819520"/>
              <a:ext cx="221004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24080" y="2819520"/>
              <a:ext cx="0" cy="99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4120" y="3809880"/>
              <a:ext cx="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4080" y="3809880"/>
              <a:ext cx="2210040" cy="533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362320" y="3200040"/>
            <a:ext cx="2590560" cy="1828800"/>
            <a:chOff x="2362320" y="3200040"/>
            <a:chExt cx="2590560" cy="1828800"/>
          </a:xfrm>
        </p:grpSpPr>
        <p:sp>
          <p:nvSpPr>
            <p:cNvPr id="515" name=""/>
            <p:cNvSpPr/>
            <p:nvPr/>
          </p:nvSpPr>
          <p:spPr>
            <a:xfrm flipV="1">
              <a:off x="2362320" y="3200040"/>
              <a:ext cx="2590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362320" y="3809520"/>
              <a:ext cx="259056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3200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62320" y="3809520"/>
              <a:ext cx="0" cy="121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91120" y="3048120"/>
            <a:ext cx="380880" cy="1434960"/>
            <a:chOff x="4191120" y="3048120"/>
            <a:chExt cx="380880" cy="1434960"/>
          </a:xfrm>
        </p:grpSpPr>
        <p:sp>
          <p:nvSpPr>
            <p:cNvPr id="520" name=""/>
            <p:cNvSpPr/>
            <p:nvPr/>
          </p:nvSpPr>
          <p:spPr>
            <a:xfrm>
              <a:off x="4343400" y="335268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91120" y="4114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91120" y="3048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76920" y="3352680"/>
            <a:ext cx="380880" cy="1206720"/>
            <a:chOff x="4876920" y="3352680"/>
            <a:chExt cx="380880" cy="1206720"/>
          </a:xfrm>
        </p:grpSpPr>
        <p:sp>
          <p:nvSpPr>
            <p:cNvPr id="524" name=""/>
            <p:cNvSpPr/>
            <p:nvPr/>
          </p:nvSpPr>
          <p:spPr>
            <a:xfrm>
              <a:off x="5024520" y="3672000"/>
              <a:ext cx="6120" cy="595080"/>
            </a:xfrm>
            <a:custGeom>
              <a:avLst/>
              <a:gdLst/>
              <a:ahLst/>
              <a:rect l="l" t="t" r="r" b="b"/>
              <a:pathLst>
                <a:path w="4" h="375">
                  <a:moveTo>
                    <a:pt x="0" y="0"/>
                  </a:moveTo>
                  <a:lnTo>
                    <a:pt x="4" y="37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6920" y="335268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76920" y="4191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514600" y="3429000"/>
            <a:ext cx="380880" cy="1739880"/>
            <a:chOff x="2514600" y="3429000"/>
            <a:chExt cx="380880" cy="1739880"/>
          </a:xfrm>
        </p:grpSpPr>
        <p:sp>
          <p:nvSpPr>
            <p:cNvPr id="528" name=""/>
            <p:cNvSpPr/>
            <p:nvPr/>
          </p:nvSpPr>
          <p:spPr>
            <a:xfrm>
              <a:off x="2666880" y="3733920"/>
              <a:ext cx="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4600" y="48006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14600" y="34290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057400" y="2286000"/>
            <a:ext cx="5562720" cy="3187800"/>
            <a:chOff x="2057400" y="2286000"/>
            <a:chExt cx="5562720" cy="3187800"/>
          </a:xfrm>
        </p:grpSpPr>
        <p:sp>
          <p:nvSpPr>
            <p:cNvPr id="532" name=""/>
            <p:cNvSpPr/>
            <p:nvPr/>
          </p:nvSpPr>
          <p:spPr>
            <a:xfrm>
              <a:off x="2133720" y="2590920"/>
              <a:ext cx="5486400" cy="1218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400" y="3809880"/>
              <a:ext cx="5562720" cy="1295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2286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53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53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85960" y="1531800"/>
              <a:ext cx="7684920" cy="4587840"/>
              <a:chOff x="885960" y="1531800"/>
              <a:chExt cx="7684920" cy="4587840"/>
            </a:xfrm>
          </p:grpSpPr>
          <p:sp>
            <p:nvSpPr>
              <p:cNvPr id="54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575136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1385640" y="1600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recta y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676520" y="1905120"/>
            <a:ext cx="5943600" cy="4025880"/>
            <a:chOff x="1676520" y="1905120"/>
            <a:chExt cx="5943600" cy="4025880"/>
          </a:xfrm>
        </p:grpSpPr>
        <p:sp>
          <p:nvSpPr>
            <p:cNvPr id="550" name=""/>
            <p:cNvSpPr/>
            <p:nvPr/>
          </p:nvSpPr>
          <p:spPr>
            <a:xfrm flipV="1">
              <a:off x="1676520" y="2209320"/>
              <a:ext cx="5638680" cy="1600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809880"/>
              <a:ext cx="5943600" cy="1981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0" y="190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5562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819520" y="2209680"/>
            <a:ext cx="3657600" cy="2349720"/>
            <a:chOff x="2819520" y="2209680"/>
            <a:chExt cx="3657600" cy="2349720"/>
          </a:xfrm>
        </p:grpSpPr>
        <p:sp>
          <p:nvSpPr>
            <p:cNvPr id="555" name=""/>
            <p:cNvSpPr/>
            <p:nvPr/>
          </p:nvSpPr>
          <p:spPr>
            <a:xfrm flipV="1">
              <a:off x="3048120" y="2514600"/>
              <a:ext cx="3200400" cy="129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48120" y="3809880"/>
              <a:ext cx="3200400" cy="45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48120" y="3809880"/>
              <a:ext cx="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48520" y="25146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9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5880" y="2209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58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572000" y="320040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343400" y="3048120"/>
            <a:ext cx="1219320" cy="2057400"/>
            <a:chOff x="4343400" y="3048120"/>
            <a:chExt cx="1219320" cy="2057400"/>
          </a:xfrm>
        </p:grpSpPr>
        <p:sp>
          <p:nvSpPr>
            <p:cNvPr id="565" name=""/>
            <p:cNvSpPr/>
            <p:nvPr/>
          </p:nvSpPr>
          <p:spPr>
            <a:xfrm>
              <a:off x="4343400" y="3048120"/>
              <a:ext cx="12193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3400" y="3048120"/>
              <a:ext cx="0" cy="76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3400" y="3809880"/>
              <a:ext cx="121932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2720" y="3809880"/>
              <a:ext cx="0" cy="1295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29200" y="3276720"/>
            <a:ext cx="457200" cy="1739880"/>
            <a:chOff x="5029200" y="3276720"/>
            <a:chExt cx="457200" cy="1739880"/>
          </a:xfrm>
        </p:grpSpPr>
        <p:sp>
          <p:nvSpPr>
            <p:cNvPr id="570" name=""/>
            <p:cNvSpPr/>
            <p:nvPr/>
          </p:nvSpPr>
          <p:spPr>
            <a:xfrm>
              <a:off x="5180040" y="3581280"/>
              <a:ext cx="1440" cy="11066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1" y="0"/>
                  </a:moveTo>
                  <a:lnTo>
                    <a:pt x="0" y="697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920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292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s especi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838760" y="1731960"/>
            <a:ext cx="3655800" cy="42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6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419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lelo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sección de una recta y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llama penetración de la recta en un plano. ES UN PU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s auxili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tilizamos un plano auxiliar que contenga a la recta. La intersección de el plano auxiliar con el plano dado da origen a una recta auxiliar que corta a la recta dada. Este punto es la penetración de la recta (ya que pertenecen al plano dado y a la recta d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102200" y="2133360"/>
            <a:ext cx="270180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2940120"/>
            <a:ext cx="0" cy="1209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026120" y="4176720"/>
            <a:ext cx="0" cy="836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03640" y="285264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4662360"/>
            <a:ext cx="206640" cy="206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6720" y="2924280"/>
            <a:ext cx="1925640" cy="1252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4149720"/>
            <a:ext cx="201636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7636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209480" y="2133720"/>
            <a:ext cx="3236040" cy="4400280"/>
            <a:chOff x="4209480" y="2133720"/>
            <a:chExt cx="3236040" cy="4400280"/>
          </a:xfrm>
        </p:grpSpPr>
        <p:sp>
          <p:nvSpPr>
            <p:cNvPr id="602" name=""/>
            <p:cNvSpPr/>
            <p:nvPr/>
          </p:nvSpPr>
          <p:spPr>
            <a:xfrm flipV="1">
              <a:off x="7020000" y="4149720"/>
              <a:ext cx="0" cy="2232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00720" y="2492280"/>
              <a:ext cx="2519280" cy="1657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09480" y="2133720"/>
              <a:ext cx="3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6165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078520" y="2565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59680" y="465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435640" y="2917800"/>
            <a:ext cx="2017080" cy="2478240"/>
            <a:chOff x="5435640" y="2917800"/>
            <a:chExt cx="2017080" cy="2478240"/>
          </a:xfrm>
        </p:grpSpPr>
        <p:sp>
          <p:nvSpPr>
            <p:cNvPr id="611" name=""/>
            <p:cNvSpPr/>
            <p:nvPr/>
          </p:nvSpPr>
          <p:spPr>
            <a:xfrm>
              <a:off x="5511960" y="29178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92000" y="378288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7520" y="5027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06200" y="3876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08720" y="3141720"/>
              <a:ext cx="0" cy="1008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35640" y="3141720"/>
              <a:ext cx="1657440" cy="10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8720" y="4149720"/>
              <a:ext cx="15112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492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plano y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791320" y="3200400"/>
            <a:ext cx="685800" cy="1511280"/>
            <a:chOff x="5791320" y="3200400"/>
            <a:chExt cx="685800" cy="1511280"/>
          </a:xfrm>
        </p:grpSpPr>
        <p:sp>
          <p:nvSpPr>
            <p:cNvPr id="620" name=""/>
            <p:cNvSpPr/>
            <p:nvPr/>
          </p:nvSpPr>
          <p:spPr>
            <a:xfrm flipV="1">
              <a:off x="6019920" y="3505320"/>
              <a:ext cx="0" cy="9144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43600" y="3200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1320" y="4343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planos que se cortan en el depu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102200" y="2923920"/>
            <a:ext cx="3759120" cy="125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086520" y="4176720"/>
            <a:ext cx="1671480" cy="1881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75080" y="3343320"/>
            <a:ext cx="4282920" cy="833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435640" y="3759120"/>
            <a:ext cx="1590120" cy="1254240"/>
            <a:chOff x="5435640" y="3759120"/>
            <a:chExt cx="1590120" cy="1254240"/>
          </a:xfrm>
        </p:grpSpPr>
        <p:sp>
          <p:nvSpPr>
            <p:cNvPr id="633" name=""/>
            <p:cNvSpPr/>
            <p:nvPr/>
          </p:nvSpPr>
          <p:spPr>
            <a:xfrm>
              <a:off x="5435640" y="3759120"/>
              <a:ext cx="0" cy="4176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025760" y="4176720"/>
              <a:ext cx="0" cy="8366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365800" y="3645000"/>
            <a:ext cx="20808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6400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2520" y="49006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5640" y="3759120"/>
            <a:ext cx="1566720" cy="417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5640" y="4176720"/>
            <a:ext cx="1566720" cy="83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35120" y="265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82400" y="3011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69000" y="589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294520" y="3284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436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 cualquiera y plano horizo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3343320"/>
            <a:ext cx="4984560" cy="14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020000" y="328428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932520" y="321300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86440" y="45910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48360" y="3357720"/>
            <a:ext cx="1871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76720" y="4149720"/>
            <a:ext cx="19256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020000" y="4149720"/>
            <a:ext cx="0" cy="208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de fu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35280" y="2708280"/>
            <a:ext cx="3384720" cy="144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020000" y="4149360"/>
            <a:ext cx="0" cy="93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932520" y="4013280"/>
            <a:ext cx="20664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77080" y="4951440"/>
            <a:ext cx="20628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48360" y="3357720"/>
            <a:ext cx="1871640" cy="79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76720" y="4149720"/>
            <a:ext cx="19432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la nuev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697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32004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el punto donde se intersectan las líneas de tierra se dibuja una línea perpendicular a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237024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yección horizontal (P) no ca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1280" y="4754520"/>
            <a:ext cx="417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ibuja línea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ongitud igual a la dibujada anterior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714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280" y="1628640"/>
            <a:ext cx="4114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una línea desde la intersección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on la proyección horizontal del plano (P), que pase por el extremo superior de la línea ver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477120" y="1773360"/>
            <a:ext cx="831600" cy="226512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049640"/>
            <a:ext cx="4114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última línea corresponde a la proyección vertical del plano (P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32720" y="1844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73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73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685800" y="1752480"/>
            <a:ext cx="342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s mé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74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74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76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5486400" y="3124080"/>
            <a:ext cx="2533680" cy="1676520"/>
            <a:chOff x="5486400" y="3124080"/>
            <a:chExt cx="2533680" cy="1676520"/>
          </a:xfrm>
        </p:grpSpPr>
        <p:sp>
          <p:nvSpPr>
            <p:cNvPr id="765" name=""/>
            <p:cNvSpPr/>
            <p:nvPr/>
          </p:nvSpPr>
          <p:spPr>
            <a:xfrm>
              <a:off x="5486400" y="3887640"/>
              <a:ext cx="251316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3124080"/>
              <a:ext cx="253368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1752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horizontal paralela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705360" y="3505320"/>
            <a:ext cx="1752840" cy="990360"/>
            <a:chOff x="6705360" y="3505320"/>
            <a:chExt cx="1752840" cy="990360"/>
          </a:xfrm>
        </p:grpSpPr>
        <p:sp>
          <p:nvSpPr>
            <p:cNvPr id="771" name=""/>
            <p:cNvSpPr/>
            <p:nvPr/>
          </p:nvSpPr>
          <p:spPr>
            <a:xfrm>
              <a:off x="6781680" y="3886200"/>
              <a:ext cx="1676520" cy="60948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1680" y="350532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705000" y="3505320"/>
              <a:ext cx="74520" cy="36828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8580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867280" y="1981080"/>
            <a:ext cx="1981440" cy="3606120"/>
            <a:chOff x="5867280" y="1981080"/>
            <a:chExt cx="1981440" cy="3606120"/>
          </a:xfrm>
        </p:grpSpPr>
        <p:sp>
          <p:nvSpPr>
            <p:cNvPr id="776" name=""/>
            <p:cNvSpPr/>
            <p:nvPr/>
          </p:nvSpPr>
          <p:spPr>
            <a:xfrm flipV="1">
              <a:off x="6095880" y="2285640"/>
              <a:ext cx="1447920" cy="3048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7280" y="51814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152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8580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piar la cota del punto A continuando la proyección horizontal de la recta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6477120" y="3733560"/>
            <a:ext cx="3045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77120" y="3733920"/>
            <a:ext cx="110880" cy="566640"/>
          </a:xfrm>
          <a:custGeom>
            <a:avLst/>
            <a:gdLst/>
            <a:ahLst/>
            <a:rect l="l" t="t" r="r" b="b"/>
            <a:pathLst>
              <a:path w="70" h="357">
                <a:moveTo>
                  <a:pt x="70" y="35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34196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una recta que una el extremo del trazo anterior con la intersección de P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540864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638680" y="3938760"/>
            <a:ext cx="1103400" cy="658080"/>
            <a:chOff x="5638680" y="3938760"/>
            <a:chExt cx="1103400" cy="658080"/>
          </a:xfrm>
        </p:grpSpPr>
        <p:sp>
          <p:nvSpPr>
            <p:cNvPr id="785" name=""/>
            <p:cNvSpPr/>
            <p:nvPr/>
          </p:nvSpPr>
          <p:spPr>
            <a:xfrm>
              <a:off x="6523200" y="3938760"/>
              <a:ext cx="218880" cy="52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0" y="0"/>
                  </a:moveTo>
                  <a:cubicBezTo>
                    <a:pt x="9" y="1"/>
                    <a:pt x="42" y="2"/>
                    <a:pt x="65" y="8"/>
                  </a:cubicBezTo>
                  <a:cubicBezTo>
                    <a:pt x="88" y="14"/>
                    <a:pt x="123" y="28"/>
                    <a:pt x="13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943600" y="40381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38680" y="419112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d0ca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4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ta y plano fr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5033880" cy="561636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5105520" y="2209680"/>
            <a:ext cx="3047760" cy="2882880"/>
            <a:chOff x="5105520" y="2209680"/>
            <a:chExt cx="3047760" cy="2882880"/>
          </a:xfrm>
        </p:grpSpPr>
        <p:sp>
          <p:nvSpPr>
            <p:cNvPr id="792" name=""/>
            <p:cNvSpPr/>
            <p:nvPr/>
          </p:nvSpPr>
          <p:spPr>
            <a:xfrm flipV="1">
              <a:off x="5334120" y="2438280"/>
              <a:ext cx="2438280" cy="144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33760" y="3886200"/>
              <a:ext cx="243828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34120" y="388620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772400" y="243828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5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05520" y="4724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96080" y="3886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72400" y="2209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105520" y="4419720"/>
            <a:ext cx="3429000" cy="368280"/>
            <a:chOff x="5105520" y="4419720"/>
            <a:chExt cx="3429000" cy="368280"/>
          </a:xfrm>
        </p:grpSpPr>
        <p:sp>
          <p:nvSpPr>
            <p:cNvPr id="801" name=""/>
            <p:cNvSpPr/>
            <p:nvPr/>
          </p:nvSpPr>
          <p:spPr>
            <a:xfrm>
              <a:off x="5105520" y="44197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2468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172200" y="2971800"/>
            <a:ext cx="457200" cy="1816200"/>
            <a:chOff x="6172200" y="2971800"/>
            <a:chExt cx="457200" cy="1816200"/>
          </a:xfrm>
        </p:grpSpPr>
        <p:sp>
          <p:nvSpPr>
            <p:cNvPr id="804" name=""/>
            <p:cNvSpPr/>
            <p:nvPr/>
          </p:nvSpPr>
          <p:spPr>
            <a:xfrm>
              <a:off x="6367320" y="3267000"/>
              <a:ext cx="1800" cy="1149480"/>
            </a:xfrm>
            <a:custGeom>
              <a:avLst/>
              <a:gdLst/>
              <a:ahLst/>
              <a:rect l="l" t="t" r="r" b="b"/>
              <a:pathLst>
                <a:path w="1" h="724">
                  <a:moveTo>
                    <a:pt x="0" y="724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2971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48520" y="44197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 un plano y un punto, verificar si el punto pertenece al p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fr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de fu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s dos planos, determinar la recta que representa su interse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o un plano de orientación N30º E/60º E, determinar el manteo aparente según una línea de tierra de orientación Norte-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un depurado con línea de tierra de orientación Norte-Sur, se encuentra un plano con rumbo N75º W y manteo aparente 20º N. Determinar el manteo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echa de Entrega: Próximo Vier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6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4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7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8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 tiene su proyección vertical (PV) sobre LT y la proyección horizontal (PH)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 tiene sus 2 proyecciones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I tiene su PV bajo LT y su PH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V tiene sus 2 proyecciones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ubicado en uno de los planos de proyeccion tiene una de sus proyecciones (ya sea PV o PH) en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primer bisector tien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523880"/>
            <a:ext cx="784872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ara rotar la Línea de Tierra sólo se acepta giros del plano vertical o del plano horizontal. No se pueden girar ambos simultáne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’, a (las proyecciones horizont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523880"/>
            <a:ext cx="7848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’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’,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(las proyecciones vertic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1600200"/>
            <a:ext cx="403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2637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200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3645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que pase por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943600" y="3123720"/>
            <a:ext cx="83808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653000"/>
            <a:ext cx="3886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h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638680" y="2666880"/>
            <a:ext cx="838440" cy="978120"/>
            <a:chOff x="5638680" y="2666880"/>
            <a:chExt cx="838440" cy="978120"/>
          </a:xfrm>
        </p:grpSpPr>
        <p:sp>
          <p:nvSpPr>
            <p:cNvPr id="209" name=""/>
            <p:cNvSpPr/>
            <p:nvPr/>
          </p:nvSpPr>
          <p:spPr>
            <a:xfrm>
              <a:off x="5867280" y="3048120"/>
              <a:ext cx="15264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38680" y="2666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Daniel</cp:lastModifiedBy>
  <dcterms:modified xsi:type="dcterms:W3CDTF">2005-08-12T00:02:40Z</dcterms:modified>
  <cp:revision>25</cp:revision>
  <dc:subject/>
  <dc:title>Diapositiva 1</dc:title>
</cp:coreProperties>
</file>