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FA01-F865-4D40-9196-19EF7B44F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7439-EC3E-403E-A859-7B2D3C26F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9EA4-18F5-4695-8BF1-3ED246F5F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AC0F-FF4F-4A80-BC6F-7F938AD3F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3C6D72-E8CF-4E4F-8F56-052102805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230977-7104-48F2-9F01-A61FA8BD0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F204CA-A366-4001-A2A0-6CACF4D52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749682-8703-4AFD-B740-A406060B5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EEBFF2-7570-477A-988B-4C9085E3F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FA651B-3933-44BE-91B4-FF81910E0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D283E5-BA83-488A-9EC3-AA85DC1F9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4B64-5549-4A64-83A9-ED115D336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D210ED-2DFB-4359-8A0E-FD707EF4A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EE583C-658E-47D4-8750-C5E8D0BDD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21F534-29C9-4B1D-9CD8-8AAFB2A8D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B83FA3-4080-42C0-8BCE-C4E97C3E5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62809F-F6DC-4B67-A79B-9537005BA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321D-F68D-4538-97CF-431C2F9E8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FC6E-072C-48CA-B1BE-E9DC0D834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FFFE-2116-4A18-9F10-50DE9F87E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5FB9-B65B-4085-BA0B-B3413FCEA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B839-7FDE-49E4-9F80-1B191626F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78B9-742C-4136-9F31-0A150711F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3B04-538F-45EF-914F-1C77C5FDF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a7a491"/>
                </a:gs>
                <a:gs pos="100000">
                  <a:srgbClr val="004e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c4b42"/>
                </a:gs>
                <a:gs pos="100000">
                  <a:srgbClr val="a7a49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477781"/>
              </a:gs>
              <a:gs pos="100000">
                <a:srgbClr val="a7a491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7f867d"/>
                </a:gs>
                <a:gs pos="100000">
                  <a:srgbClr val="404b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04b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04b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04b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04b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04b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6e766b"/>
                </a:gs>
                <a:gs pos="100000">
                  <a:srgbClr val="404b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04b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04b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04b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04b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04b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04b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d0c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4E881-B65C-43B5-93FF-A5EF7CCC911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a7a491"/>
                </a:gs>
                <a:gs pos="100000">
                  <a:srgbClr val="004e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c4b42"/>
                </a:gs>
                <a:gs pos="100000">
                  <a:srgbClr val="a7a49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477781"/>
              </a:gs>
              <a:gs pos="100000">
                <a:srgbClr val="a7a491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7f867d"/>
                </a:gs>
                <a:gs pos="100000">
                  <a:srgbClr val="404b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04b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04b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04b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04b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04b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6e766b"/>
                </a:gs>
                <a:gs pos="100000">
                  <a:srgbClr val="404b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04b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04b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04b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04b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04b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04b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d0ca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58E86-B102-4867-8F21-F6E2681DCE4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d0ca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d0ca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184464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ccd0ca"/>
                </a:solidFill>
                <a:latin typeface="Arial"/>
              </a:rPr>
              <a:t>Estereometría</a:t>
            </a:r>
            <a:br>
              <a:rPr sz="5400"/>
            </a:br>
            <a:r>
              <a:rPr b="0" lang="es-ES_tradnl" sz="4000" spc="-1" strike="noStrike">
                <a:solidFill>
                  <a:srgbClr val="ccd0ca"/>
                </a:solidFill>
                <a:latin typeface="Arial"/>
              </a:rPr>
              <a:t>Geología Estructural</a:t>
            </a:r>
            <a:endParaRPr b="0" lang="en-US" sz="40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GL41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d0ca"/>
                </a:solidFill>
                <a:latin typeface="Arial"/>
              </a:rPr>
              <a:t>Estereometría: Cambio de LT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09480" y="152388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29200" y="1523880"/>
            <a:ext cx="3794040" cy="423396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685800" y="1600200"/>
            <a:ext cx="3809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Cambio de plano horizonta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781680" y="2743200"/>
            <a:ext cx="0" cy="15238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781680" y="304812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781680" y="373392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629400" y="426708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553080" y="236232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a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62120" y="2637000"/>
            <a:ext cx="38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Trazar nueva línea de tierra (L’T’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5562720" y="2057400"/>
            <a:ext cx="3047760" cy="2959200"/>
            <a:chOff x="5562720" y="2057400"/>
            <a:chExt cx="3047760" cy="2959200"/>
          </a:xfrm>
        </p:grpSpPr>
        <p:sp>
          <p:nvSpPr>
            <p:cNvPr id="223" name=""/>
            <p:cNvSpPr/>
            <p:nvPr/>
          </p:nvSpPr>
          <p:spPr>
            <a:xfrm flipV="1">
              <a:off x="5791320" y="2438280"/>
              <a:ext cx="2514600" cy="228600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562720" y="4648320"/>
              <a:ext cx="53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ff3300"/>
                  </a:solidFill>
                  <a:latin typeface="Tahoma"/>
                </a:rPr>
                <a:t>L’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153280" y="205740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ff3300"/>
                  </a:solidFill>
                  <a:latin typeface="Tahoma"/>
                </a:rPr>
                <a:t>T’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6" name=""/>
          <p:cNvSpPr/>
          <p:nvPr/>
        </p:nvSpPr>
        <p:spPr>
          <a:xfrm>
            <a:off x="685800" y="3457440"/>
            <a:ext cx="38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Trazar perpendicular a L’T’, que pase por a’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85800" y="4478400"/>
            <a:ext cx="38862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A una distancia d de L’T’ está ubicado a</a:t>
            </a:r>
            <a:r>
              <a:rPr b="0" lang="es-CL" sz="24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705720" y="2666880"/>
            <a:ext cx="152280" cy="15264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705720" y="4191120"/>
            <a:ext cx="152280" cy="152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781680" y="2743200"/>
            <a:ext cx="914400" cy="1066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7467480" y="3276720"/>
            <a:ext cx="685800" cy="862920"/>
            <a:chOff x="7467480" y="3276720"/>
            <a:chExt cx="685800" cy="862920"/>
          </a:xfrm>
        </p:grpSpPr>
        <p:sp>
          <p:nvSpPr>
            <p:cNvPr id="232" name=""/>
            <p:cNvSpPr/>
            <p:nvPr/>
          </p:nvSpPr>
          <p:spPr>
            <a:xfrm>
              <a:off x="7620120" y="3733920"/>
              <a:ext cx="152280" cy="15228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467480" y="327672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696080" y="3733920"/>
              <a:ext cx="457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s-CL" sz="1800" spc="-1" strike="noStrike" baseline="-25000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d0ca"/>
                </a:solidFill>
                <a:latin typeface="Arial"/>
              </a:rPr>
              <a:t>Ejemplos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Dibujar un punt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En el primer cuadran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En el cuarto cuadran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Dado un punto en el tercer cuadrante, rotar la línea de tierra horizontalmente 45º en sentido de los punteros del reloj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d0ca"/>
                </a:solidFill>
                <a:latin typeface="Arial"/>
              </a:rPr>
              <a:t>Estereometría: La Recta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108000" y="1484280"/>
            <a:ext cx="4846680" cy="469116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5148360" y="1700280"/>
            <a:ext cx="3794040" cy="423396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2771640" y="4292640"/>
            <a:ext cx="1224000" cy="115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773440" y="4294080"/>
            <a:ext cx="1150920" cy="1079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84360" y="2276640"/>
            <a:ext cx="1150920" cy="1079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340000" y="2428920"/>
            <a:ext cx="576360" cy="15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059280" y="4229280"/>
            <a:ext cx="576000" cy="151272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003400" y="1565280"/>
            <a:ext cx="192240" cy="50328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2195640" y="2421000"/>
            <a:ext cx="144360" cy="1512720"/>
          </a:xfrm>
          <a:prstGeom prst="line">
            <a:avLst/>
          </a:prstGeom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340000" y="3789360"/>
            <a:ext cx="576360" cy="144360"/>
          </a:xfrm>
          <a:prstGeom prst="line">
            <a:avLst/>
          </a:prstGeom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340000" y="2421000"/>
            <a:ext cx="0" cy="1368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2195640" y="3933720"/>
            <a:ext cx="7207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5653080" y="1699920"/>
            <a:ext cx="3022560" cy="3097440"/>
            <a:chOff x="5653080" y="1699920"/>
            <a:chExt cx="3022560" cy="3097440"/>
          </a:xfrm>
        </p:grpSpPr>
        <p:sp>
          <p:nvSpPr>
            <p:cNvPr id="251" name=""/>
            <p:cNvSpPr/>
            <p:nvPr/>
          </p:nvSpPr>
          <p:spPr>
            <a:xfrm flipV="1">
              <a:off x="7524720" y="1699920"/>
              <a:ext cx="863640" cy="793800"/>
            </a:xfrm>
            <a:prstGeom prst="line">
              <a:avLst/>
            </a:prstGeom>
            <a:ln w="9360">
              <a:solidFill>
                <a:srgbClr val="33cc33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 flipV="1">
              <a:off x="6084720" y="3860640"/>
              <a:ext cx="1440000" cy="720720"/>
            </a:xfrm>
            <a:prstGeom prst="line">
              <a:avLst/>
            </a:prstGeom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 flipV="1">
              <a:off x="5724360" y="3860280"/>
              <a:ext cx="360360" cy="360360"/>
            </a:xfrm>
            <a:prstGeom prst="line">
              <a:avLst/>
            </a:prstGeom>
            <a:ln w="9360">
              <a:solidFill>
                <a:srgbClr val="33cc33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 flipV="1">
              <a:off x="5653080" y="4076640"/>
              <a:ext cx="1440000" cy="720720"/>
            </a:xfrm>
            <a:prstGeom prst="line">
              <a:avLst/>
            </a:prstGeom>
            <a:ln w="9360">
              <a:solidFill>
                <a:srgbClr val="33cc33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 flipV="1">
              <a:off x="7236000" y="3284640"/>
              <a:ext cx="1439640" cy="720720"/>
            </a:xfrm>
            <a:prstGeom prst="line">
              <a:avLst/>
            </a:prstGeom>
            <a:ln w="9360">
              <a:solidFill>
                <a:srgbClr val="33cc33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6" name=""/>
          <p:cNvSpPr/>
          <p:nvPr/>
        </p:nvSpPr>
        <p:spPr>
          <a:xfrm>
            <a:off x="2265480" y="213372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910960" y="371016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6084720" y="2491920"/>
            <a:ext cx="1440000" cy="1368360"/>
          </a:xfrm>
          <a:prstGeom prst="line">
            <a:avLst/>
          </a:prstGeom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5868000" y="3494160"/>
            <a:ext cx="388440" cy="1455480"/>
            <a:chOff x="5868000" y="3494160"/>
            <a:chExt cx="388440" cy="1455480"/>
          </a:xfrm>
        </p:grpSpPr>
        <p:sp>
          <p:nvSpPr>
            <p:cNvPr id="260" name=""/>
            <p:cNvSpPr/>
            <p:nvPr/>
          </p:nvSpPr>
          <p:spPr>
            <a:xfrm>
              <a:off x="6084720" y="3860640"/>
              <a:ext cx="0" cy="7207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868000" y="3494160"/>
              <a:ext cx="36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’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935680" y="458136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7382160" y="2133720"/>
            <a:ext cx="376560" cy="2023920"/>
            <a:chOff x="7382160" y="2133720"/>
            <a:chExt cx="376560" cy="2023920"/>
          </a:xfrm>
        </p:grpSpPr>
        <p:sp>
          <p:nvSpPr>
            <p:cNvPr id="264" name=""/>
            <p:cNvSpPr/>
            <p:nvPr/>
          </p:nvSpPr>
          <p:spPr>
            <a:xfrm>
              <a:off x="7524720" y="2492280"/>
              <a:ext cx="0" cy="136836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382160" y="2133720"/>
              <a:ext cx="34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’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449840" y="3789360"/>
              <a:ext cx="30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7" name=""/>
          <p:cNvSpPr/>
          <p:nvPr/>
        </p:nvSpPr>
        <p:spPr>
          <a:xfrm flipV="1">
            <a:off x="2484360" y="3499920"/>
            <a:ext cx="503280" cy="2890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6372000" y="4076640"/>
            <a:ext cx="431640" cy="214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H="1" rot="19480800">
            <a:off x="6935400" y="3404160"/>
            <a:ext cx="577080" cy="1123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975" y="5102"/>
                </a:moveTo>
                <a:arcTo wR="10800" hR="10800" stAng="-1910423" swAng="1910393"/>
                <a:lnTo>
                  <a:pt x="10800" y="10800"/>
                </a:lnTo>
                <a:close/>
              </a:path>
              <a:path fill="none" w="21600" h="21600">
                <a:moveTo>
                  <a:pt x="19975" y="5102"/>
                </a:moveTo>
                <a:arcTo wR="10800" hR="10800" stAng="-1910423" swAng="1910393"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2122920" y="3428640"/>
            <a:ext cx="431280" cy="430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2547826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2547826"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500"/>
                            </p:stCondLst>
                            <p:childTnLst>
                              <p:par>
                                <p:cTn id="1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d0ca"/>
                </a:solidFill>
                <a:latin typeface="Arial"/>
              </a:rPr>
              <a:t>Estereometría: La Recta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4625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gnos convenciona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ta vi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ta invi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ínea de referenc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ta Auxili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za Plano Auxili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5292720" y="2276640"/>
            <a:ext cx="2808360" cy="287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5292720" y="2781360"/>
            <a:ext cx="2808360" cy="287280"/>
          </a:xfrm>
          <a:prstGeom prst="line">
            <a:avLst/>
          </a:prstGeom>
          <a:ln w="381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5292720" y="3284640"/>
            <a:ext cx="2808360" cy="287280"/>
          </a:xfrm>
          <a:prstGeom prst="line">
            <a:avLst/>
          </a:prstGeom>
          <a:ln cap="rnd" w="381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292720" y="3789360"/>
            <a:ext cx="2808360" cy="287280"/>
          </a:xfrm>
          <a:prstGeom prst="line">
            <a:avLst/>
          </a:prstGeom>
          <a:ln w="3816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5292720" y="4292640"/>
            <a:ext cx="2808360" cy="287280"/>
          </a:xfrm>
          <a:prstGeom prst="line">
            <a:avLst/>
          </a:prstGeom>
          <a:ln w="38160">
            <a:solidFill>
              <a:srgbClr val="ffff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-131400" y="5516640"/>
            <a:ext cx="941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 mejor es usar colores para rectas y planos Auxilia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d0ca"/>
                </a:solidFill>
                <a:latin typeface="Arial"/>
              </a:rPr>
              <a:t>Estereometría: La Recta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1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tas especi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ta Horizontal: recta contenida en un plano horizo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ta frontal: Recta contenida en un plano fro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4478760" y="2637000"/>
            <a:ext cx="3985200" cy="382320"/>
            <a:chOff x="4478760" y="2637000"/>
            <a:chExt cx="3985200" cy="382320"/>
          </a:xfrm>
        </p:grpSpPr>
        <p:sp>
          <p:nvSpPr>
            <p:cNvPr id="282" name=""/>
            <p:cNvSpPr/>
            <p:nvPr/>
          </p:nvSpPr>
          <p:spPr>
            <a:xfrm>
              <a:off x="4788000" y="2852640"/>
              <a:ext cx="3313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478760" y="265104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8156880" y="26370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5" name=""/>
          <p:cNvSpPr/>
          <p:nvPr/>
        </p:nvSpPr>
        <p:spPr>
          <a:xfrm>
            <a:off x="5076720" y="2133720"/>
            <a:ext cx="2590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076720" y="2852640"/>
            <a:ext cx="2590920" cy="72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076720" y="2133720"/>
            <a:ext cx="0" cy="71892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7667640" y="2133360"/>
            <a:ext cx="0" cy="143964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4499280" y="4581360"/>
            <a:ext cx="3985200" cy="382320"/>
            <a:chOff x="4499280" y="4581360"/>
            <a:chExt cx="3985200" cy="382320"/>
          </a:xfrm>
        </p:grpSpPr>
        <p:sp>
          <p:nvSpPr>
            <p:cNvPr id="290" name=""/>
            <p:cNvSpPr/>
            <p:nvPr/>
          </p:nvSpPr>
          <p:spPr>
            <a:xfrm>
              <a:off x="4808520" y="4797000"/>
              <a:ext cx="3312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499280" y="459540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8177400" y="45813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3" name=""/>
          <p:cNvSpPr/>
          <p:nvPr/>
        </p:nvSpPr>
        <p:spPr>
          <a:xfrm flipH="1">
            <a:off x="5146200" y="5518080"/>
            <a:ext cx="2590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H="1" flipV="1">
            <a:off x="5146200" y="4078440"/>
            <a:ext cx="2590920" cy="72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7738920" y="4797360"/>
            <a:ext cx="0" cy="71928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146560" y="4076640"/>
            <a:ext cx="0" cy="144000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913640" y="178740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574760" y="1716120"/>
            <a:ext cx="3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857480" y="285264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715160" y="34434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986720" y="366084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7666920" y="4437000"/>
            <a:ext cx="3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982760" y="553248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712280" y="55166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d0ca"/>
                </a:solidFill>
                <a:latin typeface="Arial"/>
              </a:rPr>
              <a:t>Estereometría: La Recta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187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tas Especi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 fuga o de punta: Perpendicular al P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rtical: Perpendicular al 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alela a LT: Es una recta cuyas proyecciones horizontal y vertical son paralelas a 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4426200" y="3716280"/>
            <a:ext cx="3985200" cy="382320"/>
            <a:chOff x="4426200" y="3716280"/>
            <a:chExt cx="3985200" cy="382320"/>
          </a:xfrm>
        </p:grpSpPr>
        <p:sp>
          <p:nvSpPr>
            <p:cNvPr id="308" name=""/>
            <p:cNvSpPr/>
            <p:nvPr/>
          </p:nvSpPr>
          <p:spPr>
            <a:xfrm>
              <a:off x="4735440" y="3931920"/>
              <a:ext cx="3312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426200" y="373032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8104320" y="3716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4499280" y="5711760"/>
            <a:ext cx="3985200" cy="382320"/>
            <a:chOff x="4499280" y="5711760"/>
            <a:chExt cx="3985200" cy="382320"/>
          </a:xfrm>
        </p:grpSpPr>
        <p:sp>
          <p:nvSpPr>
            <p:cNvPr id="312" name=""/>
            <p:cNvSpPr/>
            <p:nvPr/>
          </p:nvSpPr>
          <p:spPr>
            <a:xfrm>
              <a:off x="4808520" y="5927400"/>
              <a:ext cx="3312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499280" y="572580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8177400" y="57117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4426200" y="2276640"/>
            <a:ext cx="3985200" cy="382320"/>
            <a:chOff x="4426200" y="2276640"/>
            <a:chExt cx="3985200" cy="382320"/>
          </a:xfrm>
        </p:grpSpPr>
        <p:sp>
          <p:nvSpPr>
            <p:cNvPr id="316" name=""/>
            <p:cNvSpPr/>
            <p:nvPr/>
          </p:nvSpPr>
          <p:spPr>
            <a:xfrm>
              <a:off x="4735440" y="2492280"/>
              <a:ext cx="3312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426200" y="229068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8104320" y="22766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5219640" y="1125360"/>
            <a:ext cx="668520" cy="2449800"/>
            <a:chOff x="5219640" y="1125360"/>
            <a:chExt cx="668520" cy="2449800"/>
          </a:xfrm>
        </p:grpSpPr>
        <p:sp>
          <p:nvSpPr>
            <p:cNvPr id="320" name=""/>
            <p:cNvSpPr/>
            <p:nvPr/>
          </p:nvSpPr>
          <p:spPr>
            <a:xfrm>
              <a:off x="5364000" y="2492280"/>
              <a:ext cx="0" cy="936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433840" y="2637000"/>
              <a:ext cx="30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411880" y="320688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292720" y="2781360"/>
              <a:ext cx="144360" cy="14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292720" y="3357720"/>
              <a:ext cx="144360" cy="14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364000" y="1557360"/>
              <a:ext cx="0" cy="936720"/>
            </a:xfrm>
            <a:prstGeom prst="line">
              <a:avLst/>
            </a:prstGeom>
            <a:ln w="3816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292720" y="14842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219640" y="1125360"/>
              <a:ext cx="668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a’, b’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8" name=""/>
          <p:cNvSpPr/>
          <p:nvPr/>
        </p:nvSpPr>
        <p:spPr>
          <a:xfrm>
            <a:off x="7094880" y="342900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092000" y="2852640"/>
            <a:ext cx="3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6949800" y="2995200"/>
            <a:ext cx="144360" cy="2017800"/>
            <a:chOff x="6949800" y="2995200"/>
            <a:chExt cx="144360" cy="2017800"/>
          </a:xfrm>
        </p:grpSpPr>
        <p:sp>
          <p:nvSpPr>
            <p:cNvPr id="331" name=""/>
            <p:cNvSpPr/>
            <p:nvPr/>
          </p:nvSpPr>
          <p:spPr>
            <a:xfrm flipV="1">
              <a:off x="7022880" y="3068280"/>
              <a:ext cx="0" cy="936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 rot="10800000">
              <a:off x="6949800" y="3571560"/>
              <a:ext cx="144360" cy="14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 rot="10800000">
              <a:off x="6949800" y="2995200"/>
              <a:ext cx="144360" cy="14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7022880" y="4003200"/>
              <a:ext cx="0" cy="936720"/>
            </a:xfrm>
            <a:prstGeom prst="line">
              <a:avLst/>
            </a:prstGeom>
            <a:ln w="3816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 rot="10800000">
              <a:off x="6949800" y="4868640"/>
              <a:ext cx="144360" cy="14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6" name=""/>
          <p:cNvSpPr/>
          <p:nvPr/>
        </p:nvSpPr>
        <p:spPr>
          <a:xfrm>
            <a:off x="6424560" y="4718160"/>
            <a:ext cx="66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, 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148360" y="5516640"/>
            <a:ext cx="2448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148360" y="6308640"/>
            <a:ext cx="2448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148360" y="5516640"/>
            <a:ext cx="0" cy="79200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7596360" y="5516640"/>
            <a:ext cx="0" cy="79200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5005440" y="514980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450920" y="5157720"/>
            <a:ext cx="3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453440" y="6308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001840" y="630252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d0ca"/>
                </a:solidFill>
                <a:latin typeface="Arial"/>
              </a:rPr>
              <a:t>Estereometría: La Recta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1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tas Especi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ta que corta a 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ta de Perfil: Recta perpendicular a 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4694760" y="2852640"/>
            <a:ext cx="3985200" cy="382320"/>
            <a:chOff x="4694760" y="2852640"/>
            <a:chExt cx="3985200" cy="382320"/>
          </a:xfrm>
        </p:grpSpPr>
        <p:sp>
          <p:nvSpPr>
            <p:cNvPr id="348" name=""/>
            <p:cNvSpPr/>
            <p:nvPr/>
          </p:nvSpPr>
          <p:spPr>
            <a:xfrm>
              <a:off x="5004000" y="3068280"/>
              <a:ext cx="3313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694760" y="286668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8372880" y="28526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1" name=""/>
          <p:cNvSpPr/>
          <p:nvPr/>
        </p:nvSpPr>
        <p:spPr>
          <a:xfrm flipV="1">
            <a:off x="5292720" y="2349360"/>
            <a:ext cx="2590920" cy="719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292720" y="3068640"/>
            <a:ext cx="2590920" cy="72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flipV="1">
            <a:off x="7883640" y="2349360"/>
            <a:ext cx="0" cy="144000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078520" y="263700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7790760" y="1932120"/>
            <a:ext cx="3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073480" y="306864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7931160" y="36590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 flipH="1" flipV="1">
            <a:off x="4500720" y="2852640"/>
            <a:ext cx="790560" cy="216000"/>
          </a:xfrm>
          <a:prstGeom prst="line">
            <a:avLst/>
          </a:prstGeom>
          <a:ln w="381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4789440" y="2997000"/>
            <a:ext cx="790560" cy="215640"/>
          </a:xfrm>
          <a:prstGeom prst="line">
            <a:avLst/>
          </a:prstGeom>
          <a:ln w="381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d0ca"/>
                </a:solidFill>
                <a:latin typeface="Arial"/>
              </a:rPr>
              <a:t>Estereometría: La Recta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4535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cept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zamiento (proyección horizontal paralela a L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mbo (C/R a L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5118480" y="2565360"/>
            <a:ext cx="3985200" cy="382320"/>
            <a:chOff x="5118480" y="2565360"/>
            <a:chExt cx="3985200" cy="382320"/>
          </a:xfrm>
        </p:grpSpPr>
        <p:sp>
          <p:nvSpPr>
            <p:cNvPr id="363" name=""/>
            <p:cNvSpPr/>
            <p:nvPr/>
          </p:nvSpPr>
          <p:spPr>
            <a:xfrm>
              <a:off x="5427720" y="2781000"/>
              <a:ext cx="3313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118480" y="257940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8796600" y="25653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6" name=""/>
          <p:cNvSpPr/>
          <p:nvPr/>
        </p:nvSpPr>
        <p:spPr>
          <a:xfrm flipH="1">
            <a:off x="5765400" y="3502080"/>
            <a:ext cx="2590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flipH="1" flipV="1">
            <a:off x="5765400" y="2062080"/>
            <a:ext cx="2590920" cy="72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 flipV="1">
            <a:off x="8358120" y="2781000"/>
            <a:ext cx="0" cy="71892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5765760" y="2059920"/>
            <a:ext cx="0" cy="143964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605560" y="164448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8285760" y="2421000"/>
            <a:ext cx="3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601960" y="351648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8331120" y="35002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 flipV="1" rot="10800000">
            <a:off x="7064280" y="2491560"/>
            <a:ext cx="577440" cy="577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7189920" y="241776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6" name=""/>
          <p:cNvGrpSpPr/>
          <p:nvPr/>
        </p:nvGrpSpPr>
        <p:grpSpPr>
          <a:xfrm>
            <a:off x="5075640" y="5372280"/>
            <a:ext cx="3985200" cy="382320"/>
            <a:chOff x="5075640" y="5372280"/>
            <a:chExt cx="3985200" cy="382320"/>
          </a:xfrm>
        </p:grpSpPr>
        <p:sp>
          <p:nvSpPr>
            <p:cNvPr id="377" name=""/>
            <p:cNvSpPr/>
            <p:nvPr/>
          </p:nvSpPr>
          <p:spPr>
            <a:xfrm>
              <a:off x="5384880" y="5587920"/>
              <a:ext cx="3313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075640" y="538632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8753760" y="5372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0" name=""/>
          <p:cNvSpPr/>
          <p:nvPr/>
        </p:nvSpPr>
        <p:spPr>
          <a:xfrm>
            <a:off x="5651640" y="4508640"/>
            <a:ext cx="2592360" cy="1008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651640" y="4508640"/>
            <a:ext cx="21960" cy="107928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 flipH="1" flipV="1">
            <a:off x="8243640" y="5589360"/>
            <a:ext cx="20520" cy="71892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454360" y="558792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8312400" y="61786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673600" y="5589720"/>
            <a:ext cx="2590920" cy="72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 flipV="1">
            <a:off x="6393600" y="5300280"/>
            <a:ext cx="576720" cy="57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612120" y="550692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d0ca"/>
                </a:solidFill>
                <a:latin typeface="Arial"/>
              </a:rPr>
              <a:t>Estereometría: Cambio de LT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09480" y="152388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1"/>
          <a:stretch/>
        </p:blipFill>
        <p:spPr>
          <a:xfrm>
            <a:off x="5029200" y="1523880"/>
            <a:ext cx="3794040" cy="423396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/>
          <p:nvPr/>
        </p:nvSpPr>
        <p:spPr>
          <a:xfrm>
            <a:off x="685800" y="1600200"/>
            <a:ext cx="3809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Cambio de plano vertica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62120" y="2619360"/>
            <a:ext cx="38862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Trazar nueva línea de tierra (L</a:t>
            </a:r>
            <a:r>
              <a:rPr b="0" lang="es-CL" sz="24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0" lang="es-CL" sz="24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5562720" y="2057400"/>
            <a:ext cx="3047760" cy="2996640"/>
            <a:chOff x="5562720" y="2057400"/>
            <a:chExt cx="3047760" cy="2996640"/>
          </a:xfrm>
        </p:grpSpPr>
        <p:sp>
          <p:nvSpPr>
            <p:cNvPr id="394" name=""/>
            <p:cNvSpPr/>
            <p:nvPr/>
          </p:nvSpPr>
          <p:spPr>
            <a:xfrm flipV="1">
              <a:off x="5791320" y="2438280"/>
              <a:ext cx="2514600" cy="228600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62720" y="4648320"/>
              <a:ext cx="533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ff3300"/>
                  </a:solidFill>
                  <a:latin typeface="Tahoma"/>
                </a:rPr>
                <a:t>L</a:t>
              </a:r>
              <a:r>
                <a:rPr b="0" lang="es-CL" sz="1800" spc="-1" strike="noStrike" baseline="-25000">
                  <a:solidFill>
                    <a:srgbClr val="ff3300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8153280" y="2057400"/>
              <a:ext cx="457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ff3300"/>
                  </a:solidFill>
                  <a:latin typeface="Tahoma"/>
                </a:rPr>
                <a:t>T</a:t>
              </a:r>
              <a:r>
                <a:rPr b="0" lang="es-CL" sz="1800" spc="-1" strike="noStrike" baseline="-25000">
                  <a:solidFill>
                    <a:srgbClr val="ff3300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7" name=""/>
          <p:cNvSpPr/>
          <p:nvPr/>
        </p:nvSpPr>
        <p:spPr>
          <a:xfrm>
            <a:off x="685800" y="3513240"/>
            <a:ext cx="38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Determinar los nuevos puntos extremos de la rec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85800" y="470052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Dibujar la nueva rec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6172200" y="2895120"/>
            <a:ext cx="1828800" cy="76212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8001000" y="2895480"/>
            <a:ext cx="0" cy="7621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6172200" y="3657600"/>
            <a:ext cx="1828800" cy="914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 flipV="1">
            <a:off x="6172200" y="3657600"/>
            <a:ext cx="0" cy="9144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5943600" y="32767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a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7924680" y="365760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8001000" y="26668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b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5943600" y="44956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058080" y="2514600"/>
            <a:ext cx="1028520" cy="1967040"/>
          </a:xfrm>
          <a:custGeom>
            <a:avLst/>
            <a:gdLst/>
            <a:ahLst/>
            <a:rect l="l" t="t" r="r" b="b"/>
            <a:pathLst>
              <a:path w="648" h="1239">
                <a:moveTo>
                  <a:pt x="0" y="1239"/>
                </a:moveTo>
                <a:lnTo>
                  <a:pt x="648" y="0"/>
                </a:lnTo>
              </a:path>
            </a:pathLst>
          </a:custGeom>
          <a:noFill/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8" name=""/>
          <p:cNvGrpSpPr/>
          <p:nvPr/>
        </p:nvGrpSpPr>
        <p:grpSpPr>
          <a:xfrm>
            <a:off x="5638680" y="2133720"/>
            <a:ext cx="2362320" cy="2463120"/>
            <a:chOff x="5638680" y="2133720"/>
            <a:chExt cx="2362320" cy="2463120"/>
          </a:xfrm>
        </p:grpSpPr>
        <p:sp>
          <p:nvSpPr>
            <p:cNvPr id="409" name=""/>
            <p:cNvSpPr/>
            <p:nvPr/>
          </p:nvSpPr>
          <p:spPr>
            <a:xfrm>
              <a:off x="6070680" y="4468680"/>
              <a:ext cx="101520" cy="103320"/>
            </a:xfrm>
            <a:custGeom>
              <a:avLst/>
              <a:gdLst/>
              <a:ahLst/>
              <a:rect l="l" t="t" r="r" b="b"/>
              <a:pathLst>
                <a:path w="64" h="65">
                  <a:moveTo>
                    <a:pt x="64" y="65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 flipH="1" flipV="1">
              <a:off x="7086600" y="2514240"/>
              <a:ext cx="914400" cy="11430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934320" y="2133720"/>
              <a:ext cx="457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r>
                <a:rPr b="0" lang="es-CL" sz="1800" spc="-1" strike="noStrike" baseline="-25000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s-CL" sz="1800" spc="-1" strike="noStrike">
                  <a:solidFill>
                    <a:srgbClr val="000000"/>
                  </a:solidFill>
                  <a:latin typeface="Tahoma"/>
                </a:rPr>
                <a:t>’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638680" y="4191120"/>
              <a:ext cx="457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s-CL" sz="1800" spc="-1" strike="noStrike" baseline="-25000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s-CL" sz="1800" spc="-1" strike="noStrike">
                  <a:solidFill>
                    <a:srgbClr val="000000"/>
                  </a:solidFill>
                  <a:latin typeface="Tahoma"/>
                </a:rPr>
                <a:t>’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d0ca"/>
                </a:solidFill>
                <a:latin typeface="Arial"/>
              </a:rPr>
              <a:t>Estereometría: Cambio de LT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09480" y="152388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5029200" y="1523880"/>
            <a:ext cx="3794040" cy="423396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/>
          <p:nvPr/>
        </p:nvSpPr>
        <p:spPr>
          <a:xfrm>
            <a:off x="685800" y="1600200"/>
            <a:ext cx="3809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Cambio de plano horizonta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762120" y="2619360"/>
            <a:ext cx="38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Trazar nueva línea de tierra (L’T’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8" name=""/>
          <p:cNvGrpSpPr/>
          <p:nvPr/>
        </p:nvGrpSpPr>
        <p:grpSpPr>
          <a:xfrm>
            <a:off x="5562720" y="2514600"/>
            <a:ext cx="3352680" cy="2539440"/>
            <a:chOff x="5562720" y="2514600"/>
            <a:chExt cx="3352680" cy="2539440"/>
          </a:xfrm>
        </p:grpSpPr>
        <p:sp>
          <p:nvSpPr>
            <p:cNvPr id="419" name=""/>
            <p:cNvSpPr/>
            <p:nvPr/>
          </p:nvSpPr>
          <p:spPr>
            <a:xfrm flipV="1">
              <a:off x="5791320" y="2895480"/>
              <a:ext cx="2743200" cy="182880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562720" y="4648320"/>
              <a:ext cx="533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ff3300"/>
                  </a:solidFill>
                  <a:latin typeface="Tahoma"/>
                </a:rPr>
                <a:t>L</a:t>
              </a:r>
              <a:r>
                <a:rPr b="0" lang="es-CL" sz="1800" spc="-1" strike="noStrike" baseline="-25000">
                  <a:solidFill>
                    <a:srgbClr val="ff3300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8458200" y="2514600"/>
              <a:ext cx="457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ff3300"/>
                  </a:solidFill>
                  <a:latin typeface="Tahoma"/>
                </a:rPr>
                <a:t>T</a:t>
              </a:r>
              <a:r>
                <a:rPr b="0" lang="es-CL" sz="1800" spc="-1" strike="noStrike" baseline="-25000">
                  <a:solidFill>
                    <a:srgbClr val="ff3300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2" name=""/>
          <p:cNvSpPr/>
          <p:nvPr/>
        </p:nvSpPr>
        <p:spPr>
          <a:xfrm>
            <a:off x="685800" y="3513240"/>
            <a:ext cx="38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Determinar los nuevos puntos extremos de la rec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85800" y="470052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Dibujar la nueva rec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V="1">
            <a:off x="6172200" y="2895120"/>
            <a:ext cx="1828800" cy="76212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8001000" y="2895480"/>
            <a:ext cx="0" cy="7621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6172200" y="3657600"/>
            <a:ext cx="1828800" cy="914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 flipV="1">
            <a:off x="6172200" y="3657600"/>
            <a:ext cx="0" cy="9144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943600" y="32767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a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7924680" y="365760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8001000" y="26668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b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5943600" y="44956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2" name=""/>
          <p:cNvGrpSpPr/>
          <p:nvPr/>
        </p:nvGrpSpPr>
        <p:grpSpPr>
          <a:xfrm>
            <a:off x="6172200" y="2895480"/>
            <a:ext cx="2438280" cy="2310840"/>
            <a:chOff x="6172200" y="2895480"/>
            <a:chExt cx="2438280" cy="2310840"/>
          </a:xfrm>
        </p:grpSpPr>
        <p:grpSp>
          <p:nvGrpSpPr>
            <p:cNvPr id="433" name=""/>
            <p:cNvGrpSpPr/>
            <p:nvPr/>
          </p:nvGrpSpPr>
          <p:grpSpPr>
            <a:xfrm>
              <a:off x="6172200" y="3124080"/>
              <a:ext cx="2438280" cy="2082240"/>
              <a:chOff x="6172200" y="3124080"/>
              <a:chExt cx="2438280" cy="2082240"/>
            </a:xfrm>
          </p:grpSpPr>
          <p:sp>
            <p:nvSpPr>
              <p:cNvPr id="434" name=""/>
              <p:cNvSpPr/>
              <p:nvPr/>
            </p:nvSpPr>
            <p:spPr>
              <a:xfrm flipH="1" flipV="1">
                <a:off x="6172200" y="3657240"/>
                <a:ext cx="838080" cy="121932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8153280" y="3124080"/>
                <a:ext cx="4572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8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r>
                  <a:rPr b="0" lang="es-CL" sz="1800" spc="-1" strike="noStrike" baseline="-25000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705720" y="4800600"/>
                <a:ext cx="4572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8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r>
                  <a:rPr b="0" lang="es-CL" sz="1800" spc="-1" strike="noStrike" baseline="-25000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37" name=""/>
            <p:cNvSpPr/>
            <p:nvPr/>
          </p:nvSpPr>
          <p:spPr>
            <a:xfrm>
              <a:off x="8001000" y="2895480"/>
              <a:ext cx="149400" cy="255600"/>
            </a:xfrm>
            <a:custGeom>
              <a:avLst/>
              <a:gdLst/>
              <a:ahLst/>
              <a:rect l="l" t="t" r="r" b="b"/>
              <a:pathLst>
                <a:path w="94" h="161">
                  <a:moveTo>
                    <a:pt x="0" y="0"/>
                  </a:moveTo>
                  <a:lnTo>
                    <a:pt x="94" y="161"/>
                  </a:lnTo>
                </a:path>
              </a:pathLst>
            </a:cu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8" name=""/>
          <p:cNvSpPr/>
          <p:nvPr/>
        </p:nvSpPr>
        <p:spPr>
          <a:xfrm>
            <a:off x="7010280" y="3164040"/>
            <a:ext cx="1152720" cy="1712880"/>
          </a:xfrm>
          <a:custGeom>
            <a:avLst/>
            <a:gdLst/>
            <a:ahLst/>
            <a:rect l="l" t="t" r="r" b="b"/>
            <a:pathLst>
              <a:path w="726" h="1079">
                <a:moveTo>
                  <a:pt x="726" y="0"/>
                </a:moveTo>
                <a:lnTo>
                  <a:pt x="0" y="1079"/>
                </a:lnTo>
              </a:path>
            </a:pathLst>
          </a:custGeom>
          <a:noFill/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d0ca"/>
                </a:solidFill>
                <a:latin typeface="Arial"/>
              </a:rPr>
              <a:t>Referencias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Rosenmann, R., Geometría Descriptiva (para estudiantes de Geología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d0ca"/>
                </a:solidFill>
                <a:latin typeface="Arial"/>
              </a:rPr>
              <a:t>Ejemplos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47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ada una recta AB y un punto C fuera de ella, trazar una recta horizontal que pase por C y que intersecte a la rec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Dada dos rectas AB y CD que se cruzan determinar una recta horizontal de cota Z que intersecte a ambas rectas dad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Determinar la longitud de una rec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d0ca"/>
                </a:solidFill>
                <a:latin typeface="Arial"/>
              </a:rPr>
              <a:t>Ejemplos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47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zando una línea de tierra de orientación norte-sur, dibujar en el depurado una recta cuyo rumbo es N45º E y su buzamiento, 30º SW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Dada una recta y un punto, verificar si el punto pertenece o no a la rec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d0ca"/>
                </a:solidFill>
                <a:latin typeface="Arial"/>
              </a:rPr>
              <a:t>Estereometría: El Plano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d0ca"/>
                </a:solidFill>
                <a:latin typeface="Arial"/>
              </a:rPr>
              <a:t>Estereometría: La Recta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1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2 rect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ueden ser paralelas, cortarse o no intersectar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i se cortan tienen un punto que está en la misma línea de referenc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6" name="" descr=""/>
          <p:cNvPicPr/>
          <p:nvPr/>
        </p:nvPicPr>
        <p:blipFill>
          <a:blip r:embed="rId1"/>
          <a:stretch/>
        </p:blipFill>
        <p:spPr>
          <a:xfrm>
            <a:off x="4356000" y="1600200"/>
            <a:ext cx="4608720" cy="4462560"/>
          </a:xfrm>
          <a:prstGeom prst="rect">
            <a:avLst/>
          </a:prstGeom>
          <a:ln w="0">
            <a:noFill/>
          </a:ln>
        </p:spPr>
      </p:pic>
      <p:grpSp>
        <p:nvGrpSpPr>
          <p:cNvPr id="447" name=""/>
          <p:cNvGrpSpPr/>
          <p:nvPr/>
        </p:nvGrpSpPr>
        <p:grpSpPr>
          <a:xfrm>
            <a:off x="6174720" y="2430360"/>
            <a:ext cx="1930680" cy="1720800"/>
            <a:chOff x="6174720" y="2430360"/>
            <a:chExt cx="1930680" cy="1720800"/>
          </a:xfrm>
        </p:grpSpPr>
        <p:grpSp>
          <p:nvGrpSpPr>
            <p:cNvPr id="448" name=""/>
            <p:cNvGrpSpPr/>
            <p:nvPr/>
          </p:nvGrpSpPr>
          <p:grpSpPr>
            <a:xfrm>
              <a:off x="6248160" y="2774880"/>
              <a:ext cx="1584360" cy="1297080"/>
              <a:chOff x="6248160" y="2774880"/>
              <a:chExt cx="1584360" cy="1297080"/>
            </a:xfrm>
          </p:grpSpPr>
          <p:sp>
            <p:nvSpPr>
              <p:cNvPr id="449" name=""/>
              <p:cNvSpPr/>
              <p:nvPr/>
            </p:nvSpPr>
            <p:spPr>
              <a:xfrm flipV="1">
                <a:off x="6537240" y="2774880"/>
                <a:ext cx="0" cy="100800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 flipV="1">
                <a:off x="6392880" y="3495240"/>
                <a:ext cx="0" cy="43164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6248160" y="4071960"/>
                <a:ext cx="13687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6680160" y="3639960"/>
                <a:ext cx="115236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53" name=""/>
            <p:cNvGrpSpPr/>
            <p:nvPr/>
          </p:nvGrpSpPr>
          <p:grpSpPr>
            <a:xfrm>
              <a:off x="6174720" y="2430360"/>
              <a:ext cx="1930680" cy="1720800"/>
              <a:chOff x="6174720" y="2430360"/>
              <a:chExt cx="1930680" cy="1720800"/>
            </a:xfrm>
          </p:grpSpPr>
          <p:sp>
            <p:nvSpPr>
              <p:cNvPr id="454" name=""/>
              <p:cNvSpPr/>
              <p:nvPr/>
            </p:nvSpPr>
            <p:spPr>
              <a:xfrm>
                <a:off x="6537240" y="2774880"/>
                <a:ext cx="1079640" cy="1297080"/>
              </a:xfrm>
              <a:prstGeom prst="line">
                <a:avLst/>
              </a:prstGeom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6392880" y="3495600"/>
                <a:ext cx="1439640" cy="1443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6389640" y="2430360"/>
                <a:ext cx="326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7611480" y="3782880"/>
                <a:ext cx="330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6174720" y="3135240"/>
                <a:ext cx="325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7756920" y="3416400"/>
                <a:ext cx="348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pic>
        <p:nvPicPr>
          <p:cNvPr id="460" name="" descr=""/>
          <p:cNvPicPr/>
          <p:nvPr/>
        </p:nvPicPr>
        <p:blipFill>
          <a:blip r:embed="rId2"/>
          <a:stretch/>
        </p:blipFill>
        <p:spPr>
          <a:xfrm>
            <a:off x="4356000" y="1557360"/>
            <a:ext cx="4581720" cy="5111640"/>
          </a:xfrm>
          <a:prstGeom prst="rect">
            <a:avLst/>
          </a:prstGeom>
          <a:ln w="0">
            <a:noFill/>
          </a:ln>
        </p:spPr>
      </p:pic>
      <p:grpSp>
        <p:nvGrpSpPr>
          <p:cNvPr id="461" name=""/>
          <p:cNvGrpSpPr/>
          <p:nvPr/>
        </p:nvGrpSpPr>
        <p:grpSpPr>
          <a:xfrm>
            <a:off x="5219640" y="2205000"/>
            <a:ext cx="3097440" cy="3095640"/>
            <a:chOff x="5219640" y="2205000"/>
            <a:chExt cx="3097440" cy="3095640"/>
          </a:xfrm>
        </p:grpSpPr>
        <p:sp>
          <p:nvSpPr>
            <p:cNvPr id="462" name=""/>
            <p:cNvSpPr/>
            <p:nvPr/>
          </p:nvSpPr>
          <p:spPr>
            <a:xfrm>
              <a:off x="5580000" y="2852640"/>
              <a:ext cx="2521080" cy="12970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80000" y="4149720"/>
              <a:ext cx="2521080" cy="1150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 flipV="1">
              <a:off x="5219640" y="2205000"/>
              <a:ext cx="3097440" cy="194472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5219640" y="4149720"/>
              <a:ext cx="3097440" cy="71928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516720" y="3357720"/>
              <a:ext cx="0" cy="12236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5580000" y="2852280"/>
              <a:ext cx="0" cy="1297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317080" y="2205000"/>
              <a:ext cx="0" cy="1944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8101080" y="4149720"/>
              <a:ext cx="0" cy="1150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219640" y="4149720"/>
              <a:ext cx="0" cy="719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d0ca"/>
                </a:solidFill>
                <a:latin typeface="Arial"/>
              </a:rPr>
              <a:t>Estereometría: El Plano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¿Cómo definimos un plano? (en genera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3 punt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Y en el depurado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Con 3 punt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Con dos rectas, las que pueden cortarse o ser paralel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Con una recta y un punto fuera de ell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d0ca"/>
                </a:solidFill>
                <a:latin typeface="Arial"/>
              </a:rPr>
              <a:t>Estereometría: El Plano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¿Cómo definimos un plano en el depurado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Con 3 punt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Con dos rectas, las que pueden cortarse o ser paralel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Con una recta y un punto fuera de ell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d0ca"/>
                </a:solidFill>
                <a:latin typeface="Arial"/>
              </a:rPr>
              <a:t>Estereometría: El Plano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648920" y="1484280"/>
            <a:ext cx="102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2 rect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539640" y="1916280"/>
            <a:ext cx="8136000" cy="3960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1403280" y="1916280"/>
            <a:ext cx="0" cy="39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7812000" y="1916280"/>
            <a:ext cx="0" cy="39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1403280" y="4076640"/>
            <a:ext cx="640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 flipH="1">
            <a:off x="2050920" y="2708280"/>
            <a:ext cx="4826160" cy="136836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2050560" y="4076280"/>
            <a:ext cx="4753080" cy="151308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4140360" y="3500280"/>
            <a:ext cx="1726920" cy="576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4140360" y="3500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4140360" y="4076640"/>
            <a:ext cx="1726920" cy="1224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5867280" y="4076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3851280" y="2852640"/>
            <a:ext cx="2521080" cy="12240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6372360" y="2852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3850920" y="4076640"/>
            <a:ext cx="2521080" cy="5763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 flipV="1">
            <a:off x="3851280" y="4076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643280" y="364500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659640" y="27082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6659640" y="5229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1042920" y="39258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7812000" y="3925800"/>
            <a:ext cx="5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d0ca"/>
                </a:solidFill>
                <a:latin typeface="Arial"/>
              </a:rPr>
              <a:t>Estereometría: El Plano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grpSp>
        <p:nvGrpSpPr>
          <p:cNvPr id="497" name=""/>
          <p:cNvGrpSpPr/>
          <p:nvPr/>
        </p:nvGrpSpPr>
        <p:grpSpPr>
          <a:xfrm>
            <a:off x="762120" y="1447920"/>
            <a:ext cx="7808760" cy="4723560"/>
            <a:chOff x="762120" y="1447920"/>
            <a:chExt cx="7808760" cy="4723560"/>
          </a:xfrm>
        </p:grpSpPr>
        <p:grpSp>
          <p:nvGrpSpPr>
            <p:cNvPr id="498" name=""/>
            <p:cNvGrpSpPr/>
            <p:nvPr/>
          </p:nvGrpSpPr>
          <p:grpSpPr>
            <a:xfrm>
              <a:off x="762120" y="1447920"/>
              <a:ext cx="7772400" cy="4723560"/>
              <a:chOff x="762120" y="1447920"/>
              <a:chExt cx="7772400" cy="4723560"/>
            </a:xfrm>
          </p:grpSpPr>
          <p:sp>
            <p:nvSpPr>
              <p:cNvPr id="499" name=""/>
              <p:cNvSpPr/>
              <p:nvPr/>
            </p:nvSpPr>
            <p:spPr>
              <a:xfrm>
                <a:off x="762120" y="1447920"/>
                <a:ext cx="7772400" cy="4723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1295280" y="1447920"/>
                <a:ext cx="0" cy="4723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8077320" y="1447920"/>
                <a:ext cx="0" cy="4723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1295280" y="3809520"/>
                <a:ext cx="67820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03" name=""/>
            <p:cNvGrpSpPr/>
            <p:nvPr/>
          </p:nvGrpSpPr>
          <p:grpSpPr>
            <a:xfrm>
              <a:off x="885960" y="1531800"/>
              <a:ext cx="7684920" cy="4586400"/>
              <a:chOff x="885960" y="1531800"/>
              <a:chExt cx="7684920" cy="4586400"/>
            </a:xfrm>
          </p:grpSpPr>
          <p:sp>
            <p:nvSpPr>
              <p:cNvPr id="504" name=""/>
              <p:cNvSpPr/>
              <p:nvPr/>
            </p:nvSpPr>
            <p:spPr>
              <a:xfrm>
                <a:off x="885960" y="3640680"/>
                <a:ext cx="493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800" spc="-1" strike="noStrike">
                    <a:solidFill>
                      <a:srgbClr val="ff0000"/>
                    </a:solidFill>
                    <a:latin typeface="Tahoma"/>
                  </a:rPr>
                  <a:t>L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8077320" y="3640680"/>
                <a:ext cx="493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800" spc="-1" strike="noStrike">
                    <a:solidFill>
                      <a:srgbClr val="ff0000"/>
                    </a:solidFill>
                    <a:latin typeface="Tahoma"/>
                  </a:rPr>
                  <a:t>T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7543800" y="1531800"/>
                <a:ext cx="739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800" spc="-1" strike="noStrike">
                    <a:solidFill>
                      <a:srgbClr val="0000ff"/>
                    </a:solidFill>
                    <a:latin typeface="Tahoma"/>
                  </a:rPr>
                  <a:t>V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1371600" y="5749920"/>
                <a:ext cx="741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800" spc="-1" strike="noStrike">
                    <a:solidFill>
                      <a:srgbClr val="0000ff"/>
                    </a:solidFill>
                    <a:latin typeface="Tahoma"/>
                  </a:rPr>
                  <a:t>H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08" name=""/>
          <p:cNvSpPr/>
          <p:nvPr/>
        </p:nvSpPr>
        <p:spPr>
          <a:xfrm>
            <a:off x="1569240" y="1676520"/>
            <a:ext cx="112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3 punt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3124080" y="2819520"/>
            <a:ext cx="2210040" cy="1523880"/>
            <a:chOff x="3124080" y="2819520"/>
            <a:chExt cx="2210040" cy="1523880"/>
          </a:xfrm>
        </p:grpSpPr>
        <p:sp>
          <p:nvSpPr>
            <p:cNvPr id="510" name=""/>
            <p:cNvSpPr/>
            <p:nvPr/>
          </p:nvSpPr>
          <p:spPr>
            <a:xfrm>
              <a:off x="3124080" y="2819520"/>
              <a:ext cx="2210040" cy="9903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124080" y="2819520"/>
              <a:ext cx="0" cy="99036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334120" y="3809880"/>
              <a:ext cx="0" cy="5335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124080" y="3809880"/>
              <a:ext cx="2210040" cy="53352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4" name=""/>
          <p:cNvGrpSpPr/>
          <p:nvPr/>
        </p:nvGrpSpPr>
        <p:grpSpPr>
          <a:xfrm>
            <a:off x="2362320" y="3200040"/>
            <a:ext cx="2590560" cy="1828800"/>
            <a:chOff x="2362320" y="3200040"/>
            <a:chExt cx="2590560" cy="1828800"/>
          </a:xfrm>
        </p:grpSpPr>
        <p:sp>
          <p:nvSpPr>
            <p:cNvPr id="515" name=""/>
            <p:cNvSpPr/>
            <p:nvPr/>
          </p:nvSpPr>
          <p:spPr>
            <a:xfrm flipV="1">
              <a:off x="2362320" y="3200040"/>
              <a:ext cx="2590560" cy="6094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 flipV="1">
              <a:off x="2362320" y="3809520"/>
              <a:ext cx="2590560" cy="12193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952880" y="320040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 flipV="1">
              <a:off x="2362320" y="3809520"/>
              <a:ext cx="0" cy="12193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9" name=""/>
          <p:cNvGrpSpPr/>
          <p:nvPr/>
        </p:nvGrpSpPr>
        <p:grpSpPr>
          <a:xfrm>
            <a:off x="4191120" y="3048120"/>
            <a:ext cx="380880" cy="1434960"/>
            <a:chOff x="4191120" y="3048120"/>
            <a:chExt cx="380880" cy="1434960"/>
          </a:xfrm>
        </p:grpSpPr>
        <p:sp>
          <p:nvSpPr>
            <p:cNvPr id="520" name=""/>
            <p:cNvSpPr/>
            <p:nvPr/>
          </p:nvSpPr>
          <p:spPr>
            <a:xfrm>
              <a:off x="4343400" y="3352680"/>
              <a:ext cx="0" cy="7621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191120" y="4114800"/>
              <a:ext cx="380880" cy="368280"/>
            </a:xfrm>
            <a:prstGeom prst="rect">
              <a:avLst/>
            </a:prstGeom>
            <a:noFill/>
            <a:ln cap="rnd" w="93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191120" y="3048120"/>
              <a:ext cx="380880" cy="368280"/>
            </a:xfrm>
            <a:prstGeom prst="rect">
              <a:avLst/>
            </a:prstGeom>
            <a:noFill/>
            <a:ln cap="rnd" w="93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Tahoma"/>
                </a:rPr>
                <a:t>b’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23" name=""/>
          <p:cNvGrpSpPr/>
          <p:nvPr/>
        </p:nvGrpSpPr>
        <p:grpSpPr>
          <a:xfrm>
            <a:off x="4876920" y="3352680"/>
            <a:ext cx="380880" cy="1206720"/>
            <a:chOff x="4876920" y="3352680"/>
            <a:chExt cx="380880" cy="1206720"/>
          </a:xfrm>
        </p:grpSpPr>
        <p:sp>
          <p:nvSpPr>
            <p:cNvPr id="524" name=""/>
            <p:cNvSpPr/>
            <p:nvPr/>
          </p:nvSpPr>
          <p:spPr>
            <a:xfrm>
              <a:off x="5024520" y="3672000"/>
              <a:ext cx="6120" cy="595080"/>
            </a:xfrm>
            <a:custGeom>
              <a:avLst/>
              <a:gdLst/>
              <a:ahLst/>
              <a:rect l="l" t="t" r="r" b="b"/>
              <a:pathLst>
                <a:path w="4" h="375">
                  <a:moveTo>
                    <a:pt x="0" y="0"/>
                  </a:moveTo>
                  <a:lnTo>
                    <a:pt x="4" y="375"/>
                  </a:lnTo>
                </a:path>
              </a:pathLst>
            </a:cu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876920" y="3352680"/>
              <a:ext cx="380880" cy="368280"/>
            </a:xfrm>
            <a:prstGeom prst="rect">
              <a:avLst/>
            </a:prstGeom>
            <a:noFill/>
            <a:ln cap="rnd" w="93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Tahoma"/>
                </a:rPr>
                <a:t>c’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876920" y="4191120"/>
              <a:ext cx="380880" cy="368280"/>
            </a:xfrm>
            <a:prstGeom prst="rect">
              <a:avLst/>
            </a:prstGeom>
            <a:noFill/>
            <a:ln cap="rnd" w="93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27" name=""/>
          <p:cNvGrpSpPr/>
          <p:nvPr/>
        </p:nvGrpSpPr>
        <p:grpSpPr>
          <a:xfrm>
            <a:off x="2514600" y="3429000"/>
            <a:ext cx="380880" cy="1739880"/>
            <a:chOff x="2514600" y="3429000"/>
            <a:chExt cx="380880" cy="1739880"/>
          </a:xfrm>
        </p:grpSpPr>
        <p:sp>
          <p:nvSpPr>
            <p:cNvPr id="528" name=""/>
            <p:cNvSpPr/>
            <p:nvPr/>
          </p:nvSpPr>
          <p:spPr>
            <a:xfrm>
              <a:off x="2666880" y="3733920"/>
              <a:ext cx="0" cy="11430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2514600" y="4800600"/>
              <a:ext cx="380880" cy="368280"/>
            </a:xfrm>
            <a:prstGeom prst="rect">
              <a:avLst/>
            </a:prstGeom>
            <a:noFill/>
            <a:ln cap="rnd" w="93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2514600" y="3429000"/>
              <a:ext cx="380880" cy="368280"/>
            </a:xfrm>
            <a:prstGeom prst="rect">
              <a:avLst/>
            </a:prstGeom>
            <a:noFill/>
            <a:ln cap="rnd" w="93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Tahoma"/>
                </a:rPr>
                <a:t>a’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31" name=""/>
          <p:cNvGrpSpPr/>
          <p:nvPr/>
        </p:nvGrpSpPr>
        <p:grpSpPr>
          <a:xfrm>
            <a:off x="2057400" y="2286000"/>
            <a:ext cx="5562720" cy="3187800"/>
            <a:chOff x="2057400" y="2286000"/>
            <a:chExt cx="5562720" cy="3187800"/>
          </a:xfrm>
        </p:grpSpPr>
        <p:sp>
          <p:nvSpPr>
            <p:cNvPr id="532" name=""/>
            <p:cNvSpPr/>
            <p:nvPr/>
          </p:nvSpPr>
          <p:spPr>
            <a:xfrm>
              <a:off x="2133720" y="2590920"/>
              <a:ext cx="5486400" cy="1218960"/>
            </a:xfrm>
            <a:prstGeom prst="line">
              <a:avLst/>
            </a:prstGeom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 flipH="1">
              <a:off x="2057400" y="3809880"/>
              <a:ext cx="5562720" cy="1295640"/>
            </a:xfrm>
            <a:prstGeom prst="line">
              <a:avLst/>
            </a:prstGeom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286000" y="228600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Tahoma"/>
                </a:rPr>
                <a:t>P’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057400" y="510552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Tahoma"/>
                </a:rPr>
                <a:t>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d0ca"/>
                </a:solidFill>
                <a:latin typeface="Arial"/>
              </a:rPr>
              <a:t>Estereometría: El Plano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grpSp>
        <p:nvGrpSpPr>
          <p:cNvPr id="537" name=""/>
          <p:cNvGrpSpPr/>
          <p:nvPr/>
        </p:nvGrpSpPr>
        <p:grpSpPr>
          <a:xfrm>
            <a:off x="762120" y="1447920"/>
            <a:ext cx="7808760" cy="4723560"/>
            <a:chOff x="762120" y="1447920"/>
            <a:chExt cx="7808760" cy="4723560"/>
          </a:xfrm>
        </p:grpSpPr>
        <p:grpSp>
          <p:nvGrpSpPr>
            <p:cNvPr id="538" name=""/>
            <p:cNvGrpSpPr/>
            <p:nvPr/>
          </p:nvGrpSpPr>
          <p:grpSpPr>
            <a:xfrm>
              <a:off x="762120" y="1447920"/>
              <a:ext cx="7772400" cy="4723560"/>
              <a:chOff x="762120" y="1447920"/>
              <a:chExt cx="7772400" cy="4723560"/>
            </a:xfrm>
          </p:grpSpPr>
          <p:sp>
            <p:nvSpPr>
              <p:cNvPr id="539" name=""/>
              <p:cNvSpPr/>
              <p:nvPr/>
            </p:nvSpPr>
            <p:spPr>
              <a:xfrm>
                <a:off x="762120" y="1447920"/>
                <a:ext cx="7772400" cy="4723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1295280" y="1447920"/>
                <a:ext cx="0" cy="4723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8077320" y="1447920"/>
                <a:ext cx="0" cy="4723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1295280" y="3809520"/>
                <a:ext cx="67820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43" name=""/>
            <p:cNvGrpSpPr/>
            <p:nvPr/>
          </p:nvGrpSpPr>
          <p:grpSpPr>
            <a:xfrm>
              <a:off x="885960" y="1531800"/>
              <a:ext cx="7684920" cy="4587840"/>
              <a:chOff x="885960" y="1531800"/>
              <a:chExt cx="7684920" cy="4587840"/>
            </a:xfrm>
          </p:grpSpPr>
          <p:sp>
            <p:nvSpPr>
              <p:cNvPr id="544" name=""/>
              <p:cNvSpPr/>
              <p:nvPr/>
            </p:nvSpPr>
            <p:spPr>
              <a:xfrm>
                <a:off x="885960" y="3640680"/>
                <a:ext cx="493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800" spc="-1" strike="noStrike">
                    <a:solidFill>
                      <a:srgbClr val="ff0000"/>
                    </a:solidFill>
                    <a:latin typeface="Tahoma"/>
                  </a:rPr>
                  <a:t>L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8077320" y="3640680"/>
                <a:ext cx="493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800" spc="-1" strike="noStrike">
                    <a:solidFill>
                      <a:srgbClr val="ff0000"/>
                    </a:solidFill>
                    <a:latin typeface="Tahoma"/>
                  </a:rPr>
                  <a:t>T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7543800" y="1531800"/>
                <a:ext cx="739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800" spc="-1" strike="noStrike">
                    <a:solidFill>
                      <a:srgbClr val="0000ff"/>
                    </a:solidFill>
                    <a:latin typeface="Tahoma"/>
                  </a:rPr>
                  <a:t>V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1371600" y="5751360"/>
                <a:ext cx="741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800" spc="-1" strike="noStrike">
                    <a:solidFill>
                      <a:srgbClr val="0000ff"/>
                    </a:solidFill>
                    <a:latin typeface="Tahoma"/>
                  </a:rPr>
                  <a:t>H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48" name=""/>
          <p:cNvSpPr/>
          <p:nvPr/>
        </p:nvSpPr>
        <p:spPr>
          <a:xfrm>
            <a:off x="1385640" y="1600200"/>
            <a:ext cx="244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Una recta y un pun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9" name=""/>
          <p:cNvGrpSpPr/>
          <p:nvPr/>
        </p:nvGrpSpPr>
        <p:grpSpPr>
          <a:xfrm>
            <a:off x="1676520" y="1905120"/>
            <a:ext cx="5943600" cy="4025880"/>
            <a:chOff x="1676520" y="1905120"/>
            <a:chExt cx="5943600" cy="4025880"/>
          </a:xfrm>
        </p:grpSpPr>
        <p:sp>
          <p:nvSpPr>
            <p:cNvPr id="550" name=""/>
            <p:cNvSpPr/>
            <p:nvPr/>
          </p:nvSpPr>
          <p:spPr>
            <a:xfrm flipV="1">
              <a:off x="1676520" y="2209320"/>
              <a:ext cx="5638680" cy="1600200"/>
            </a:xfrm>
            <a:prstGeom prst="line">
              <a:avLst/>
            </a:prstGeom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676520" y="3809880"/>
              <a:ext cx="5943600" cy="1981440"/>
            </a:xfrm>
            <a:prstGeom prst="line">
              <a:avLst/>
            </a:prstGeom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858000" y="190512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Tahoma"/>
                </a:rPr>
                <a:t>P’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781680" y="5562720"/>
              <a:ext cx="60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Tahoma"/>
                </a:rPr>
                <a:t>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54" name=""/>
          <p:cNvGrpSpPr/>
          <p:nvPr/>
        </p:nvGrpSpPr>
        <p:grpSpPr>
          <a:xfrm>
            <a:off x="2819520" y="2209680"/>
            <a:ext cx="3657600" cy="2349720"/>
            <a:chOff x="2819520" y="2209680"/>
            <a:chExt cx="3657600" cy="2349720"/>
          </a:xfrm>
        </p:grpSpPr>
        <p:sp>
          <p:nvSpPr>
            <p:cNvPr id="555" name=""/>
            <p:cNvSpPr/>
            <p:nvPr/>
          </p:nvSpPr>
          <p:spPr>
            <a:xfrm flipV="1">
              <a:off x="3048120" y="2514600"/>
              <a:ext cx="3200400" cy="12952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 flipV="1">
              <a:off x="3048120" y="3809880"/>
              <a:ext cx="3200400" cy="4572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 flipV="1">
              <a:off x="3048120" y="3809880"/>
              <a:ext cx="0" cy="4572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248520" y="2514600"/>
              <a:ext cx="0" cy="12952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2819520" y="350532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Tahoma"/>
                </a:rPr>
                <a:t>a’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095880" y="220968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Tahoma"/>
                </a:rPr>
                <a:t>b’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095880" y="380988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819520" y="419112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3" name=""/>
          <p:cNvSpPr/>
          <p:nvPr/>
        </p:nvSpPr>
        <p:spPr>
          <a:xfrm>
            <a:off x="4572000" y="3200400"/>
            <a:ext cx="0" cy="8380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4" name=""/>
          <p:cNvGrpSpPr/>
          <p:nvPr/>
        </p:nvGrpSpPr>
        <p:grpSpPr>
          <a:xfrm>
            <a:off x="4343400" y="3048120"/>
            <a:ext cx="1219320" cy="2057400"/>
            <a:chOff x="4343400" y="3048120"/>
            <a:chExt cx="1219320" cy="2057400"/>
          </a:xfrm>
        </p:grpSpPr>
        <p:sp>
          <p:nvSpPr>
            <p:cNvPr id="565" name=""/>
            <p:cNvSpPr/>
            <p:nvPr/>
          </p:nvSpPr>
          <p:spPr>
            <a:xfrm>
              <a:off x="4343400" y="3048120"/>
              <a:ext cx="1219320" cy="7617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343400" y="3048120"/>
              <a:ext cx="0" cy="76176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343400" y="3809880"/>
              <a:ext cx="1219320" cy="12956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5562720" y="3809880"/>
              <a:ext cx="0" cy="12956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69" name=""/>
          <p:cNvGrpSpPr/>
          <p:nvPr/>
        </p:nvGrpSpPr>
        <p:grpSpPr>
          <a:xfrm>
            <a:off x="5029200" y="3276720"/>
            <a:ext cx="457200" cy="1739880"/>
            <a:chOff x="5029200" y="3276720"/>
            <a:chExt cx="457200" cy="1739880"/>
          </a:xfrm>
        </p:grpSpPr>
        <p:sp>
          <p:nvSpPr>
            <p:cNvPr id="570" name=""/>
            <p:cNvSpPr/>
            <p:nvPr/>
          </p:nvSpPr>
          <p:spPr>
            <a:xfrm>
              <a:off x="5180040" y="3581280"/>
              <a:ext cx="1440" cy="1106640"/>
            </a:xfrm>
            <a:custGeom>
              <a:avLst/>
              <a:gdLst/>
              <a:ahLst/>
              <a:rect l="l" t="t" r="r" b="b"/>
              <a:pathLst>
                <a:path w="1" h="697">
                  <a:moveTo>
                    <a:pt x="1" y="0"/>
                  </a:moveTo>
                  <a:lnTo>
                    <a:pt x="0" y="697"/>
                  </a:lnTo>
                </a:path>
              </a:pathLst>
            </a:cu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029200" y="327672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Tahoma"/>
                </a:rPr>
                <a:t>c’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029200" y="464832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d0ca"/>
                </a:solidFill>
                <a:latin typeface="Arial"/>
              </a:rPr>
              <a:t>Estereometría: El Plano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41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Planos especial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5" name="" descr=""/>
          <p:cNvPicPr/>
          <p:nvPr/>
        </p:nvPicPr>
        <p:blipFill>
          <a:blip r:embed="rId1"/>
          <a:stretch/>
        </p:blipFill>
        <p:spPr>
          <a:xfrm>
            <a:off x="4838760" y="1731960"/>
            <a:ext cx="3655800" cy="42847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76" name=""/>
          <p:cNvSpPr/>
          <p:nvPr/>
        </p:nvSpPr>
        <p:spPr>
          <a:xfrm>
            <a:off x="762120" y="21337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Horizo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762120" y="25909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Verti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467480" y="4343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762120" y="30481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Fro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762120" y="35053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Fug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762120" y="3962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Perf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762120" y="441972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Paralelo a 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d0ca"/>
                </a:solidFill>
                <a:latin typeface="Arial"/>
              </a:rPr>
              <a:t>Estereometría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Geometrías Descriptiv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Representar en un solo plano objetos del espac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xisten varios sistem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d0c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Sistema Diédrico =&gt; 2 planos H y 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d0c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Sistema Acotado =&gt; Mapas de Cot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d0c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Sistema Axonométrico =&gt; 3 plan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d0c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Sistema Cón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d0ca"/>
                </a:solidFill>
                <a:latin typeface="Arial"/>
              </a:rPr>
              <a:t>Estereometría: Intersecciones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Intersección de una recta y un plan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Se llama penetración de la recta en un plano. ES UN PUN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Planos auxilia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Utilizamos un plano auxiliar que contenga a la recta. La intersección de el plano auxiliar con el plano dado da origen a una recta auxiliar que corta a la recta dada. Este punto es la penetración de la recta (ya que pertenecen al plano dado y a la recta dad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d0ca"/>
                </a:solidFill>
                <a:latin typeface="Arial"/>
              </a:rPr>
              <a:t>Estereometría: Intersecciones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3684600" y="4176720"/>
            <a:ext cx="4906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131640" y="388620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8779320" y="3886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 flipV="1">
            <a:off x="4102200" y="2133360"/>
            <a:ext cx="2701800" cy="2043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4102200" y="4176720"/>
            <a:ext cx="3863880" cy="1149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5076720" y="2940120"/>
            <a:ext cx="0" cy="120960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 flipV="1">
            <a:off x="7026120" y="4176720"/>
            <a:ext cx="0" cy="83664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5003640" y="2852640"/>
            <a:ext cx="208080" cy="2080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5003640" y="4064040"/>
            <a:ext cx="206640" cy="2080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6932520" y="4064040"/>
            <a:ext cx="206640" cy="2080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932520" y="4662360"/>
            <a:ext cx="206640" cy="20664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5076720" y="2924280"/>
            <a:ext cx="1925640" cy="1252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5076720" y="4149720"/>
            <a:ext cx="2016360" cy="6476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6876360" y="18446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P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8075520" y="517212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01" name=""/>
          <p:cNvGrpSpPr/>
          <p:nvPr/>
        </p:nvGrpSpPr>
        <p:grpSpPr>
          <a:xfrm>
            <a:off x="4209480" y="2133720"/>
            <a:ext cx="3236040" cy="4400280"/>
            <a:chOff x="4209480" y="2133720"/>
            <a:chExt cx="3236040" cy="4400280"/>
          </a:xfrm>
        </p:grpSpPr>
        <p:sp>
          <p:nvSpPr>
            <p:cNvPr id="602" name=""/>
            <p:cNvSpPr/>
            <p:nvPr/>
          </p:nvSpPr>
          <p:spPr>
            <a:xfrm flipV="1">
              <a:off x="7020000" y="4149720"/>
              <a:ext cx="0" cy="223200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4500720" y="2492280"/>
              <a:ext cx="2519280" cy="165744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4209480" y="2133720"/>
              <a:ext cx="398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Tahoma"/>
                </a:rPr>
                <a:t>Q’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086600" y="616572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Tahoma"/>
                </a:rPr>
                <a:t>Q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06" name=""/>
          <p:cNvSpPr/>
          <p:nvPr/>
        </p:nvSpPr>
        <p:spPr>
          <a:xfrm>
            <a:off x="5078520" y="256536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a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7093080" y="4149720"/>
            <a:ext cx="35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b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5433840" y="414972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7159680" y="46530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0" name=""/>
          <p:cNvGrpSpPr/>
          <p:nvPr/>
        </p:nvGrpSpPr>
        <p:grpSpPr>
          <a:xfrm>
            <a:off x="5435640" y="2917800"/>
            <a:ext cx="2017080" cy="2478240"/>
            <a:chOff x="5435640" y="2917800"/>
            <a:chExt cx="2017080" cy="2478240"/>
          </a:xfrm>
        </p:grpSpPr>
        <p:sp>
          <p:nvSpPr>
            <p:cNvPr id="611" name=""/>
            <p:cNvSpPr/>
            <p:nvPr/>
          </p:nvSpPr>
          <p:spPr>
            <a:xfrm>
              <a:off x="5511960" y="2917800"/>
              <a:ext cx="33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Tahoma"/>
                </a:rPr>
                <a:t>c’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7092000" y="3782880"/>
              <a:ext cx="36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Tahoma"/>
                </a:rPr>
                <a:t>d’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067520" y="502776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506200" y="3876840"/>
              <a:ext cx="290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508720" y="3141720"/>
              <a:ext cx="0" cy="1008000"/>
            </a:xfrm>
            <a:prstGeom prst="line">
              <a:avLst/>
            </a:prstGeom>
            <a:ln cap="rnd" w="93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5435640" y="3141720"/>
              <a:ext cx="1657440" cy="1079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508720" y="4149720"/>
              <a:ext cx="1511280" cy="863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18" name=""/>
          <p:cNvSpPr/>
          <p:nvPr/>
        </p:nvSpPr>
        <p:spPr>
          <a:xfrm>
            <a:off x="304920" y="160020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Un plano y una rec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9" name=""/>
          <p:cNvGrpSpPr/>
          <p:nvPr/>
        </p:nvGrpSpPr>
        <p:grpSpPr>
          <a:xfrm>
            <a:off x="5791320" y="3200400"/>
            <a:ext cx="685800" cy="1511280"/>
            <a:chOff x="5791320" y="3200400"/>
            <a:chExt cx="685800" cy="1511280"/>
          </a:xfrm>
        </p:grpSpPr>
        <p:sp>
          <p:nvSpPr>
            <p:cNvPr id="620" name=""/>
            <p:cNvSpPr/>
            <p:nvPr/>
          </p:nvSpPr>
          <p:spPr>
            <a:xfrm flipV="1">
              <a:off x="6019920" y="3505320"/>
              <a:ext cx="0" cy="914400"/>
            </a:xfrm>
            <a:prstGeom prst="line">
              <a:avLst/>
            </a:prstGeom>
            <a:ln cap="rnd" w="93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5943600" y="320040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ffffff"/>
                  </a:solidFill>
                  <a:latin typeface="Tahoma"/>
                </a:rPr>
                <a:t>x’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5791320" y="434340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ffffff"/>
                  </a:solidFill>
                  <a:latin typeface="Tahoma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d0ca"/>
                </a:solidFill>
                <a:latin typeface="Arial"/>
              </a:rPr>
              <a:t>Estereometría: Intersecciones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867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2 planos que se cortan en el depura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Generan una rec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3684600" y="4176720"/>
            <a:ext cx="4906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3131640" y="388620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8779320" y="3886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4102200" y="2923920"/>
            <a:ext cx="3759120" cy="1252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4102200" y="4176720"/>
            <a:ext cx="3863880" cy="1149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 flipV="1">
            <a:off x="6086520" y="4176720"/>
            <a:ext cx="1671480" cy="188136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3475080" y="3343320"/>
            <a:ext cx="4282920" cy="83340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2" name=""/>
          <p:cNvGrpSpPr/>
          <p:nvPr/>
        </p:nvGrpSpPr>
        <p:grpSpPr>
          <a:xfrm>
            <a:off x="5435640" y="3759120"/>
            <a:ext cx="1590120" cy="1254240"/>
            <a:chOff x="5435640" y="3759120"/>
            <a:chExt cx="1590120" cy="1254240"/>
          </a:xfrm>
        </p:grpSpPr>
        <p:sp>
          <p:nvSpPr>
            <p:cNvPr id="633" name=""/>
            <p:cNvSpPr/>
            <p:nvPr/>
          </p:nvSpPr>
          <p:spPr>
            <a:xfrm>
              <a:off x="5435640" y="3759120"/>
              <a:ext cx="0" cy="417600"/>
            </a:xfrm>
            <a:prstGeom prst="line">
              <a:avLst/>
            </a:prstGeom>
            <a:ln cap="rnd" w="93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 flipV="1">
              <a:off x="7025760" y="4176720"/>
              <a:ext cx="0" cy="836640"/>
            </a:xfrm>
            <a:prstGeom prst="line">
              <a:avLst/>
            </a:prstGeom>
            <a:ln cap="rnd" w="93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5" name=""/>
          <p:cNvSpPr/>
          <p:nvPr/>
        </p:nvSpPr>
        <p:spPr>
          <a:xfrm>
            <a:off x="5365800" y="3645000"/>
            <a:ext cx="208080" cy="2077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364000" y="4064040"/>
            <a:ext cx="206640" cy="2080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6932520" y="4064040"/>
            <a:ext cx="206640" cy="2080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6932520" y="4900680"/>
            <a:ext cx="206640" cy="206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5435640" y="3759120"/>
            <a:ext cx="1566720" cy="4176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435640" y="4176720"/>
            <a:ext cx="1566720" cy="8366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7935120" y="26510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P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8075520" y="517212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3182400" y="3011400"/>
            <a:ext cx="39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Q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5769000" y="58928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5294520" y="328464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a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7093080" y="4149720"/>
            <a:ext cx="35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b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5433840" y="414972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6943680" y="50846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d0ca"/>
                </a:solidFill>
                <a:latin typeface="Arial"/>
              </a:rPr>
              <a:t>Estereometría: Intersecciones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867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Plano cualquiera y plano horizont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Generan una rec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3684600" y="4176720"/>
            <a:ext cx="4906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3131640" y="388620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8779320" y="3886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 flipV="1">
            <a:off x="4102200" y="2060640"/>
            <a:ext cx="2485800" cy="2116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4102200" y="4176720"/>
            <a:ext cx="3863880" cy="1149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3475080" y="3343320"/>
            <a:ext cx="4984560" cy="1440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5076720" y="3284640"/>
            <a:ext cx="0" cy="89208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 flipV="1">
            <a:off x="7020000" y="3284280"/>
            <a:ext cx="0" cy="136836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5011560" y="3213000"/>
            <a:ext cx="208080" cy="2080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5003640" y="4064040"/>
            <a:ext cx="206640" cy="2080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6932520" y="3213000"/>
            <a:ext cx="206640" cy="2080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6886440" y="4591080"/>
            <a:ext cx="206640" cy="206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5148360" y="3357720"/>
            <a:ext cx="1871640" cy="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5076720" y="4149720"/>
            <a:ext cx="1925640" cy="57636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6658920" y="18446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P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8004240" y="517212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8581320" y="3084480"/>
            <a:ext cx="39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Q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"/>
          <p:cNvSpPr/>
          <p:nvPr/>
        </p:nvSpPr>
        <p:spPr>
          <a:xfrm>
            <a:off x="7020000" y="4149720"/>
            <a:ext cx="0" cy="208764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d0ca"/>
                </a:solidFill>
                <a:latin typeface="Arial"/>
              </a:rPr>
              <a:t>Estereometría: Intersecciones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867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Plano cualquiera y plano de fug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Generan una rec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3684600" y="4176720"/>
            <a:ext cx="4906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3131640" y="388620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8779320" y="3886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 flipV="1">
            <a:off x="4102200" y="2060640"/>
            <a:ext cx="2485800" cy="2116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4102200" y="4176720"/>
            <a:ext cx="3863880" cy="1149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3635280" y="2708280"/>
            <a:ext cx="3384720" cy="144144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5076720" y="3284640"/>
            <a:ext cx="0" cy="89208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 flipV="1">
            <a:off x="7020000" y="4149360"/>
            <a:ext cx="0" cy="93492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5011560" y="3213000"/>
            <a:ext cx="208080" cy="2080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5003640" y="4064040"/>
            <a:ext cx="206640" cy="2080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6932520" y="4013280"/>
            <a:ext cx="206640" cy="2077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6877080" y="4951440"/>
            <a:ext cx="206280" cy="206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5148360" y="3357720"/>
            <a:ext cx="1871640" cy="7920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5076720" y="4149720"/>
            <a:ext cx="1943280" cy="8636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6658920" y="18446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P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8004240" y="517212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8581320" y="3084480"/>
            <a:ext cx="39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Q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d0ca"/>
                </a:solidFill>
                <a:latin typeface="Arial"/>
              </a:rPr>
              <a:t>Estereometría: Cambio de LT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609480" y="152388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Trazar la nueva Línea de Tier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0" name="" descr=""/>
          <p:cNvPicPr/>
          <p:nvPr/>
        </p:nvPicPr>
        <p:blipFill>
          <a:blip r:embed="rId1"/>
          <a:stretch/>
        </p:blipFill>
        <p:spPr>
          <a:xfrm>
            <a:off x="5029200" y="1523880"/>
            <a:ext cx="3794040" cy="4233960"/>
          </a:xfrm>
          <a:prstGeom prst="rect">
            <a:avLst/>
          </a:prstGeom>
          <a:ln w="0">
            <a:noFill/>
          </a:ln>
        </p:spPr>
      </p:pic>
      <p:sp>
        <p:nvSpPr>
          <p:cNvPr id="691" name=""/>
          <p:cNvSpPr/>
          <p:nvPr/>
        </p:nvSpPr>
        <p:spPr>
          <a:xfrm flipH="1" flipV="1">
            <a:off x="6095880" y="4343040"/>
            <a:ext cx="7632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5791320" y="3657600"/>
            <a:ext cx="2133360" cy="114300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 flipV="1">
            <a:off x="5791320" y="2437920"/>
            <a:ext cx="2209680" cy="121932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7848720" y="21337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P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7391520" y="45720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96" name=""/>
          <p:cNvGrpSpPr/>
          <p:nvPr/>
        </p:nvGrpSpPr>
        <p:grpSpPr>
          <a:xfrm>
            <a:off x="5562720" y="2971800"/>
            <a:ext cx="3124080" cy="1701000"/>
            <a:chOff x="5562720" y="2971800"/>
            <a:chExt cx="3124080" cy="1701000"/>
          </a:xfrm>
        </p:grpSpPr>
        <p:sp>
          <p:nvSpPr>
            <p:cNvPr id="697" name=""/>
            <p:cNvSpPr/>
            <p:nvPr/>
          </p:nvSpPr>
          <p:spPr>
            <a:xfrm flipV="1">
              <a:off x="5791320" y="3200040"/>
              <a:ext cx="2514600" cy="11430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5562720" y="4267080"/>
              <a:ext cx="457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ff0000"/>
                  </a:solidFill>
                  <a:latin typeface="Tahoma"/>
                </a:rPr>
                <a:t>L</a:t>
              </a:r>
              <a:r>
                <a:rPr b="0" lang="es-CL" sz="1800" spc="-1" strike="noStrike" baseline="-25000">
                  <a:solidFill>
                    <a:srgbClr val="ff0000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8229600" y="2971800"/>
              <a:ext cx="457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ff0000"/>
                  </a:solidFill>
                  <a:latin typeface="Tahoma"/>
                </a:rPr>
                <a:t>T</a:t>
              </a:r>
              <a:r>
                <a:rPr b="0" lang="es-CL" sz="1800" spc="-1" strike="noStrike" baseline="-25000">
                  <a:solidFill>
                    <a:srgbClr val="ff0000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00" name=""/>
          <p:cNvSpPr/>
          <p:nvPr/>
        </p:nvSpPr>
        <p:spPr>
          <a:xfrm>
            <a:off x="7315200" y="2819520"/>
            <a:ext cx="0" cy="8380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609480" y="3200400"/>
            <a:ext cx="4114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En el punto donde se intersectan las líneas de tierra se dibuja una línea perpendicular a L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609480" y="2370240"/>
            <a:ext cx="4038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La proyección horizontal (P) no cambi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 flipH="1" flipV="1">
            <a:off x="6876720" y="2924280"/>
            <a:ext cx="431640" cy="72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877080" y="2841480"/>
            <a:ext cx="431640" cy="82800"/>
          </a:xfrm>
          <a:custGeom>
            <a:avLst/>
            <a:gdLst/>
            <a:ahLst/>
            <a:rect l="l" t="t" r="r" b="b"/>
            <a:pathLst>
              <a:path w="272" h="52">
                <a:moveTo>
                  <a:pt x="272" y="7"/>
                </a:moveTo>
                <a:cubicBezTo>
                  <a:pt x="226" y="3"/>
                  <a:pt x="181" y="0"/>
                  <a:pt x="136" y="7"/>
                </a:cubicBezTo>
                <a:cubicBezTo>
                  <a:pt x="91" y="14"/>
                  <a:pt x="45" y="33"/>
                  <a:pt x="0" y="5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611280" y="4754520"/>
            <a:ext cx="417672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Se dibuja línea perpendicular a L</a:t>
            </a:r>
            <a:r>
              <a:rPr b="0" lang="es-CL" sz="24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0" lang="es-CL" sz="24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 de longitud igual a la dibujada anteriorme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d0ca"/>
                </a:solidFill>
                <a:latin typeface="Arial"/>
              </a:rPr>
              <a:t>Estereometría: Cambio de LT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pic>
        <p:nvPicPr>
          <p:cNvPr id="707" name="" descr=""/>
          <p:cNvPicPr/>
          <p:nvPr/>
        </p:nvPicPr>
        <p:blipFill>
          <a:blip r:embed="rId1"/>
          <a:stretch/>
        </p:blipFill>
        <p:spPr>
          <a:xfrm>
            <a:off x="5029200" y="1523880"/>
            <a:ext cx="3794040" cy="4233960"/>
          </a:xfrm>
          <a:prstGeom prst="rect">
            <a:avLst/>
          </a:prstGeom>
          <a:ln w="0">
            <a:noFill/>
          </a:ln>
        </p:spPr>
      </p:pic>
      <p:sp>
        <p:nvSpPr>
          <p:cNvPr id="708" name=""/>
          <p:cNvSpPr/>
          <p:nvPr/>
        </p:nvSpPr>
        <p:spPr>
          <a:xfrm flipH="1" flipV="1">
            <a:off x="6095880" y="4343040"/>
            <a:ext cx="7632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5791320" y="3657600"/>
            <a:ext cx="2133360" cy="114300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 flipV="1">
            <a:off x="5791320" y="2437920"/>
            <a:ext cx="2209680" cy="121932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7848720" y="21337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P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7391520" y="45720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13" name=""/>
          <p:cNvGrpSpPr/>
          <p:nvPr/>
        </p:nvGrpSpPr>
        <p:grpSpPr>
          <a:xfrm>
            <a:off x="5562720" y="2971800"/>
            <a:ext cx="3124080" cy="1701000"/>
            <a:chOff x="5562720" y="2971800"/>
            <a:chExt cx="3124080" cy="1701000"/>
          </a:xfrm>
        </p:grpSpPr>
        <p:sp>
          <p:nvSpPr>
            <p:cNvPr id="714" name=""/>
            <p:cNvSpPr/>
            <p:nvPr/>
          </p:nvSpPr>
          <p:spPr>
            <a:xfrm flipV="1">
              <a:off x="5791320" y="3200040"/>
              <a:ext cx="2514600" cy="11430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562720" y="4267080"/>
              <a:ext cx="457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ff0000"/>
                  </a:solidFill>
                  <a:latin typeface="Tahoma"/>
                </a:rPr>
                <a:t>L</a:t>
              </a:r>
              <a:r>
                <a:rPr b="0" lang="es-CL" sz="1800" spc="-1" strike="noStrike" baseline="-25000">
                  <a:solidFill>
                    <a:srgbClr val="ff0000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8229600" y="2971800"/>
              <a:ext cx="457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ff0000"/>
                  </a:solidFill>
                  <a:latin typeface="Tahoma"/>
                </a:rPr>
                <a:t>T</a:t>
              </a:r>
              <a:r>
                <a:rPr b="0" lang="es-CL" sz="1800" spc="-1" strike="noStrike" baseline="-25000">
                  <a:solidFill>
                    <a:srgbClr val="ff0000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17" name=""/>
          <p:cNvSpPr/>
          <p:nvPr/>
        </p:nvSpPr>
        <p:spPr>
          <a:xfrm>
            <a:off x="7315200" y="2819520"/>
            <a:ext cx="0" cy="8380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11280" y="1628640"/>
            <a:ext cx="4114800" cy="23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Dibujar una línea desde la intersección de L</a:t>
            </a:r>
            <a:r>
              <a:rPr b="0" lang="es-CL" sz="24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0" lang="es-CL" sz="24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 con la proyección horizontal del plano (P), que pase por el extremo superior de la línea vertic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6477120" y="1773360"/>
            <a:ext cx="831600" cy="2265120"/>
          </a:xfrm>
          <a:prstGeom prst="line">
            <a:avLst/>
          </a:prstGeom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611280" y="4049640"/>
            <a:ext cx="411480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Esta última línea corresponde a la proyección vertical del plano (P</a:t>
            </a:r>
            <a:r>
              <a:rPr b="0" lang="es-CL" sz="24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’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6732720" y="184464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 flipH="1" flipV="1">
            <a:off x="6876720" y="2924280"/>
            <a:ext cx="431640" cy="72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6877080" y="2841480"/>
            <a:ext cx="431640" cy="82800"/>
          </a:xfrm>
          <a:custGeom>
            <a:avLst/>
            <a:gdLst/>
            <a:ahLst/>
            <a:rect l="l" t="t" r="r" b="b"/>
            <a:pathLst>
              <a:path w="272" h="52">
                <a:moveTo>
                  <a:pt x="272" y="7"/>
                </a:moveTo>
                <a:cubicBezTo>
                  <a:pt x="226" y="3"/>
                  <a:pt x="181" y="0"/>
                  <a:pt x="136" y="7"/>
                </a:cubicBezTo>
                <a:cubicBezTo>
                  <a:pt x="91" y="14"/>
                  <a:pt x="45" y="33"/>
                  <a:pt x="0" y="5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d0ca"/>
                </a:solidFill>
                <a:latin typeface="Arial"/>
              </a:rPr>
              <a:t>Estereometría: El Plano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pic>
        <p:nvPicPr>
          <p:cNvPr id="725" name="" descr=""/>
          <p:cNvPicPr/>
          <p:nvPr/>
        </p:nvPicPr>
        <p:blipFill>
          <a:blip r:embed="rId1"/>
          <a:stretch/>
        </p:blipFill>
        <p:spPr>
          <a:xfrm>
            <a:off x="4865760" y="1752480"/>
            <a:ext cx="3655800" cy="4230720"/>
          </a:xfrm>
          <a:prstGeom prst="rect">
            <a:avLst/>
          </a:prstGeom>
          <a:ln w="0">
            <a:noFill/>
          </a:ln>
        </p:spPr>
      </p:pic>
      <p:sp>
        <p:nvSpPr>
          <p:cNvPr id="726" name=""/>
          <p:cNvSpPr/>
          <p:nvPr/>
        </p:nvSpPr>
        <p:spPr>
          <a:xfrm>
            <a:off x="685800" y="1752480"/>
            <a:ext cx="3429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Rumbo: Ángulo que forma la proyección horizontal y una línea de tierra 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5721480" y="3887640"/>
            <a:ext cx="2279520" cy="912960"/>
          </a:xfrm>
          <a:custGeom>
            <a:avLst/>
            <a:gdLst/>
            <a:ahLst/>
            <a:rect l="l" t="t" r="r" b="b"/>
            <a:pathLst>
              <a:path w="1292" h="479">
                <a:moveTo>
                  <a:pt x="0" y="0"/>
                </a:moveTo>
                <a:lnTo>
                  <a:pt x="1292" y="479"/>
                </a:ln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5721480" y="3124080"/>
            <a:ext cx="2298600" cy="763560"/>
          </a:xfrm>
          <a:custGeom>
            <a:avLst/>
            <a:gdLst/>
            <a:ahLst/>
            <a:rect l="l" t="t" r="r" b="b"/>
            <a:pathLst>
              <a:path w="1448" h="481">
                <a:moveTo>
                  <a:pt x="0" y="481"/>
                </a:moveTo>
                <a:lnTo>
                  <a:pt x="1448" y="0"/>
                </a:ln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7543800" y="28954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P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7391520" y="46483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31" name=""/>
          <p:cNvGrpSpPr/>
          <p:nvPr/>
        </p:nvGrpSpPr>
        <p:grpSpPr>
          <a:xfrm>
            <a:off x="6324480" y="3809880"/>
            <a:ext cx="435240" cy="425520"/>
            <a:chOff x="6324480" y="3809880"/>
            <a:chExt cx="435240" cy="425520"/>
          </a:xfrm>
        </p:grpSpPr>
        <p:sp>
          <p:nvSpPr>
            <p:cNvPr id="732" name=""/>
            <p:cNvSpPr/>
            <p:nvPr/>
          </p:nvSpPr>
          <p:spPr>
            <a:xfrm>
              <a:off x="6613560" y="3886200"/>
              <a:ext cx="146160" cy="349200"/>
            </a:xfrm>
            <a:custGeom>
              <a:avLst/>
              <a:gdLst/>
              <a:ahLst/>
              <a:rect l="l" t="t" r="r" b="b"/>
              <a:pathLst>
                <a:path w="92" h="220">
                  <a:moveTo>
                    <a:pt x="0" y="220"/>
                  </a:moveTo>
                  <a:cubicBezTo>
                    <a:pt x="8" y="213"/>
                    <a:pt x="37" y="188"/>
                    <a:pt x="49" y="171"/>
                  </a:cubicBezTo>
                  <a:cubicBezTo>
                    <a:pt x="61" y="154"/>
                    <a:pt x="67" y="134"/>
                    <a:pt x="73" y="115"/>
                  </a:cubicBezTo>
                  <a:cubicBezTo>
                    <a:pt x="79" y="96"/>
                    <a:pt x="81" y="76"/>
                    <a:pt x="84" y="57"/>
                  </a:cubicBezTo>
                  <a:cubicBezTo>
                    <a:pt x="87" y="38"/>
                    <a:pt x="90" y="12"/>
                    <a:pt x="92" y="0"/>
                  </a:cubicBezTo>
                </a:path>
              </a:pathLst>
            </a:custGeom>
            <a:noFill/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6324480" y="380988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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4" name=""/>
          <p:cNvSpPr/>
          <p:nvPr/>
        </p:nvSpPr>
        <p:spPr>
          <a:xfrm>
            <a:off x="685800" y="3532320"/>
            <a:ext cx="3429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Manteo Aparente: Ángulo que forma la proyección vertical con la línea de tier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35" name=""/>
          <p:cNvGrpSpPr/>
          <p:nvPr/>
        </p:nvGrpSpPr>
        <p:grpSpPr>
          <a:xfrm>
            <a:off x="6477120" y="3500280"/>
            <a:ext cx="549000" cy="410760"/>
            <a:chOff x="6477120" y="3500280"/>
            <a:chExt cx="549000" cy="410760"/>
          </a:xfrm>
        </p:grpSpPr>
        <p:sp>
          <p:nvSpPr>
            <p:cNvPr id="736" name=""/>
            <p:cNvSpPr/>
            <p:nvPr/>
          </p:nvSpPr>
          <p:spPr>
            <a:xfrm>
              <a:off x="6910560" y="3500280"/>
              <a:ext cx="115560" cy="373320"/>
            </a:xfrm>
            <a:custGeom>
              <a:avLst/>
              <a:gdLst/>
              <a:ahLst/>
              <a:rect l="l" t="t" r="r" b="b"/>
              <a:pathLst>
                <a:path w="73" h="235">
                  <a:moveTo>
                    <a:pt x="0" y="0"/>
                  </a:moveTo>
                  <a:cubicBezTo>
                    <a:pt x="5" y="8"/>
                    <a:pt x="30" y="25"/>
                    <a:pt x="41" y="48"/>
                  </a:cubicBezTo>
                  <a:cubicBezTo>
                    <a:pt x="52" y="71"/>
                    <a:pt x="60" y="107"/>
                    <a:pt x="65" y="138"/>
                  </a:cubicBezTo>
                  <a:cubicBezTo>
                    <a:pt x="70" y="169"/>
                    <a:pt x="71" y="215"/>
                    <a:pt x="73" y="235"/>
                  </a:cubicBezTo>
                </a:path>
              </a:pathLst>
            </a:custGeom>
            <a:noFill/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6477120" y="3505320"/>
              <a:ext cx="457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s-CL" sz="1800" spc="-1" strike="noStrike" baseline="-25000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d0ca"/>
                </a:solidFill>
                <a:latin typeface="Arial"/>
              </a:rPr>
              <a:t>Estereometría: El Plano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pic>
        <p:nvPicPr>
          <p:cNvPr id="739" name="" descr=""/>
          <p:cNvPicPr/>
          <p:nvPr/>
        </p:nvPicPr>
        <p:blipFill>
          <a:blip r:embed="rId1"/>
          <a:stretch/>
        </p:blipFill>
        <p:spPr>
          <a:xfrm>
            <a:off x="4865760" y="1752480"/>
            <a:ext cx="3655800" cy="4230720"/>
          </a:xfrm>
          <a:prstGeom prst="rect">
            <a:avLst/>
          </a:prstGeom>
          <a:ln w="0">
            <a:noFill/>
          </a:ln>
        </p:spPr>
      </p:pic>
      <p:sp>
        <p:nvSpPr>
          <p:cNvPr id="740" name=""/>
          <p:cNvSpPr/>
          <p:nvPr/>
        </p:nvSpPr>
        <p:spPr>
          <a:xfrm>
            <a:off x="685800" y="1752480"/>
            <a:ext cx="3429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Manteo Real: </a:t>
            </a: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dos métod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41" name=""/>
          <p:cNvGrpSpPr/>
          <p:nvPr/>
        </p:nvGrpSpPr>
        <p:grpSpPr>
          <a:xfrm>
            <a:off x="5486400" y="3124080"/>
            <a:ext cx="2533320" cy="1676520"/>
            <a:chOff x="5486400" y="3124080"/>
            <a:chExt cx="2533320" cy="1676520"/>
          </a:xfrm>
        </p:grpSpPr>
        <p:sp>
          <p:nvSpPr>
            <p:cNvPr id="742" name=""/>
            <p:cNvSpPr/>
            <p:nvPr/>
          </p:nvSpPr>
          <p:spPr>
            <a:xfrm>
              <a:off x="5486400" y="3887640"/>
              <a:ext cx="2512440" cy="912960"/>
            </a:xfrm>
            <a:custGeom>
              <a:avLst/>
              <a:gdLst/>
              <a:ahLst/>
              <a:rect l="l" t="t" r="r" b="b"/>
              <a:pathLst>
                <a:path w="1292" h="479">
                  <a:moveTo>
                    <a:pt x="0" y="0"/>
                  </a:moveTo>
                  <a:lnTo>
                    <a:pt x="1292" y="479"/>
                  </a:ln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5486400" y="3124080"/>
              <a:ext cx="2533320" cy="763560"/>
            </a:xfrm>
            <a:custGeom>
              <a:avLst/>
              <a:gdLst/>
              <a:ahLst/>
              <a:rect l="l" t="t" r="r" b="b"/>
              <a:pathLst>
                <a:path w="1448" h="481">
                  <a:moveTo>
                    <a:pt x="0" y="481"/>
                  </a:moveTo>
                  <a:lnTo>
                    <a:pt x="1448" y="0"/>
                  </a:ln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44" name=""/>
          <p:cNvSpPr/>
          <p:nvPr/>
        </p:nvSpPr>
        <p:spPr>
          <a:xfrm>
            <a:off x="6400800" y="32004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P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7391520" y="46483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685800" y="2438280"/>
            <a:ext cx="3962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Trazar línea de tierra perpendicular a la proyección horizont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09480" y="3276720"/>
            <a:ext cx="39625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Medir cota del plano donde se intersecta LT con L</a:t>
            </a:r>
            <a:r>
              <a:rPr b="0" lang="es-CL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0" lang="es-CL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48" name=""/>
          <p:cNvGrpSpPr/>
          <p:nvPr/>
        </p:nvGrpSpPr>
        <p:grpSpPr>
          <a:xfrm>
            <a:off x="6629400" y="2286000"/>
            <a:ext cx="1828800" cy="3453840"/>
            <a:chOff x="6629400" y="2286000"/>
            <a:chExt cx="1828800" cy="3453840"/>
          </a:xfrm>
        </p:grpSpPr>
        <p:sp>
          <p:nvSpPr>
            <p:cNvPr id="749" name=""/>
            <p:cNvSpPr/>
            <p:nvPr/>
          </p:nvSpPr>
          <p:spPr>
            <a:xfrm flipV="1">
              <a:off x="6934320" y="2590560"/>
              <a:ext cx="1143000" cy="28954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9400" y="5334120"/>
              <a:ext cx="533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ff"/>
                  </a:solidFill>
                  <a:latin typeface="Tahoma"/>
                </a:rPr>
                <a:t>L</a:t>
              </a:r>
              <a:r>
                <a:rPr b="0" lang="es-CL" sz="1800" spc="-1" strike="noStrike" baseline="-25000">
                  <a:solidFill>
                    <a:srgbClr val="0000ff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7924680" y="2286000"/>
              <a:ext cx="533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ff"/>
                  </a:solidFill>
                  <a:latin typeface="Tahoma"/>
                </a:rPr>
                <a:t>T</a:t>
              </a:r>
              <a:r>
                <a:rPr b="0" lang="es-CL" sz="1800" spc="-1" strike="noStrike" baseline="-25000">
                  <a:solidFill>
                    <a:srgbClr val="0000ff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52" name=""/>
          <p:cNvSpPr/>
          <p:nvPr/>
        </p:nvSpPr>
        <p:spPr>
          <a:xfrm>
            <a:off x="7556400" y="3279600"/>
            <a:ext cx="1800" cy="608040"/>
          </a:xfrm>
          <a:custGeom>
            <a:avLst/>
            <a:gdLst/>
            <a:ahLst/>
            <a:rect l="l" t="t" r="r" b="b"/>
            <a:pathLst>
              <a:path w="1" h="383">
                <a:moveTo>
                  <a:pt x="0" y="383"/>
                </a:moveTo>
                <a:lnTo>
                  <a:pt x="0" y="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 flipH="1">
            <a:off x="7010640" y="3276720"/>
            <a:ext cx="1064520" cy="121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284525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284525"/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  <a:headEnd len="med" type="oval" w="med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609480" y="4114800"/>
            <a:ext cx="39625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Rotar esa altura hasta una posición perpendicular a L</a:t>
            </a:r>
            <a:r>
              <a:rPr b="0" lang="es-CL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0" lang="es-CL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7053120" y="3679920"/>
            <a:ext cx="516240" cy="207720"/>
          </a:xfrm>
          <a:custGeom>
            <a:avLst/>
            <a:gdLst/>
            <a:ahLst/>
            <a:rect l="l" t="t" r="r" b="b"/>
            <a:pathLst>
              <a:path w="325" h="131">
                <a:moveTo>
                  <a:pt x="325" y="131"/>
                </a:moveTo>
                <a:lnTo>
                  <a:pt x="0" y="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876920"/>
            <a:ext cx="396252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Trazar recta que una la intersección de P y L</a:t>
            </a:r>
            <a:r>
              <a:rPr b="0" lang="es-CL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0" lang="es-CL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 con el extremo de la altura rotad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7039080" y="3693960"/>
            <a:ext cx="276120" cy="878040"/>
          </a:xfrm>
          <a:custGeom>
            <a:avLst/>
            <a:gdLst/>
            <a:ahLst/>
            <a:rect l="l" t="t" r="r" b="b"/>
            <a:pathLst>
              <a:path w="174" h="553">
                <a:moveTo>
                  <a:pt x="174" y="553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609480" y="5943600"/>
            <a:ext cx="39625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El ángulo que forma esta recta con L</a:t>
            </a:r>
            <a:r>
              <a:rPr b="0" lang="es-CL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0" lang="es-CL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 es el manteo re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9" name=""/>
          <p:cNvGrpSpPr/>
          <p:nvPr/>
        </p:nvGrpSpPr>
        <p:grpSpPr>
          <a:xfrm>
            <a:off x="7129440" y="3886200"/>
            <a:ext cx="490680" cy="405720"/>
            <a:chOff x="7129440" y="3886200"/>
            <a:chExt cx="490680" cy="405720"/>
          </a:xfrm>
        </p:grpSpPr>
        <p:sp>
          <p:nvSpPr>
            <p:cNvPr id="760" name=""/>
            <p:cNvSpPr/>
            <p:nvPr/>
          </p:nvSpPr>
          <p:spPr>
            <a:xfrm>
              <a:off x="7129440" y="3957480"/>
              <a:ext cx="374760" cy="84240"/>
            </a:xfrm>
            <a:custGeom>
              <a:avLst/>
              <a:gdLst/>
              <a:ahLst/>
              <a:rect l="l" t="t" r="r" b="b"/>
              <a:pathLst>
                <a:path w="236" h="53">
                  <a:moveTo>
                    <a:pt x="0" y="4"/>
                  </a:moveTo>
                  <a:cubicBezTo>
                    <a:pt x="13" y="4"/>
                    <a:pt x="45" y="0"/>
                    <a:pt x="69" y="3"/>
                  </a:cubicBezTo>
                  <a:cubicBezTo>
                    <a:pt x="93" y="6"/>
                    <a:pt x="119" y="13"/>
                    <a:pt x="147" y="21"/>
                  </a:cubicBezTo>
                  <a:cubicBezTo>
                    <a:pt x="175" y="29"/>
                    <a:pt x="218" y="46"/>
                    <a:pt x="236" y="5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7162920" y="3886200"/>
              <a:ext cx="457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s-CL" sz="1800" spc="-1" strike="noStrike" baseline="-25000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d0ca"/>
                </a:solidFill>
                <a:latin typeface="Arial"/>
              </a:rPr>
              <a:t>Estereometría: El Plano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pic>
        <p:nvPicPr>
          <p:cNvPr id="763" name="" descr=""/>
          <p:cNvPicPr/>
          <p:nvPr/>
        </p:nvPicPr>
        <p:blipFill>
          <a:blip r:embed="rId1"/>
          <a:stretch/>
        </p:blipFill>
        <p:spPr>
          <a:xfrm>
            <a:off x="4865760" y="1752480"/>
            <a:ext cx="3655800" cy="4230720"/>
          </a:xfrm>
          <a:prstGeom prst="rect">
            <a:avLst/>
          </a:prstGeom>
          <a:ln w="0">
            <a:noFill/>
          </a:ln>
        </p:spPr>
      </p:pic>
      <p:grpSp>
        <p:nvGrpSpPr>
          <p:cNvPr id="764" name=""/>
          <p:cNvGrpSpPr/>
          <p:nvPr/>
        </p:nvGrpSpPr>
        <p:grpSpPr>
          <a:xfrm>
            <a:off x="5486400" y="3124080"/>
            <a:ext cx="2533680" cy="1676520"/>
            <a:chOff x="5486400" y="3124080"/>
            <a:chExt cx="2533680" cy="1676520"/>
          </a:xfrm>
        </p:grpSpPr>
        <p:sp>
          <p:nvSpPr>
            <p:cNvPr id="765" name=""/>
            <p:cNvSpPr/>
            <p:nvPr/>
          </p:nvSpPr>
          <p:spPr>
            <a:xfrm>
              <a:off x="5486400" y="3887640"/>
              <a:ext cx="2513160" cy="912960"/>
            </a:xfrm>
            <a:custGeom>
              <a:avLst/>
              <a:gdLst/>
              <a:ahLst/>
              <a:rect l="l" t="t" r="r" b="b"/>
              <a:pathLst>
                <a:path w="1292" h="479">
                  <a:moveTo>
                    <a:pt x="0" y="0"/>
                  </a:moveTo>
                  <a:lnTo>
                    <a:pt x="1292" y="479"/>
                  </a:ln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486400" y="3124080"/>
              <a:ext cx="2533680" cy="763560"/>
            </a:xfrm>
            <a:custGeom>
              <a:avLst/>
              <a:gdLst/>
              <a:ahLst/>
              <a:rect l="l" t="t" r="r" b="b"/>
              <a:pathLst>
                <a:path w="1448" h="481">
                  <a:moveTo>
                    <a:pt x="0" y="481"/>
                  </a:moveTo>
                  <a:lnTo>
                    <a:pt x="1448" y="0"/>
                  </a:ln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7" name=""/>
          <p:cNvSpPr/>
          <p:nvPr/>
        </p:nvSpPr>
        <p:spPr>
          <a:xfrm>
            <a:off x="6400800" y="32004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P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7391520" y="46483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685800" y="175248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Trazar recta horizontal paralela a la línea de rumb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70" name=""/>
          <p:cNvGrpSpPr/>
          <p:nvPr/>
        </p:nvGrpSpPr>
        <p:grpSpPr>
          <a:xfrm>
            <a:off x="6705360" y="3505320"/>
            <a:ext cx="1752840" cy="990360"/>
            <a:chOff x="6705360" y="3505320"/>
            <a:chExt cx="1752840" cy="990360"/>
          </a:xfrm>
        </p:grpSpPr>
        <p:sp>
          <p:nvSpPr>
            <p:cNvPr id="771" name=""/>
            <p:cNvSpPr/>
            <p:nvPr/>
          </p:nvSpPr>
          <p:spPr>
            <a:xfrm>
              <a:off x="6781680" y="3886200"/>
              <a:ext cx="1676520" cy="609480"/>
            </a:xfrm>
            <a:custGeom>
              <a:avLst/>
              <a:gdLst/>
              <a:ahLst/>
              <a:rect l="l" t="t" r="r" b="b"/>
              <a:pathLst>
                <a:path w="1292" h="479">
                  <a:moveTo>
                    <a:pt x="0" y="0"/>
                  </a:moveTo>
                  <a:lnTo>
                    <a:pt x="1292" y="479"/>
                  </a:ln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6781680" y="3505320"/>
              <a:ext cx="160020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 flipH="1">
              <a:off x="6705000" y="3505320"/>
              <a:ext cx="74520" cy="368280"/>
            </a:xfrm>
            <a:custGeom>
              <a:avLst/>
              <a:gdLst/>
              <a:ahLst/>
              <a:rect l="l" t="t" r="r" b="b"/>
              <a:pathLst>
                <a:path w="1" h="138">
                  <a:moveTo>
                    <a:pt x="0" y="138"/>
                  </a:moveTo>
                  <a:lnTo>
                    <a:pt x="0" y="0"/>
                  </a:lnTo>
                </a:path>
              </a:pathLst>
            </a:cu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74" name=""/>
          <p:cNvSpPr/>
          <p:nvPr/>
        </p:nvSpPr>
        <p:spPr>
          <a:xfrm>
            <a:off x="685800" y="251460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Trazar línea de tierra perpendicular a la línea de rumb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75" name=""/>
          <p:cNvGrpSpPr/>
          <p:nvPr/>
        </p:nvGrpSpPr>
        <p:grpSpPr>
          <a:xfrm>
            <a:off x="5867280" y="1981080"/>
            <a:ext cx="1981440" cy="3606120"/>
            <a:chOff x="5867280" y="1981080"/>
            <a:chExt cx="1981440" cy="3606120"/>
          </a:xfrm>
        </p:grpSpPr>
        <p:sp>
          <p:nvSpPr>
            <p:cNvPr id="776" name=""/>
            <p:cNvSpPr/>
            <p:nvPr/>
          </p:nvSpPr>
          <p:spPr>
            <a:xfrm flipV="1">
              <a:off x="6095880" y="2285640"/>
              <a:ext cx="1447920" cy="3048120"/>
            </a:xfrm>
            <a:prstGeom prst="line">
              <a:avLst/>
            </a:prstGeom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5867280" y="5181480"/>
              <a:ext cx="457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8000"/>
                  </a:solidFill>
                  <a:latin typeface="Tahoma"/>
                </a:rPr>
                <a:t>L</a:t>
              </a:r>
              <a:r>
                <a:rPr b="0" lang="es-CL" sz="1800" spc="-1" strike="noStrike" baseline="-25000">
                  <a:solidFill>
                    <a:srgbClr val="008000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7391520" y="1981080"/>
              <a:ext cx="457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8000"/>
                  </a:solidFill>
                  <a:latin typeface="Tahoma"/>
                </a:rPr>
                <a:t>T</a:t>
              </a:r>
              <a:r>
                <a:rPr b="0" lang="es-CL" sz="1800" spc="-1" strike="noStrike" baseline="-25000">
                  <a:solidFill>
                    <a:srgbClr val="008000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79" name=""/>
          <p:cNvSpPr/>
          <p:nvPr/>
        </p:nvSpPr>
        <p:spPr>
          <a:xfrm>
            <a:off x="685800" y="3276720"/>
            <a:ext cx="3962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Copiar la cota del punto A continuando la proyección horizontal de la recta horizont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 flipH="1" flipV="1">
            <a:off x="6477120" y="3733560"/>
            <a:ext cx="304560" cy="1522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6477120" y="3733920"/>
            <a:ext cx="110880" cy="566640"/>
          </a:xfrm>
          <a:custGeom>
            <a:avLst/>
            <a:gdLst/>
            <a:ahLst/>
            <a:rect l="l" t="t" r="r" b="b"/>
            <a:pathLst>
              <a:path w="70" h="357">
                <a:moveTo>
                  <a:pt x="70" y="357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685800" y="4341960"/>
            <a:ext cx="396252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Trazar una recta que una el extremo del trazo anterior con la intersección de P con L</a:t>
            </a:r>
            <a:r>
              <a:rPr b="0" lang="es-CL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0" lang="es-CL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85800" y="5408640"/>
            <a:ext cx="39625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El ángulo que forma esta recta con L</a:t>
            </a:r>
            <a:r>
              <a:rPr b="0" lang="es-CL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0" lang="es-CL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 es el manteo re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4" name=""/>
          <p:cNvGrpSpPr/>
          <p:nvPr/>
        </p:nvGrpSpPr>
        <p:grpSpPr>
          <a:xfrm>
            <a:off x="5638680" y="3938760"/>
            <a:ext cx="1103400" cy="658080"/>
            <a:chOff x="5638680" y="3938760"/>
            <a:chExt cx="1103400" cy="658080"/>
          </a:xfrm>
        </p:grpSpPr>
        <p:sp>
          <p:nvSpPr>
            <p:cNvPr id="785" name=""/>
            <p:cNvSpPr/>
            <p:nvPr/>
          </p:nvSpPr>
          <p:spPr>
            <a:xfrm>
              <a:off x="6523200" y="3938760"/>
              <a:ext cx="218880" cy="52200"/>
            </a:xfrm>
            <a:custGeom>
              <a:avLst/>
              <a:gdLst/>
              <a:ahLst/>
              <a:rect l="l" t="t" r="r" b="b"/>
              <a:pathLst>
                <a:path w="138" h="33">
                  <a:moveTo>
                    <a:pt x="0" y="0"/>
                  </a:moveTo>
                  <a:cubicBezTo>
                    <a:pt x="9" y="1"/>
                    <a:pt x="42" y="2"/>
                    <a:pt x="65" y="8"/>
                  </a:cubicBezTo>
                  <a:cubicBezTo>
                    <a:pt x="88" y="14"/>
                    <a:pt x="123" y="28"/>
                    <a:pt x="138" y="3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 flipV="1">
              <a:off x="5943600" y="4038120"/>
              <a:ext cx="6858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5638680" y="4191120"/>
              <a:ext cx="6098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s-CL" sz="1800" spc="-1" strike="noStrike" baseline="-25000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08000" y="1197000"/>
            <a:ext cx="4846680" cy="4691160"/>
          </a:xfrm>
          <a:prstGeom prst="rect">
            <a:avLst/>
          </a:prstGeom>
          <a:ln w="38160">
            <a:solidFill>
              <a:srgbClr val="a7a491"/>
            </a:solidFill>
            <a:miter/>
          </a:ln>
        </p:spPr>
      </p:pic>
      <p:pic>
        <p:nvPicPr>
          <p:cNvPr id="129" name="" descr=""/>
          <p:cNvPicPr/>
          <p:nvPr/>
        </p:nvPicPr>
        <p:blipFill>
          <a:blip r:embed="rId2"/>
          <a:srcRect l="3795" t="0" r="0" b="0"/>
          <a:stretch/>
        </p:blipFill>
        <p:spPr>
          <a:xfrm>
            <a:off x="5292720" y="1413000"/>
            <a:ext cx="3651120" cy="4233600"/>
          </a:xfrm>
          <a:prstGeom prst="rect">
            <a:avLst/>
          </a:prstGeom>
          <a:ln w="38160">
            <a:solidFill>
              <a:srgbClr val="a7a491"/>
            </a:solidFill>
            <a:miter/>
          </a:ln>
        </p:spPr>
      </p:pic>
      <p:sp>
        <p:nvSpPr>
          <p:cNvPr id="130" name=""/>
          <p:cNvSpPr/>
          <p:nvPr/>
        </p:nvSpPr>
        <p:spPr>
          <a:xfrm>
            <a:off x="519120" y="5243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d0ca"/>
                </a:solidFill>
                <a:latin typeface="Arial"/>
              </a:rPr>
              <a:t>Estereometría: Geometría Diédrica</a:t>
            </a:r>
            <a:endParaRPr b="0" lang="en-US" sz="40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0240" y="5950080"/>
            <a:ext cx="627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lementos fundamentales: 2 planos de Proyección, </a:t>
            </a:r>
            <a:r>
              <a:rPr b="1" lang="en-US" sz="1800" spc="-1" strike="noStrike">
                <a:solidFill>
                  <a:srgbClr val="33cc33"/>
                </a:solidFill>
                <a:latin typeface="Tahoma"/>
              </a:rPr>
              <a:t>H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y</a:t>
            </a:r>
            <a:r>
              <a:rPr b="1" lang="en-US" sz="1800" spc="-1" strike="noStrike">
                <a:solidFill>
                  <a:srgbClr val="33cc33"/>
                </a:solidFill>
                <a:latin typeface="Tahoma"/>
              </a:rPr>
              <a:t> 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2700000" y="1413000"/>
            <a:ext cx="1584720" cy="2160000"/>
            <a:chOff x="2700000" y="1413000"/>
            <a:chExt cx="1584720" cy="2160000"/>
          </a:xfrm>
        </p:grpSpPr>
        <p:sp>
          <p:nvSpPr>
            <p:cNvPr id="134" name=""/>
            <p:cNvSpPr/>
            <p:nvPr/>
          </p:nvSpPr>
          <p:spPr>
            <a:xfrm flipH="1">
              <a:off x="2700000" y="1413000"/>
              <a:ext cx="358920" cy="144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3924360" y="3430080"/>
              <a:ext cx="360360" cy="142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80280" y="6324480"/>
            <a:ext cx="474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ecta de intersección: Línea de Tierra </a:t>
            </a:r>
            <a:r>
              <a:rPr b="1" lang="en-US" sz="1800" spc="-1" strike="noStrike">
                <a:solidFill>
                  <a:srgbClr val="ff3300"/>
                </a:solidFill>
                <a:latin typeface="Tahoma"/>
              </a:rPr>
              <a:t>L</a:t>
            </a:r>
            <a:r>
              <a:rPr b="0" lang="en-US" sz="18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y</a:t>
            </a:r>
            <a:r>
              <a:rPr b="0" lang="en-US" sz="18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Tahoma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332000" y="2708280"/>
            <a:ext cx="1944360" cy="1657440"/>
            <a:chOff x="1332000" y="2708280"/>
            <a:chExt cx="1944360" cy="1657440"/>
          </a:xfrm>
        </p:grpSpPr>
        <p:sp>
          <p:nvSpPr>
            <p:cNvPr id="138" name=""/>
            <p:cNvSpPr/>
            <p:nvPr/>
          </p:nvSpPr>
          <p:spPr>
            <a:xfrm flipV="1">
              <a:off x="1332000" y="4149720"/>
              <a:ext cx="431640" cy="216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>
              <a:off x="2916000" y="2708280"/>
              <a:ext cx="360360" cy="2890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6397560" y="5661000"/>
            <a:ext cx="12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epura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301680" y="439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d0ca"/>
                </a:solidFill>
                <a:latin typeface="Arial"/>
              </a:rPr>
              <a:t>Estereometría: Intersecciones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10800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Recta y plano front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0" name="" descr=""/>
          <p:cNvPicPr/>
          <p:nvPr/>
        </p:nvPicPr>
        <p:blipFill>
          <a:blip r:embed="rId1"/>
          <a:stretch/>
        </p:blipFill>
        <p:spPr>
          <a:xfrm>
            <a:off x="4067280" y="1052640"/>
            <a:ext cx="5033880" cy="5616360"/>
          </a:xfrm>
          <a:prstGeom prst="rect">
            <a:avLst/>
          </a:prstGeom>
          <a:ln w="0">
            <a:noFill/>
          </a:ln>
        </p:spPr>
      </p:pic>
      <p:grpSp>
        <p:nvGrpSpPr>
          <p:cNvPr id="791" name=""/>
          <p:cNvGrpSpPr/>
          <p:nvPr/>
        </p:nvGrpSpPr>
        <p:grpSpPr>
          <a:xfrm>
            <a:off x="5105520" y="2209680"/>
            <a:ext cx="3047760" cy="2882880"/>
            <a:chOff x="5105520" y="2209680"/>
            <a:chExt cx="3047760" cy="2882880"/>
          </a:xfrm>
        </p:grpSpPr>
        <p:sp>
          <p:nvSpPr>
            <p:cNvPr id="792" name=""/>
            <p:cNvSpPr/>
            <p:nvPr/>
          </p:nvSpPr>
          <p:spPr>
            <a:xfrm flipV="1">
              <a:off x="5334120" y="2438280"/>
              <a:ext cx="2438280" cy="144792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5333760" y="3886200"/>
              <a:ext cx="2438280" cy="9144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5334120" y="3886200"/>
              <a:ext cx="0" cy="9144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 flipV="1">
              <a:off x="7772400" y="2438280"/>
              <a:ext cx="0" cy="14479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5105520" y="350532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Tahoma"/>
                </a:rPr>
                <a:t>a’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5105520" y="472428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7696080" y="388620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7772400" y="220968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Tahoma"/>
                </a:rPr>
                <a:t>b’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00" name=""/>
          <p:cNvGrpSpPr/>
          <p:nvPr/>
        </p:nvGrpSpPr>
        <p:grpSpPr>
          <a:xfrm>
            <a:off x="5105520" y="4419720"/>
            <a:ext cx="3429000" cy="368280"/>
            <a:chOff x="5105520" y="4419720"/>
            <a:chExt cx="3429000" cy="368280"/>
          </a:xfrm>
        </p:grpSpPr>
        <p:sp>
          <p:nvSpPr>
            <p:cNvPr id="801" name=""/>
            <p:cNvSpPr/>
            <p:nvPr/>
          </p:nvSpPr>
          <p:spPr>
            <a:xfrm>
              <a:off x="5105520" y="4419720"/>
              <a:ext cx="3429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7924680" y="441972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Tahoma"/>
                </a:rPr>
                <a:t>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03" name=""/>
          <p:cNvGrpSpPr/>
          <p:nvPr/>
        </p:nvGrpSpPr>
        <p:grpSpPr>
          <a:xfrm>
            <a:off x="6172200" y="2971800"/>
            <a:ext cx="457200" cy="1816200"/>
            <a:chOff x="6172200" y="2971800"/>
            <a:chExt cx="457200" cy="1816200"/>
          </a:xfrm>
        </p:grpSpPr>
        <p:sp>
          <p:nvSpPr>
            <p:cNvPr id="804" name=""/>
            <p:cNvSpPr/>
            <p:nvPr/>
          </p:nvSpPr>
          <p:spPr>
            <a:xfrm>
              <a:off x="6367320" y="3267000"/>
              <a:ext cx="1800" cy="1149480"/>
            </a:xfrm>
            <a:custGeom>
              <a:avLst/>
              <a:gdLst/>
              <a:ahLst/>
              <a:rect l="l" t="t" r="r" b="b"/>
              <a:pathLst>
                <a:path w="1" h="724">
                  <a:moveTo>
                    <a:pt x="0" y="724"/>
                  </a:moveTo>
                  <a:lnTo>
                    <a:pt x="0" y="0"/>
                  </a:lnTo>
                </a:path>
              </a:pathLst>
            </a:cu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6172200" y="2971800"/>
              <a:ext cx="380880" cy="368280"/>
            </a:xfrm>
            <a:prstGeom prst="rect">
              <a:avLst/>
            </a:prstGeom>
            <a:noFill/>
            <a:ln cap="rnd" w="93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Tahoma"/>
                </a:rPr>
                <a:t>c’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6248520" y="4419720"/>
              <a:ext cx="380880" cy="368280"/>
            </a:xfrm>
            <a:prstGeom prst="rect">
              <a:avLst/>
            </a:prstGeom>
            <a:noFill/>
            <a:ln cap="rnd" w="93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d0ca"/>
                </a:solidFill>
                <a:latin typeface="Arial"/>
              </a:rPr>
              <a:t>Ejemplos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47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ado un plano y un punto, verificar si el punto pertenece al plan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Intersectar una recta con un plano horizont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Intersectar una recta con un plano front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Intersectar una recta con un plano de fug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d0ca"/>
                </a:solidFill>
                <a:latin typeface="Arial"/>
              </a:rPr>
              <a:t>Ejemplos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47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ados dos planos, determinar la recta que representa su intersecció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Dado un plano de orientación N30º E/60º E, determinar el manteo aparente según una línea de tierra de orientación Norte-Su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En un depurado con línea de tierra de orientación Norte-Sur, se encuentra un plano con rumbo N75º W y manteo aparente 20º N. Determinar el manteo re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d0ca"/>
                </a:solidFill>
                <a:latin typeface="Arial"/>
              </a:rPr>
              <a:t>Tarea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47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Fecha de Entrega: Próximo Vier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d0ca"/>
                </a:solidFill>
                <a:latin typeface="Arial"/>
              </a:rPr>
              <a:t>Estereometría: El punto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5292720" y="1427040"/>
            <a:ext cx="3794040" cy="42339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179280" y="1330200"/>
            <a:ext cx="4846680" cy="4691160"/>
          </a:xfrm>
          <a:prstGeom prst="rect">
            <a:avLst/>
          </a:prstGeom>
          <a:ln w="0">
            <a:noFill/>
          </a:ln>
        </p:spPr>
      </p:pic>
      <p:grpSp>
        <p:nvGrpSpPr>
          <p:cNvPr id="144" name=""/>
          <p:cNvGrpSpPr/>
          <p:nvPr/>
        </p:nvGrpSpPr>
        <p:grpSpPr>
          <a:xfrm>
            <a:off x="3276720" y="2292480"/>
            <a:ext cx="574560" cy="415800"/>
            <a:chOff x="3276720" y="2292480"/>
            <a:chExt cx="574560" cy="415800"/>
          </a:xfrm>
        </p:grpSpPr>
        <p:sp>
          <p:nvSpPr>
            <p:cNvPr id="145" name=""/>
            <p:cNvSpPr/>
            <p:nvPr/>
          </p:nvSpPr>
          <p:spPr>
            <a:xfrm>
              <a:off x="3276720" y="2565360"/>
              <a:ext cx="142920" cy="142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400560" y="2292480"/>
              <a:ext cx="45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2270160" y="2276640"/>
            <a:ext cx="1456200" cy="1591920"/>
            <a:chOff x="2270160" y="2276640"/>
            <a:chExt cx="1456200" cy="1591920"/>
          </a:xfrm>
        </p:grpSpPr>
        <p:sp>
          <p:nvSpPr>
            <p:cNvPr id="148" name=""/>
            <p:cNvSpPr/>
            <p:nvPr/>
          </p:nvSpPr>
          <p:spPr>
            <a:xfrm>
              <a:off x="2484360" y="2637000"/>
              <a:ext cx="8636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348000" y="2637000"/>
              <a:ext cx="0" cy="10080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0" name=""/>
            <p:cNvGrpSpPr/>
            <p:nvPr/>
          </p:nvGrpSpPr>
          <p:grpSpPr>
            <a:xfrm>
              <a:off x="3274920" y="3500280"/>
              <a:ext cx="451440" cy="368280"/>
              <a:chOff x="3274920" y="3500280"/>
              <a:chExt cx="451440" cy="368280"/>
            </a:xfrm>
          </p:grpSpPr>
          <p:sp>
            <p:nvSpPr>
              <p:cNvPr id="151" name=""/>
              <p:cNvSpPr/>
              <p:nvPr/>
            </p:nvSpPr>
            <p:spPr>
              <a:xfrm>
                <a:off x="3274920" y="3573360"/>
                <a:ext cx="144720" cy="142920"/>
              </a:xfrm>
              <a:prstGeom prst="ellipse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3417480" y="3500280"/>
                <a:ext cx="308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3" name=""/>
            <p:cNvGrpSpPr/>
            <p:nvPr/>
          </p:nvGrpSpPr>
          <p:grpSpPr>
            <a:xfrm>
              <a:off x="2270160" y="2276640"/>
              <a:ext cx="348480" cy="431640"/>
              <a:chOff x="2270160" y="2276640"/>
              <a:chExt cx="348480" cy="431640"/>
            </a:xfrm>
          </p:grpSpPr>
          <p:sp>
            <p:nvSpPr>
              <p:cNvPr id="154" name=""/>
              <p:cNvSpPr/>
              <p:nvPr/>
            </p:nvSpPr>
            <p:spPr>
              <a:xfrm>
                <a:off x="2340000" y="2565360"/>
                <a:ext cx="144360" cy="142920"/>
              </a:xfrm>
              <a:prstGeom prst="ellipse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2270160" y="2276640"/>
                <a:ext cx="348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a’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56" name=""/>
          <p:cNvGrpSpPr/>
          <p:nvPr/>
        </p:nvGrpSpPr>
        <p:grpSpPr>
          <a:xfrm>
            <a:off x="6878880" y="2205000"/>
            <a:ext cx="447840" cy="2455920"/>
            <a:chOff x="6878880" y="2205000"/>
            <a:chExt cx="447840" cy="2455920"/>
          </a:xfrm>
        </p:grpSpPr>
        <p:grpSp>
          <p:nvGrpSpPr>
            <p:cNvPr id="157" name=""/>
            <p:cNvGrpSpPr/>
            <p:nvPr/>
          </p:nvGrpSpPr>
          <p:grpSpPr>
            <a:xfrm>
              <a:off x="6878880" y="2205000"/>
              <a:ext cx="348480" cy="431640"/>
              <a:chOff x="6878880" y="2205000"/>
              <a:chExt cx="348480" cy="431640"/>
            </a:xfrm>
          </p:grpSpPr>
          <p:sp>
            <p:nvSpPr>
              <p:cNvPr id="158" name=""/>
              <p:cNvSpPr/>
              <p:nvPr/>
            </p:nvSpPr>
            <p:spPr>
              <a:xfrm>
                <a:off x="6948720" y="2493720"/>
                <a:ext cx="144360" cy="142920"/>
              </a:xfrm>
              <a:prstGeom prst="ellipse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6878880" y="2205000"/>
                <a:ext cx="348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a’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0" name=""/>
            <p:cNvGrpSpPr/>
            <p:nvPr/>
          </p:nvGrpSpPr>
          <p:grpSpPr>
            <a:xfrm>
              <a:off x="6948360" y="4292640"/>
              <a:ext cx="378360" cy="368280"/>
              <a:chOff x="6948360" y="4292640"/>
              <a:chExt cx="378360" cy="368280"/>
            </a:xfrm>
          </p:grpSpPr>
          <p:sp>
            <p:nvSpPr>
              <p:cNvPr id="161" name=""/>
              <p:cNvSpPr/>
              <p:nvPr/>
            </p:nvSpPr>
            <p:spPr>
              <a:xfrm>
                <a:off x="6948360" y="4365720"/>
                <a:ext cx="144720" cy="142920"/>
              </a:xfrm>
              <a:prstGeom prst="ellipse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7017840" y="4292640"/>
                <a:ext cx="308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63" name=""/>
          <p:cNvGrpSpPr/>
          <p:nvPr/>
        </p:nvGrpSpPr>
        <p:grpSpPr>
          <a:xfrm>
            <a:off x="2133720" y="2895480"/>
            <a:ext cx="921600" cy="825480"/>
            <a:chOff x="2133720" y="2895480"/>
            <a:chExt cx="921600" cy="825480"/>
          </a:xfrm>
        </p:grpSpPr>
        <p:sp>
          <p:nvSpPr>
            <p:cNvPr id="164" name=""/>
            <p:cNvSpPr/>
            <p:nvPr/>
          </p:nvSpPr>
          <p:spPr>
            <a:xfrm>
              <a:off x="2133720" y="289548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742120" y="3352680"/>
              <a:ext cx="31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411280" y="2637000"/>
            <a:ext cx="936720" cy="1008000"/>
            <a:chOff x="2411280" y="2637000"/>
            <a:chExt cx="936720" cy="1008000"/>
          </a:xfrm>
        </p:grpSpPr>
        <p:sp>
          <p:nvSpPr>
            <p:cNvPr id="167" name=""/>
            <p:cNvSpPr/>
            <p:nvPr/>
          </p:nvSpPr>
          <p:spPr>
            <a:xfrm>
              <a:off x="2411280" y="2637000"/>
              <a:ext cx="0" cy="10080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411280" y="3645000"/>
              <a:ext cx="93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6947640" y="2565360"/>
            <a:ext cx="313200" cy="1871280"/>
            <a:chOff x="6947640" y="2565360"/>
            <a:chExt cx="313200" cy="1871280"/>
          </a:xfrm>
        </p:grpSpPr>
        <p:sp>
          <p:nvSpPr>
            <p:cNvPr id="170" name=""/>
            <p:cNvSpPr/>
            <p:nvPr/>
          </p:nvSpPr>
          <p:spPr>
            <a:xfrm>
              <a:off x="6947640" y="2917800"/>
              <a:ext cx="31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947640" y="3925800"/>
              <a:ext cx="31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020000" y="2565360"/>
              <a:ext cx="0" cy="10080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7020000" y="357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611280" y="2133720"/>
            <a:ext cx="1296720" cy="1077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539320" y="5748480"/>
            <a:ext cx="183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h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= co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= alejamien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895480" y="4114800"/>
            <a:ext cx="13716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1542960" y="2688840"/>
            <a:ext cx="1809360" cy="2327760"/>
            <a:chOff x="1542960" y="2688840"/>
            <a:chExt cx="1809360" cy="2327760"/>
          </a:xfrm>
        </p:grpSpPr>
        <p:sp>
          <p:nvSpPr>
            <p:cNvPr id="178" name=""/>
            <p:cNvSpPr/>
            <p:nvPr/>
          </p:nvSpPr>
          <p:spPr>
            <a:xfrm>
              <a:off x="2362320" y="4572000"/>
              <a:ext cx="144360" cy="142920"/>
            </a:xfrm>
            <a:prstGeom prst="ellipse">
              <a:avLst/>
            </a:prstGeom>
            <a:solidFill>
              <a:srgbClr val="33cccc"/>
            </a:solidFill>
            <a:ln cap="rnd" w="93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288520" y="4648320"/>
              <a:ext cx="308880" cy="368280"/>
            </a:xfrm>
            <a:prstGeom prst="rect">
              <a:avLst/>
            </a:prstGeom>
            <a:noFill/>
            <a:ln cap="rnd" w="93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1542960" y="2688840"/>
              <a:ext cx="1809360" cy="1959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88" y="1"/>
                  </a:moveTo>
                  <a:arcTo wR="10800" hR="10800" stAng="-5435767" swAng="547419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88" y="1"/>
                  </a:moveTo>
                  <a:arcTo wR="10800" hR="10800" stAng="-5435767" swAng="5474190"/>
                </a:path>
              </a:pathLst>
            </a:custGeom>
            <a:noFill/>
            <a:ln cap="rnd" w="12600">
              <a:solidFill>
                <a:srgbClr val="000000"/>
              </a:solidFill>
              <a:custDash>
                <a:ds d="100000" sp="1000"/>
              </a:custDash>
              <a:miter/>
              <a:headEnd len="med" type="triangle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416320" y="3641760"/>
              <a:ext cx="1440" cy="1008000"/>
            </a:xfrm>
            <a:custGeom>
              <a:avLst/>
              <a:gdLst/>
              <a:ahLst/>
              <a:rect l="l" t="t" r="r" b="b"/>
              <a:pathLst>
                <a:path w="1" h="635">
                  <a:moveTo>
                    <a:pt x="0" y="0"/>
                  </a:moveTo>
                  <a:lnTo>
                    <a:pt x="0" y="635"/>
                  </a:lnTo>
                </a:path>
              </a:pathLst>
            </a:cu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2602080" y="3656880"/>
            <a:ext cx="1063440" cy="1220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433" y="12694"/>
                </a:moveTo>
                <a:arcTo wR="10800" hR="10800" stAng="605874" swAng="4116907"/>
                <a:lnTo>
                  <a:pt x="10800" y="10800"/>
                </a:lnTo>
                <a:close/>
              </a:path>
              <a:path fill="none" w="21600" h="21600">
                <a:moveTo>
                  <a:pt x="21433" y="12694"/>
                </a:moveTo>
                <a:arcTo wR="10800" hR="10800" stAng="605874" swAng="4116907"/>
              </a:path>
            </a:pathLst>
          </a:custGeom>
          <a:noFill/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d0ca"/>
                </a:solidFill>
                <a:latin typeface="Arial"/>
              </a:rPr>
              <a:t>Estereometría: El punto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84232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Regl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Todo punto en el cuadrante I tiene su proyección vertical (PV) sobre LT y la proyección horizontal (PH) bajo L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Todo punto en el cuadrante II tiene sus 2 proyecciones sobre 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Todo punto en el cuadrante III tiene su PV bajo LT y su PH sobre 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Todo punto en el cuadrante IV tiene sus 2 proyecciones bajo L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Todo punto ubicado en uno de los planos de proyeccion tiene una de sus proyecciones (ya sea PV o PH) en L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Todo punto en el primer bisector tiene 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h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d0ca"/>
                </a:solidFill>
                <a:latin typeface="Arial"/>
              </a:rPr>
              <a:t>Estereometría: Cambio de LT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1523880"/>
            <a:ext cx="7848720" cy="48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Para rotar la Línea de Tierra sólo se acepta giros del plano vertical o del plano horizontal. No se pueden girar ambos simultáneamen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Giro del plano vertica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LT =&gt; L</a:t>
            </a:r>
            <a:r>
              <a:rPr b="0" lang="es-CL" sz="2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0" lang="es-CL" sz="2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a’, a =&gt; a</a:t>
            </a:r>
            <a:r>
              <a:rPr b="0" lang="es-CL" sz="2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’, a (las proyecciones horizontales no cambia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d0ca"/>
                </a:solidFill>
                <a:latin typeface="Arial"/>
              </a:rPr>
              <a:t>Estereometría: Cambio de LT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1523880"/>
            <a:ext cx="7848720" cy="20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Giro del plano horizonta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LT =&gt; L’T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a’, a =&gt; a’, a</a:t>
            </a:r>
            <a:r>
              <a:rPr b="0" lang="es-CL" sz="2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 (las proyecciones verticales no cambia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d0ca"/>
                </a:solidFill>
                <a:latin typeface="Arial"/>
              </a:rPr>
              <a:t>Estereometría: Cambio de LT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09480" y="152388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5029200" y="1523880"/>
            <a:ext cx="3794040" cy="42339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685800" y="1600200"/>
            <a:ext cx="4030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Cambio de plano vertica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781680" y="2743200"/>
            <a:ext cx="0" cy="15238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781680" y="304812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73392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629400" y="426708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553080" y="236232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a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55640" y="2637000"/>
            <a:ext cx="38862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Trazar nueva línea de tierra (L</a:t>
            </a:r>
            <a:r>
              <a:rPr b="0" lang="es-CL" sz="24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0" lang="es-CL" sz="24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5562720" y="2057400"/>
            <a:ext cx="3047760" cy="2996640"/>
            <a:chOff x="5562720" y="2057400"/>
            <a:chExt cx="3047760" cy="2996640"/>
          </a:xfrm>
        </p:grpSpPr>
        <p:sp>
          <p:nvSpPr>
            <p:cNvPr id="200" name=""/>
            <p:cNvSpPr/>
            <p:nvPr/>
          </p:nvSpPr>
          <p:spPr>
            <a:xfrm flipV="1">
              <a:off x="5791320" y="2438280"/>
              <a:ext cx="2514600" cy="228600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62720" y="4648320"/>
              <a:ext cx="533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ff3300"/>
                  </a:solidFill>
                  <a:latin typeface="Tahoma"/>
                </a:rPr>
                <a:t>L</a:t>
              </a:r>
              <a:r>
                <a:rPr b="0" lang="es-CL" sz="1800" spc="-1" strike="noStrike" baseline="-25000">
                  <a:solidFill>
                    <a:srgbClr val="ff3300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153280" y="2057400"/>
              <a:ext cx="457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ff3300"/>
                  </a:solidFill>
                  <a:latin typeface="Tahoma"/>
                </a:rPr>
                <a:t>T</a:t>
              </a:r>
              <a:r>
                <a:rPr b="0" lang="es-CL" sz="1800" spc="-1" strike="noStrike" baseline="-25000">
                  <a:solidFill>
                    <a:srgbClr val="ff3300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684360" y="3645000"/>
            <a:ext cx="38862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Trazar perpendicular a L</a:t>
            </a:r>
            <a:r>
              <a:rPr b="0" lang="es-CL" sz="24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0" lang="es-CL" sz="24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, que pase por 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5943600" y="3123720"/>
            <a:ext cx="838080" cy="1143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84360" y="4653000"/>
            <a:ext cx="38862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A una distancia h de L</a:t>
            </a:r>
            <a:r>
              <a:rPr b="0" lang="es-CL" sz="24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0" lang="es-CL" sz="24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 está ubicado a</a:t>
            </a:r>
            <a:r>
              <a:rPr b="0" lang="es-CL" sz="24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’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705720" y="2666880"/>
            <a:ext cx="152280" cy="15264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705720" y="4191120"/>
            <a:ext cx="152280" cy="152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5638680" y="2666880"/>
            <a:ext cx="838440" cy="978120"/>
            <a:chOff x="5638680" y="2666880"/>
            <a:chExt cx="838440" cy="978120"/>
          </a:xfrm>
        </p:grpSpPr>
        <p:sp>
          <p:nvSpPr>
            <p:cNvPr id="209" name=""/>
            <p:cNvSpPr/>
            <p:nvPr/>
          </p:nvSpPr>
          <p:spPr>
            <a:xfrm>
              <a:off x="5867280" y="3048120"/>
              <a:ext cx="152640" cy="15228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638680" y="2666880"/>
              <a:ext cx="457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s-CL" sz="1800" spc="-1" strike="noStrike" baseline="-25000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s-CL" sz="1800" spc="-1" strike="noStrike">
                  <a:solidFill>
                    <a:srgbClr val="000000"/>
                  </a:solidFill>
                  <a:latin typeface="Tahoma"/>
                </a:rPr>
                <a:t>’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248520" y="327672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8T20:25:09Z</dcterms:created>
  <dc:creator>Andrés Fock Kunstmann</dc:creator>
  <dc:description/>
  <dc:language>en-US</dc:language>
  <cp:lastModifiedBy>Daniel</cp:lastModifiedBy>
  <dcterms:modified xsi:type="dcterms:W3CDTF">2005-08-12T00:02:40Z</dcterms:modified>
  <cp:revision>25</cp:revision>
  <dc:subject/>
  <dc:title>Diapositiva 1</dc:title>
</cp:coreProperties>
</file>