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3B7-CD65-480F-9D31-7CCEDD48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990-559C-417C-A398-E8D2B5C1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015-8F50-4B3C-850B-7E73F2AB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BD9-128D-4AFF-AA70-E60ACBEF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82214-5944-4286-BA68-9ADCBC27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B9F3C-5CB7-4FC1-95A8-7FBFC482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35B2A-328A-4CC5-84CB-A854AB2E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A255A-B794-4FF2-AE65-6FBD6C32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CEB62-9E47-420E-AC20-845453C6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9D803-C57B-4B2B-BC76-1B361659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639E7-A2B9-4B0C-8970-1D9EF83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DD9-C1B4-4A6E-8F2D-CA235297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98DAA-85AF-4072-A28B-FE68033F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CF5A9-A0E6-4A3D-A528-96CEA2F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851A4-F9D3-474A-838D-6BC9DE00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93B85-EA2B-4024-A140-FE74BCD8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4654F-0A0F-477C-9871-06799B7A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57E-6B3B-4691-BD5C-AD1820A2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123-9BE6-41C8-ADC0-11A26D2A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479-DA90-4914-BC2B-94116C88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3A6-E965-4A05-B7C3-AFAA6ADD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BC2-4EE3-4F95-8CEE-53878B8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3B2-A376-4375-823C-68CC2C21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4B1-1A74-4BF6-A559-24CD961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B617-97A1-480D-ACF7-06B6F02DA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6883-2E34-4C53-8CAF-FCEE1EFD4B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d0ca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ccd0ca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1600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horizon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27432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637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’T’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562720" y="2057400"/>
            <a:ext cx="3047760" cy="2959200"/>
            <a:chOff x="5562720" y="2057400"/>
            <a:chExt cx="3047760" cy="2959200"/>
          </a:xfrm>
        </p:grpSpPr>
        <p:sp>
          <p:nvSpPr>
            <p:cNvPr id="223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2720" y="46483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3280" y="20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85800" y="345744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perpendicular a L’T’, que pase por a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47840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 una distancia d de L’T’ está ubicado a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2743200"/>
            <a:ext cx="91440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467480" y="3276720"/>
            <a:ext cx="685800" cy="862920"/>
            <a:chOff x="7467480" y="3276720"/>
            <a:chExt cx="685800" cy="862920"/>
          </a:xfrm>
        </p:grpSpPr>
        <p:sp>
          <p:nvSpPr>
            <p:cNvPr id="232" name=""/>
            <p:cNvSpPr/>
            <p:nvPr/>
          </p:nvSpPr>
          <p:spPr>
            <a:xfrm>
              <a:off x="7620120" y="3733920"/>
              <a:ext cx="152280" cy="152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67480" y="32767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96080" y="3733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bujar un pu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primer cuadr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cuarto cuadr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ado un punto en el tercer cuadrante, rotar la línea de tierra horizontalmente 45º en sentido de los punteros del relo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251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6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64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131400" y="5516640"/>
            <a:ext cx="941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 mejor es usar colores para rectas y planos Aux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8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9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308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312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316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320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331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348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363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77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85800" y="1600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ver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261936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562720" y="2057400"/>
            <a:ext cx="3047760" cy="2996640"/>
            <a:chOff x="5562720" y="2057400"/>
            <a:chExt cx="3047760" cy="2996640"/>
          </a:xfrm>
        </p:grpSpPr>
        <p:sp>
          <p:nvSpPr>
            <p:cNvPr id="394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5328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85800" y="351324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os nuevos puntos extremos de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700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bujar la nuev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172200" y="2895120"/>
            <a:ext cx="1828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001000" y="289548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72200" y="3657600"/>
            <a:ext cx="1828800" cy="914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172200" y="36576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246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010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4360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58080" y="2514600"/>
            <a:ext cx="1028520" cy="1967040"/>
          </a:xfrm>
          <a:custGeom>
            <a:avLst/>
            <a:gdLst/>
            <a:ahLst/>
            <a:rect l="l" t="t" r="r" b="b"/>
            <a:pathLst>
              <a:path w="648" h="1239">
                <a:moveTo>
                  <a:pt x="0" y="1239"/>
                </a:moveTo>
                <a:lnTo>
                  <a:pt x="648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638680" y="2133720"/>
            <a:ext cx="2362320" cy="2463120"/>
            <a:chOff x="5638680" y="2133720"/>
            <a:chExt cx="2362320" cy="2463120"/>
          </a:xfrm>
        </p:grpSpPr>
        <p:sp>
          <p:nvSpPr>
            <p:cNvPr id="409" name=""/>
            <p:cNvSpPr/>
            <p:nvPr/>
          </p:nvSpPr>
          <p:spPr>
            <a:xfrm>
              <a:off x="6070680" y="4468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6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7086600" y="2514240"/>
              <a:ext cx="914400" cy="1143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34320" y="2133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38680" y="41911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85800" y="1600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horizon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61936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’T’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562720" y="2514600"/>
            <a:ext cx="3352680" cy="2539440"/>
            <a:chOff x="5562720" y="2514600"/>
            <a:chExt cx="3352680" cy="2539440"/>
          </a:xfrm>
        </p:grpSpPr>
        <p:sp>
          <p:nvSpPr>
            <p:cNvPr id="419" name=""/>
            <p:cNvSpPr/>
            <p:nvPr/>
          </p:nvSpPr>
          <p:spPr>
            <a:xfrm flipV="1">
              <a:off x="5791320" y="2895480"/>
              <a:ext cx="2743200" cy="1828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58200" y="25146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85800" y="351324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os nuevos puntos extremos de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4700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bujar la nuev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6172200" y="2895120"/>
            <a:ext cx="1828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01000" y="289548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172200" y="3657600"/>
            <a:ext cx="1828800" cy="914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172200" y="36576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9436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246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0010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172200" y="2895480"/>
            <a:ext cx="2438280" cy="2310840"/>
            <a:chOff x="6172200" y="2895480"/>
            <a:chExt cx="2438280" cy="2310840"/>
          </a:xfrm>
        </p:grpSpPr>
        <p:grpSp>
          <p:nvGrpSpPr>
            <p:cNvPr id="433" name=""/>
            <p:cNvGrpSpPr/>
            <p:nvPr/>
          </p:nvGrpSpPr>
          <p:grpSpPr>
            <a:xfrm>
              <a:off x="6172200" y="3124080"/>
              <a:ext cx="2438280" cy="2082240"/>
              <a:chOff x="6172200" y="3124080"/>
              <a:chExt cx="2438280" cy="2082240"/>
            </a:xfrm>
          </p:grpSpPr>
          <p:sp>
            <p:nvSpPr>
              <p:cNvPr id="434" name=""/>
              <p:cNvSpPr/>
              <p:nvPr/>
            </p:nvSpPr>
            <p:spPr>
              <a:xfrm flipH="1" flipV="1">
                <a:off x="6172200" y="3657240"/>
                <a:ext cx="838080" cy="1219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53280" y="31240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05720" y="480060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8001000" y="2895480"/>
              <a:ext cx="149400" cy="2556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0" y="0"/>
                  </a:moveTo>
                  <a:lnTo>
                    <a:pt x="94" y="161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7010280" y="3164040"/>
            <a:ext cx="1152720" cy="1712880"/>
          </a:xfrm>
          <a:custGeom>
            <a:avLst/>
            <a:gdLst/>
            <a:ahLst/>
            <a:rect l="l" t="t" r="r" b="b"/>
            <a:pathLst>
              <a:path w="726" h="1079">
                <a:moveTo>
                  <a:pt x="726" y="0"/>
                </a:moveTo>
                <a:lnTo>
                  <a:pt x="0" y="1079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osenmann, R., Geometría Descriptiva (para estudiantes de Geologí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a una recta AB y un punto C fuera de ella, trazar una recta horizontal que pase por C y que intersecte a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a dos rectas AB y CD que se cruzan determinar una recta horizontal de cota Z que intersecte a ambas rectas d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terminar la longitud de un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zando una línea de tierra de orientación norte-sur, dibujar en el depurado una recta cuyo rumbo es N45º E y su buzamiento, 30º S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a una recta y un punto, verificar si el punto pertenece o no a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44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44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45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46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2120" y="1447920"/>
            <a:ext cx="7808760" cy="4723560"/>
            <a:chOff x="762120" y="1447920"/>
            <a:chExt cx="7808760" cy="4723560"/>
          </a:xfrm>
        </p:grpSpPr>
        <p:grpSp>
          <p:nvGrpSpPr>
            <p:cNvPr id="498" name=""/>
            <p:cNvGrpSpPr/>
            <p:nvPr/>
          </p:nvGrpSpPr>
          <p:grpSpPr>
            <a:xfrm>
              <a:off x="762120" y="1447920"/>
              <a:ext cx="7772400" cy="4723560"/>
              <a:chOff x="762120" y="1447920"/>
              <a:chExt cx="7772400" cy="4723560"/>
            </a:xfrm>
          </p:grpSpPr>
          <p:sp>
            <p:nvSpPr>
              <p:cNvPr id="499" name=""/>
              <p:cNvSpPr/>
              <p:nvPr/>
            </p:nvSpPr>
            <p:spPr>
              <a:xfrm>
                <a:off x="762120" y="1447920"/>
                <a:ext cx="7772400" cy="472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9528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07732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295280" y="3809520"/>
                <a:ext cx="678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885960" y="1531800"/>
              <a:ext cx="7684920" cy="4586400"/>
              <a:chOff x="885960" y="1531800"/>
              <a:chExt cx="7684920" cy="4586400"/>
            </a:xfrm>
          </p:grpSpPr>
          <p:sp>
            <p:nvSpPr>
              <p:cNvPr id="504" name=""/>
              <p:cNvSpPr/>
              <p:nvPr/>
            </p:nvSpPr>
            <p:spPr>
              <a:xfrm>
                <a:off x="88596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07732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543800" y="1531800"/>
                <a:ext cx="73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5749920"/>
                <a:ext cx="74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1569240" y="16765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 pu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124080" y="2819520"/>
            <a:ext cx="2210040" cy="1523880"/>
            <a:chOff x="3124080" y="2819520"/>
            <a:chExt cx="2210040" cy="1523880"/>
          </a:xfrm>
        </p:grpSpPr>
        <p:sp>
          <p:nvSpPr>
            <p:cNvPr id="510" name=""/>
            <p:cNvSpPr/>
            <p:nvPr/>
          </p:nvSpPr>
          <p:spPr>
            <a:xfrm>
              <a:off x="3124080" y="2819520"/>
              <a:ext cx="221004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24080" y="2819520"/>
              <a:ext cx="0" cy="99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34120" y="3809880"/>
              <a:ext cx="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24080" y="3809880"/>
              <a:ext cx="2210040" cy="533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362320" y="3200040"/>
            <a:ext cx="2590560" cy="1828800"/>
            <a:chOff x="2362320" y="3200040"/>
            <a:chExt cx="2590560" cy="1828800"/>
          </a:xfrm>
        </p:grpSpPr>
        <p:sp>
          <p:nvSpPr>
            <p:cNvPr id="515" name=""/>
            <p:cNvSpPr/>
            <p:nvPr/>
          </p:nvSpPr>
          <p:spPr>
            <a:xfrm flipV="1">
              <a:off x="2362320" y="3200040"/>
              <a:ext cx="25905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2362320" y="3809520"/>
              <a:ext cx="259056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52880" y="3200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362320" y="3809520"/>
              <a:ext cx="0" cy="1219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191120" y="3048120"/>
            <a:ext cx="380880" cy="1434960"/>
            <a:chOff x="4191120" y="3048120"/>
            <a:chExt cx="380880" cy="1434960"/>
          </a:xfrm>
        </p:grpSpPr>
        <p:sp>
          <p:nvSpPr>
            <p:cNvPr id="520" name=""/>
            <p:cNvSpPr/>
            <p:nvPr/>
          </p:nvSpPr>
          <p:spPr>
            <a:xfrm>
              <a:off x="4343400" y="335268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91120" y="41148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91120" y="304812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76920" y="3352680"/>
            <a:ext cx="380880" cy="1206720"/>
            <a:chOff x="4876920" y="3352680"/>
            <a:chExt cx="380880" cy="1206720"/>
          </a:xfrm>
        </p:grpSpPr>
        <p:sp>
          <p:nvSpPr>
            <p:cNvPr id="524" name=""/>
            <p:cNvSpPr/>
            <p:nvPr/>
          </p:nvSpPr>
          <p:spPr>
            <a:xfrm>
              <a:off x="5024520" y="3672000"/>
              <a:ext cx="6120" cy="595080"/>
            </a:xfrm>
            <a:custGeom>
              <a:avLst/>
              <a:gdLst/>
              <a:ahLst/>
              <a:rect l="l" t="t" r="r" b="b"/>
              <a:pathLst>
                <a:path w="4" h="375">
                  <a:moveTo>
                    <a:pt x="0" y="0"/>
                  </a:moveTo>
                  <a:lnTo>
                    <a:pt x="4" y="37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76920" y="335268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76920" y="419112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514600" y="3429000"/>
            <a:ext cx="380880" cy="1739880"/>
            <a:chOff x="2514600" y="3429000"/>
            <a:chExt cx="380880" cy="1739880"/>
          </a:xfrm>
        </p:grpSpPr>
        <p:sp>
          <p:nvSpPr>
            <p:cNvPr id="528" name=""/>
            <p:cNvSpPr/>
            <p:nvPr/>
          </p:nvSpPr>
          <p:spPr>
            <a:xfrm>
              <a:off x="2666880" y="3733920"/>
              <a:ext cx="0" cy="1143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14600" y="48006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14600" y="34290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057400" y="2286000"/>
            <a:ext cx="5562720" cy="3187800"/>
            <a:chOff x="2057400" y="2286000"/>
            <a:chExt cx="5562720" cy="3187800"/>
          </a:xfrm>
        </p:grpSpPr>
        <p:sp>
          <p:nvSpPr>
            <p:cNvPr id="532" name=""/>
            <p:cNvSpPr/>
            <p:nvPr/>
          </p:nvSpPr>
          <p:spPr>
            <a:xfrm>
              <a:off x="2133720" y="2590920"/>
              <a:ext cx="5486400" cy="1218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057400" y="3809880"/>
              <a:ext cx="5562720" cy="1295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0" y="22860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74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762120" y="1447920"/>
            <a:ext cx="7808760" cy="4723560"/>
            <a:chOff x="762120" y="1447920"/>
            <a:chExt cx="7808760" cy="4723560"/>
          </a:xfrm>
        </p:grpSpPr>
        <p:grpSp>
          <p:nvGrpSpPr>
            <p:cNvPr id="538" name=""/>
            <p:cNvGrpSpPr/>
            <p:nvPr/>
          </p:nvGrpSpPr>
          <p:grpSpPr>
            <a:xfrm>
              <a:off x="762120" y="1447920"/>
              <a:ext cx="7772400" cy="4723560"/>
              <a:chOff x="762120" y="1447920"/>
              <a:chExt cx="7772400" cy="4723560"/>
            </a:xfrm>
          </p:grpSpPr>
          <p:sp>
            <p:nvSpPr>
              <p:cNvPr id="539" name=""/>
              <p:cNvSpPr/>
              <p:nvPr/>
            </p:nvSpPr>
            <p:spPr>
              <a:xfrm>
                <a:off x="762120" y="1447920"/>
                <a:ext cx="7772400" cy="472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29528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07732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95280" y="3809520"/>
                <a:ext cx="678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85960" y="1531800"/>
              <a:ext cx="7684920" cy="4587840"/>
              <a:chOff x="885960" y="1531800"/>
              <a:chExt cx="7684920" cy="4587840"/>
            </a:xfrm>
          </p:grpSpPr>
          <p:sp>
            <p:nvSpPr>
              <p:cNvPr id="544" name=""/>
              <p:cNvSpPr/>
              <p:nvPr/>
            </p:nvSpPr>
            <p:spPr>
              <a:xfrm>
                <a:off x="88596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07732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543800" y="1531800"/>
                <a:ext cx="73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5751360"/>
                <a:ext cx="74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"/>
          <p:cNvSpPr/>
          <p:nvPr/>
        </p:nvSpPr>
        <p:spPr>
          <a:xfrm>
            <a:off x="1385640" y="1600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recta y un pu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676520" y="1905120"/>
            <a:ext cx="5943600" cy="4025880"/>
            <a:chOff x="1676520" y="1905120"/>
            <a:chExt cx="5943600" cy="4025880"/>
          </a:xfrm>
        </p:grpSpPr>
        <p:sp>
          <p:nvSpPr>
            <p:cNvPr id="550" name=""/>
            <p:cNvSpPr/>
            <p:nvPr/>
          </p:nvSpPr>
          <p:spPr>
            <a:xfrm flipV="1">
              <a:off x="1676520" y="2209320"/>
              <a:ext cx="5638680" cy="1600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76520" y="3809880"/>
              <a:ext cx="5943600" cy="1981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58000" y="190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81680" y="5562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819520" y="2209680"/>
            <a:ext cx="3657600" cy="2349720"/>
            <a:chOff x="2819520" y="2209680"/>
            <a:chExt cx="3657600" cy="2349720"/>
          </a:xfrm>
        </p:grpSpPr>
        <p:sp>
          <p:nvSpPr>
            <p:cNvPr id="555" name=""/>
            <p:cNvSpPr/>
            <p:nvPr/>
          </p:nvSpPr>
          <p:spPr>
            <a:xfrm flipV="1">
              <a:off x="3048120" y="2514600"/>
              <a:ext cx="3200400" cy="129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048120" y="3809880"/>
              <a:ext cx="3200400" cy="457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048120" y="3809880"/>
              <a:ext cx="0" cy="45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48520" y="25146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19520" y="3505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95880" y="2209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958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4191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572000" y="320040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343400" y="3048120"/>
            <a:ext cx="1219320" cy="2057400"/>
            <a:chOff x="4343400" y="3048120"/>
            <a:chExt cx="1219320" cy="2057400"/>
          </a:xfrm>
        </p:grpSpPr>
        <p:sp>
          <p:nvSpPr>
            <p:cNvPr id="565" name=""/>
            <p:cNvSpPr/>
            <p:nvPr/>
          </p:nvSpPr>
          <p:spPr>
            <a:xfrm>
              <a:off x="4343400" y="3048120"/>
              <a:ext cx="12193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43400" y="3048120"/>
              <a:ext cx="0" cy="761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43400" y="3809880"/>
              <a:ext cx="121932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62720" y="3809880"/>
              <a:ext cx="0" cy="1295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029200" y="3276720"/>
            <a:ext cx="457200" cy="1739880"/>
            <a:chOff x="5029200" y="3276720"/>
            <a:chExt cx="457200" cy="1739880"/>
          </a:xfrm>
        </p:grpSpPr>
        <p:sp>
          <p:nvSpPr>
            <p:cNvPr id="570" name=""/>
            <p:cNvSpPr/>
            <p:nvPr/>
          </p:nvSpPr>
          <p:spPr>
            <a:xfrm>
              <a:off x="5180040" y="3581280"/>
              <a:ext cx="1440" cy="110664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1" y="0"/>
                  </a:moveTo>
                  <a:lnTo>
                    <a:pt x="0" y="697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29200" y="3276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29200" y="4648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lanos especi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838760" y="1731960"/>
            <a:ext cx="3655800" cy="428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6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Ver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3505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f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4419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lelo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ersección de una recta y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llama penetración de la recta en un plano. ES UN PU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os auxili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tilizamos un plano auxiliar que contenga a la recta. La intersección de el plano auxiliar con el plano dado da origen a una recta auxiliar que corta a la recta dada. Este punto es la penetración de la recta (ya que pertenecen al plano dado y a la recta d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102200" y="2133360"/>
            <a:ext cx="2701800" cy="20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076720" y="2940120"/>
            <a:ext cx="0" cy="1209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7026120" y="4176720"/>
            <a:ext cx="0" cy="836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03640" y="285264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3252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32520" y="4662360"/>
            <a:ext cx="206640" cy="206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76720" y="2924280"/>
            <a:ext cx="1925640" cy="1252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76720" y="4149720"/>
            <a:ext cx="201636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7636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07552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209480" y="2133720"/>
            <a:ext cx="3236040" cy="4400280"/>
            <a:chOff x="4209480" y="2133720"/>
            <a:chExt cx="3236040" cy="4400280"/>
          </a:xfrm>
        </p:grpSpPr>
        <p:sp>
          <p:nvSpPr>
            <p:cNvPr id="602" name=""/>
            <p:cNvSpPr/>
            <p:nvPr/>
          </p:nvSpPr>
          <p:spPr>
            <a:xfrm flipV="1">
              <a:off x="7020000" y="4149720"/>
              <a:ext cx="0" cy="2232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00720" y="2492280"/>
              <a:ext cx="2519280" cy="1657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09480" y="2133720"/>
              <a:ext cx="3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Q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6165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078520" y="25653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093080" y="414972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3384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159680" y="465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5435640" y="2917800"/>
            <a:ext cx="2017080" cy="2478240"/>
            <a:chOff x="5435640" y="2917800"/>
            <a:chExt cx="2017080" cy="2478240"/>
          </a:xfrm>
        </p:grpSpPr>
        <p:sp>
          <p:nvSpPr>
            <p:cNvPr id="611" name=""/>
            <p:cNvSpPr/>
            <p:nvPr/>
          </p:nvSpPr>
          <p:spPr>
            <a:xfrm>
              <a:off x="5511960" y="29178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092000" y="378288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d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67520" y="50277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06200" y="38768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08720" y="3141720"/>
              <a:ext cx="0" cy="1008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35640" y="3141720"/>
              <a:ext cx="1657440" cy="107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08720" y="4149720"/>
              <a:ext cx="15112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4920" y="1600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 plano y una r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791320" y="3200400"/>
            <a:ext cx="685800" cy="1511280"/>
            <a:chOff x="5791320" y="3200400"/>
            <a:chExt cx="685800" cy="1511280"/>
          </a:xfrm>
        </p:grpSpPr>
        <p:sp>
          <p:nvSpPr>
            <p:cNvPr id="620" name=""/>
            <p:cNvSpPr/>
            <p:nvPr/>
          </p:nvSpPr>
          <p:spPr>
            <a:xfrm flipV="1">
              <a:off x="6019920" y="3505320"/>
              <a:ext cx="0" cy="9144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43600" y="3200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x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91320" y="4343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planos que se cortan en el depu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neran una r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4102200" y="2923920"/>
            <a:ext cx="3759120" cy="1252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086520" y="4176720"/>
            <a:ext cx="1671480" cy="1881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75080" y="3343320"/>
            <a:ext cx="4282920" cy="833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435640" y="3759120"/>
            <a:ext cx="1590120" cy="1254240"/>
            <a:chOff x="5435640" y="3759120"/>
            <a:chExt cx="1590120" cy="1254240"/>
          </a:xfrm>
        </p:grpSpPr>
        <p:sp>
          <p:nvSpPr>
            <p:cNvPr id="633" name=""/>
            <p:cNvSpPr/>
            <p:nvPr/>
          </p:nvSpPr>
          <p:spPr>
            <a:xfrm>
              <a:off x="5435640" y="3759120"/>
              <a:ext cx="0" cy="4176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025760" y="4176720"/>
              <a:ext cx="0" cy="8366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365800" y="3645000"/>
            <a:ext cx="208080" cy="207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36400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3252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2520" y="4900680"/>
            <a:ext cx="20664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35640" y="3759120"/>
            <a:ext cx="1566720" cy="417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5640" y="4176720"/>
            <a:ext cx="1566720" cy="836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935120" y="26510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07552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182400" y="30114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769000" y="589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294520" y="32846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093080" y="414972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3384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4368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lano cualquiera y plano horizo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neran una r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102200" y="2060640"/>
            <a:ext cx="2485800" cy="21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3343320"/>
            <a:ext cx="4984560" cy="14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76720" y="3284640"/>
            <a:ext cx="0" cy="892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7020000" y="328428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11560" y="321300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932520" y="321300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86440" y="4591080"/>
            <a:ext cx="20664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48360" y="3357720"/>
            <a:ext cx="18716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076720" y="4149720"/>
            <a:ext cx="192564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65892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00424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581320" y="30844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7020000" y="4149720"/>
            <a:ext cx="0" cy="208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o cualquiera y plano de fu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n una 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102200" y="2060640"/>
            <a:ext cx="2485800" cy="21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35280" y="2708280"/>
            <a:ext cx="3384720" cy="144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76720" y="3284640"/>
            <a:ext cx="0" cy="892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7020000" y="4149360"/>
            <a:ext cx="0" cy="934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011560" y="321300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932520" y="4013280"/>
            <a:ext cx="206640" cy="207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77080" y="4951440"/>
            <a:ext cx="20628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148360" y="3357720"/>
            <a:ext cx="1871640" cy="792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076720" y="4149720"/>
            <a:ext cx="1943280" cy="863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65892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00424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581320" y="30844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la nuev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 flipH="1" flipV="1">
            <a:off x="609588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91320" y="3657600"/>
            <a:ext cx="2133360" cy="1143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791320" y="2437920"/>
            <a:ext cx="2209680" cy="1219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848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39152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562720" y="2971800"/>
            <a:ext cx="3124080" cy="1701000"/>
            <a:chOff x="5562720" y="2971800"/>
            <a:chExt cx="3124080" cy="1701000"/>
          </a:xfrm>
        </p:grpSpPr>
        <p:sp>
          <p:nvSpPr>
            <p:cNvPr id="697" name=""/>
            <p:cNvSpPr/>
            <p:nvPr/>
          </p:nvSpPr>
          <p:spPr>
            <a:xfrm flipV="1">
              <a:off x="5791320" y="3200040"/>
              <a:ext cx="2514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62720" y="4267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229600" y="29718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315200" y="28195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32004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el punto donde se intersectan las líneas de tierra se dibuja una línea perpendicular a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237024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yección horizontal (P) no ca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876720" y="292428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77080" y="2841480"/>
            <a:ext cx="431640" cy="82800"/>
          </a:xfrm>
          <a:custGeom>
            <a:avLst/>
            <a:gdLst/>
            <a:ahLst/>
            <a:rect l="l" t="t" r="r" b="b"/>
            <a:pathLst>
              <a:path w="272" h="52">
                <a:moveTo>
                  <a:pt x="272" y="7"/>
                </a:moveTo>
                <a:cubicBezTo>
                  <a:pt x="226" y="3"/>
                  <a:pt x="181" y="0"/>
                  <a:pt x="136" y="7"/>
                </a:cubicBezTo>
                <a:cubicBezTo>
                  <a:pt x="91" y="14"/>
                  <a:pt x="45" y="33"/>
                  <a:pt x="0" y="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11280" y="4754520"/>
            <a:ext cx="4176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dibuja línea perpendicular a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e longitud igual a la dibujada anterior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 flipH="1" flipV="1">
            <a:off x="609588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1320" y="3657600"/>
            <a:ext cx="2133360" cy="1143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5791320" y="2437920"/>
            <a:ext cx="2209680" cy="1219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848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39152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562720" y="2971800"/>
            <a:ext cx="3124080" cy="1701000"/>
            <a:chOff x="5562720" y="2971800"/>
            <a:chExt cx="3124080" cy="1701000"/>
          </a:xfrm>
        </p:grpSpPr>
        <p:sp>
          <p:nvSpPr>
            <p:cNvPr id="714" name=""/>
            <p:cNvSpPr/>
            <p:nvPr/>
          </p:nvSpPr>
          <p:spPr>
            <a:xfrm flipV="1">
              <a:off x="5791320" y="3200040"/>
              <a:ext cx="2514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62720" y="4267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229600" y="29718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7315200" y="28195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280" y="1628640"/>
            <a:ext cx="4114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bujar una línea desde la intersección de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on la proyección horizontal del plano (P), que pase por el extremo superior de la línea ver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477120" y="1773360"/>
            <a:ext cx="831600" cy="226512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1280" y="4049640"/>
            <a:ext cx="4114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última línea corresponde a la proyección vertical del plano (P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’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732720" y="18446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6876720" y="292428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77080" y="2841480"/>
            <a:ext cx="431640" cy="82800"/>
          </a:xfrm>
          <a:custGeom>
            <a:avLst/>
            <a:gdLst/>
            <a:ahLst/>
            <a:rect l="l" t="t" r="r" b="b"/>
            <a:pathLst>
              <a:path w="272" h="52">
                <a:moveTo>
                  <a:pt x="272" y="7"/>
                </a:moveTo>
                <a:cubicBezTo>
                  <a:pt x="226" y="3"/>
                  <a:pt x="181" y="0"/>
                  <a:pt x="136" y="7"/>
                </a:cubicBezTo>
                <a:cubicBezTo>
                  <a:pt x="91" y="14"/>
                  <a:pt x="45" y="33"/>
                  <a:pt x="0" y="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73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73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685800" y="1752480"/>
            <a:ext cx="342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os mét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74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74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76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5486400" y="3124080"/>
            <a:ext cx="2533680" cy="1676520"/>
            <a:chOff x="5486400" y="3124080"/>
            <a:chExt cx="2533680" cy="1676520"/>
          </a:xfrm>
        </p:grpSpPr>
        <p:sp>
          <p:nvSpPr>
            <p:cNvPr id="765" name=""/>
            <p:cNvSpPr/>
            <p:nvPr/>
          </p:nvSpPr>
          <p:spPr>
            <a:xfrm>
              <a:off x="5486400" y="3887640"/>
              <a:ext cx="251316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86400" y="3124080"/>
              <a:ext cx="253368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1752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horizontal paralela a la línea de rumb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705360" y="3505320"/>
            <a:ext cx="1752840" cy="990360"/>
            <a:chOff x="6705360" y="3505320"/>
            <a:chExt cx="1752840" cy="990360"/>
          </a:xfrm>
        </p:grpSpPr>
        <p:sp>
          <p:nvSpPr>
            <p:cNvPr id="771" name=""/>
            <p:cNvSpPr/>
            <p:nvPr/>
          </p:nvSpPr>
          <p:spPr>
            <a:xfrm>
              <a:off x="6781680" y="3886200"/>
              <a:ext cx="1676520" cy="60948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81680" y="350532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6705000" y="3505320"/>
              <a:ext cx="74520" cy="368280"/>
            </a:xfrm>
            <a:custGeom>
              <a:avLst/>
              <a:gdLst/>
              <a:ahLst/>
              <a:rect l="l" t="t" r="r" b="b"/>
              <a:pathLst>
                <a:path w="1" h="138">
                  <a:moveTo>
                    <a:pt x="0" y="138"/>
                  </a:moveTo>
                  <a:lnTo>
                    <a:pt x="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685800" y="2514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línea de rumb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5867280" y="1981080"/>
            <a:ext cx="1981440" cy="3606120"/>
            <a:chOff x="5867280" y="1981080"/>
            <a:chExt cx="1981440" cy="3606120"/>
          </a:xfrm>
        </p:grpSpPr>
        <p:sp>
          <p:nvSpPr>
            <p:cNvPr id="776" name=""/>
            <p:cNvSpPr/>
            <p:nvPr/>
          </p:nvSpPr>
          <p:spPr>
            <a:xfrm flipV="1">
              <a:off x="6095880" y="2285640"/>
              <a:ext cx="1447920" cy="3048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67280" y="51814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80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8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9152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80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8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85800" y="3276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piar la cota del punto A continuando la proyección horizontal de la recta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6477120" y="3733560"/>
            <a:ext cx="3045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477120" y="3733920"/>
            <a:ext cx="110880" cy="566640"/>
          </a:xfrm>
          <a:custGeom>
            <a:avLst/>
            <a:gdLst/>
            <a:ahLst/>
            <a:rect l="l" t="t" r="r" b="b"/>
            <a:pathLst>
              <a:path w="70" h="357">
                <a:moveTo>
                  <a:pt x="70" y="35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434196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una recta que una el extremo del trazo anterior con la intersección de P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540864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638680" y="3938760"/>
            <a:ext cx="1103400" cy="658080"/>
            <a:chOff x="5638680" y="3938760"/>
            <a:chExt cx="1103400" cy="658080"/>
          </a:xfrm>
        </p:grpSpPr>
        <p:sp>
          <p:nvSpPr>
            <p:cNvPr id="785" name=""/>
            <p:cNvSpPr/>
            <p:nvPr/>
          </p:nvSpPr>
          <p:spPr>
            <a:xfrm>
              <a:off x="6523200" y="3938760"/>
              <a:ext cx="218880" cy="52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0" y="0"/>
                  </a:moveTo>
                  <a:cubicBezTo>
                    <a:pt x="9" y="1"/>
                    <a:pt x="42" y="2"/>
                    <a:pt x="65" y="8"/>
                  </a:cubicBezTo>
                  <a:cubicBezTo>
                    <a:pt x="88" y="14"/>
                    <a:pt x="123" y="28"/>
                    <a:pt x="138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943600" y="40381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38680" y="419112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d0ca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4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8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43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ta y plano fr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5033880" cy="561636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5105520" y="2209680"/>
            <a:ext cx="3047760" cy="2882880"/>
            <a:chOff x="5105520" y="2209680"/>
            <a:chExt cx="3047760" cy="2882880"/>
          </a:xfrm>
        </p:grpSpPr>
        <p:sp>
          <p:nvSpPr>
            <p:cNvPr id="792" name=""/>
            <p:cNvSpPr/>
            <p:nvPr/>
          </p:nvSpPr>
          <p:spPr>
            <a:xfrm flipV="1">
              <a:off x="5334120" y="2438280"/>
              <a:ext cx="2438280" cy="144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333760" y="3886200"/>
              <a:ext cx="2438280" cy="914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34120" y="3886200"/>
              <a:ext cx="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772400" y="2438280"/>
              <a:ext cx="0" cy="144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5520" y="3505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05520" y="4724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96080" y="3886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772400" y="2209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5105520" y="4419720"/>
            <a:ext cx="3429000" cy="368280"/>
            <a:chOff x="5105520" y="4419720"/>
            <a:chExt cx="3429000" cy="368280"/>
          </a:xfrm>
        </p:grpSpPr>
        <p:sp>
          <p:nvSpPr>
            <p:cNvPr id="801" name=""/>
            <p:cNvSpPr/>
            <p:nvPr/>
          </p:nvSpPr>
          <p:spPr>
            <a:xfrm>
              <a:off x="5105520" y="4419720"/>
              <a:ext cx="342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24680" y="4419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172200" y="2971800"/>
            <a:ext cx="457200" cy="1816200"/>
            <a:chOff x="6172200" y="2971800"/>
            <a:chExt cx="457200" cy="1816200"/>
          </a:xfrm>
        </p:grpSpPr>
        <p:sp>
          <p:nvSpPr>
            <p:cNvPr id="804" name=""/>
            <p:cNvSpPr/>
            <p:nvPr/>
          </p:nvSpPr>
          <p:spPr>
            <a:xfrm>
              <a:off x="6367320" y="3267000"/>
              <a:ext cx="1800" cy="1149480"/>
            </a:xfrm>
            <a:custGeom>
              <a:avLst/>
              <a:gdLst/>
              <a:ahLst/>
              <a:rect l="l" t="t" r="r" b="b"/>
              <a:pathLst>
                <a:path w="1" h="724">
                  <a:moveTo>
                    <a:pt x="0" y="724"/>
                  </a:moveTo>
                  <a:lnTo>
                    <a:pt x="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29718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48520" y="441972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o un plano y un punto, verificar si el punto pertenece al pl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sectar una recta con un plano horizon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sectar una recta con un plano fron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sectar una recta con un plano de fu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os dos planos, determinar la recta que representa su interse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o un plano de orientación N30º E/60º E, determinar el manteo aparente según una línea de tierra de orientación Norte-S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un depurado con línea de tierra de orientación Norte-Sur, se encuentra un plano con rumbo N75º W y manteo aparente 20º N. Determinar el manteo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echa de Entrega: Próximo Vier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5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8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7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8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61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4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7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70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8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 tiene su proyección vertical (PV) sobre LT y la proyección horizontal (PH) bajo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I tiene sus 2 proyecciones sobre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II tiene su PV bajo LT y su PH sobre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V tiene sus 2 proyecciones bajo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ubicado en uno de los planos de proyeccion tiene una de sus proyecciones (ya sea PV o PH) en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primer bisector tien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523880"/>
            <a:ext cx="784872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ara rotar la Línea de Tierra sólo se acepta giros del plano vertical o del plano horizontal. No se pueden girar ambos simultáne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iro del plano ver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T =&gt; 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’, a =&gt; a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’, a (las proyecciones horizontales no cambi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523880"/>
            <a:ext cx="78487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iro del plano horizon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T =&gt; L’T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’, a =&gt; a’, a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(las proyecciones verticales no cambi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1600200"/>
            <a:ext cx="403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ver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27432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263700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562720" y="2057400"/>
            <a:ext cx="3047760" cy="2996640"/>
            <a:chOff x="5562720" y="2057400"/>
            <a:chExt cx="3047760" cy="2996640"/>
          </a:xfrm>
        </p:grpSpPr>
        <p:sp>
          <p:nvSpPr>
            <p:cNvPr id="200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5328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4360" y="364500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perpendicular a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que pase por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943600" y="3123720"/>
            <a:ext cx="83808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4653000"/>
            <a:ext cx="3886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 una distancia h de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tá ubicado a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638680" y="2666880"/>
            <a:ext cx="838440" cy="978120"/>
            <a:chOff x="5638680" y="2666880"/>
            <a:chExt cx="838440" cy="978120"/>
          </a:xfrm>
        </p:grpSpPr>
        <p:sp>
          <p:nvSpPr>
            <p:cNvPr id="209" name=""/>
            <p:cNvSpPr/>
            <p:nvPr/>
          </p:nvSpPr>
          <p:spPr>
            <a:xfrm>
              <a:off x="5867280" y="3048120"/>
              <a:ext cx="152640" cy="152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38680" y="2666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8520" y="32767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Daniel</cp:lastModifiedBy>
  <dcterms:modified xsi:type="dcterms:W3CDTF">2005-08-12T00:02:40Z</dcterms:modified>
  <cp:revision>25</cp:revision>
  <dc:subject/>
  <dc:title>Diapositiva 1</dc:title>
</cp:coreProperties>
</file>