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FCC-6EB5-4D6D-BC14-2B907AC4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D46-6BD9-465B-8806-77A85A32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9DE-3858-4929-96C1-DFF708EC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5C4-EDC0-4260-9604-120D0696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148D1-4916-4FA9-A58C-0C789A12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6F806-4F9D-47E3-A83F-03754C60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44B13-0EB6-4FD4-AF97-7C1E3DBE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B43F4-81E3-4053-BE64-979F272A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F5CBE-F6AE-4359-9A39-5200F34A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6ED29-B7FA-4CCA-AA5D-189A2114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99566-A975-4B21-8F4F-07C144B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BA6-2C48-4397-B277-589F072D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8FE99-DF09-4B90-AFA6-B364220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AA0CE-DDAD-4FA8-94CD-D43886C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250E6-BCD1-4CBF-A68E-4541FD81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13AB1-9388-47E5-9DC8-09F702EC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24FBC-CBBA-4A3F-B6A3-C849C0B3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18A-A825-4882-8E83-0130F989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761-EED3-4A08-B2DF-3C385061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C2F-39A1-4566-9BC4-CDD4977C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F29-3B40-4393-80C8-EECA3F38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B94-DD2C-4E61-B00C-FC4976FB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C46-ECB4-40ED-9392-3114040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33D-F07E-4285-AF84-24F21046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B7CC-7E82-462E-9389-E824DB4CB2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09D0-9670-4FA0-8635-44456901FB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d0ca"/>
                </a:solidFill>
                <a:latin typeface="Arial"/>
              </a:rPr>
              <a:t>Geología Estructural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fallas, en términos del movimiento relativo, pueden s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norm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inver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verti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de rum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321080" cy="1857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3210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880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327640" cy="353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168720" cy="279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499440" y="85716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Norm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37080" cy="30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752720" cy="2748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706360" y="8571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Inver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174840" cy="424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40360" y="2852640"/>
            <a:ext cx="4321080" cy="2882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5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iaclas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470040" cy="4895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09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0ca"/>
                </a:solidFill>
                <a:latin typeface="Arial"/>
              </a:rPr>
              <a:t>Partes geométricas de un pliegue</a:t>
            </a:r>
            <a:br>
              <a:rPr sz="4000"/>
            </a:b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os descriptivos re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ncos o limb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las zonas menos curvadas conectadas por la zona de mayor curvat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nel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zona de mayor curvatura (menor diámetro de curvatura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s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zona topográficamente más elevada de un pliegu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2655720"/>
            <a:ext cx="40384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876560" cy="3251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5076720" cy="3046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07080" y="639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ticl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360" y="50324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ncl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Homoclinal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18399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95640" y="1852560"/>
            <a:ext cx="43927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fesor Auxil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elipe García-Huidobr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garciah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fesores Ayud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cardo Vergar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cverga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duardo Casa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asas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0400" y="1773360"/>
            <a:ext cx="4041720" cy="30812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scribir la orientación de un plano geológico matemáticamente se necesitan dos propie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umbo (Strike) o Dirección de Inclinación (Dip Dir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teo (D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ínea que resulta de la intersección del plano geológico con un plano horizontal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5080" y="2532240"/>
            <a:ext cx="404172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52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p Directio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rección de máxima pendiente de un plano. Es una dirección perpendicular al rumb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19956000">
            <a:off x="4427280" y="270828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3877400">
            <a:off x="3924000" y="1628280"/>
            <a:ext cx="2879640" cy="2016360"/>
          </a:xfrm>
          <a:prstGeom prst="parallelogram">
            <a:avLst>
              <a:gd name="adj" fmla="val 35703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067280" y="278100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859280" y="1773000"/>
            <a:ext cx="129528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4560" y="3429000"/>
            <a:ext cx="172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35800">
            <a:off x="4935960" y="3860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69800" y="2133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0524800">
            <a:off x="3782520" y="40766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944800">
            <a:off x="5143320" y="27867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95200">
            <a:off x="6085440" y="3429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flipH="1" rot="19956000">
            <a:off x="4571640" y="292428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745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Re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ngulo de inclinación de un plano en la dirección de máxima pend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2602400">
            <a:off x="4643280" y="3572640"/>
            <a:ext cx="17640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858920" y="3860280"/>
            <a:ext cx="360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2520" y="4941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3877400">
            <a:off x="4068720" y="184464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211640" y="299700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003280" y="1989000"/>
            <a:ext cx="129564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99280" y="364500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35800">
            <a:off x="5080320" y="4076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4160" y="2349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524800">
            <a:off x="3926880" y="42926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944800">
            <a:off x="5287680" y="3002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95200">
            <a:off x="6301440" y="37162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pa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ngulo de inclinación de un plano en cualquier dirección diferente de la de máxima pend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0524800">
            <a:off x="3782520" y="4286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49417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nteo Apar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rot="19956000">
            <a:off x="4571640" y="292428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2602400">
            <a:off x="4643280" y="3572640"/>
            <a:ext cx="17640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858920" y="3860280"/>
            <a:ext cx="360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62520" y="4941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3877400">
            <a:off x="4068720" y="184464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11640" y="299700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5003280" y="1989000"/>
            <a:ext cx="129564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99280" y="364500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235800">
            <a:off x="5007240" y="4076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38160" y="2133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944800">
            <a:off x="5646600" y="2858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95200">
            <a:off x="6301440" y="37162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7640" y="2205000"/>
            <a:ext cx="1871640" cy="14400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003640" y="3500280"/>
            <a:ext cx="3384720" cy="2160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3573360"/>
            <a:ext cx="151128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2602400">
            <a:off x="5825520" y="3344400"/>
            <a:ext cx="106200" cy="306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Caracteriza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a definir la orientación de una línea geológica se necesitan dos propieda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uz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596000">
            <a:off x="435456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003640" y="2205000"/>
            <a:ext cx="244800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3141720"/>
            <a:ext cx="460836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25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32000">
            <a:off x="428796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Caracteriza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umb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yección de una recta sobre un plano horiz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596000">
            <a:off x="435456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003640" y="2205000"/>
            <a:ext cx="244800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84720" y="3141720"/>
            <a:ext cx="460836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25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32000">
            <a:off x="428796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882600">
            <a:off x="7666920" y="40827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Caracteriza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uz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Ángulo de inclinación de una recta. Corresponde al ángulo que forman la recta con su rumb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596000">
            <a:off x="435456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003640" y="2205000"/>
            <a:ext cx="244800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3141720"/>
            <a:ext cx="460836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25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32000">
            <a:off x="428796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76960" y="3213000"/>
            <a:ext cx="166680" cy="432000"/>
          </a:xfrm>
          <a:custGeom>
            <a:avLst/>
            <a:gdLst/>
            <a:ahLst/>
            <a:rect l="l" t="t" r="r" b="b"/>
            <a:pathLst>
              <a:path w="105" h="272">
                <a:moveTo>
                  <a:pt x="15" y="272"/>
                </a:moveTo>
                <a:cubicBezTo>
                  <a:pt x="7" y="226"/>
                  <a:pt x="0" y="181"/>
                  <a:pt x="15" y="136"/>
                </a:cubicBezTo>
                <a:cubicBezTo>
                  <a:pt x="30" y="91"/>
                  <a:pt x="67" y="45"/>
                  <a:pt x="10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588000" y="285264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11600" y="2637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Bu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Caracteriza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el ángulo que forma una recta con el rumbo de un plano que la conti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596000">
            <a:off x="435456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rot="20039400">
            <a:off x="5003280" y="2276280"/>
            <a:ext cx="2016360" cy="1728720"/>
          </a:xfrm>
          <a:prstGeom prst="parallelogram">
            <a:avLst>
              <a:gd name="adj" fmla="val 2916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2741400">
            <a:off x="6388920" y="24051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03640" y="3141360"/>
            <a:ext cx="302436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32000">
            <a:off x="428796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9949400">
            <a:off x="7670880" y="306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284720" y="3068280"/>
            <a:ext cx="2951280" cy="431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04000">
            <a:off x="4488480" y="28465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45080" y="3429000"/>
            <a:ext cx="71640" cy="431640"/>
          </a:xfrm>
          <a:custGeom>
            <a:avLst/>
            <a:gdLst/>
            <a:ahLst/>
            <a:rect l="l" t="t" r="r" b="b"/>
            <a:pathLst>
              <a:path w="45" h="272">
                <a:moveTo>
                  <a:pt x="45" y="272"/>
                </a:moveTo>
                <a:cubicBezTo>
                  <a:pt x="22" y="226"/>
                  <a:pt x="0" y="181"/>
                  <a:pt x="0" y="136"/>
                </a:cubicBezTo>
                <a:cubicBezTo>
                  <a:pt x="0" y="91"/>
                  <a:pt x="22" y="45"/>
                  <a:pt x="4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659280" y="2852640"/>
            <a:ext cx="86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2880" y="24922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os Horizo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3961080" cy="3592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2908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Reg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icio clases 16:15 h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medi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≥ 4.0 para aprobar el curs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Asistencia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Las tareas se entregan la semana siguiente de cuando fueron d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960720" cy="3593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017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3889440" cy="3528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2954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2892240" cy="3456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38163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2894040" cy="3456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38181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403280" y="549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Método de los Tres Pu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627280" y="2133360"/>
            <a:ext cx="3529080" cy="3382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979640" y="4365720"/>
            <a:ext cx="3529080" cy="71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3645000"/>
            <a:ext cx="5400720" cy="2220840"/>
          </a:xfrm>
          <a:custGeom>
            <a:avLst/>
            <a:gdLst/>
            <a:ahLst/>
            <a:rect l="l" t="t" r="r" b="b"/>
            <a:pathLst>
              <a:path w="3402" h="1399">
                <a:moveTo>
                  <a:pt x="3402" y="1361"/>
                </a:moveTo>
                <a:cubicBezTo>
                  <a:pt x="3228" y="1380"/>
                  <a:pt x="3054" y="1399"/>
                  <a:pt x="2857" y="1316"/>
                </a:cubicBezTo>
                <a:cubicBezTo>
                  <a:pt x="2660" y="1233"/>
                  <a:pt x="2365" y="1021"/>
                  <a:pt x="2222" y="862"/>
                </a:cubicBezTo>
                <a:cubicBezTo>
                  <a:pt x="2079" y="703"/>
                  <a:pt x="2071" y="499"/>
                  <a:pt x="1996" y="363"/>
                </a:cubicBezTo>
                <a:cubicBezTo>
                  <a:pt x="1921" y="227"/>
                  <a:pt x="1883" y="90"/>
                  <a:pt x="1769" y="45"/>
                </a:cubicBezTo>
                <a:cubicBezTo>
                  <a:pt x="1655" y="0"/>
                  <a:pt x="1443" y="53"/>
                  <a:pt x="1315" y="91"/>
                </a:cubicBezTo>
                <a:cubicBezTo>
                  <a:pt x="1187" y="129"/>
                  <a:pt x="1111" y="204"/>
                  <a:pt x="998" y="272"/>
                </a:cubicBezTo>
                <a:cubicBezTo>
                  <a:pt x="885" y="340"/>
                  <a:pt x="749" y="461"/>
                  <a:pt x="635" y="499"/>
                </a:cubicBezTo>
                <a:cubicBezTo>
                  <a:pt x="521" y="537"/>
                  <a:pt x="423" y="514"/>
                  <a:pt x="317" y="499"/>
                </a:cubicBezTo>
                <a:cubicBezTo>
                  <a:pt x="211" y="484"/>
                  <a:pt x="105" y="446"/>
                  <a:pt x="0" y="4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58920" y="2228760"/>
            <a:ext cx="5184720" cy="2556000"/>
          </a:xfrm>
          <a:custGeom>
            <a:avLst/>
            <a:gdLst/>
            <a:ahLst/>
            <a:rect l="l" t="t" r="r" b="b"/>
            <a:pathLst>
              <a:path w="3266" h="1610">
                <a:moveTo>
                  <a:pt x="3266" y="1572"/>
                </a:moveTo>
                <a:cubicBezTo>
                  <a:pt x="3156" y="1591"/>
                  <a:pt x="3047" y="1610"/>
                  <a:pt x="2949" y="1572"/>
                </a:cubicBezTo>
                <a:cubicBezTo>
                  <a:pt x="2851" y="1534"/>
                  <a:pt x="2730" y="1429"/>
                  <a:pt x="2677" y="1346"/>
                </a:cubicBezTo>
                <a:cubicBezTo>
                  <a:pt x="2624" y="1263"/>
                  <a:pt x="2639" y="1165"/>
                  <a:pt x="2631" y="1074"/>
                </a:cubicBezTo>
                <a:cubicBezTo>
                  <a:pt x="2623" y="983"/>
                  <a:pt x="2631" y="922"/>
                  <a:pt x="2631" y="801"/>
                </a:cubicBezTo>
                <a:cubicBezTo>
                  <a:pt x="2631" y="680"/>
                  <a:pt x="2669" y="461"/>
                  <a:pt x="2631" y="348"/>
                </a:cubicBezTo>
                <a:cubicBezTo>
                  <a:pt x="2593" y="235"/>
                  <a:pt x="2488" y="174"/>
                  <a:pt x="2405" y="121"/>
                </a:cubicBezTo>
                <a:cubicBezTo>
                  <a:pt x="2322" y="68"/>
                  <a:pt x="2230" y="37"/>
                  <a:pt x="2132" y="30"/>
                </a:cubicBezTo>
                <a:cubicBezTo>
                  <a:pt x="2034" y="23"/>
                  <a:pt x="1996" y="0"/>
                  <a:pt x="1815" y="76"/>
                </a:cubicBezTo>
                <a:cubicBezTo>
                  <a:pt x="1634" y="152"/>
                  <a:pt x="1248" y="371"/>
                  <a:pt x="1044" y="484"/>
                </a:cubicBezTo>
                <a:cubicBezTo>
                  <a:pt x="840" y="597"/>
                  <a:pt x="703" y="703"/>
                  <a:pt x="590" y="756"/>
                </a:cubicBezTo>
                <a:cubicBezTo>
                  <a:pt x="477" y="809"/>
                  <a:pt x="431" y="801"/>
                  <a:pt x="363" y="801"/>
                </a:cubicBezTo>
                <a:cubicBezTo>
                  <a:pt x="295" y="801"/>
                  <a:pt x="243" y="779"/>
                  <a:pt x="182" y="756"/>
                </a:cubicBezTo>
                <a:cubicBezTo>
                  <a:pt x="121" y="733"/>
                  <a:pt x="60" y="699"/>
                  <a:pt x="0" y="66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2913120"/>
            <a:ext cx="5472000" cy="2387520"/>
          </a:xfrm>
          <a:custGeom>
            <a:avLst/>
            <a:gdLst/>
            <a:ahLst/>
            <a:rect l="l" t="t" r="r" b="b"/>
            <a:pathLst>
              <a:path w="3447" h="1504">
                <a:moveTo>
                  <a:pt x="0" y="552"/>
                </a:moveTo>
                <a:cubicBezTo>
                  <a:pt x="106" y="594"/>
                  <a:pt x="212" y="636"/>
                  <a:pt x="318" y="643"/>
                </a:cubicBezTo>
                <a:cubicBezTo>
                  <a:pt x="424" y="650"/>
                  <a:pt x="514" y="642"/>
                  <a:pt x="635" y="597"/>
                </a:cubicBezTo>
                <a:cubicBezTo>
                  <a:pt x="756" y="552"/>
                  <a:pt x="922" y="430"/>
                  <a:pt x="1043" y="370"/>
                </a:cubicBezTo>
                <a:cubicBezTo>
                  <a:pt x="1164" y="310"/>
                  <a:pt x="1240" y="279"/>
                  <a:pt x="1361" y="234"/>
                </a:cubicBezTo>
                <a:cubicBezTo>
                  <a:pt x="1482" y="189"/>
                  <a:pt x="1641" y="136"/>
                  <a:pt x="1769" y="98"/>
                </a:cubicBezTo>
                <a:cubicBezTo>
                  <a:pt x="1897" y="60"/>
                  <a:pt x="2034" y="14"/>
                  <a:pt x="2132" y="7"/>
                </a:cubicBezTo>
                <a:cubicBezTo>
                  <a:pt x="2230" y="0"/>
                  <a:pt x="2284" y="15"/>
                  <a:pt x="2359" y="53"/>
                </a:cubicBezTo>
                <a:cubicBezTo>
                  <a:pt x="2434" y="91"/>
                  <a:pt x="2548" y="159"/>
                  <a:pt x="2586" y="234"/>
                </a:cubicBezTo>
                <a:cubicBezTo>
                  <a:pt x="2624" y="309"/>
                  <a:pt x="2594" y="415"/>
                  <a:pt x="2586" y="506"/>
                </a:cubicBezTo>
                <a:cubicBezTo>
                  <a:pt x="2578" y="597"/>
                  <a:pt x="2548" y="703"/>
                  <a:pt x="2540" y="779"/>
                </a:cubicBezTo>
                <a:cubicBezTo>
                  <a:pt x="2532" y="855"/>
                  <a:pt x="2517" y="885"/>
                  <a:pt x="2540" y="960"/>
                </a:cubicBezTo>
                <a:cubicBezTo>
                  <a:pt x="2563" y="1035"/>
                  <a:pt x="2616" y="1156"/>
                  <a:pt x="2676" y="1232"/>
                </a:cubicBezTo>
                <a:cubicBezTo>
                  <a:pt x="2736" y="1308"/>
                  <a:pt x="2775" y="1369"/>
                  <a:pt x="2903" y="1414"/>
                </a:cubicBezTo>
                <a:cubicBezTo>
                  <a:pt x="3031" y="1459"/>
                  <a:pt x="3239" y="1481"/>
                  <a:pt x="3447" y="150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165480"/>
            <a:ext cx="5545080" cy="1440000"/>
          </a:xfrm>
          <a:custGeom>
            <a:avLst/>
            <a:gdLst/>
            <a:ahLst/>
            <a:rect l="l" t="t" r="r" b="b"/>
            <a:pathLst>
              <a:path w="3493" h="907">
                <a:moveTo>
                  <a:pt x="0" y="846"/>
                </a:moveTo>
                <a:cubicBezTo>
                  <a:pt x="79" y="865"/>
                  <a:pt x="159" y="884"/>
                  <a:pt x="227" y="892"/>
                </a:cubicBezTo>
                <a:cubicBezTo>
                  <a:pt x="295" y="900"/>
                  <a:pt x="340" y="907"/>
                  <a:pt x="408" y="892"/>
                </a:cubicBezTo>
                <a:cubicBezTo>
                  <a:pt x="476" y="877"/>
                  <a:pt x="529" y="869"/>
                  <a:pt x="635" y="801"/>
                </a:cubicBezTo>
                <a:cubicBezTo>
                  <a:pt x="741" y="733"/>
                  <a:pt x="930" y="567"/>
                  <a:pt x="1043" y="484"/>
                </a:cubicBezTo>
                <a:cubicBezTo>
                  <a:pt x="1156" y="401"/>
                  <a:pt x="1201" y="363"/>
                  <a:pt x="1315" y="302"/>
                </a:cubicBezTo>
                <a:cubicBezTo>
                  <a:pt x="1429" y="241"/>
                  <a:pt x="1595" y="166"/>
                  <a:pt x="1724" y="121"/>
                </a:cubicBezTo>
                <a:cubicBezTo>
                  <a:pt x="1853" y="76"/>
                  <a:pt x="1943" y="45"/>
                  <a:pt x="2087" y="30"/>
                </a:cubicBezTo>
                <a:cubicBezTo>
                  <a:pt x="2231" y="15"/>
                  <a:pt x="2488" y="0"/>
                  <a:pt x="2586" y="30"/>
                </a:cubicBezTo>
                <a:cubicBezTo>
                  <a:pt x="2684" y="60"/>
                  <a:pt x="2661" y="143"/>
                  <a:pt x="2676" y="211"/>
                </a:cubicBezTo>
                <a:cubicBezTo>
                  <a:pt x="2691" y="279"/>
                  <a:pt x="2668" y="362"/>
                  <a:pt x="2676" y="438"/>
                </a:cubicBezTo>
                <a:cubicBezTo>
                  <a:pt x="2684" y="514"/>
                  <a:pt x="2692" y="612"/>
                  <a:pt x="2722" y="665"/>
                </a:cubicBezTo>
                <a:cubicBezTo>
                  <a:pt x="2752" y="718"/>
                  <a:pt x="2767" y="733"/>
                  <a:pt x="2858" y="756"/>
                </a:cubicBezTo>
                <a:cubicBezTo>
                  <a:pt x="2949" y="779"/>
                  <a:pt x="3160" y="801"/>
                  <a:pt x="3266" y="801"/>
                </a:cubicBezTo>
                <a:cubicBezTo>
                  <a:pt x="3372" y="801"/>
                  <a:pt x="3432" y="778"/>
                  <a:pt x="3493" y="756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4364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80000" y="4149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56360" y="18446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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04000" y="2708280"/>
            <a:ext cx="1871640" cy="72072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4516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92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742880" y="2276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56720" y="2708280"/>
            <a:ext cx="215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85080" y="3141720"/>
            <a:ext cx="82440" cy="287280"/>
          </a:xfrm>
          <a:custGeom>
            <a:avLst/>
            <a:gdLst/>
            <a:ahLst/>
            <a:rect l="l" t="t" r="r" b="b"/>
            <a:pathLst>
              <a:path w="52" h="181">
                <a:moveTo>
                  <a:pt x="7" y="181"/>
                </a:moveTo>
                <a:cubicBezTo>
                  <a:pt x="3" y="150"/>
                  <a:pt x="0" y="120"/>
                  <a:pt x="7" y="90"/>
                </a:cubicBezTo>
                <a:cubicBezTo>
                  <a:pt x="14" y="60"/>
                  <a:pt x="33" y="30"/>
                  <a:pt x="5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4716000" y="3500280"/>
            <a:ext cx="792360" cy="865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1816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788000" y="349992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788000" y="3429000"/>
            <a:ext cx="712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116000" y="1915920"/>
            <a:ext cx="3529080" cy="3382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45080" y="16272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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484360" y="3860640"/>
            <a:ext cx="3529080" cy="3383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3440" y="35719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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619280" y="620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Método de los Dos Pu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1341360"/>
            <a:ext cx="8064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58920" y="3381480"/>
            <a:ext cx="4392720" cy="2855880"/>
          </a:xfrm>
          <a:custGeom>
            <a:avLst/>
            <a:gdLst/>
            <a:ahLst/>
            <a:rect l="l" t="t" r="r" b="b"/>
            <a:pathLst>
              <a:path w="2767" h="1799">
                <a:moveTo>
                  <a:pt x="0" y="75"/>
                </a:moveTo>
                <a:cubicBezTo>
                  <a:pt x="215" y="317"/>
                  <a:pt x="431" y="560"/>
                  <a:pt x="681" y="620"/>
                </a:cubicBezTo>
                <a:cubicBezTo>
                  <a:pt x="931" y="680"/>
                  <a:pt x="1285" y="506"/>
                  <a:pt x="1497" y="438"/>
                </a:cubicBezTo>
                <a:cubicBezTo>
                  <a:pt x="1709" y="370"/>
                  <a:pt x="1830" y="279"/>
                  <a:pt x="1951" y="211"/>
                </a:cubicBezTo>
                <a:cubicBezTo>
                  <a:pt x="2072" y="143"/>
                  <a:pt x="2223" y="0"/>
                  <a:pt x="2223" y="30"/>
                </a:cubicBezTo>
                <a:cubicBezTo>
                  <a:pt x="2223" y="60"/>
                  <a:pt x="2011" y="257"/>
                  <a:pt x="1951" y="393"/>
                </a:cubicBezTo>
                <a:cubicBezTo>
                  <a:pt x="1891" y="529"/>
                  <a:pt x="1853" y="687"/>
                  <a:pt x="1860" y="846"/>
                </a:cubicBezTo>
                <a:cubicBezTo>
                  <a:pt x="1867" y="1005"/>
                  <a:pt x="1845" y="1186"/>
                  <a:pt x="1996" y="1345"/>
                </a:cubicBezTo>
                <a:cubicBezTo>
                  <a:pt x="2147" y="1504"/>
                  <a:pt x="2457" y="1651"/>
                  <a:pt x="2767" y="179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35280" y="1952640"/>
            <a:ext cx="4128840" cy="3564000"/>
          </a:xfrm>
          <a:custGeom>
            <a:avLst/>
            <a:gdLst/>
            <a:ahLst/>
            <a:rect l="l" t="t" r="r" b="b"/>
            <a:pathLst>
              <a:path w="2601" h="2245">
                <a:moveTo>
                  <a:pt x="0" y="658"/>
                </a:moveTo>
                <a:cubicBezTo>
                  <a:pt x="53" y="775"/>
                  <a:pt x="107" y="892"/>
                  <a:pt x="273" y="930"/>
                </a:cubicBezTo>
                <a:cubicBezTo>
                  <a:pt x="439" y="968"/>
                  <a:pt x="764" y="938"/>
                  <a:pt x="998" y="885"/>
                </a:cubicBezTo>
                <a:cubicBezTo>
                  <a:pt x="1232" y="832"/>
                  <a:pt x="1505" y="703"/>
                  <a:pt x="1679" y="612"/>
                </a:cubicBezTo>
                <a:cubicBezTo>
                  <a:pt x="1853" y="521"/>
                  <a:pt x="1936" y="438"/>
                  <a:pt x="2042" y="340"/>
                </a:cubicBezTo>
                <a:cubicBezTo>
                  <a:pt x="2148" y="242"/>
                  <a:pt x="2291" y="0"/>
                  <a:pt x="2314" y="23"/>
                </a:cubicBezTo>
                <a:cubicBezTo>
                  <a:pt x="2337" y="46"/>
                  <a:pt x="2133" y="438"/>
                  <a:pt x="2178" y="476"/>
                </a:cubicBezTo>
                <a:cubicBezTo>
                  <a:pt x="2223" y="514"/>
                  <a:pt x="2601" y="174"/>
                  <a:pt x="2586" y="250"/>
                </a:cubicBezTo>
                <a:cubicBezTo>
                  <a:pt x="2571" y="326"/>
                  <a:pt x="2201" y="733"/>
                  <a:pt x="2087" y="930"/>
                </a:cubicBezTo>
                <a:cubicBezTo>
                  <a:pt x="1973" y="1127"/>
                  <a:pt x="1935" y="1293"/>
                  <a:pt x="1905" y="1429"/>
                </a:cubicBezTo>
                <a:cubicBezTo>
                  <a:pt x="1875" y="1565"/>
                  <a:pt x="1882" y="1655"/>
                  <a:pt x="1905" y="1746"/>
                </a:cubicBezTo>
                <a:cubicBezTo>
                  <a:pt x="1928" y="1837"/>
                  <a:pt x="1936" y="1890"/>
                  <a:pt x="2042" y="1973"/>
                </a:cubicBezTo>
                <a:cubicBezTo>
                  <a:pt x="2148" y="2056"/>
                  <a:pt x="2344" y="2150"/>
                  <a:pt x="2540" y="224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76360" y="2852640"/>
            <a:ext cx="4967280" cy="316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95640" y="1773360"/>
            <a:ext cx="4967280" cy="3168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39760" y="1785960"/>
            <a:ext cx="4764240" cy="3767040"/>
          </a:xfrm>
          <a:custGeom>
            <a:avLst/>
            <a:gdLst/>
            <a:ahLst/>
            <a:rect l="l" t="t" r="r" b="b"/>
            <a:pathLst>
              <a:path w="3001" h="2373">
                <a:moveTo>
                  <a:pt x="1504" y="37"/>
                </a:moveTo>
                <a:cubicBezTo>
                  <a:pt x="1515" y="18"/>
                  <a:pt x="1527" y="0"/>
                  <a:pt x="1504" y="128"/>
                </a:cubicBezTo>
                <a:cubicBezTo>
                  <a:pt x="1481" y="256"/>
                  <a:pt x="1466" y="581"/>
                  <a:pt x="1368" y="808"/>
                </a:cubicBezTo>
                <a:cubicBezTo>
                  <a:pt x="1270" y="1035"/>
                  <a:pt x="1081" y="1292"/>
                  <a:pt x="915" y="1489"/>
                </a:cubicBezTo>
                <a:cubicBezTo>
                  <a:pt x="749" y="1686"/>
                  <a:pt x="514" y="1867"/>
                  <a:pt x="370" y="1988"/>
                </a:cubicBezTo>
                <a:cubicBezTo>
                  <a:pt x="226" y="2109"/>
                  <a:pt x="91" y="2154"/>
                  <a:pt x="53" y="2214"/>
                </a:cubicBezTo>
                <a:cubicBezTo>
                  <a:pt x="15" y="2274"/>
                  <a:pt x="0" y="2373"/>
                  <a:pt x="144" y="2350"/>
                </a:cubicBezTo>
                <a:cubicBezTo>
                  <a:pt x="288" y="2327"/>
                  <a:pt x="711" y="2176"/>
                  <a:pt x="915" y="2078"/>
                </a:cubicBezTo>
                <a:cubicBezTo>
                  <a:pt x="1119" y="1980"/>
                  <a:pt x="1209" y="1912"/>
                  <a:pt x="1368" y="1761"/>
                </a:cubicBezTo>
                <a:cubicBezTo>
                  <a:pt x="1527" y="1610"/>
                  <a:pt x="1685" y="1345"/>
                  <a:pt x="1867" y="1171"/>
                </a:cubicBezTo>
                <a:cubicBezTo>
                  <a:pt x="2049" y="997"/>
                  <a:pt x="2306" y="823"/>
                  <a:pt x="2457" y="717"/>
                </a:cubicBezTo>
                <a:cubicBezTo>
                  <a:pt x="2608" y="611"/>
                  <a:pt x="2683" y="574"/>
                  <a:pt x="2774" y="536"/>
                </a:cubicBezTo>
                <a:cubicBezTo>
                  <a:pt x="2865" y="498"/>
                  <a:pt x="2933" y="494"/>
                  <a:pt x="3001" y="491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92720" y="4221000"/>
            <a:ext cx="719280" cy="10796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816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50160" y="2565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443700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084720" y="4365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9452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372360" y="2852640"/>
            <a:ext cx="1798560" cy="93528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237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154360" y="3089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85240" y="4797360"/>
            <a:ext cx="61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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64520" y="5877000"/>
            <a:ext cx="61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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803640" y="3068640"/>
            <a:ext cx="14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06160" y="2637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3500280"/>
            <a:ext cx="82800" cy="289080"/>
          </a:xfrm>
          <a:custGeom>
            <a:avLst/>
            <a:gdLst/>
            <a:ahLst/>
            <a:rect l="l" t="t" r="r" b="b"/>
            <a:pathLst>
              <a:path w="52" h="182">
                <a:moveTo>
                  <a:pt x="45" y="182"/>
                </a:moveTo>
                <a:cubicBezTo>
                  <a:pt x="48" y="151"/>
                  <a:pt x="52" y="121"/>
                  <a:pt x="45" y="91"/>
                </a:cubicBezTo>
                <a:cubicBezTo>
                  <a:pt x="38" y="61"/>
                  <a:pt x="19" y="3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44440" y="328680"/>
          <a:ext cx="8656560" cy="62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328680"/>
                    <a:ext cx="865656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iegues y 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cterización de planos: Rumbo, Manteo real y Manteo apar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 de las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los dos puntos y de los tres pu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ie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superficies a lo largo de las cuales una roca o mineral se ha roto. (Superficies a lo largo de las cuales el material ha perdido cohesión). Las fracturas se distinguen por el movimiento relativo que ha ocurrido a lo largo de ellas durante su 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1280" y="515772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203640" y="494172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516640"/>
            <a:ext cx="64764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5440" y="45720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720" y="572940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acla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scontinuidades en las que un bloque se ha deslizado con respecto a o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acla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n discontinuidades a lo largo de las cuales no ha habido movimiento visible paralelo al plano de frac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fallas se diferencian, dependiendo de la orientación del desplazamiento relativo de un bloque con respecto a otro, en tres categoría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en el mant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en el ru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obli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LEONARDO VERGARA MARCHANT</cp:lastModifiedBy>
  <dcterms:modified xsi:type="dcterms:W3CDTF">2005-08-05T16:14:01Z</dcterms:modified>
  <cp:revision>30</cp:revision>
  <dc:subject/>
  <dc:title>Diapositiva 1</dc:title>
</cp:coreProperties>
</file>