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1712-6E08-41A1-B9EC-382DA5E0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B925-0397-4835-BAF8-E9C4C8EE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29F1-71EA-44EA-9887-B1838200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B8D6-8EE7-4DF5-8A5A-FD11902E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A9A43-42B2-4785-9957-053A6AD5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2B902-606A-4E32-89BC-D12871BA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D027D-669C-4316-8B4B-29C6AA80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2B23B-A101-45F3-BA6D-4189D44B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C6139-4673-42AE-925A-C4217749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85DE7-E9BC-4E40-BE3D-79B84B3C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605A6-C460-43A5-A4B2-647BFA1B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541-1092-483A-99FB-0E70968D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3D50D-69E7-4AA3-9A87-B84AE1AF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894B7-113E-4359-B75D-034D595D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95BCA-C349-4ACA-9C4B-561FE4BB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816D9-5A22-4E0C-8919-B41B590A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F1FD9-19E3-4718-8E57-86EEF6F7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1E16-1C5B-4216-A515-212615E8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E214-5993-499E-9F5D-D9B6E87F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83FC-C0F0-4FE4-B009-121D4995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C131-E67B-4120-8BF6-232E3248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14C8-C9D2-420A-86F3-8A01DB2D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3A9-595B-4D02-8BB8-0A6EE370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56EC-74B0-4F68-AE88-93CE2E1C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0BCB-7D80-45C3-AC76-C8EA207F83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BF81-060C-4A99-99AF-67935A7E3A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d0ca"/>
                </a:solidFill>
                <a:latin typeface="Arial"/>
              </a:rPr>
              <a:t>Geología Estructural</a:t>
            </a:r>
            <a:endParaRPr b="0" lang="en-US" sz="5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GL41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Tipos de Fal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fallas, en términos del movimiento relativo, pueden se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llas norm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llas invers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llas vertic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llas de rumb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Tipos de Fall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321080" cy="1857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32108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Tipos de Fall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6880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5327640" cy="3537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867280" y="3860640"/>
            <a:ext cx="3168720" cy="2791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499440" y="857160"/>
            <a:ext cx="18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allas Norm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537080" cy="3019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140360" y="3500280"/>
            <a:ext cx="4752720" cy="2748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706360" y="85716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allas Inver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174840" cy="4241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140360" y="2852640"/>
            <a:ext cx="4321080" cy="2882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151600" y="11970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allas de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Diaclas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3470040" cy="4895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09096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d0ca"/>
                </a:solidFill>
                <a:latin typeface="Arial"/>
              </a:rPr>
              <a:t>Partes geométricas de un pliegue</a:t>
            </a:r>
            <a:br>
              <a:rPr sz="4000"/>
            </a:b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os descriptivos rea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ancos o limb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on las zonas menos curvadas conectadas por la zona de mayor curvatu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rnel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zona de mayor curvatura (menor diámetro de curvatura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s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zona topográficamente más elevada de un pliegu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48320" y="2655720"/>
            <a:ext cx="403848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067280" y="2997360"/>
            <a:ext cx="4876560" cy="3251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87280" y="287280"/>
            <a:ext cx="5076720" cy="3046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707080" y="6397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nticl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8360" y="50324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incl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Homoclinal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1839960"/>
            <a:ext cx="3311640" cy="331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995640" y="1852560"/>
            <a:ext cx="439272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fesor Auxili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elipe García-Huidobro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garciah@ing.uchile.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fesores Ayud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icardo Vergara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icverga@ing.uchile.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duardo Casa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asas@ing.uchile.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aracteriz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40400" y="1773360"/>
            <a:ext cx="4041720" cy="30812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describir la orientación de un plano geológico matemáticamente se necesitan dos propieda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umbo (Strike) o Dirección de Inclinación (Dip Dire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nteo (D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aracteriz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mb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ínea que resulta de la intersección del plano geológico con un plano horizontal.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45080" y="2532240"/>
            <a:ext cx="4041720" cy="22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aracteriz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529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p Directio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rección de máxima pendiente de un plano. Es una dirección perpendicular al rumb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rot="19956000">
            <a:off x="4427280" y="2708280"/>
            <a:ext cx="4176720" cy="1593720"/>
          </a:xfrm>
          <a:prstGeom prst="parallelogram">
            <a:avLst>
              <a:gd name="adj" fmla="val 16235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3877400">
            <a:off x="3924000" y="1628280"/>
            <a:ext cx="2879640" cy="2016360"/>
          </a:xfrm>
          <a:prstGeom prst="parallelogram">
            <a:avLst>
              <a:gd name="adj" fmla="val 35703"/>
            </a:avLst>
          </a:prstGeom>
          <a:solidFill>
            <a:srgbClr val="ffff99">
              <a:alpha val="8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067280" y="2781000"/>
            <a:ext cx="396072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4859280" y="1773000"/>
            <a:ext cx="1295280" cy="165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4560" y="3429000"/>
            <a:ext cx="1729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35800">
            <a:off x="4935960" y="386064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69800" y="21337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20524800">
            <a:off x="3782520" y="40766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2944800">
            <a:off x="5143320" y="27867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295200">
            <a:off x="6085440" y="342900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p Dir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 flipH="1" rot="19956000">
            <a:off x="4571640" y="2924280"/>
            <a:ext cx="4176720" cy="1593720"/>
          </a:xfrm>
          <a:prstGeom prst="parallelogram">
            <a:avLst>
              <a:gd name="adj" fmla="val 16235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aracteriz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745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teo Re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Ángulo de inclinación de un plano en la dirección de máxima pend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2602400">
            <a:off x="4643280" y="3572640"/>
            <a:ext cx="176400" cy="414360"/>
          </a:xfrm>
          <a:custGeom>
            <a:avLst/>
            <a:gdLst/>
            <a:ahLst/>
            <a:rect l="l" t="t" r="r" b="b"/>
            <a:pathLst>
              <a:path w="105" h="317">
                <a:moveTo>
                  <a:pt x="90" y="317"/>
                </a:moveTo>
                <a:cubicBezTo>
                  <a:pt x="97" y="253"/>
                  <a:pt x="105" y="189"/>
                  <a:pt x="90" y="136"/>
                </a:cubicBezTo>
                <a:cubicBezTo>
                  <a:pt x="75" y="83"/>
                  <a:pt x="37" y="41"/>
                  <a:pt x="0" y="0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4858920" y="3860280"/>
            <a:ext cx="36036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62520" y="49417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anteo R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3877400">
            <a:off x="4068720" y="1844640"/>
            <a:ext cx="2879640" cy="2016000"/>
          </a:xfrm>
          <a:prstGeom prst="parallelogram">
            <a:avLst>
              <a:gd name="adj" fmla="val 35710"/>
            </a:avLst>
          </a:prstGeom>
          <a:solidFill>
            <a:srgbClr val="ffff99">
              <a:alpha val="8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211640" y="2997000"/>
            <a:ext cx="396072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5003280" y="1989000"/>
            <a:ext cx="1295640" cy="16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99280" y="3645000"/>
            <a:ext cx="1728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235800">
            <a:off x="5080320" y="407664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14160" y="23493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20524800">
            <a:off x="3926880" y="42926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2944800">
            <a:off x="5287680" y="30024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295200">
            <a:off x="6301440" y="371628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p Dir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aracteriz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teo Apar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Ángulo de inclinación de un plano en cualquier dirección diferente de la de máxima pend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20524800">
            <a:off x="3782520" y="42861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07240" y="494172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anteo Apar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rot="19956000">
            <a:off x="4571640" y="2924280"/>
            <a:ext cx="4176720" cy="1593720"/>
          </a:xfrm>
          <a:prstGeom prst="parallelogram">
            <a:avLst>
              <a:gd name="adj" fmla="val 16235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2602400">
            <a:off x="4643280" y="3572640"/>
            <a:ext cx="176400" cy="414360"/>
          </a:xfrm>
          <a:custGeom>
            <a:avLst/>
            <a:gdLst/>
            <a:ahLst/>
            <a:rect l="l" t="t" r="r" b="b"/>
            <a:pathLst>
              <a:path w="105" h="317">
                <a:moveTo>
                  <a:pt x="90" y="317"/>
                </a:moveTo>
                <a:cubicBezTo>
                  <a:pt x="97" y="253"/>
                  <a:pt x="105" y="189"/>
                  <a:pt x="90" y="136"/>
                </a:cubicBezTo>
                <a:cubicBezTo>
                  <a:pt x="75" y="83"/>
                  <a:pt x="37" y="41"/>
                  <a:pt x="0" y="0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858920" y="3860280"/>
            <a:ext cx="36036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62520" y="49417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anteo R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3877400">
            <a:off x="4068720" y="1844640"/>
            <a:ext cx="2879640" cy="2016000"/>
          </a:xfrm>
          <a:prstGeom prst="parallelogram">
            <a:avLst>
              <a:gd name="adj" fmla="val 35710"/>
            </a:avLst>
          </a:prstGeom>
          <a:solidFill>
            <a:srgbClr val="ffff99">
              <a:alpha val="8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211640" y="2997000"/>
            <a:ext cx="396072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5003280" y="1989000"/>
            <a:ext cx="1295640" cy="16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99280" y="3645000"/>
            <a:ext cx="1728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235800">
            <a:off x="5007240" y="407664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38160" y="21337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2944800">
            <a:off x="5646600" y="28580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295200">
            <a:off x="6301440" y="371628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p Dir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27640" y="2205000"/>
            <a:ext cx="1871640" cy="14400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003640" y="3500280"/>
            <a:ext cx="3384720" cy="21600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2000" y="3573360"/>
            <a:ext cx="1511280" cy="129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2602400">
            <a:off x="5825520" y="3344400"/>
            <a:ext cx="106200" cy="306360"/>
          </a:xfrm>
          <a:custGeom>
            <a:avLst/>
            <a:gdLst/>
            <a:ahLst/>
            <a:rect l="l" t="t" r="r" b="b"/>
            <a:pathLst>
              <a:path w="105" h="317">
                <a:moveTo>
                  <a:pt x="90" y="317"/>
                </a:moveTo>
                <a:cubicBezTo>
                  <a:pt x="97" y="253"/>
                  <a:pt x="105" y="189"/>
                  <a:pt x="90" y="136"/>
                </a:cubicBezTo>
                <a:cubicBezTo>
                  <a:pt x="75" y="83"/>
                  <a:pt x="37" y="41"/>
                  <a:pt x="0" y="0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d0ca"/>
                </a:solidFill>
                <a:latin typeface="Arial"/>
              </a:rPr>
              <a:t>Caracterización de Líne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ara definir la orientación de una línea geológica se necesitan dos propieda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um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uz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596000">
            <a:off x="4354560" y="3084120"/>
            <a:ext cx="4346640" cy="1368360"/>
          </a:xfrm>
          <a:prstGeom prst="parallelogram">
            <a:avLst>
              <a:gd name="adj" fmla="val 14015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5003640" y="2205000"/>
            <a:ext cx="2448000" cy="172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4720" y="3141720"/>
            <a:ext cx="4608360" cy="1150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08720" y="2565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32000">
            <a:off x="4287960" y="393336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d0ca"/>
                </a:solidFill>
                <a:latin typeface="Arial"/>
              </a:rPr>
              <a:t>Caracterización de Líne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umb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yección de una recta sobre un plano horizon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596000">
            <a:off x="4354560" y="3084120"/>
            <a:ext cx="4346640" cy="1368360"/>
          </a:xfrm>
          <a:prstGeom prst="parallelogram">
            <a:avLst>
              <a:gd name="adj" fmla="val 14015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5003640" y="2205000"/>
            <a:ext cx="2448000" cy="172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84720" y="3141720"/>
            <a:ext cx="4608360" cy="1150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2565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32000">
            <a:off x="4287960" y="393336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882600">
            <a:off x="7666920" y="40827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d0ca"/>
                </a:solidFill>
                <a:latin typeface="Arial"/>
              </a:rPr>
              <a:t>Caracterización de Líne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uz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Ángulo de inclinación de una recta. Corresponde al ángulo que forman la recta con su rumb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596000">
            <a:off x="4354560" y="3084120"/>
            <a:ext cx="4346640" cy="1368360"/>
          </a:xfrm>
          <a:prstGeom prst="parallelogram">
            <a:avLst>
              <a:gd name="adj" fmla="val 14015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003640" y="2205000"/>
            <a:ext cx="2448000" cy="172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84720" y="3141720"/>
            <a:ext cx="4608360" cy="1150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08720" y="2565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632000">
            <a:off x="4287960" y="393336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76960" y="3213000"/>
            <a:ext cx="166680" cy="432000"/>
          </a:xfrm>
          <a:custGeom>
            <a:avLst/>
            <a:gdLst/>
            <a:ahLst/>
            <a:rect l="l" t="t" r="r" b="b"/>
            <a:pathLst>
              <a:path w="105" h="272">
                <a:moveTo>
                  <a:pt x="15" y="272"/>
                </a:moveTo>
                <a:cubicBezTo>
                  <a:pt x="7" y="226"/>
                  <a:pt x="0" y="181"/>
                  <a:pt x="15" y="136"/>
                </a:cubicBezTo>
                <a:cubicBezTo>
                  <a:pt x="30" y="91"/>
                  <a:pt x="67" y="45"/>
                  <a:pt x="105" y="0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588000" y="285264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11600" y="26370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Buz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d0ca"/>
                </a:solidFill>
                <a:latin typeface="Arial"/>
              </a:rPr>
              <a:t>Caracterización de Líne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ak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el ángulo que forma una recta con el rumbo de un plano que la contie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596000">
            <a:off x="4354560" y="3084120"/>
            <a:ext cx="4346640" cy="1368360"/>
          </a:xfrm>
          <a:prstGeom prst="parallelogram">
            <a:avLst>
              <a:gd name="adj" fmla="val 14015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rot="20039400">
            <a:off x="5003280" y="2276280"/>
            <a:ext cx="2016360" cy="1728720"/>
          </a:xfrm>
          <a:prstGeom prst="parallelogram">
            <a:avLst>
              <a:gd name="adj" fmla="val 29160"/>
            </a:avLst>
          </a:prstGeom>
          <a:solidFill>
            <a:srgbClr val="ffff99">
              <a:alpha val="8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2741400">
            <a:off x="6388920" y="24051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003640" y="3141360"/>
            <a:ext cx="3024360" cy="143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632000">
            <a:off x="4287960" y="393336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9949400">
            <a:off x="7670880" y="30682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284720" y="3068280"/>
            <a:ext cx="2951280" cy="431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504000">
            <a:off x="4488480" y="28465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c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45080" y="3429000"/>
            <a:ext cx="71640" cy="431640"/>
          </a:xfrm>
          <a:custGeom>
            <a:avLst/>
            <a:gdLst/>
            <a:ahLst/>
            <a:rect l="l" t="t" r="r" b="b"/>
            <a:pathLst>
              <a:path w="45" h="272">
                <a:moveTo>
                  <a:pt x="45" y="272"/>
                </a:moveTo>
                <a:cubicBezTo>
                  <a:pt x="22" y="226"/>
                  <a:pt x="0" y="181"/>
                  <a:pt x="0" y="136"/>
                </a:cubicBezTo>
                <a:cubicBezTo>
                  <a:pt x="0" y="91"/>
                  <a:pt x="22" y="45"/>
                  <a:pt x="45" y="0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659280" y="2852640"/>
            <a:ext cx="865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82880" y="24922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a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atos Horizon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3961080" cy="3592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435640" y="2205000"/>
            <a:ext cx="2908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Reg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icio clases 16:15 h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medio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≥ 4.0 para aprobar el curs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Asistencia OBLIGATO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Las tareas se entregan la semana siguiente de cuando fueron da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atos Verti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3960720" cy="35938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292720" y="2276640"/>
            <a:ext cx="3017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33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teo contra la Pend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3889440" cy="3528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29541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teo a favor de la Pendiente (ángulo menor que la pendi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148360" y="2565360"/>
            <a:ext cx="2892240" cy="3456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1042920" y="2565360"/>
            <a:ext cx="381636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teo a favor de la pendiente (ángulo mayor que la pendi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148360" y="2565360"/>
            <a:ext cx="2894040" cy="3456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042920" y="2565360"/>
            <a:ext cx="38181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403280" y="54936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Método de los Tres Pu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836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627280" y="2133360"/>
            <a:ext cx="3529080" cy="3382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979640" y="4365720"/>
            <a:ext cx="3529080" cy="712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71640" y="3645000"/>
            <a:ext cx="5400720" cy="2220840"/>
          </a:xfrm>
          <a:custGeom>
            <a:avLst/>
            <a:gdLst/>
            <a:ahLst/>
            <a:rect l="l" t="t" r="r" b="b"/>
            <a:pathLst>
              <a:path w="3402" h="1399">
                <a:moveTo>
                  <a:pt x="3402" y="1361"/>
                </a:moveTo>
                <a:cubicBezTo>
                  <a:pt x="3228" y="1380"/>
                  <a:pt x="3054" y="1399"/>
                  <a:pt x="2857" y="1316"/>
                </a:cubicBezTo>
                <a:cubicBezTo>
                  <a:pt x="2660" y="1233"/>
                  <a:pt x="2365" y="1021"/>
                  <a:pt x="2222" y="862"/>
                </a:cubicBezTo>
                <a:cubicBezTo>
                  <a:pt x="2079" y="703"/>
                  <a:pt x="2071" y="499"/>
                  <a:pt x="1996" y="363"/>
                </a:cubicBezTo>
                <a:cubicBezTo>
                  <a:pt x="1921" y="227"/>
                  <a:pt x="1883" y="90"/>
                  <a:pt x="1769" y="45"/>
                </a:cubicBezTo>
                <a:cubicBezTo>
                  <a:pt x="1655" y="0"/>
                  <a:pt x="1443" y="53"/>
                  <a:pt x="1315" y="91"/>
                </a:cubicBezTo>
                <a:cubicBezTo>
                  <a:pt x="1187" y="129"/>
                  <a:pt x="1111" y="204"/>
                  <a:pt x="998" y="272"/>
                </a:cubicBezTo>
                <a:cubicBezTo>
                  <a:pt x="885" y="340"/>
                  <a:pt x="749" y="461"/>
                  <a:pt x="635" y="499"/>
                </a:cubicBezTo>
                <a:cubicBezTo>
                  <a:pt x="521" y="537"/>
                  <a:pt x="423" y="514"/>
                  <a:pt x="317" y="499"/>
                </a:cubicBezTo>
                <a:cubicBezTo>
                  <a:pt x="211" y="484"/>
                  <a:pt x="105" y="446"/>
                  <a:pt x="0" y="40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58920" y="2228760"/>
            <a:ext cx="5184720" cy="2556000"/>
          </a:xfrm>
          <a:custGeom>
            <a:avLst/>
            <a:gdLst/>
            <a:ahLst/>
            <a:rect l="l" t="t" r="r" b="b"/>
            <a:pathLst>
              <a:path w="3266" h="1610">
                <a:moveTo>
                  <a:pt x="3266" y="1572"/>
                </a:moveTo>
                <a:cubicBezTo>
                  <a:pt x="3156" y="1591"/>
                  <a:pt x="3047" y="1610"/>
                  <a:pt x="2949" y="1572"/>
                </a:cubicBezTo>
                <a:cubicBezTo>
                  <a:pt x="2851" y="1534"/>
                  <a:pt x="2730" y="1429"/>
                  <a:pt x="2677" y="1346"/>
                </a:cubicBezTo>
                <a:cubicBezTo>
                  <a:pt x="2624" y="1263"/>
                  <a:pt x="2639" y="1165"/>
                  <a:pt x="2631" y="1074"/>
                </a:cubicBezTo>
                <a:cubicBezTo>
                  <a:pt x="2623" y="983"/>
                  <a:pt x="2631" y="922"/>
                  <a:pt x="2631" y="801"/>
                </a:cubicBezTo>
                <a:cubicBezTo>
                  <a:pt x="2631" y="680"/>
                  <a:pt x="2669" y="461"/>
                  <a:pt x="2631" y="348"/>
                </a:cubicBezTo>
                <a:cubicBezTo>
                  <a:pt x="2593" y="235"/>
                  <a:pt x="2488" y="174"/>
                  <a:pt x="2405" y="121"/>
                </a:cubicBezTo>
                <a:cubicBezTo>
                  <a:pt x="2322" y="68"/>
                  <a:pt x="2230" y="37"/>
                  <a:pt x="2132" y="30"/>
                </a:cubicBezTo>
                <a:cubicBezTo>
                  <a:pt x="2034" y="23"/>
                  <a:pt x="1996" y="0"/>
                  <a:pt x="1815" y="76"/>
                </a:cubicBezTo>
                <a:cubicBezTo>
                  <a:pt x="1634" y="152"/>
                  <a:pt x="1248" y="371"/>
                  <a:pt x="1044" y="484"/>
                </a:cubicBezTo>
                <a:cubicBezTo>
                  <a:pt x="840" y="597"/>
                  <a:pt x="703" y="703"/>
                  <a:pt x="590" y="756"/>
                </a:cubicBezTo>
                <a:cubicBezTo>
                  <a:pt x="477" y="809"/>
                  <a:pt x="431" y="801"/>
                  <a:pt x="363" y="801"/>
                </a:cubicBezTo>
                <a:cubicBezTo>
                  <a:pt x="295" y="801"/>
                  <a:pt x="243" y="779"/>
                  <a:pt x="182" y="756"/>
                </a:cubicBezTo>
                <a:cubicBezTo>
                  <a:pt x="121" y="733"/>
                  <a:pt x="60" y="699"/>
                  <a:pt x="0" y="66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71640" y="2913120"/>
            <a:ext cx="5472000" cy="2387520"/>
          </a:xfrm>
          <a:custGeom>
            <a:avLst/>
            <a:gdLst/>
            <a:ahLst/>
            <a:rect l="l" t="t" r="r" b="b"/>
            <a:pathLst>
              <a:path w="3447" h="1504">
                <a:moveTo>
                  <a:pt x="0" y="552"/>
                </a:moveTo>
                <a:cubicBezTo>
                  <a:pt x="106" y="594"/>
                  <a:pt x="212" y="636"/>
                  <a:pt x="318" y="643"/>
                </a:cubicBezTo>
                <a:cubicBezTo>
                  <a:pt x="424" y="650"/>
                  <a:pt x="514" y="642"/>
                  <a:pt x="635" y="597"/>
                </a:cubicBezTo>
                <a:cubicBezTo>
                  <a:pt x="756" y="552"/>
                  <a:pt x="922" y="430"/>
                  <a:pt x="1043" y="370"/>
                </a:cubicBezTo>
                <a:cubicBezTo>
                  <a:pt x="1164" y="310"/>
                  <a:pt x="1240" y="279"/>
                  <a:pt x="1361" y="234"/>
                </a:cubicBezTo>
                <a:cubicBezTo>
                  <a:pt x="1482" y="189"/>
                  <a:pt x="1641" y="136"/>
                  <a:pt x="1769" y="98"/>
                </a:cubicBezTo>
                <a:cubicBezTo>
                  <a:pt x="1897" y="60"/>
                  <a:pt x="2034" y="14"/>
                  <a:pt x="2132" y="7"/>
                </a:cubicBezTo>
                <a:cubicBezTo>
                  <a:pt x="2230" y="0"/>
                  <a:pt x="2284" y="15"/>
                  <a:pt x="2359" y="53"/>
                </a:cubicBezTo>
                <a:cubicBezTo>
                  <a:pt x="2434" y="91"/>
                  <a:pt x="2548" y="159"/>
                  <a:pt x="2586" y="234"/>
                </a:cubicBezTo>
                <a:cubicBezTo>
                  <a:pt x="2624" y="309"/>
                  <a:pt x="2594" y="415"/>
                  <a:pt x="2586" y="506"/>
                </a:cubicBezTo>
                <a:cubicBezTo>
                  <a:pt x="2578" y="597"/>
                  <a:pt x="2548" y="703"/>
                  <a:pt x="2540" y="779"/>
                </a:cubicBezTo>
                <a:cubicBezTo>
                  <a:pt x="2532" y="855"/>
                  <a:pt x="2517" y="885"/>
                  <a:pt x="2540" y="960"/>
                </a:cubicBezTo>
                <a:cubicBezTo>
                  <a:pt x="2563" y="1035"/>
                  <a:pt x="2616" y="1156"/>
                  <a:pt x="2676" y="1232"/>
                </a:cubicBezTo>
                <a:cubicBezTo>
                  <a:pt x="2736" y="1308"/>
                  <a:pt x="2775" y="1369"/>
                  <a:pt x="2903" y="1414"/>
                </a:cubicBezTo>
                <a:cubicBezTo>
                  <a:pt x="3031" y="1459"/>
                  <a:pt x="3239" y="1481"/>
                  <a:pt x="3447" y="150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71640" y="3165480"/>
            <a:ext cx="5545080" cy="1440000"/>
          </a:xfrm>
          <a:custGeom>
            <a:avLst/>
            <a:gdLst/>
            <a:ahLst/>
            <a:rect l="l" t="t" r="r" b="b"/>
            <a:pathLst>
              <a:path w="3493" h="907">
                <a:moveTo>
                  <a:pt x="0" y="846"/>
                </a:moveTo>
                <a:cubicBezTo>
                  <a:pt x="79" y="865"/>
                  <a:pt x="159" y="884"/>
                  <a:pt x="227" y="892"/>
                </a:cubicBezTo>
                <a:cubicBezTo>
                  <a:pt x="295" y="900"/>
                  <a:pt x="340" y="907"/>
                  <a:pt x="408" y="892"/>
                </a:cubicBezTo>
                <a:cubicBezTo>
                  <a:pt x="476" y="877"/>
                  <a:pt x="529" y="869"/>
                  <a:pt x="635" y="801"/>
                </a:cubicBezTo>
                <a:cubicBezTo>
                  <a:pt x="741" y="733"/>
                  <a:pt x="930" y="567"/>
                  <a:pt x="1043" y="484"/>
                </a:cubicBezTo>
                <a:cubicBezTo>
                  <a:pt x="1156" y="401"/>
                  <a:pt x="1201" y="363"/>
                  <a:pt x="1315" y="302"/>
                </a:cubicBezTo>
                <a:cubicBezTo>
                  <a:pt x="1429" y="241"/>
                  <a:pt x="1595" y="166"/>
                  <a:pt x="1724" y="121"/>
                </a:cubicBezTo>
                <a:cubicBezTo>
                  <a:pt x="1853" y="76"/>
                  <a:pt x="1943" y="45"/>
                  <a:pt x="2087" y="30"/>
                </a:cubicBezTo>
                <a:cubicBezTo>
                  <a:pt x="2231" y="15"/>
                  <a:pt x="2488" y="0"/>
                  <a:pt x="2586" y="30"/>
                </a:cubicBezTo>
                <a:cubicBezTo>
                  <a:pt x="2684" y="60"/>
                  <a:pt x="2661" y="143"/>
                  <a:pt x="2676" y="211"/>
                </a:cubicBezTo>
                <a:cubicBezTo>
                  <a:pt x="2691" y="279"/>
                  <a:pt x="2668" y="362"/>
                  <a:pt x="2676" y="438"/>
                </a:cubicBezTo>
                <a:cubicBezTo>
                  <a:pt x="2684" y="514"/>
                  <a:pt x="2692" y="612"/>
                  <a:pt x="2722" y="665"/>
                </a:cubicBezTo>
                <a:cubicBezTo>
                  <a:pt x="2752" y="718"/>
                  <a:pt x="2767" y="733"/>
                  <a:pt x="2858" y="756"/>
                </a:cubicBezTo>
                <a:cubicBezTo>
                  <a:pt x="2949" y="779"/>
                  <a:pt x="3160" y="801"/>
                  <a:pt x="3266" y="801"/>
                </a:cubicBezTo>
                <a:cubicBezTo>
                  <a:pt x="3372" y="801"/>
                  <a:pt x="3432" y="778"/>
                  <a:pt x="3493" y="756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443640" y="566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43640" y="51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43640" y="458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80000" y="414972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56360" y="184464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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04000" y="2708280"/>
            <a:ext cx="1871640" cy="72072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45164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27640" y="2924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742880" y="227664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956720" y="2708280"/>
            <a:ext cx="21564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885080" y="3141720"/>
            <a:ext cx="82440" cy="287280"/>
          </a:xfrm>
          <a:custGeom>
            <a:avLst/>
            <a:gdLst/>
            <a:ahLst/>
            <a:rect l="l" t="t" r="r" b="b"/>
            <a:pathLst>
              <a:path w="52" h="181">
                <a:moveTo>
                  <a:pt x="7" y="181"/>
                </a:moveTo>
                <a:cubicBezTo>
                  <a:pt x="3" y="150"/>
                  <a:pt x="0" y="120"/>
                  <a:pt x="7" y="90"/>
                </a:cubicBezTo>
                <a:cubicBezTo>
                  <a:pt x="14" y="60"/>
                  <a:pt x="33" y="30"/>
                  <a:pt x="5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4716000" y="3500280"/>
            <a:ext cx="792360" cy="8654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1816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788000" y="3499920"/>
            <a:ext cx="7128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4788000" y="3429000"/>
            <a:ext cx="7128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116000" y="1915920"/>
            <a:ext cx="3529080" cy="3382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45080" y="162720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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484360" y="3860640"/>
            <a:ext cx="3529080" cy="3383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13440" y="357192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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619280" y="620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Método de los Dos Pu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1280" y="1341360"/>
            <a:ext cx="8064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258920" y="3381480"/>
            <a:ext cx="4392720" cy="2855880"/>
          </a:xfrm>
          <a:custGeom>
            <a:avLst/>
            <a:gdLst/>
            <a:ahLst/>
            <a:rect l="l" t="t" r="r" b="b"/>
            <a:pathLst>
              <a:path w="2767" h="1799">
                <a:moveTo>
                  <a:pt x="0" y="75"/>
                </a:moveTo>
                <a:cubicBezTo>
                  <a:pt x="215" y="317"/>
                  <a:pt x="431" y="560"/>
                  <a:pt x="681" y="620"/>
                </a:cubicBezTo>
                <a:cubicBezTo>
                  <a:pt x="931" y="680"/>
                  <a:pt x="1285" y="506"/>
                  <a:pt x="1497" y="438"/>
                </a:cubicBezTo>
                <a:cubicBezTo>
                  <a:pt x="1709" y="370"/>
                  <a:pt x="1830" y="279"/>
                  <a:pt x="1951" y="211"/>
                </a:cubicBezTo>
                <a:cubicBezTo>
                  <a:pt x="2072" y="143"/>
                  <a:pt x="2223" y="0"/>
                  <a:pt x="2223" y="30"/>
                </a:cubicBezTo>
                <a:cubicBezTo>
                  <a:pt x="2223" y="60"/>
                  <a:pt x="2011" y="257"/>
                  <a:pt x="1951" y="393"/>
                </a:cubicBezTo>
                <a:cubicBezTo>
                  <a:pt x="1891" y="529"/>
                  <a:pt x="1853" y="687"/>
                  <a:pt x="1860" y="846"/>
                </a:cubicBezTo>
                <a:cubicBezTo>
                  <a:pt x="1867" y="1005"/>
                  <a:pt x="1845" y="1186"/>
                  <a:pt x="1996" y="1345"/>
                </a:cubicBezTo>
                <a:cubicBezTo>
                  <a:pt x="2147" y="1504"/>
                  <a:pt x="2457" y="1651"/>
                  <a:pt x="2767" y="179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835280" y="1952640"/>
            <a:ext cx="4128840" cy="3564000"/>
          </a:xfrm>
          <a:custGeom>
            <a:avLst/>
            <a:gdLst/>
            <a:ahLst/>
            <a:rect l="l" t="t" r="r" b="b"/>
            <a:pathLst>
              <a:path w="2601" h="2245">
                <a:moveTo>
                  <a:pt x="0" y="658"/>
                </a:moveTo>
                <a:cubicBezTo>
                  <a:pt x="53" y="775"/>
                  <a:pt x="107" y="892"/>
                  <a:pt x="273" y="930"/>
                </a:cubicBezTo>
                <a:cubicBezTo>
                  <a:pt x="439" y="968"/>
                  <a:pt x="764" y="938"/>
                  <a:pt x="998" y="885"/>
                </a:cubicBezTo>
                <a:cubicBezTo>
                  <a:pt x="1232" y="832"/>
                  <a:pt x="1505" y="703"/>
                  <a:pt x="1679" y="612"/>
                </a:cubicBezTo>
                <a:cubicBezTo>
                  <a:pt x="1853" y="521"/>
                  <a:pt x="1936" y="438"/>
                  <a:pt x="2042" y="340"/>
                </a:cubicBezTo>
                <a:cubicBezTo>
                  <a:pt x="2148" y="242"/>
                  <a:pt x="2291" y="0"/>
                  <a:pt x="2314" y="23"/>
                </a:cubicBezTo>
                <a:cubicBezTo>
                  <a:pt x="2337" y="46"/>
                  <a:pt x="2133" y="438"/>
                  <a:pt x="2178" y="476"/>
                </a:cubicBezTo>
                <a:cubicBezTo>
                  <a:pt x="2223" y="514"/>
                  <a:pt x="2601" y="174"/>
                  <a:pt x="2586" y="250"/>
                </a:cubicBezTo>
                <a:cubicBezTo>
                  <a:pt x="2571" y="326"/>
                  <a:pt x="2201" y="733"/>
                  <a:pt x="2087" y="930"/>
                </a:cubicBezTo>
                <a:cubicBezTo>
                  <a:pt x="1973" y="1127"/>
                  <a:pt x="1935" y="1293"/>
                  <a:pt x="1905" y="1429"/>
                </a:cubicBezTo>
                <a:cubicBezTo>
                  <a:pt x="1875" y="1565"/>
                  <a:pt x="1882" y="1655"/>
                  <a:pt x="1905" y="1746"/>
                </a:cubicBezTo>
                <a:cubicBezTo>
                  <a:pt x="1928" y="1837"/>
                  <a:pt x="1936" y="1890"/>
                  <a:pt x="2042" y="1973"/>
                </a:cubicBezTo>
                <a:cubicBezTo>
                  <a:pt x="2148" y="2056"/>
                  <a:pt x="2344" y="2150"/>
                  <a:pt x="2540" y="224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76360" y="2852640"/>
            <a:ext cx="4967280" cy="3168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95640" y="1773360"/>
            <a:ext cx="4967280" cy="3168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39760" y="1785960"/>
            <a:ext cx="4764240" cy="3767040"/>
          </a:xfrm>
          <a:custGeom>
            <a:avLst/>
            <a:gdLst/>
            <a:ahLst/>
            <a:rect l="l" t="t" r="r" b="b"/>
            <a:pathLst>
              <a:path w="3001" h="2373">
                <a:moveTo>
                  <a:pt x="1504" y="37"/>
                </a:moveTo>
                <a:cubicBezTo>
                  <a:pt x="1515" y="18"/>
                  <a:pt x="1527" y="0"/>
                  <a:pt x="1504" y="128"/>
                </a:cubicBezTo>
                <a:cubicBezTo>
                  <a:pt x="1481" y="256"/>
                  <a:pt x="1466" y="581"/>
                  <a:pt x="1368" y="808"/>
                </a:cubicBezTo>
                <a:cubicBezTo>
                  <a:pt x="1270" y="1035"/>
                  <a:pt x="1081" y="1292"/>
                  <a:pt x="915" y="1489"/>
                </a:cubicBezTo>
                <a:cubicBezTo>
                  <a:pt x="749" y="1686"/>
                  <a:pt x="514" y="1867"/>
                  <a:pt x="370" y="1988"/>
                </a:cubicBezTo>
                <a:cubicBezTo>
                  <a:pt x="226" y="2109"/>
                  <a:pt x="91" y="2154"/>
                  <a:pt x="53" y="2214"/>
                </a:cubicBezTo>
                <a:cubicBezTo>
                  <a:pt x="15" y="2274"/>
                  <a:pt x="0" y="2373"/>
                  <a:pt x="144" y="2350"/>
                </a:cubicBezTo>
                <a:cubicBezTo>
                  <a:pt x="288" y="2327"/>
                  <a:pt x="711" y="2176"/>
                  <a:pt x="915" y="2078"/>
                </a:cubicBezTo>
                <a:cubicBezTo>
                  <a:pt x="1119" y="1980"/>
                  <a:pt x="1209" y="1912"/>
                  <a:pt x="1368" y="1761"/>
                </a:cubicBezTo>
                <a:cubicBezTo>
                  <a:pt x="1527" y="1610"/>
                  <a:pt x="1685" y="1345"/>
                  <a:pt x="1867" y="1171"/>
                </a:cubicBezTo>
                <a:cubicBezTo>
                  <a:pt x="2049" y="997"/>
                  <a:pt x="2306" y="823"/>
                  <a:pt x="2457" y="717"/>
                </a:cubicBezTo>
                <a:cubicBezTo>
                  <a:pt x="2608" y="611"/>
                  <a:pt x="2683" y="574"/>
                  <a:pt x="2774" y="536"/>
                </a:cubicBezTo>
                <a:cubicBezTo>
                  <a:pt x="2865" y="498"/>
                  <a:pt x="2933" y="494"/>
                  <a:pt x="3001" y="491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292720" y="4221000"/>
            <a:ext cx="719280" cy="10796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8160" y="3141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550160" y="2565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867280" y="443700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084720" y="4365360"/>
            <a:ext cx="14292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94520" y="450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372360" y="2852640"/>
            <a:ext cx="1798560" cy="93528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237800" y="378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154360" y="3089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185240" y="4797360"/>
            <a:ext cx="61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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64520" y="5877000"/>
            <a:ext cx="61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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6803640" y="3068640"/>
            <a:ext cx="144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806160" y="263700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948360" y="3500280"/>
            <a:ext cx="82800" cy="289080"/>
          </a:xfrm>
          <a:custGeom>
            <a:avLst/>
            <a:gdLst/>
            <a:ahLst/>
            <a:rect l="l" t="t" r="r" b="b"/>
            <a:pathLst>
              <a:path w="52" h="182">
                <a:moveTo>
                  <a:pt x="45" y="182"/>
                </a:moveTo>
                <a:cubicBezTo>
                  <a:pt x="48" y="151"/>
                  <a:pt x="52" y="121"/>
                  <a:pt x="45" y="91"/>
                </a:cubicBezTo>
                <a:cubicBezTo>
                  <a:pt x="38" y="61"/>
                  <a:pt x="19" y="30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244440" y="328680"/>
          <a:ext cx="8656560" cy="620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440" y="328680"/>
                    <a:ext cx="865656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iegues y Fal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acterización de planos: Rumbo, Manteo real y Manteo apar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la de las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los dos puntos y de los tres pu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ractu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al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lieg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Defini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ractu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superficies a lo largo de las cuales una roca o mineral se ha roto. (Superficies a lo largo de las cuales el material ha perdido cohesión). Las fracturas se distinguen por el movimiento relativo que ha ocurrido a lo largo de ellas durante su formac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31280" y="515772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Fractu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203640" y="4941720"/>
            <a:ext cx="6476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5516640"/>
            <a:ext cx="64764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5440" y="457200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Fal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4720" y="5729400"/>
            <a:ext cx="19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iacla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Defini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al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iscontinuidades en las que un bloque se ha deslizado con respecto a o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iacla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n discontinuidades a lo largo de las cuales no ha habido movimiento visible paralelo al plano de fractu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Tipos de Fal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fallas se diferencian, dependiendo de la orientación del desplazamiento relativo de un bloque con respecto a otro, en tres categoría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as de desplazamiento en el mante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as de desplazamiento en el rumb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as de desplazamiento oblicu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20:25:09Z</dcterms:created>
  <dc:creator>Andrés Fock Kunstmann</dc:creator>
  <dc:description/>
  <dc:language>en-US</dc:language>
  <cp:lastModifiedBy>LEONARDO VERGARA MARCHANT</cp:lastModifiedBy>
  <dcterms:modified xsi:type="dcterms:W3CDTF">2005-08-05T16:14:01Z</dcterms:modified>
  <cp:revision>30</cp:revision>
  <dc:subject/>
  <dc:title>Diapositiva 1</dc:title>
</cp:coreProperties>
</file>