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cashreg.wav" ContentType="audio/x-wav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27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wmf" ContentType="image/x-wmf"/>
  <Override PartName="/ppt/media/image13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EAD0-C195-42C4-A599-7A253916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C2D-EC03-41F0-BF90-235BB324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D1E2-0305-47AC-B51F-1FDB20D3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4DDD-3036-4631-AFCA-CC4EC7D62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E443-903C-48D6-AB45-81BBB610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B3AA-6BF3-4CB6-8A92-956FC666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651E-24AF-4E15-9F44-9F7E16B3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306B-CC11-4FE7-B459-FC4452CB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02C4-3E01-40BA-9B83-BD4061A2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CC42-13D6-4E4E-A9FC-A923F002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4BD8-B3EE-4AD0-BE77-EF50C292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1559-5E6A-46E7-87A6-2AAAF286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7AAD-A4C5-4EC7-BCF5-E72A4287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9C5D-0151-4FFD-BC64-78E9068D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4862-C713-4D97-AE8A-B6B2F64A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4BFE-CBBA-4B14-9DD4-2289FCC7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606E-EEA6-471D-9FDF-283B7499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03B8-4B60-4C80-8E81-347F4EF0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9548-8853-4CB2-8451-5DC4D72A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481F-09C7-4CE3-943A-49A2EFB3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3AB4-2E0E-4355-946D-9C91C2D1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5FE-1990-45C9-96BF-288B9611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235A-4B32-4A8C-98A6-2EF0892E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E204-BF29-42A5-8C27-A8FB15AE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BF87-8CB4-4605-AAF8-5EB253BB175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CC98-F84C-4621-9514-9B99DF0E6EA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31040"/>
            <a:ext cx="780588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3366"/>
                </a:solidFill>
                <a:latin typeface="Verdana"/>
              </a:rPr>
              <a:t>GEOLOGIA ECONOMICA</a:t>
            </a:r>
            <a:endParaRPr b="0" lang="en-US" sz="5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2750040"/>
            <a:ext cx="8381880" cy="22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95120" indent="-195120" algn="ctr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a Geología Económica corresponde esencialmente al estudio de depósitos minerales. Esto incluye tanto recursos metálicos, minerales industriales (no metálicos) y tambien los combustib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04920" y="996840"/>
            <a:ext cx="83818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Me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ineral o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inerale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que pueden ser  extraídos de una roca con ganancia económica (utilidad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j. Menas de Cu: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alcopirit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CuFeS2),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ornit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Cu5FeS4),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alcosin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Cu2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22560" y="45720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62120" y="1460520"/>
            <a:ext cx="7848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Gan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quellos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inerale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os cuales ocurren con los minerales de mena, pero que no tienen valor económ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j.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uarzo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SiO2),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alcit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CaCO3) o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irit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FeS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22560" y="53352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7200" y="1828800"/>
            <a:ext cx="830592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L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Grado de concentración de un elemento en el cuerpo mineralizado, ya sea mineral o ro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Ley de Co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Grado mínimo de concentración, para que la explotación sea r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98520" y="60948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969920" y="53352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1828800"/>
            <a:ext cx="84582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Estér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érmino minero utilizado para referirse a la roca que no constituye mena explotable, en oposición a rocas mineraliz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69920" y="53352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319860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2. PROCESOS DE MINERALIZACIÓN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45960" y="0"/>
            <a:ext cx="8363160" cy="61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PROCESOS DE MINE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ahoma"/>
              </a:rPr>
              <a:t>Mineral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 refiere usualmente a procesos formadores de minerales de mena o a minerales asociados que permiten la sobreconcentración  de ellos (pirit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914400" y="2043000"/>
            <a:ext cx="74674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1 Hipógena o Primaria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ineralizació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endógena, es decir producida por procesos internos de la tier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10760" y="457200"/>
            <a:ext cx="5493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TIPOS DE MINE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676800"/>
            <a:ext cx="81630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1 Hipógena o Primaria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gmáticos: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istaliz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greg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accionamien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amórficos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giona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c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drotermales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órfid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467480" cy="4996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85800" y="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gmá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533520" y="1295280"/>
            <a:ext cx="7924680" cy="5046480"/>
            <a:chOff x="533520" y="1295280"/>
            <a:chExt cx="7924680" cy="504648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533520" y="1295280"/>
              <a:ext cx="7772400" cy="50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914400" y="6248160"/>
              <a:ext cx="1828800" cy="0"/>
            </a:xfrm>
            <a:prstGeom prst="line">
              <a:avLst/>
            </a:prstGeom>
            <a:ln cap="sq"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14400" y="6171840"/>
              <a:ext cx="0" cy="152640"/>
            </a:xfrm>
            <a:prstGeom prst="line">
              <a:avLst/>
            </a:prstGeom>
            <a:ln cap="sq"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43200" y="6171840"/>
              <a:ext cx="0" cy="152640"/>
            </a:xfrm>
            <a:prstGeom prst="line">
              <a:avLst/>
            </a:prstGeom>
            <a:ln cap="sq"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67040" y="5867280"/>
              <a:ext cx="133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 Narrow"/>
                </a:rPr>
                <a:t>100 – 5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00400" y="1752480"/>
              <a:ext cx="195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 Narrow"/>
                </a:rPr>
                <a:t>Granate y piroxe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52480" y="15238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 Narrow"/>
                </a:rPr>
                <a:t>Wollastoni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29200" y="12952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 Narrow"/>
                </a:rPr>
                <a:t>Wollastoni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9480" y="167616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 Narrow"/>
                </a:rPr>
                <a:t>Marm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10280" y="480024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 Narrow"/>
                </a:rPr>
                <a:t>Marm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52680" y="1371240"/>
              <a:ext cx="195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6699"/>
                  </a:solidFill>
                  <a:latin typeface="Arial Narrow"/>
                </a:rPr>
                <a:t>Aureola term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09480" y="304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Metamorfismo de contacto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k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33508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1. DEFINICIONES BÁSICA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716360" y="1760400"/>
            <a:ext cx="3916440" cy="44388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723960" y="1741320"/>
            <a:ext cx="3894120" cy="44132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3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Verdana"/>
              </a:rPr>
              <a:t>Distribución de súlfuros Hipógeno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69132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92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9840" y="276120"/>
            <a:ext cx="893592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Tahoma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TIPOS DE MINE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2 Supérgena o Secundaria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ineralización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 efectos exógenos (agentes externos) sobre cuerpos mineraliz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676800"/>
            <a:ext cx="81630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2 Supérgena o Secundaria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Sedimentarios: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Alócton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Autócton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Meteorización: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Residua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Supérgen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xótic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Superficiales: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xhalativ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769440" cy="50738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914400" y="2286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dimentario Autóctono: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Sa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413400" cy="43308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355400" y="609480"/>
            <a:ext cx="52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dimentario Autóctono: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B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355400" y="609480"/>
            <a:ext cx="52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dimentario Autóctono: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B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59040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355400" y="609480"/>
            <a:ext cx="52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dimentario Autóctono: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B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5904000" cy="4500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38080" y="1281240"/>
            <a:ext cx="6782040" cy="4787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044720" y="533520"/>
            <a:ext cx="72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dimentario Autóctono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Nodulos de M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66840" y="533520"/>
            <a:ext cx="8777160" cy="65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Ocurrencia Min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ncentración anómal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de un mineral que se considera vali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Depósito Min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s una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currencia mineral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de tamaño y ley suficiente para que en circunstancias favorables, sea considerado con potencial económ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09480" y="45720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09480" y="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dimentario Alóctonos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Plac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Mariana"/>
          <p:cNvPicPr/>
          <p:nvPr/>
        </p:nvPicPr>
        <p:blipFill>
          <a:blip r:embed="rId1"/>
          <a:stretch/>
        </p:blipFill>
        <p:spPr>
          <a:xfrm>
            <a:off x="838080" y="990720"/>
            <a:ext cx="7772400" cy="50702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272600" y="254160"/>
            <a:ext cx="60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dimentario Alóctonos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Plac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09480" y="938160"/>
            <a:ext cx="7921800" cy="5919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120320" y="254160"/>
            <a:ext cx="60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dimentario Alóctonos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Plac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golito" descr=""/>
          <p:cNvPicPr/>
          <p:nvPr/>
        </p:nvPicPr>
        <p:blipFill>
          <a:blip r:embed="rId1"/>
          <a:stretch/>
        </p:blipFill>
        <p:spPr>
          <a:xfrm>
            <a:off x="3186000" y="762120"/>
            <a:ext cx="5958000" cy="6408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teorización, Residua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Lateritas y Baux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760320"/>
            <a:ext cx="9144000" cy="50356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Meteorización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érgenos 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686800" cy="59212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Meteorización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érgenos 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figura-44b" descr=""/>
          <p:cNvPicPr/>
          <p:nvPr/>
        </p:nvPicPr>
        <p:blipFill>
          <a:blip r:embed="rId1"/>
          <a:srcRect l="10955" t="0" r="11768" b="0"/>
          <a:stretch/>
        </p:blipFill>
        <p:spPr>
          <a:xfrm>
            <a:off x="380880" y="685800"/>
            <a:ext cx="8382240" cy="5867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Meteorización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érgenos 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Meteorización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érgenos 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Meteorización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érgenos 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2360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04920" y="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erficiales: Volcano Exhal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390240"/>
            <a:ext cx="816300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br>
              <a:rPr sz="3600"/>
            </a:b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881360"/>
            <a:ext cx="8432640" cy="49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Verdana"/>
              </a:rPr>
              <a:t>Ya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epósito mineral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que ha sido examinado y ha probado tener suficiente tamaño, ley y accesibilidad, como para ser puesto en producción y ser rent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rentabilidad de un yacimiento depende también de condiciones ajenas al cuerpo mineral, como las tasas de impuesto, precio de metale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381880" cy="54118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113480" y="380880"/>
            <a:ext cx="58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erficiales: Volcano Exhal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676520" y="604800"/>
            <a:ext cx="746748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418560" y="327672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Black"/>
              </a:rPr>
              <a:t>C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57200" y="822240"/>
            <a:ext cx="868680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912960" y="682560"/>
            <a:ext cx="731664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642960"/>
            <a:ext cx="78058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600" spc="-1" strike="noStrike">
                <a:solidFill>
                  <a:srgbClr val="003366"/>
                </a:solidFill>
                <a:latin typeface="Verdana"/>
              </a:rPr>
              <a:t>Definiciones Básicas VII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2440" y="1590480"/>
            <a:ext cx="780552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Verdana"/>
              </a:rPr>
              <a:t>Min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rresponde a las labores de explotación de un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yacimient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57440" y="276120"/>
            <a:ext cx="5943600" cy="3624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724280" y="4876920"/>
            <a:ext cx="38703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jo de La Alumbr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cimiento tipo pórfido Cu-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1320" y="276120"/>
            <a:ext cx="1935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ENERO 1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76120" y="3664080"/>
            <a:ext cx="4216680" cy="2836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14360" y="5599080"/>
            <a:ext cx="26892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PTIEMBRE 197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8080" y="208080"/>
            <a:ext cx="223020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trito Farall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egr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tamarca, Argen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371240" y="24382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currencia miner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pósito miner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9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Yacimient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9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in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0880" y="1905120"/>
            <a:ext cx="82296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Recurso Mineral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nelaje o volumen de roca mineralizada de interés económico intrínseco, cuyas leyes, límites y otras características apropiadas están conocidas con cierto grado de certe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Reservas Minerales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rción o volumen de un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ecurso Mineral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en el que se han efectuado estudios técnicos y económic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22560" y="68580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14360" y="345960"/>
            <a:ext cx="8364600" cy="53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Roca de ca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a roca que rodea al depósito, por ejemplo las rocas a ambos lados de una v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Roca huésp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a roca dentro de la cual se presenta el depósito mineral. Ej. Pórfido Chuqui en Chuquicam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05:20:52Z</dcterms:created>
  <dc:creator>Cristobal</dc:creator>
  <dc:description/>
  <dc:language>en-US</dc:language>
  <cp:lastModifiedBy>Luis López</cp:lastModifiedBy>
  <dcterms:modified xsi:type="dcterms:W3CDTF">2005-11-04T18:29:20Z</dcterms:modified>
  <cp:revision>5</cp:revision>
  <dc:subject/>
  <dc:title>GEOLOGIA ECONOMICA</dc:title>
</cp:coreProperties>
</file>