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cashreg.wav" ContentType="audio/x-wav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wmf" ContentType="image/x-wmf"/>
  <Override PartName="/ppt/media/image1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D58-2DB5-49E9-A9D1-EC3A2B1D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20A-4B6A-4F0A-8746-B3805BE2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732-C439-41D6-8FCC-6596878F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903-E753-4792-BACB-234210E6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997C-D695-4E63-AE4A-FC89B41F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C760-246D-4A4F-9C30-7EE09D1D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4E1B-9D28-43D8-A0CF-CFC33223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75AB-1699-4896-BC36-F067584E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EF29-348F-4CA7-8EFC-C1D9FD12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1EBF-7B82-43EF-9E11-0E7E9F4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56CB-2951-43B7-AA45-D7E44516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F0D-3037-49E5-9399-72F47C0C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D2B8-F199-4832-8BB0-98283F8F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5E9A-EE89-4317-B314-E9AF12CC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25F7-648F-462D-B888-67D59D1F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DB4F-8D40-493D-B69A-B1D5F966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44A9-2EDE-4BE5-8C88-D368E5DD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033-B706-4490-A100-0596F49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D50-9F83-466F-8278-6AFC4E35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680-67F0-4355-913B-E8D991DE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279-3CAA-436F-AB81-6E1A9D49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620-9ECB-4E2A-92D5-6CCE903F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850-9E32-492A-B859-B44A530E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B75-DA94-4C91-BDBD-359E2D95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3FD0-9418-443F-AB9A-0486D19BA2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2314-7172-4894-8C07-98406D3233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31040"/>
            <a:ext cx="780588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66"/>
                </a:solidFill>
                <a:latin typeface="Verdana"/>
              </a:rPr>
              <a:t>GEOLOGIA ECONOMICA</a:t>
            </a:r>
            <a:endParaRPr b="0" lang="en-US" sz="5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750040"/>
            <a:ext cx="838188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04920" y="996840"/>
            <a:ext cx="83818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neral 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que pueden ser  extraídos de una roca con ganancia económica (utilidad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22560" y="45720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1460520"/>
            <a:ext cx="78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quellos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os cuales ocurren con los minerales de mena, pero que no tienen valor econó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256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828800"/>
            <a:ext cx="83059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, ya sea mineral o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8520" y="6094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6992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828800"/>
            <a:ext cx="84582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992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31986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2. PROCESOS DE MINERALIZACIÓ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45960" y="0"/>
            <a:ext cx="836316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PROCES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 o a minerales asociados que permiten la sobreconcentración  de ellos (piri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14400" y="2043000"/>
            <a:ext cx="7467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1 Hipógena o Prim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iz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ndógena, es decir producida por procesos internos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10760" y="457200"/>
            <a:ext cx="549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IP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676800"/>
            <a:ext cx="8163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1 Hipógena o Prim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gmáticos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staliz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greg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ccionam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amórficos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on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drotermales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órf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467480" cy="4996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gm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533520" y="1295280"/>
            <a:ext cx="7924680" cy="5046480"/>
            <a:chOff x="533520" y="1295280"/>
            <a:chExt cx="7924680" cy="504648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533520" y="1295280"/>
              <a:ext cx="7772400" cy="50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14400" y="6248160"/>
              <a:ext cx="1828800" cy="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4400" y="6171840"/>
              <a:ext cx="0" cy="15264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6171840"/>
              <a:ext cx="0" cy="15264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7040" y="586728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100 – 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0400" y="175248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Granate y piroxe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15238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Wollaston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9200" y="12952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Wollaston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" y="16761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Marm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0280" y="480024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Marm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52680" y="137124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6699"/>
                  </a:solidFill>
                  <a:latin typeface="Arial Narrow"/>
                </a:rPr>
                <a:t>Aureola ter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09480" y="304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amorfismo de contacto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33508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1. DEFINICIONES BÁSICA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716360" y="1760400"/>
            <a:ext cx="3916440" cy="4438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23960" y="1741320"/>
            <a:ext cx="3894120" cy="44132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Distribución de súlfuros Hipógen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9132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9840" y="276120"/>
            <a:ext cx="893592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Tahoma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IP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2 Supérgena o Secund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ización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 efectos exógenos (agentes externos) sobre cuerpos mineral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676800"/>
            <a:ext cx="8163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2 Supérgena o Secund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edimentarios: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lócto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utócto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Residu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upérge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xót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uperficiales: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xhala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5073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14400" y="228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a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413400" cy="4330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5904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5904000" cy="4500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6782040" cy="4787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44720" y="533520"/>
            <a:ext cx="72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Nodulos de 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66840" y="533520"/>
            <a:ext cx="877716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ncentración anómal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un mineral que se considera vali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s una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currencia miner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tamaño y ley suficiente para que en circunstancias favorables, sea considerado con potencial econó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09480" y="4572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0948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Mariana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5070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72600" y="254160"/>
            <a:ext cx="60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480" y="938160"/>
            <a:ext cx="7921800" cy="5919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120320" y="254160"/>
            <a:ext cx="60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golito" descr=""/>
          <p:cNvPicPr/>
          <p:nvPr/>
        </p:nvPicPr>
        <p:blipFill>
          <a:blip r:embed="rId1"/>
          <a:stretch/>
        </p:blipFill>
        <p:spPr>
          <a:xfrm>
            <a:off x="3186000" y="762120"/>
            <a:ext cx="5958000" cy="6408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eorización, Residua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teritas y Baux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760320"/>
            <a:ext cx="9144000" cy="503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686800" cy="5921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figura-44b" descr=""/>
          <p:cNvPicPr/>
          <p:nvPr/>
        </p:nvPicPr>
        <p:blipFill>
          <a:blip r:embed="rId1"/>
          <a:srcRect l="10955" t="0" r="11768" b="0"/>
          <a:stretch/>
        </p:blipFill>
        <p:spPr>
          <a:xfrm>
            <a:off x="380880" y="685800"/>
            <a:ext cx="8382240" cy="5867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236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erficiales: Volcano Exhal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390240"/>
            <a:ext cx="81630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br>
              <a:rPr sz="36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881360"/>
            <a:ext cx="843264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Ya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epósito miner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que ha sido examinado y ha probado tener suficiente tamaño, ley y accesibilidad, como para ser puesto en producción y ser rent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rentabilidad de un yacimiento depende también de condiciones ajenas al cuerpo mineral, como las tasas de impuesto, precio de metale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81880" cy="5411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13480" y="380880"/>
            <a:ext cx="58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erficiales: Volcano Exhal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604800"/>
            <a:ext cx="74674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418560" y="32767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822240"/>
            <a:ext cx="86868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912960" y="682560"/>
            <a:ext cx="7316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642960"/>
            <a:ext cx="780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Verdana"/>
              </a:rPr>
              <a:t>Definiciones Básicas VII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2440" y="1590480"/>
            <a:ext cx="78055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Mi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rresponde a las labores de explotación de un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yacimien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57440" y="276120"/>
            <a:ext cx="5943600" cy="3624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24280" y="4876920"/>
            <a:ext cx="38703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jo de La Alumb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cimiento tipo pórfido Cu-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1320" y="276120"/>
            <a:ext cx="1935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NERO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76120" y="3664080"/>
            <a:ext cx="4216680" cy="2836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14360" y="5599080"/>
            <a:ext cx="26892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PTIEMBRE 19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8080" y="208080"/>
            <a:ext cx="223020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rito Farall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gr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tamarca,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371240" y="24382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currencia miner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pósito miner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Yaci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in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1905120"/>
            <a:ext cx="82296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curso Mineral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servas Minerales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rción o volumen de un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curso Miner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n el que se han efectuado estudios técnicos y económi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22560" y="68580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14360" y="345960"/>
            <a:ext cx="836460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5:20:52Z</dcterms:created>
  <dc:creator>Cristobal</dc:creator>
  <dc:description/>
  <dc:language>en-US</dc:language>
  <cp:lastModifiedBy>Luis López</cp:lastModifiedBy>
  <dcterms:modified xsi:type="dcterms:W3CDTF">2005-11-04T18:29:20Z</dcterms:modified>
  <cp:revision>5</cp:revision>
  <dc:subject/>
  <dc:title>GEOLOGIA ECONOMICA</dc:title>
</cp:coreProperties>
</file>