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cashreg.wav" ContentType="audio/x-wav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7420-8B3B-4129-8E9C-BFCC7FD6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306-5EAD-4D99-B9A3-1A2246C0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678-BD8E-452F-8FDA-4500712F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BD28-721F-4F43-B026-863B7B06D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ADB8-016B-45BF-ABE3-EB42053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4DCC-C120-4FF5-BB4D-4009300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6C15-40B0-473D-9A05-C47A0DFC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97DD-410C-4717-B2AE-63938CD4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9519-E2BC-4781-8DBA-0897C570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1E2-9AA8-4317-8029-F3023781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214C-D2B1-4ACE-B474-5164DD99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50C-8981-4E44-AB60-3E9E6CB2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E9F0-2451-452D-A39F-A3935EE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BF78-D939-4714-920D-40D11E11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106-6921-41D1-BCA6-A904C848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3ABB-BB95-47AF-9C6E-2C0D057B3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008C-CDA1-4E5A-844D-AE4DA1BA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15F-B0CC-4CBE-8511-362CBE1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9E99-05E2-46D3-8377-4D1F22E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7479-E3EE-411E-A2AC-E0228746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463-866D-4BA9-8137-11ECEF37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9D3C-AB9E-45D0-A996-947DF154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3C5-4536-4C6C-A66C-770C3F72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697-0C10-414A-A3AF-1B071D5A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8582-4BF4-489E-B9AD-639641860DB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195E-BE2B-4B76-9643-7857A1FCC0A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31040"/>
            <a:ext cx="780588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3366"/>
                </a:solidFill>
                <a:latin typeface="Verdana"/>
              </a:rPr>
              <a:t>GEOLOGIA ECONOMICA</a:t>
            </a:r>
            <a:endParaRPr b="0" lang="en-US" sz="5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750040"/>
            <a:ext cx="8381880" cy="22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Arial"/>
              </a:rPr>
              <a:t>La Geología Económica corresponde esencialmente al estudio de depósitos minerales. Esto incluye tanto recursos metálicos, minerales industriales (no metálicos) y tambien los combustible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04920" y="996840"/>
            <a:ext cx="83818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M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ineral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que pueden ser  extraídos de una roca con ganancia económica (utilidad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Menas de Cu: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FeS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Born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5FeS4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osin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u2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2560" y="4572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762120" y="1460520"/>
            <a:ext cx="784836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Gan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quellos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e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os cuales ocurren con los minerales de mena, pero que no tienen valor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j.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uarzo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SiO2),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alc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CaCO3) o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Pirit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(FeS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2256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57200" y="1828800"/>
            <a:ext cx="83059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de concentración de un elemento en el cuerpo mineralizado, ya sea mineral o roc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ahoma"/>
              </a:rPr>
              <a:t>Ley de Co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Grado mínimo de concentración, para que la explotación sea re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8520" y="60948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1828800"/>
            <a:ext cx="84582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Estér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érmino minero utilizado para referirse a la roca que no constituye mena explotable, en oposición a rocas minera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69920" y="53352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319860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2. PROCESOS DE MINERALIZACIÓN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45960" y="0"/>
            <a:ext cx="8363160" cy="61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PROCES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ahoma"/>
              </a:rPr>
              <a:t>Mineraliz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e refiere usualmente a procesos formadores de minerales de mena o a minerales asociados que permiten la sobreconcentración  de ellos (pirit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14400" y="2043000"/>
            <a:ext cx="74674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dógena, es decir producida por procesos internos de la tier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10760" y="457200"/>
            <a:ext cx="5493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1 Hipógena o Prim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gmáticos: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taliz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greg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accionamient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tamórfico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gion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c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idrotermales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órfid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467480" cy="49960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gmá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533520" y="1295280"/>
            <a:ext cx="7924680" cy="5046480"/>
            <a:chOff x="533520" y="1295280"/>
            <a:chExt cx="7924680" cy="504648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533520" y="1295280"/>
              <a:ext cx="777240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14400" y="6248160"/>
              <a:ext cx="1828800" cy="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144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743200" y="6171840"/>
              <a:ext cx="0" cy="152640"/>
            </a:xfrm>
            <a:prstGeom prst="line">
              <a:avLst/>
            </a:prstGeom>
            <a:ln cap="sq"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67040" y="5867280"/>
              <a:ext cx="133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100 – 500 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00400" y="175248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Granate y piroxe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52480" y="15238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29200" y="12952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Wollastoni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480" y="16761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10280" y="480024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 Narrow"/>
                </a:rPr>
                <a:t>Marm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1371240"/>
              <a:ext cx="195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6699"/>
                  </a:solidFill>
                  <a:latin typeface="Arial Narrow"/>
                </a:rPr>
                <a:t>Aureola term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609480" y="304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amorfismo de contacto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k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3350880"/>
            <a:ext cx="8163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1. DEFINICIONES BÁSICAS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716360" y="1760400"/>
            <a:ext cx="3916440" cy="4438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23960" y="1741320"/>
            <a:ext cx="3894120" cy="441324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Distribución de súlfuros Hipógeno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69132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9840" y="276120"/>
            <a:ext cx="893592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dddddd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TIPOS DE MINER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ineralización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 efectos exógenos (agentes externos) sobre cuerpos mineraliz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ahoma"/>
              <a:buChar char="•"/>
              <a:tabLst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71200" y="676800"/>
            <a:ext cx="81630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2 Supérgena o Secundaria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dimentario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l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utócto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Residua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érgen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ótic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uperficiales: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xhalativo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50738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14400" y="2286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a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413400" cy="43308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355400" y="609480"/>
            <a:ext cx="52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B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5904000" cy="4500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38080" y="1281240"/>
            <a:ext cx="6782040" cy="4787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44720" y="533520"/>
            <a:ext cx="72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utóctono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Nodulos de M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366840" y="533520"/>
            <a:ext cx="8777160" cy="65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Ocurrencia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ncentración anómala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un mineral que se considera vali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Depósito Mine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s una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ocurrencia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de tamaño y ley suficiente para que en circunstancias favorables, sea considerado con potencial económ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09480" y="4572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09480" y="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Mariana"/>
          <p:cNvPicPr/>
          <p:nvPr/>
        </p:nvPicPr>
        <p:blipFill>
          <a:blip r:embed="rId1"/>
          <a:stretch/>
        </p:blipFill>
        <p:spPr>
          <a:xfrm>
            <a:off x="838080" y="990720"/>
            <a:ext cx="7772400" cy="50702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27260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938160"/>
            <a:ext cx="7921800" cy="5919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120320" y="254160"/>
            <a:ext cx="60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Sedimentario Alóctonos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Place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golito" descr=""/>
          <p:cNvPicPr/>
          <p:nvPr/>
        </p:nvPicPr>
        <p:blipFill>
          <a:blip r:embed="rId1"/>
          <a:stretch/>
        </p:blipFill>
        <p:spPr>
          <a:xfrm>
            <a:off x="3186000" y="762120"/>
            <a:ext cx="5958000" cy="6408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teorización, Residual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Lateritas y Bauxi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760320"/>
            <a:ext cx="9144000" cy="503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686800" cy="5921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figura-44b" descr=""/>
          <p:cNvPicPr/>
          <p:nvPr/>
        </p:nvPicPr>
        <p:blipFill>
          <a:blip r:embed="rId1"/>
          <a:srcRect l="10955" t="0" r="11768" b="0"/>
          <a:stretch/>
        </p:blipFill>
        <p:spPr>
          <a:xfrm>
            <a:off x="380880" y="685800"/>
            <a:ext cx="8382240" cy="58672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Meteorización: </a:t>
            </a: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érgenos </a:t>
            </a: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080720" cy="723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390240"/>
            <a:ext cx="8163000" cy="103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br>
              <a:rPr sz="3600"/>
            </a:b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881360"/>
            <a:ext cx="8432640" cy="49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Ya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que ha sido examinado y ha probado tener suficiente tamaño, ley y accesibilidad, como para ser puesto en producción y ser rent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rentabilidad de un yacimiento depende también de condiciones ajenas al cuerpo mineral, como las tasas de impuesto, precio de metale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81880" cy="5411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113480" y="380880"/>
            <a:ext cx="58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Verdana"/>
              </a:rPr>
              <a:t>Superficiales: Volcano Exhala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676520" y="604800"/>
            <a:ext cx="746748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418560" y="327672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 Black"/>
              </a:rPr>
              <a:t>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57200" y="822240"/>
            <a:ext cx="8686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912960" y="682560"/>
            <a:ext cx="7316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642960"/>
            <a:ext cx="78058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600" spc="-1" strike="noStrike">
                <a:solidFill>
                  <a:srgbClr val="003366"/>
                </a:solidFill>
                <a:latin typeface="Verdana"/>
              </a:rPr>
              <a:t>Definiciones Básicas VI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2440" y="1590480"/>
            <a:ext cx="78055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Verdana"/>
              </a:rPr>
              <a:t>Mi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rresponde a las labores de explotación de un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yacimiento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78000" indent="0" algn="ctr"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6436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2557440" y="276120"/>
            <a:ext cx="5943600" cy="36244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24280" y="4876920"/>
            <a:ext cx="387036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jo de La Alumbr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cimiento tipo pórfido Cu-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1320" y="276120"/>
            <a:ext cx="19350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ENERO 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276120" y="3664080"/>
            <a:ext cx="4216680" cy="2836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14360" y="5599080"/>
            <a:ext cx="26892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PTIEMBRE 197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8080" y="208080"/>
            <a:ext cx="223020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trito Farall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Negr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atamarca, Argen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71240" y="24382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currencia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pósito minera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901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acimient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9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in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905120"/>
            <a:ext cx="82296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nelaje o volumen de roca mineralizada de interés económico intrínseco, cuyas leyes, límites y otras características apropiadas están conocidas con cierto grado de certe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eservas Minerales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rción o volumen de un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curso Mineral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en el que se han efectuado estudios técnicos y económi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22560" y="685800"/>
            <a:ext cx="471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14360" y="345960"/>
            <a:ext cx="8364600" cy="53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 Black"/>
              </a:rPr>
              <a:t>DEFINICIONES BÁS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de caj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que rodea al depósito, por ejemplo las rocas a ambos lados de una ve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ahoma"/>
              </a:rPr>
              <a:t>Roca huésp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a roca dentro de la cual se presenta el depósito mineral. Ej. Pórfido Chuqui en Chuquicam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05:20:52Z</dcterms:created>
  <dc:creator>Cristobal</dc:creator>
  <dc:description/>
  <dc:language>en-US</dc:language>
  <cp:lastModifiedBy>Luis López</cp:lastModifiedBy>
  <dcterms:modified xsi:type="dcterms:W3CDTF">2005-11-04T18:29:20Z</dcterms:modified>
  <cp:revision>5</cp:revision>
  <dc:subject/>
  <dc:title>GEOLOGIA ECONOMICA</dc:title>
</cp:coreProperties>
</file>