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ACFF2D-0D8C-44F4-84BE-406F12EDCC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BB1B06-4AE0-4734-8281-AC2BAFA4D0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4A33DA-3EF9-42B4-AD76-D336C91CC6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45BBF5-E0EE-4661-B132-0AB68DF18D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840D68-7792-420C-BBF1-DF98373231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600376-DD08-4C62-BF0C-1A11F47FB9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28D967-B5CF-4D93-A67A-C52A1A94CA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275E65-90FA-49F3-A09A-39CA6C9FD5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4A9CBB-8FCD-4039-A733-C7D0BCE4EE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049221-C933-4DA7-9CBA-7A90E5FB5E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CCAD70-DCA5-4C75-9BDF-762CC5D37C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95F747-2FA1-428E-B8FD-C84D3EC7A2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357F8-9847-4CAF-97B9-0AC1A9CD6E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60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 A L E O M A G N E T I S M O</a:t>
            </a:r>
            <a:endParaRPr b="0" lang="en-US" sz="2000" spc="-1" strike="noStrike">
              <a:solidFill>
                <a:srgbClr val="000000"/>
              </a:solidFill>
              <a:latin typeface="Times New Roman"/>
            </a:endParaRPr>
          </a:p>
        </p:txBody>
      </p:sp>
      <p:sp>
        <p:nvSpPr>
          <p:cNvPr id="42" name="PlaceHolder 2"/>
          <p:cNvSpPr>
            <a:spLocks noGrp="1"/>
          </p:cNvSpPr>
          <p:nvPr>
            <p:ph/>
          </p:nvPr>
        </p:nvSpPr>
        <p:spPr>
          <a:xfrm>
            <a:off x="304560" y="914400"/>
            <a:ext cx="8458200" cy="5486400"/>
          </a:xfrm>
          <a:prstGeom prst="rect">
            <a:avLst/>
          </a:prstGeom>
          <a:noFill/>
          <a:ln w="0">
            <a:noFill/>
          </a:ln>
        </p:spPr>
        <p:txBody>
          <a:bodyPr lIns="90000" rIns="90000" tIns="46800" bIns="46800" anchor="t">
            <a:normAutofit/>
          </a:bodyPr>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O EN LA MAYORÍA DE LOS PLANETAS,  LA TIERRA  TIENE  UN CAMPO  MAGNÉTICO  GENERADO EN SU INTERIOR.   EL CAMPO  MAGNÉTICO ES  COMPARABLE  A  UNA  SIMPLE  BARRA MAGNÉTICA,  DEBIDO A QUE TIENE UN POLO  NORTE  Y  OTRO SUR.  EL  EJE  DEL CAMPO MAGNÉTICO TIENE UNA INCLINACIÓN   DE   11°   RESPECTO  AL  EJE   DE   ROTACIÓN  DE  LA  TIERRA   (EJE  GEOGRÁFICO).</a:t>
            </a:r>
            <a:endParaRPr b="0" lang="en-US" sz="1800" spc="-1" strike="noStrike">
              <a:solidFill>
                <a:srgbClr val="000000"/>
              </a:solidFill>
              <a:latin typeface="Times New Roman"/>
            </a:endParaRPr>
          </a:p>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  CAMPO  MAGNÉTICO  TERRESTRE  NO SE  DEBERÍA   A  </a:t>
            </a:r>
            <a:r>
              <a:rPr b="0" lang="en-US" sz="1800" spc="-1" strike="noStrike">
                <a:solidFill>
                  <a:srgbClr val="ffffff"/>
                </a:solidFill>
                <a:latin typeface="Arial"/>
              </a:rPr>
              <a:t>	</a:t>
            </a:r>
            <a:r>
              <a:rPr b="0" lang="en-US" sz="1800" spc="-1" strike="noStrike">
                <a:solidFill>
                  <a:srgbClr val="ffffff"/>
                </a:solidFill>
                <a:latin typeface="Arial"/>
              </a:rPr>
              <a:t>UNA MASA PERMANENTEMENTE  MAGNETIZADA;   TANTO  EL  MANTO  COMO  EL  NUCLEO  TERRESTRE   TIENEN   UNA TEMPERATURA  DEMASIADO  ELEVADA  PARA  RETENER UN CAMPO  MAGNÉTICO PERMANENTE.    COSECUENTEMENTE,  EL  CAMPO  MAGNÉTICO  DEBE  SER GENERADO  ELECTROMAGNETICAMENTE.   </a:t>
            </a:r>
            <a:endParaRPr b="0" lang="en-US" sz="1800" spc="-1" strike="noStrike">
              <a:solidFill>
                <a:srgbClr val="000000"/>
              </a:solidFill>
              <a:latin typeface="Times New Roman"/>
            </a:endParaRPr>
          </a:p>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  TEORÍA   ELECTROMAGNÉTICA  POSTULA  QUE  EL  NUCLEO  TERRESTRE  ACTÚA  COMO  UN  DÍNAMO,   DÓNDE  LA  PARTE      EXTERNA,  QUE   ES  UN  FLUÍDO  COMPUESTO   PRÍNCIPALMENTE POR HIERRO,  NIQUEL  Y AZUFRE,    ROTA  FÁCILMENTE  RESPECTO  AL  MANTO QUE  LO CIRCUNDA.  DICHO MOVIMIENTO   GENERA  CORRIENTES   ELÉCTRICAS  LAS  QUE  ESTABLECERÍAN   UN CAMPO  MAGNÉTICO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380520" y="304920"/>
            <a:ext cx="8458200" cy="579096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MAGNETISMO  DE  UNA  ROCA SE  ENCUENTRA  EN  LOS  MINERALES INDIVIDUALES,   Y  PUEDE O NO  CONCORDAR CON  LA ORIENTACIÓN  ACTUAL  DEL CAMPO MAGNÉTICO  TERRESTRE.</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MAGNETISMO  LO ADQUIERE   LA ROCA  CUANDO  EL  MATERIAL,  EN  ESTADO  DE   FUSIÓN,  SE  ENFRÍA   BAJO  LA  </a:t>
            </a:r>
            <a:r>
              <a:rPr b="0" i="1" lang="es-ES_tradnl" sz="1800" spc="-1" strike="noStrike" u="sng">
                <a:solidFill>
                  <a:srgbClr val="ffffff"/>
                </a:solidFill>
                <a:uFillTx/>
                <a:latin typeface="Times New Roman"/>
              </a:rPr>
              <a:t>TEMPERATURA   DE CURIE</a:t>
            </a:r>
            <a:r>
              <a:rPr b="0" i="1" lang="es-ES_tradnl" sz="1800" spc="-1" strike="noStrike">
                <a:solidFill>
                  <a:srgbClr val="ffffff"/>
                </a:solidFill>
                <a:latin typeface="Times New Roman"/>
              </a:rPr>
              <a:t>.  </a:t>
            </a:r>
            <a:r>
              <a:rPr b="0" lang="es-ES_tradnl" sz="1800" spc="-1" strike="noStrike">
                <a:solidFill>
                  <a:srgbClr val="ffffff"/>
                </a:solidFill>
                <a:latin typeface="Times New Roman"/>
              </a:rPr>
              <a:t>   LA  ROCA  REGISTRA  Y  FOSILIZA   LA  ORIENTACIÓN   DEL CAMPO  MAGNÉTICO  EXISTENTE  EN EL  MOMENTO  DE  SU CRISTALIZACIÓN,   PRESERVANDO  UN  REGISTRO  DE   PALEOMAGNETISMO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ALGUNAS  ROCAS,  COMO  EL BASALTO,   RICAS  EN  MINERAL  DE HIERRO,  SE  MAGNETIZAN   RÁPIDAMENTE  POR  EL  CAMPO  MAGNETICO  TERRESTRE  AL   ENFRIARSE  EL MATERIAL.  SIMILARMENTE,   EL  HIERRO  DE   LOS  GRANOS  DE  UNA  ARENISCA  ROJA,  SE  ORIENTARÁN  SEGÚN  EL  CAMPO  MAGNÉTICO  TERRESTRE  EN  EL  MOMENTO  EN  QUE  SE DEPOSITA  EL  MATERIAL.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MPÍRICAMENTE,  SE SABE  QUE  LOS  POLOS  PALEOMAGNÉTICOS  SE  AGRUPAN  MAS  BIÉN  ALREDEDOR   DEL   POLO  GEOGRÁFICO  MODERNO  QUE   DEL POLO GEOMAGNÉTICO  PRESENTE.   EN  UN  PROMEDIO  APROXIMADO  DE   2.000  AÑOS,  LA  DISCREPANCIA   ENTRE  LOS  POLOS  MAGNÉTICO  Y  GEOGRÁFICO  DESAPAREC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0" y="304920"/>
            <a:ext cx="9144000" cy="6248160"/>
          </a:xfrm>
          <a:prstGeom prst="rect">
            <a:avLst/>
          </a:prstGeom>
          <a:noFill/>
          <a:ln w="0">
            <a:noFill/>
          </a:ln>
        </p:spPr>
        <p:txBody>
          <a:bodyPr lIns="90000" rIns="90000" tIns="46800" bIns="46800" anchor="t">
            <a:normAutofit fontScale="99000"/>
          </a:bodyPr>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PRIMEROS  ESTUDIOS  PALEOMAGNÉTICOS,  REALIZADOS EN EUROPA  Y  NORTEAMÉRICA,  EN ROCAS  DE  DIFERENTES  EDADES,    DEMOSTRARON  QUE  EL  NORTE  MAGNÉTICO  TERRESTRE   HA  CAMBIADO  CONSTANTEMENTE  SU  POSICIÓN.</a:t>
            </a:r>
            <a:endParaRPr b="0" lang="en-US" sz="1800" spc="-1" strike="noStrike">
              <a:solidFill>
                <a:srgbClr val="000000"/>
              </a:solidFill>
              <a:latin typeface="Times New Roman"/>
            </a:endParaRPr>
          </a:p>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EXPLICACIÓN  MAS  LÓGICA  ES  QUE  SIEMPRE  HA  EXISTIDO  UN  SOLO  NORTE  MAGNÉTICO,  QUE  SE  MANTENIDO  FIJO,  CON  VARIACIONE S  SÓLO  SECULARES,  ACEPTÁNDOSE  QUE  HAN  SIDO  LOS  CONTINENTES  LOS  QUE  SE  HAN  MOVIDO  RESPECTO  A  ÉL. </a:t>
            </a:r>
            <a:endParaRPr b="0" lang="en-US" sz="1800" spc="-1" strike="noStrike">
              <a:solidFill>
                <a:srgbClr val="000000"/>
              </a:solidFill>
              <a:latin typeface="Times New Roman"/>
            </a:endParaRPr>
          </a:p>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RESULTADOS  DE  LOS  ESTUDIOS  PALEOMAGNÉTICOS   EN  ROCAS  MAS  ANTIGUAS QUE  EL  CRETÁCICO,  COBRAN  SENTIDO  CUANDO  LOS  CONTINENTES  HAN  SIDO  ACOMODADOS     DE ACUERDO  AL  MODELO  DE  UN  CONTINENTE  PRIMITIVO  ÚNICO,  CONOCIDO  COMO  </a:t>
            </a:r>
            <a:r>
              <a:rPr b="0" i="1" lang="es-ES_tradnl" sz="1800" spc="-1" strike="noStrike" u="sng">
                <a:solidFill>
                  <a:srgbClr val="ffffff"/>
                </a:solidFill>
                <a:uFillTx/>
                <a:latin typeface="Times New Roman"/>
              </a:rPr>
              <a:t>PANGEA </a:t>
            </a:r>
            <a:endParaRPr b="0" lang="en-US" sz="1800" spc="-1" strike="noStrike">
              <a:solidFill>
                <a:srgbClr val="000000"/>
              </a:solidFill>
              <a:latin typeface="Times New Roman"/>
            </a:endParaRPr>
          </a:p>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STUDIOS  DE   LAS PROPIEDADES  M AGNÉTICAS   DE  NUMEROSAS  MUESTRAS   DE   BASALTOS,   DE   MUCHOS  LUGARES  DEL  MUNDO,   HAN  DEMOSTRADO  QUE  LA  POLARIDAD  DEL  CAMPO  MAGNÉTICO  TERRESTRE   HA  CAMBIADO  MUCHAS  VECES  DURANTE  LOS  ÚLTIMOS  70  U  80  MILLONES  DE  AÑOS.</a:t>
            </a:r>
            <a:endParaRPr b="0" lang="en-US" sz="1800" spc="-1" strike="noStrike">
              <a:solidFill>
                <a:srgbClr val="000000"/>
              </a:solidFill>
              <a:latin typeface="Times New Roman"/>
            </a:endParaRPr>
          </a:p>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SE  HAN  PODIDO  RECONOCER   </a:t>
            </a:r>
            <a:r>
              <a:rPr b="0" lang="es-ES_tradnl" sz="1800" spc="-1" strike="noStrike" u="sng">
                <a:solidFill>
                  <a:srgbClr val="ffffff"/>
                </a:solidFill>
                <a:uFillTx/>
                <a:latin typeface="Times New Roman"/>
              </a:rPr>
              <a:t>ÉPOCAS  DE  POLARIDAD  NORMAL</a:t>
            </a:r>
            <a:r>
              <a:rPr b="0" lang="es-ES_tradnl" sz="1800" spc="-1" strike="noStrike">
                <a:solidFill>
                  <a:srgbClr val="ffffff"/>
                </a:solidFill>
                <a:latin typeface="Times New Roman"/>
              </a:rPr>
              <a:t>,   ES  DECIR,    PERÍODOS  EN  QUE  EL  NORTE  MAGNÉTICO  SE  ORIENTA  COMO  HOY  EN  DÍA,  HACIA  EL   NORTE  Y  MUY  CERCA  DE  SU  LOCALIZACIÓN   ACTUAL,   SEGUIDAS  POR  PERÍODOS  EN  QUE  EL  POLO  MAGNÉTICO  NORTE  Y  SUR   HAN  ESTADO INVERTIDO.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N  LOS  ÚLTIMOS  4.5  MILLONES  DE   AÑOS,    HAN  OCURRIDO  NUEVE  INVERSIONES  MAGNÉTICAS,   REGISTRÁNDOSE  QUE  EL  PERÍODO  DE  POLARIDAD  NORMAL  PRESENTE  SE  INICIÓ  HACE     750.000   AÑOS  ATRÁS,   Y  ESTUVO  PRECEDIDO  POR  UNA  POLARIDAD  INVERSA   MAYOR,   QUE  COMENZÓ  HACE    2,5  MILLONES  DE AÑOS  ATRÁS  Y  QUE  DURÓ APROXIMADAMENTE   1   MILLÓN  DE  AÑOS    ( TAL  PERÍODO  O   </a:t>
            </a:r>
            <a:r>
              <a:rPr b="0" i="1" lang="es-ES_tradnl" sz="1800" spc="-1" strike="noStrike">
                <a:solidFill>
                  <a:srgbClr val="ffffff"/>
                </a:solidFill>
                <a:latin typeface="Times New Roman"/>
              </a:rPr>
              <a:t>“</a:t>
            </a:r>
            <a:r>
              <a:rPr b="0" i="1" lang="es-ES_tradnl" sz="1800" spc="-1" strike="noStrike" u="sng">
                <a:solidFill>
                  <a:srgbClr val="ffffff"/>
                </a:solidFill>
                <a:uFillTx/>
                <a:latin typeface="Times New Roman"/>
              </a:rPr>
              <a:t>ÉPOCA”</a:t>
            </a:r>
            <a:r>
              <a:rPr b="0" lang="es-ES_tradnl" sz="1800" spc="-1" strike="noStrike">
                <a:solidFill>
                  <a:srgbClr val="ffffff"/>
                </a:solidFill>
                <a:latin typeface="Times New Roman"/>
              </a:rPr>
              <a:t>    DE   POLARIDAD   INVERSA,     CONTIENE   DOS  CORTOS  PERÍODOS   O “</a:t>
            </a:r>
            <a:r>
              <a:rPr b="0" i="1" lang="es-ES_tradnl" sz="1800" spc="-1" strike="noStrike" u="sng">
                <a:solidFill>
                  <a:srgbClr val="ffffff"/>
                </a:solidFill>
                <a:uFillTx/>
                <a:latin typeface="Times New Roman"/>
              </a:rPr>
              <a:t>EVENTOS</a:t>
            </a:r>
            <a:r>
              <a:rPr b="0" lang="es-ES_tradnl" sz="1800" spc="-1" strike="noStrike">
                <a:solidFill>
                  <a:srgbClr val="ffffff"/>
                </a:solidFill>
                <a:latin typeface="Times New Roman"/>
              </a:rPr>
              <a:t>”   DE   POLARIDAD   NORMAL).</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DE   LA  SECUENCIA  DE  ANOMALÍAS  MAGNÉTICAS     Y  SUS  EDADES  RADIOMÉTRICAS,  SE  HA   LOGRADO  ESTABLECER   UNA  CONFIABLE  CRONOLOGÍA  DE   INVERSIONES  MAGNÉTICAS   PARA   LOS   ÚLTIMOS    4   MILLONES  DE  AÑOS.    ADICIONALMENTE,    SE  EXTRAPOLARON   HACIA  ATRÁS  76  MILLONES DE AÑOS,   REVELANDO  LA   SECUENCIA  DE  LAS  ÚLTIMAS  171  INVERSIONES  DEL  CAMPO  MAGNÉTICO.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8T17:17:27Z</dcterms:created>
  <dc:creator>Universidad de Chile</dc:creator>
  <dc:description/>
  <dc:language>en-US</dc:language>
  <cp:lastModifiedBy>Universidad de Chile</cp:lastModifiedBy>
  <cp:lastPrinted>2001-06-21T00:01:52Z</cp:lastPrinted>
  <dcterms:modified xsi:type="dcterms:W3CDTF">2001-06-26T23:50:30Z</dcterms:modified>
  <cp:revision>38</cp:revision>
  <dc:subject/>
  <dc:title>LA    TECTÓNICA    DE    PLACAS</dc:title>
</cp:coreProperties>
</file>