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218-1D9D-4EE9-9677-3C45CC53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D74-241F-4605-AA90-43431A12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64F-F70F-4CB3-BB7F-4B968E02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065-0BBA-4AB3-A2C0-87754113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A5D-6050-495A-AF88-DBAFC12F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3D7-16BA-4CA0-AA40-7C1B42BA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878-122B-4EED-A968-C605EB4A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5D8-1409-4450-B1A5-3283764B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AD8-836F-4029-BA23-7C9D8D2E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748-9465-4DD6-A0E1-54A57724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DEA-8820-4EEC-A68D-555B64F0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19E-93C7-4892-B670-49E85058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590F-6719-4E93-88FE-52C44A8AD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 VIDAS    DE   LOS   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  LOS  RASGOS  MAS  IMPORTANTES  DE  LA  SUPERFICIE  DE   LA  TIERRA,  Y  SU  EXISTENCIA  Y   EVOLUCIÓN    CONTROLA  MUCHO   DE   LOS  PROCESOS  GEOLÓGICOS   MAS   NOTABLES   DEL  PLAN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HAN   APARECIDO   SOBRE    LA   FAZ   DE   LA  TIERRA     MAS   RECIENTEMENTE   QUE  OTROS,  Y   OTROS  EXISTEN   DESDE   TIEMPOS  MUY  ANTIGU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AMBIÉN,   ALGUNAS  PARTES  DE   UN  MISMO   OCÉANO  SON  MAS  VIEJAS   O   MAS  JÓVENES  QUE  O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SE  INICIA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NAC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A   PARTIR   DE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FTING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TERMINAN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MUER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  BAJO  EL  EFECTO  D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UBDUCCIÓN   LITOSFÉ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U  DESARROLLO   ES  PROGRESIVO  Y  SU  EVOLUCIÓN   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ÍC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CRECEN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DE  SU INICIO,   DE   MUY  PEQUEÑAS  HASTA  UN  MÁXIMO,  Y  DESPUÉ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CONTRAEN  Y  RECOG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VUELVEN  A   SER   PEQUEÑOS),   HASTA DESAPARECER  EN  ALGUNOS C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DE VIDA   DE  LOS 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FUE     PROPUESTO   POR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UZO  WILSO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  1968,   QUIÉN  DEFINIÓ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EIS  ETAPAS  DE   DESARROL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ADA  UNA  DE   ELLAS   REPRESENTADA   HOY   DÍA   SOBRE  LA  FAZ    DE    LA TIERRA,   POR   OCÉANOS   REALES,   O   POR     ESTRUCTURAS   GLOBALES   Y  PECULIARES  EXISTENTES  EN  DETERMINADOS  LUGARES DEL PLAN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VIDA    DE    LOS    OCÉANOS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EMBRIONAR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Ej:  RIFT -  VALLEYS  ESTE   AFRICA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levan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JÓVEN.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MAR  ROJO;  GOLFO  DE  ADÉN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3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ESTADO   MADURO.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  OCÉANO  ATLÁNTICO.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sí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4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ESTADO   DECLINANTE.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OCÉANO  PACÍFICO.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dominante:  con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5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ESTADO   TERMINAL.         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.  MAR  MEDITERRÁNEO.                              Movimiento  dominante:  contracción  y  levan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6</a:t>
            </a:r>
            <a:r>
              <a:rPr b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ESTADO    RELICTO. (CICATRIZADO).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:   SUTURA  ÍNDICA  DE   LOS   HIMALAYAS.  Movimiento  dominante:  </a:t>
            </a:r>
            <a:r>
              <a:rPr b="0" lang="es-ES_tradnl" sz="3200" spc="-1" strike="noStrike" baseline="-2000">
                <a:solidFill>
                  <a:srgbClr val="ffffff"/>
                </a:solidFill>
                <a:latin typeface="Times New Roman"/>
              </a:rPr>
              <a:t>contracción  y  levan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00:12:08Z</dcterms:created>
  <dc:creator>Universidad de Chile</dc:creator>
  <dc:description/>
  <dc:language>en-US</dc:language>
  <cp:lastModifiedBy>Universidad de Chile</cp:lastModifiedBy>
  <cp:lastPrinted>2001-06-30T01:22:51Z</cp:lastPrinted>
  <dcterms:modified xsi:type="dcterms:W3CDTF">2001-06-30T01:29:03Z</dcterms:modified>
  <cp:revision>2</cp:revision>
  <dc:subject/>
  <dc:title>CICLO    DE    VIDAS    DE   LOS   OCÉANOS</dc:title>
</cp:coreProperties>
</file>