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5EBD1-B61A-482D-ABA6-441ED5D95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9FF5A-DB52-475D-B25D-719F093D6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D7F31-4B7A-4C57-BABD-58096CD6D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E0F72-0203-47F7-BE6A-B03E8F8EF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D1542-7EEC-480C-8E2E-D0E79DBB0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770EF-6280-43EB-B833-ADA04A015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04216-D346-4124-B9DD-8933C4BF5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10E7E-7742-4844-886E-1E75A147D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E30DC-A7CC-4B5B-B52E-83434D809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9297E-B774-4016-A334-DF794513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C2D4D-915F-452A-B9F0-DBE8F2AE2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913DD-496F-4A6A-8242-CA33679FE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C66A-4D98-454F-ACFE-323F4A24C2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 I S T E M A   E Ó L I C 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0" y="533160"/>
            <a:ext cx="9144000" cy="609588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PROBABLEMENTE   EL  ÚLTIMO  AGENTE  DE  EROSIÓN EFECTIVO,  SIENDO  ÉSTE   IMPORTANTE   EN  LOS DESIERTOS  Y  COSTAS  (LOS  DESIERTOS  Y  ÁREAS   SEMI - DESÉRTICAS   CUBREN   CERCA  DE      1 / 3   DE  LA  SUPERFICIE   TERRESTRE).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DES  DESIERTOS  DEL  MUNDO  SE  FORMAN  EN   REGIONES DE  BAJAS   LATITUDES,  EN  ZONAS APROXIMADAMENTE   30 °   AL   NORTE   Y  SUR  DEL  ECUADOR,    DONDE  LA  PRECIPITACIÓN   ES  BAJA  Y   LA   EVAPORACIÓN  ES ALT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AISAJES   DESÉRTICOS   SON  DOMINADOS  POR   DUNAS  DE  ARENA  CAMBIANTES,   SIENDO   MUCHOS  DE   ELLOS    EQUIVOCADAMENTE   ATRIBUÍDOS AL  VIENTO.     INCLUSIVE,   EN  LOS MAS GRANDES DESIERTOS DEL MUNDO,     LAS FORMAS  DEL  PAISAJE  HAN  SIDO  PRODUCIDOS  POR   EL  AGUA  CORRIENTE   DE   ÉPOCAS   PASADA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UN AGENTE  GEOLÓGICO  LOCALMENTE     EFECTIVO,   SIENDO  CAPAZ   DE  TRANSPORTAR     ENORMES  CANTIDADES   DE    FRAGMENTOS SUELTOS,    DE  ARENA  Y  POLVO,   PARA   DEPOSITARLOS  A  GRANDES  DISTANCIAS,   EN   OTRAS  LATITUDES  MAYORES.     SIN  EMBARGO,   SU  HABILIDAD   PARA   ERODAR   ROCA  SÓLIDA  ES  LIMITADA.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R O S I Ó N    E Ó L I C A</a:t>
            </a:r>
            <a:endParaRPr b="0" lang="en-US" sz="2000" spc="-1" strike="noStrike">
              <a:solidFill>
                <a:srgbClr val="000000"/>
              </a:solidFill>
              <a:latin typeface="Times New Roman"/>
            </a:endParaRPr>
          </a:p>
        </p:txBody>
      </p:sp>
      <p:sp>
        <p:nvSpPr>
          <p:cNvPr id="44"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RODA  DE  DOS  MANERAS:                                                                      1)   POR  </a:t>
            </a:r>
            <a:r>
              <a:rPr b="0" i="1" lang="es-ES_tradnl" sz="1800" spc="-1" strike="noStrike" u="sng">
                <a:solidFill>
                  <a:srgbClr val="ffffff"/>
                </a:solidFill>
                <a:uFillTx/>
                <a:latin typeface="Times New Roman"/>
              </a:rPr>
              <a:t>DEFLACIÓN</a:t>
            </a:r>
            <a:r>
              <a:rPr b="0" lang="es-ES_tradnl" sz="1800" spc="-1" strike="noStrike">
                <a:solidFill>
                  <a:srgbClr val="ffffff"/>
                </a:solidFill>
                <a:latin typeface="Times New Roman"/>
              </a:rPr>
              <a:t>  ,    REMONTANDO  Y  MOVIENDO   LOS  GRANOS    DE   ARENA    Y  PARTÍCULAS  DE   POLVO    SUELTOS   SOBRE   LA   SUPERFICIE  ROCOSA;                                                                                                                                   2)   POR  </a:t>
            </a:r>
            <a:r>
              <a:rPr b="0" i="1" lang="es-ES_tradnl" sz="1800" spc="-1" strike="noStrike" u="sng">
                <a:solidFill>
                  <a:srgbClr val="ffffff"/>
                </a:solidFill>
                <a:uFillTx/>
                <a:latin typeface="Times New Roman"/>
              </a:rPr>
              <a:t>ABRASIÓN</a:t>
            </a:r>
            <a:r>
              <a:rPr b="0" lang="es-ES_tradnl" sz="1800" spc="-1" strike="noStrike">
                <a:solidFill>
                  <a:srgbClr val="ffffff"/>
                </a:solidFill>
                <a:latin typeface="Times New Roman"/>
              </a:rPr>
              <a:t>,    DESGASTANTO   LAS    FORMACIONES   ROCOSAS    CON   EL  CHOQUE   Y   ROCE   DE  LOS  GRANOS DE  ARENA  QUE   SON   SOPLADOS  POR  EL VIENTO  CONT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PARTIR  DE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SE   FORMAN  DEPRESIONES,   DE   POCO  CALADO,   DENOMINADAS  </a:t>
            </a:r>
            <a:r>
              <a:rPr b="0" i="1" lang="es-ES_tradnl" sz="1800" spc="-1" strike="noStrike" u="sng">
                <a:solidFill>
                  <a:srgbClr val="ffffff"/>
                </a:solidFill>
                <a:uFillTx/>
                <a:latin typeface="Times New Roman"/>
              </a:rPr>
              <a:t>CUENCAS  DE   DEFLACIÓN</a:t>
            </a:r>
            <a:r>
              <a:rPr b="0" lang="es-ES_tradnl" sz="1800" spc="-1" strike="noStrike">
                <a:solidFill>
                  <a:srgbClr val="ffffff"/>
                </a:solidFill>
                <a:latin typeface="Times New Roman"/>
              </a:rPr>
              <a:t>.     TAMBIÉN,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PRODUCE   LO   QUE  SE  CONOCE   COMO  </a:t>
            </a:r>
            <a:r>
              <a:rPr b="0" i="1" lang="es-ES_tradnl" sz="1800" spc="-1" strike="noStrike" u="sng">
                <a:solidFill>
                  <a:srgbClr val="ffffff"/>
                </a:solidFill>
                <a:uFillTx/>
                <a:latin typeface="Times New Roman"/>
              </a:rPr>
              <a:t>PAVIMENTO   DESÉRTICO</a:t>
            </a:r>
            <a:r>
              <a:rPr b="0" lang="es-ES_tradnl" sz="1800" spc="-1" strike="noStrike">
                <a:solidFill>
                  <a:srgbClr val="ffffff"/>
                </a:solidFill>
                <a:latin typeface="Times New Roman"/>
              </a:rPr>
              <a:t>,  QUE    RESULTA  DE  LA REMOCIÓN   SELECTIVA  DE  LA  ARENA  Y   SEDIMENTO   FINO,   DEJANDO  COMO  </a:t>
            </a:r>
            <a:r>
              <a:rPr b="0" i="1" lang="es-ES_tradnl" sz="1800" spc="-1" strike="noStrike" u="sng">
                <a:solidFill>
                  <a:srgbClr val="ffffff"/>
                </a:solidFill>
                <a:uFillTx/>
                <a:latin typeface="Times New Roman"/>
              </a:rPr>
              <a:t>SEDIMENTO  REZAGADO</a:t>
            </a:r>
            <a:r>
              <a:rPr b="0" lang="es-ES_tradnl" sz="1800" spc="-1" strike="noStrike">
                <a:solidFill>
                  <a:srgbClr val="ffffff"/>
                </a:solidFill>
                <a:latin typeface="Times New Roman"/>
              </a:rPr>
              <a:t>   A  LA  GRAVA  MAS  TOSCA   </a:t>
            </a:r>
            <a:r>
              <a:rPr b="0" lang="es-ES_tradnl" sz="2000" spc="-1" strike="noStrike">
                <a:solidFill>
                  <a:srgbClr val="ffffff"/>
                </a:solidFill>
                <a:latin typeface="Times New Roman"/>
              </a:rPr>
              <a:t>(la  cubierta  protectora  de  grava  actúa  como  una  coraza  que  limita  futuras  deflaciones).</a:t>
            </a: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ABRASIÓN    EÓLICA</a:t>
            </a:r>
            <a:r>
              <a:rPr b="0" lang="es-ES_tradnl" sz="1800" spc="-1" strike="noStrike">
                <a:solidFill>
                  <a:srgbClr val="ffffff"/>
                </a:solidFill>
                <a:latin typeface="Times New Roman"/>
              </a:rPr>
              <a:t>  ES  ESENCIALMENTE   EL  MISMO  PROCESO  QUE  SE  USA  PARA  LIMPIAR   EDIFICIOS  DE  PIEDRA,    LANZADO   CHORROS  DE  ARENA  CONT RA   SU  SUPERFICIE.     ALGUNOS   EFECTOS  DE  LA  ACCIÓN ABRASIVA  DEL  VIENTO,   QUE   SE   PUEDEN   OBSERVAR   EN  LA SUPERFICIE  DE  LA ROCA  FIRME  DE   LAS  REGIONES DESÉRTICAS,   SON   LOS  QUE  SE  CONOCEN  COMO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Y   LOS  </a:t>
            </a:r>
            <a:r>
              <a:rPr b="0" i="1" lang="es-ES_tradnl" sz="1800" spc="-1" strike="noStrike" u="sng">
                <a:solidFill>
                  <a:srgbClr val="ffffff"/>
                </a:solidFill>
                <a:uFillTx/>
                <a:latin typeface="Times New Roman"/>
              </a:rPr>
              <a:t>YARDA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67280" y="-298080"/>
            <a:ext cx="2895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VENTIFACTOS</a:t>
            </a:r>
            <a:r>
              <a:rPr b="0" lang="es-ES_tradnl" sz="1800" spc="-1" strike="noStrike">
                <a:solidFill>
                  <a:srgbClr val="ffffff"/>
                </a:solidFill>
                <a:latin typeface="Times New Roman"/>
              </a:rPr>
              <a:t>,      SON   GIJARROS   MODELADOS  Y   PULIDOS  POR   EL  VIENTO,   QUE   SE   DISTINGUEN,   COMÚNMENTE,   POR  TENER   DOS  O  MAS  CARAS  PLANAS,    FORMANDO  CANTOS  AGUDOS.   ALGUNOS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FACETADOS   SUPERAN   LOS    3   m   DE  LARGO;    OTROS   TIENEN   SUPERFICIES   IRREGULARES,   PUNTIAGUDAS  Y  ACANALADAS    O  CON  DEPRESIONES  EN  FORMA  DE   U,    CON  SUS  LADOS  APROXIMADAMENTE    PARALELOS  A  LA  DIRECCIÓN   DEL VIENTO</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REDOMINANTE.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YARDANGS</a:t>
            </a:r>
            <a:r>
              <a:rPr b="0" lang="es-ES_tradnl" sz="1800" spc="-1" strike="noStrike">
                <a:solidFill>
                  <a:srgbClr val="ffffff"/>
                </a:solidFill>
                <a:latin typeface="Times New Roman"/>
              </a:rPr>
              <a:t>      SON   “</a:t>
            </a:r>
            <a:r>
              <a:rPr b="0" lang="es-ES_tradnl" sz="1800" spc="-1" strike="noStrike">
                <a:solidFill>
                  <a:srgbClr val="ffffff"/>
                </a:solidFill>
                <a:latin typeface="Times New Roman"/>
              </a:rPr>
              <a:t>BANCO</a:t>
            </a:r>
            <a:r>
              <a:rPr b="0" lang="es-ES_tradnl" sz="1800" spc="-1" strike="noStrike">
                <a:solidFill>
                  <a:srgbClr val="ffffff"/>
                </a:solidFill>
                <a:latin typeface="Times New Roman"/>
              </a:rPr>
              <a:t>S”   O  “</a:t>
            </a:r>
            <a:r>
              <a:rPr b="0" lang="es-ES_tradnl" sz="1800" spc="-1" strike="noStrike">
                <a:solidFill>
                  <a:srgbClr val="ffffff"/>
                </a:solidFill>
                <a:latin typeface="Times New Roman"/>
              </a:rPr>
              <a:t>LOMAJES</a:t>
            </a:r>
            <a:r>
              <a:rPr b="0" lang="es-ES_tradnl" sz="1800" spc="-1" strike="noStrike">
                <a:solidFill>
                  <a:srgbClr val="ffffff"/>
                </a:solidFill>
                <a:latin typeface="Times New Roman"/>
              </a:rPr>
              <a:t>”    </a:t>
            </a:r>
            <a:r>
              <a:rPr b="0" i="1" lang="es-ES_tradnl" sz="2000" spc="-1" strike="noStrike">
                <a:solidFill>
                  <a:srgbClr val="ffffff"/>
                </a:solidFill>
                <a:latin typeface="Times New Roman"/>
              </a:rPr>
              <a:t>(“ridge”)</a:t>
            </a:r>
            <a:r>
              <a:rPr b="0" lang="es-ES_tradnl" sz="1800" spc="-1" strike="noStrike">
                <a:solidFill>
                  <a:srgbClr val="ffffff"/>
                </a:solidFill>
                <a:latin typeface="Times New Roman"/>
              </a:rPr>
              <a:t> ALARGADOS,    SUBPARALELOS,    ESCULPIDOS  POR LA  ACCIÓN  ABRASIVA  DEL  VIENTO   EN  MATERIAL   RELATIVAMENTE  BLANDO,   POCO   CONSOLIDADO,   PERO   SUFICIENTEMENTE  COHESIVO  PARA  MANTENER    FLANCOS   SUBVERTICALE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1" lang="es-ES_tradnl" sz="2000" spc="-1" strike="noStrike">
                <a:solidFill>
                  <a:srgbClr val="ffffff"/>
                </a:solidFill>
                <a:latin typeface="Times New Roman"/>
              </a:rPr>
              <a:t>TRANSPORTACIÓN DE SEDIMENTOS  POR EL VIENTO </a:t>
            </a:r>
            <a:endParaRPr b="0" lang="en-US" sz="20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A   ARENA  ES  TRANSPORTADA  POR   </a:t>
            </a:r>
            <a:r>
              <a:rPr b="0" i="1" lang="es-ES_tradnl" sz="1800" spc="-1" strike="noStrike" u="sng">
                <a:solidFill>
                  <a:srgbClr val="ffffff"/>
                </a:solidFill>
                <a:uFillTx/>
                <a:latin typeface="Times New Roman"/>
              </a:rPr>
              <a:t>SALTACIÓN</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Y    POR    </a:t>
            </a:r>
            <a:r>
              <a:rPr b="0" i="1" lang="es-ES_tradnl" sz="1800" spc="-1" strike="noStrike" u="sng">
                <a:solidFill>
                  <a:srgbClr val="ffffff"/>
                </a:solidFill>
                <a:uFillTx/>
                <a:latin typeface="Times New Roman"/>
              </a:rPr>
              <a:t> ARRASTRE  EN    SUPERFICIE</a:t>
            </a:r>
            <a:r>
              <a:rPr b="0" lang="es-ES_tradnl" sz="1800" spc="-1" strike="noStrike">
                <a:solidFill>
                  <a:srgbClr val="ffffff"/>
                </a:solidFill>
                <a:latin typeface="Times New Roman"/>
              </a:rPr>
              <a:t>,   Y  EL  POLVO  ES  TRANSPORTADO  EN    </a:t>
            </a:r>
            <a:r>
              <a:rPr b="0" i="1"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  PUDIENDO  MANTENERSE  MUY  ALTO  EN  LA ATMOSFERA  POR   LARGOS  PERÍODOS  DE  TIEMPO.                                                                                                LOS  GRANOS  GRUESOS Y    TOSCOS   SE    MUEVEN   DESLIZÁNDOSE    O  RODANDO  SOBRE  LA SUPERFICIE ,   A CAUSA   DE   LOS  IMPACTOS  DE   LOS  GRANOS  MEDIO   LEVANTADOS  POR  EL  V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U  N  A  S</a:t>
            </a:r>
            <a:endParaRPr b="0" lang="en-US" sz="2800" spc="-1" strike="noStrike">
              <a:solidFill>
                <a:srgbClr val="000000"/>
              </a:solidFill>
              <a:latin typeface="Times New Roman"/>
            </a:endParaRPr>
          </a:p>
        </p:txBody>
      </p:sp>
      <p:sp>
        <p:nvSpPr>
          <p:cNvPr id="4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RENA  TRANSPORTADA   POR EL VIENTO  SE</a:t>
            </a:r>
            <a:r>
              <a:rPr b="0" lang="es-ES_tradnl" sz="3200" spc="-1" strike="noStrike">
                <a:solidFill>
                  <a:srgbClr val="000000"/>
                </a:solidFill>
                <a:latin typeface="Times New Roman"/>
              </a:rPr>
              <a:t>  </a:t>
            </a:r>
            <a:r>
              <a:rPr b="0" lang="es-ES_tradnl" sz="1800" spc="-1" strike="noStrike">
                <a:solidFill>
                  <a:srgbClr val="ffffff"/>
                </a:solidFill>
                <a:latin typeface="Times New Roman"/>
              </a:rPr>
              <a:t>ACUMULA  EN  DOPÓSITOS  DENOMINADOS  </a:t>
            </a:r>
            <a:r>
              <a:rPr b="0" i="1" lang="es-ES_tradnl" sz="1800" spc="-1" strike="noStrike" u="sng">
                <a:solidFill>
                  <a:srgbClr val="ffffff"/>
                </a:solidFill>
                <a:uFillTx/>
                <a:latin typeface="Times New Roman"/>
              </a:rPr>
              <a:t>DUNAS</a:t>
            </a:r>
            <a:r>
              <a:rPr b="0" lang="es-ES_tradnl" sz="1800" spc="-1" strike="noStrike">
                <a:solidFill>
                  <a:srgbClr val="ffffff"/>
                </a:solidFill>
                <a:latin typeface="Times New Roman"/>
              </a:rPr>
              <a:t>,   QUE  MIGRAN  EN   LA DIRECCIÓN  QUE    SOPLA   EL   VIENTO.    ESTA   ACUMULACIÓN   SE   INICIA,   COMÚNMENTE,   AL   AMPARO   DE   CUALQUIER    OBSTÁCULO    QUE   SE   INTERPONE   EN  LA  DIRECCIÓN DEL  VIENTO,   FRENANDO  SU  VELOCIDAD  Y   PROTEGIENDO  DEL VIENTO   A   LOS  GRANOS.     LAS  DUNAS  PUEDEN ALCANZAR  HASTA  200  m  DE ALTURA  Y  1  km  DE  ANCH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MIGRA  CUANDO  LOS  GRANOS  DE ARENA  REMONTAN   LA  PENDIENTE  O CARA   EXPUESTA  AL  VIENTO  Y  SE  ACUMULAN EN  EL  ÁREA  PROTEGIDA  DEL  FRENTE  DE  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sotavento”).    </a:t>
            </a:r>
            <a:r>
              <a:rPr b="0" lang="es-ES_tradnl" sz="1800" spc="-1" strike="noStrike">
                <a:solidFill>
                  <a:srgbClr val="ffffff"/>
                </a:solidFill>
                <a:latin typeface="Times New Roman"/>
              </a:rPr>
              <a:t>SE MUEVEN   ASÍ  GRANO   POR   GRAN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OS   ACUMULADOS   EN  LA CARA  O  PENDIENTE   PROTEGIDA  DEL  VIENTO,   LO  HACEN   EN   CAPAS   INCLINADAS  EN  LA DIRECCIÓN  DE  VIENTO,  FORMANDO  DE   ESTA MANERA  UNA   </a:t>
            </a:r>
            <a:r>
              <a:rPr b="0" i="1" lang="es-ES_tradnl" sz="1800" spc="-1" strike="noStrike" u="sng">
                <a:solidFill>
                  <a:srgbClr val="ffffff"/>
                </a:solidFill>
                <a:uFillTx/>
                <a:latin typeface="Times New Roman"/>
              </a:rPr>
              <a:t>ESTRATIFICACIÓN  CRUZAD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DIFERENTES TIPOS  DE  DUNAS  DE  ARENA  RESULTAN  DE  LAS  VARIACIONE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EL</a:t>
            </a:r>
            <a:r>
              <a:rPr b="0" i="1" lang="es-ES_tradnl" sz="1800" spc="-1" strike="noStrike">
                <a:solidFill>
                  <a:srgbClr val="ffffff"/>
                </a:solidFill>
                <a:latin typeface="Times New Roman"/>
              </a:rPr>
              <a:t>  SUMINISTRO  DE  ARENA</a:t>
            </a:r>
            <a:r>
              <a:rPr b="0" lang="es-ES_tradnl" sz="1800" spc="-1" strike="noStrike">
                <a:solidFill>
                  <a:srgbClr val="ffffff"/>
                </a:solidFill>
                <a:latin typeface="Times New Roman"/>
              </a:rPr>
              <a:t>,  DE  LA  </a:t>
            </a:r>
            <a:r>
              <a:rPr b="0" i="1" lang="es-ES_tradnl" sz="1800" spc="-1" strike="noStrike">
                <a:solidFill>
                  <a:srgbClr val="ffffff"/>
                </a:solidFill>
                <a:latin typeface="Times New Roman"/>
              </a:rPr>
              <a:t>DIRECCIÓN DE VIENTO</a:t>
            </a:r>
            <a:r>
              <a:rPr b="0" lang="es-ES_tradnl" sz="1800" spc="-1" strike="noStrike">
                <a:solidFill>
                  <a:srgbClr val="ffffff"/>
                </a:solidFill>
                <a:latin typeface="Times New Roman"/>
              </a:rPr>
              <a:t>   Y   DE    SU</a:t>
            </a:r>
            <a:r>
              <a:rPr b="0" i="1" lang="es-ES_tradnl" sz="1800" spc="-1" strike="noStrike">
                <a:solidFill>
                  <a:srgbClr val="ffffff"/>
                </a:solidFill>
                <a:latin typeface="Times New Roman"/>
              </a:rPr>
              <a:t>  VELOCIDAD</a:t>
            </a:r>
            <a:r>
              <a:rPr b="0" lang="es-ES_tradnl" sz="1800" spc="-1" strike="noStrike">
                <a:solidFill>
                  <a:srgbClr val="ffffff"/>
                </a:solidFill>
                <a:latin typeface="Times New Roman"/>
              </a:rPr>
              <a:t>.    LOS  TIPOS  DE  DUNAS   MAS  SIGNIFICATIVOS  SON:  1)   </a:t>
            </a:r>
            <a:r>
              <a:rPr b="0" i="1" lang="es-ES_tradnl" sz="1800" spc="-1" strike="noStrike" u="sng">
                <a:solidFill>
                  <a:srgbClr val="ffffff"/>
                </a:solidFill>
                <a:uFillTx/>
                <a:latin typeface="Times New Roman"/>
              </a:rPr>
              <a:t>DUNAS  TRANSVERSALES</a:t>
            </a:r>
            <a:r>
              <a:rPr b="0" lang="es-ES_tradnl" sz="1800" spc="-1" strike="noStrike">
                <a:solidFill>
                  <a:srgbClr val="ffffff"/>
                </a:solidFill>
                <a:latin typeface="Times New Roman"/>
              </a:rPr>
              <a:t>;         2)    </a:t>
            </a:r>
            <a:r>
              <a:rPr b="0" i="1" lang="es-ES_tradnl" sz="1800" spc="-1" strike="noStrike" u="sng">
                <a:solidFill>
                  <a:srgbClr val="ffffff"/>
                </a:solidFill>
                <a:uFillTx/>
                <a:latin typeface="Times New Roman"/>
              </a:rPr>
              <a:t>DUNAS  BARJANES</a:t>
            </a:r>
            <a:r>
              <a:rPr b="0" lang="es-ES_tradnl" sz="1800" spc="-1" strike="noStrike">
                <a:solidFill>
                  <a:srgbClr val="ffffff"/>
                </a:solidFill>
                <a:latin typeface="Times New Roman"/>
              </a:rPr>
              <a:t>;         3)    </a:t>
            </a:r>
            <a:r>
              <a:rPr b="0" i="1" lang="es-ES_tradnl" sz="1800" spc="-1" strike="noStrike" u="sng">
                <a:solidFill>
                  <a:srgbClr val="ffffff"/>
                </a:solidFill>
                <a:uFillTx/>
                <a:latin typeface="Times New Roman"/>
              </a:rPr>
              <a:t>DUNAS  LONGITUDINAL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4)</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ESTRELLAS</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 </a:t>
            </a:r>
            <a:r>
              <a:rPr b="0" lang="es-ES_tradnl" sz="1800" spc="-1" strike="noStrike" u="sng">
                <a:solidFill>
                  <a:srgbClr val="ffffff"/>
                </a:solidFill>
                <a:uFillTx/>
                <a:latin typeface="Times New Roman"/>
              </a:rPr>
              <a:t>5)</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PARABÓÑLI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MARES DE ARENA”  </a:t>
            </a:r>
            <a:r>
              <a:rPr b="0" lang="es-ES_tradnl" sz="1800" spc="-1" strike="noStrike">
                <a:solidFill>
                  <a:srgbClr val="ffffff"/>
                </a:solidFill>
                <a:latin typeface="Times New Roman"/>
              </a:rPr>
              <a:t>ACTUALES  Y  ANTIGU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O  E  S  S</a:t>
            </a:r>
            <a:endParaRPr b="0" lang="en-US" sz="2000" spc="-1" strike="noStrike">
              <a:solidFill>
                <a:srgbClr val="000000"/>
              </a:solidFill>
              <a:latin typeface="Times New Roman"/>
            </a:endParaRPr>
          </a:p>
        </p:txBody>
      </p:sp>
      <p:sp>
        <p:nvSpPr>
          <p:cNvPr id="50" name="PlaceHolder 2"/>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  EÓLICO   DE  POLVO  COHERENTE    QUE   CUBRE  EXTENSAS   ÁREAS,   A MENUDO  ENTERRANDO  RELIEVES PREXISTENTE.    CUBREN  APROXIMADAMENTE  UN   10 %  DE LA SUPEFICIE   TERRESTRE   ACTUAL,  ESPECIALMENTE  EN  ZONAS  SEMIÁRIDAS VECINAS  A   DESIERTOS  O  ÁREAS  GLACIADAS.   TIENEN  UN  GRADO  DE   </a:t>
            </a:r>
            <a:r>
              <a:rPr b="1" lang="es-ES_tradnl" sz="1800" spc="-1" strike="noStrike">
                <a:solidFill>
                  <a:srgbClr val="ffffff"/>
                </a:solidFill>
                <a:latin typeface="Times New Roman"/>
              </a:rPr>
              <a:t>COHESIÓN</a:t>
            </a:r>
            <a:r>
              <a:rPr b="0" lang="es-ES_tradnl" sz="1800" spc="-1" strike="noStrike">
                <a:solidFill>
                  <a:srgbClr val="ffffff"/>
                </a:solidFill>
                <a:latin typeface="Times New Roman"/>
              </a:rPr>
              <a:t>   IMPORTANTE   Y   </a:t>
            </a:r>
            <a:r>
              <a:rPr b="1" lang="es-ES_tradnl" sz="1800" spc="-1" strike="noStrike">
                <a:solidFill>
                  <a:srgbClr val="ffffff"/>
                </a:solidFill>
                <a:latin typeface="Times New Roman"/>
              </a:rPr>
              <a:t>NO  POSEEN  ESTRATIFICACIÓN</a:t>
            </a:r>
            <a:r>
              <a:rPr b="0" lang="es-ES_tradnl" sz="1800" spc="-1" strike="noStrike">
                <a:solidFill>
                  <a:srgbClr val="ffffff"/>
                </a:solidFill>
                <a:latin typeface="Times New Roman"/>
              </a:rPr>
              <a:t>;    SON  FÁCILMENTE  EROSIONABLES  Y   LO  CONSTITUYEN  FRAGMENTOS  ANGULOSOS  DE  CUARZO,  FELDESPATOS,  MICA, CALCIT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S DE </a:t>
            </a:r>
            <a:r>
              <a:rPr b="0" i="1" lang="es-ES_tradnl" sz="1800" spc="-1" strike="noStrike" u="sng">
                <a:solidFill>
                  <a:srgbClr val="ffffff"/>
                </a:solidFill>
                <a:uFillTx/>
                <a:latin typeface="Times New Roman"/>
              </a:rPr>
              <a:t> LO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IMPORTANT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HAY</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CHINA,   DONDE   ALCANZAN  HASTA  60  m   DE   ESPESOR,     Y  CUYO  MATERIAL  PROVIENE   DESDE   MONGOLIA;   TAMBIÉN  SE  CONOCEN   EN  SUDÁN  Y  EN  ARGENTI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OLVO  DE  LOS  </a:t>
            </a:r>
            <a:r>
              <a:rPr b="0" i="1" lang="es-ES_tradnl" sz="1800" spc="-1" strike="noStrike" u="sng">
                <a:solidFill>
                  <a:srgbClr val="ffffff"/>
                </a:solidFill>
                <a:uFillTx/>
                <a:latin typeface="Times New Roman"/>
              </a:rPr>
              <a:t>LOESS</a:t>
            </a:r>
            <a:r>
              <a:rPr b="0" lang="es-ES_tradnl" sz="1800" spc="-1" strike="noStrike">
                <a:solidFill>
                  <a:srgbClr val="ffffff"/>
                </a:solidFill>
                <a:latin typeface="Times New Roman"/>
              </a:rPr>
              <a:t>   DERIVA  ESENCIALMENTE  DE   LOS  DESIERTOS  CERCANOS   (</a:t>
            </a:r>
            <a:r>
              <a:rPr b="0" i="1" lang="es-ES_tradnl" sz="1800" spc="-1" strike="noStrike">
                <a:solidFill>
                  <a:srgbClr val="ffffff"/>
                </a:solidFill>
                <a:latin typeface="Times New Roman"/>
              </a:rPr>
              <a:t>LOESS  DESÉRTICO</a:t>
            </a:r>
            <a:r>
              <a:rPr b="0" lang="es-ES_tradnl" sz="1800" spc="-1" strike="noStrike">
                <a:solidFill>
                  <a:srgbClr val="ffffff"/>
                </a:solidFill>
                <a:latin typeface="Times New Roman"/>
              </a:rPr>
              <a:t>)  Y  DE   LA  </a:t>
            </a:r>
            <a:r>
              <a:rPr b="0" i="1" lang="es-ES_tradnl" sz="1800" spc="-1" strike="noStrike">
                <a:solidFill>
                  <a:srgbClr val="ffffff"/>
                </a:solidFill>
                <a:latin typeface="Times New Roman"/>
              </a:rPr>
              <a:t>HARINA DE  ROCA</a:t>
            </a:r>
            <a:r>
              <a:rPr b="0" lang="es-ES_tradnl" sz="1800" spc="-1" strike="noStrike">
                <a:solidFill>
                  <a:srgbClr val="ffffff"/>
                </a:solidFill>
                <a:latin typeface="Times New Roman"/>
              </a:rPr>
              <a:t>   PRODUCIDA  DURANTE  LAS  GLACIACIONES  CENOZOICAS,   PRINCIPALMENTE    EN NORTE AMÉRICA. ( </a:t>
            </a:r>
            <a:r>
              <a:rPr b="0" i="1" lang="es-ES_tradnl" sz="1800" spc="-1" strike="noStrike">
                <a:solidFill>
                  <a:srgbClr val="ffffff"/>
                </a:solidFill>
                <a:latin typeface="Times New Roman"/>
              </a:rPr>
              <a:t>LOESS  GLACIAR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ERTIFICACIÓN:    </a:t>
            </a:r>
            <a:r>
              <a:rPr b="0" lang="es-ES_tradnl" sz="1800" spc="-1" strike="noStrike">
                <a:solidFill>
                  <a:srgbClr val="ffffff"/>
                </a:solidFill>
                <a:latin typeface="Times New Roman"/>
              </a:rPr>
              <a:t>PUEDE  OCURRIR  NATURALMENTE   O  COMO RESULTADO   DE  LAS  ACTIVIDADES  HUMANAS.   LA  EXPLOTACIÓN  Y SOBRE   PRODUCCIÓN DE  TERRENOS  SENSITIVOS  ADYACENTES   A DESIERTOS  NATURALES,   PUEDE  CAUSAR  SU  DESERTIFICACIÓN POR EXPAN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23:13:05Z</dcterms:created>
  <dc:creator>Universidad de Chile</dc:creator>
  <dc:description/>
  <dc:language>en-US</dc:language>
  <cp:lastModifiedBy>Universidad de Chile</cp:lastModifiedBy>
  <dcterms:modified xsi:type="dcterms:W3CDTF">2001-10-09T01:42:15Z</dcterms:modified>
  <cp:revision>13</cp:revision>
  <dc:subject/>
  <dc:title>S I S T E M A   E Ó L I C O </dc:title>
</cp:coreProperties>
</file>