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06D5-A507-4B05-8521-F09FE14D3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0F63-AA54-4188-982E-6CDA7972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A813-8B5F-43FC-97BA-8DBD898BC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FD2B-03E5-4F7F-A641-B6303979B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96FC-3991-4E42-B99F-46B9D70A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8F19-4C26-4DFB-A7EF-49007B88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5DC5-23C4-475A-AA33-B3136A90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0016-ACA5-4EB1-99C8-BC911A70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95AC-E9C8-48B4-BD41-CC153242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A2AE-766F-48E4-B141-A5FEA329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7DB1-A781-48B9-BF37-18268A2F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8F57-6B94-43FA-A83D-0A9DD0DC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F876-4C32-4C52-91D4-467CD2E35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ECTÓNICA      Y      PAIS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FACTORES   MAS  IMPORTANTES   QUE   INFLUENCIAN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VOLUCIÓN   DEL   PAISAJE    TERRESTRT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SON:    (1)    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MPLAZAMIENTO  TECTÓN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(2)     EL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CLI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Y    (3)   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ROSIÓN  DIFER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N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CUDO  CONTINENTA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SULTA  DE  LA  FORMACIÓN  D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UN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DENA  DE  MONTAÑA  PLEGADA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FORMADA  EN  U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RGEN  DE  PLACA  CONVERGENTE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DE  L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ROSIÓ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JUSTE  ISOSTÁTICO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SUBSECUENTES  A  QUE  ES  SOMETIDA,    Y  QUE  LA   REDUCEN   HASTA  U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ÍSO   AMPLIO  DE  SUPERFICIE.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MUY  PRÓXIMO  A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IVEL  DEL  MA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RELIEVES  LOCALES  EN  UN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CUDO  CONTINENT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ON  DE  MENOS  DE  100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Y    BÁSICAMENTE    DEPENDEN  DE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ROSIÓN     DIFERENCI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EN    LAS    ROCAS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GNEAS     Y  METAMÓRF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PAISAJES  DESARROLLADOS  EN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ATAFORMA  ESTABLES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SULTAN  TAMBIÉN  DE  LA EROSIÓN   DIFERENCIAL,  PERO   E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OCAS SEDIMENTARIA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HORIZONTALES  A  LEVEMENTE   INCLIN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RENAJE  DENTRÍTICO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  COMÚN   EN  LOS ESTRATOS  HORIZONTALES, DÓNDE     PRODUCE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COLIN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REDONDEADAS,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UESTA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  TÍPICO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VALLES   DESPLAZADO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,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QUE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  FORMAN   EN  LOS  ESTRATOS  BAJOS  INCLINADOS,   EN  LOS FLANCOS  DE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OMOS  ESTRUCTUR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UENCAS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CTÓNICA      Y      PAISAJE  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inu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  LAS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CADENAS  DE MONTAÑAS  PLEGADAS ,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ROSIÓN  DIFERENCI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PRODUCE  UNA  SERIE  DE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DG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Y 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ALLLE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,   CONTROLADOS POR   LA    DIRECCIÓN  ESTRUCTURAL  DE  LOS PLIEGUES.   EL  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PAISAJE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ES  UN  REFLEJO  DEL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FT  CONTINENTAL    (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HORST  Y  GRAB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LUVIOS”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BASÁLTICOS :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LANICIES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Y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LATEA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ARCOS  MAGMÁTICOS     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A  EROSIÓN  INTENSA  TERMINA  POR  BORRAR  TODO  VESTIGIO  O  RASGO  VOLCÁNICO,   DEJANDO  EXPUESTAS    LAS  RAICES  DE  ROCAS  INTRUSIVAS  PROFUND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7T21:36:13Z</dcterms:created>
  <dc:creator>Universidad de Chile</dc:creator>
  <dc:description/>
  <dc:language>en-US</dc:language>
  <cp:lastModifiedBy>Universidad de Chile</cp:lastModifiedBy>
  <dcterms:modified xsi:type="dcterms:W3CDTF">2001-06-27T22:33:18Z</dcterms:modified>
  <cp:revision>2</cp:revision>
  <dc:subject/>
  <dc:title>TECTÓNICA      Y      PAISAJE</dc:title>
</cp:coreProperties>
</file>