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E81-7FE0-4CFE-AF2A-B8A0D8D2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8C6-3642-4179-8AA8-4E9FAA9D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A91-6B66-4BDF-9C54-5B8DBE23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D62-A9A6-49BC-98E4-CCA1D5CA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DC6-3368-4142-818C-09E90E0D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ADA-117F-48D7-8D1E-28D8FEAC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F33-B4DA-4C41-BEFD-77C6346A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35C-DC70-44A0-BB6E-084F5F8C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D55-9F03-4B1D-9E64-4E4FE209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BEA-81A1-4462-9A77-0DAA1F2B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DF1-E6A8-49C4-A16E-83AAD0A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C94-50E2-495F-9252-A8B8CB3B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1461-0555-46AE-A3E5-71E4A3FED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ook Antiqua"/>
              </a:rPr>
              <a:t>CURSO GEOLOGÍA GENERAL</a:t>
            </a: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                                     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PROGRAMA</a:t>
            </a:r>
            <a:r>
              <a:rPr b="0" lang="es-ES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Primera Parte:</a:t>
            </a: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INTRODUCCIÓN A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Geología como disciplina científica.  El Sistema Tier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Método Científico. Escala de observación geológica. El factor tiempo en los procesos geológicos.  Principio del Uniformitari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structura Interna de  la Tierra:  Núcleo, Manto Astenósfera, Litósfera, Cortez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Capas Externas envolventes: Atmósfera, Biósfera, Hiodrósf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Rasgos mayores de los Continentes y Océ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geológicos de la Tierra. Materia y Energía. Noción de equilibrio en los procesos ge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Dinámicos de la Tierra: Sistema Hidrológico,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 Tectónico, Gravedad e Isost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gunda Part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MATERIALES,  ESTRUCTURAS  Y TIEMPO GEOLÓGI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Los materiales de la corteza. Minerales y Rocas. Rocas Igneas,   Rocas Sedimentarias y  Rocas Metamórf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structuras y formas de los materiales. Registros de  la deformación de los materiales.  Fracturas: diaclasas y fallas. Pliegues. Discord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l Tiempo Geológico: Edad absoluta y edad relativa de las rocas.  Geocronología.  Criterios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ara establecer  el orden cronológico de los procesos y eventos geológicos. Escala Geológica del Tiempo</a:t>
            </a: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rcera Parte: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 LOS PROCESOS EXÓGENOS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(geodinámica externa de la Tie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67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Atmósfera – Océano. Ciclo Hidr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Meteorización ( Intemperización) de los mate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Remociones en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fluvial. Transporte de los materiales hacia el océ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Aguas Subterrá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Glaciar. El trabajo del H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Costas. Evolución del litoral cos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Eólico. Evolución de los Desiertos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uarta Parte: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OS PROCESOS ENDÓGENOS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(geodinámica  interna de la Tierr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micidad.  Interior de la Tierr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aleomagnetism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Volcanismo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ctónica de Placas. Teoría Unificadora de la evolución del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Di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Transcur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Con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untos Calientes (Hots Pots) y Plumas manté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iclo de vida de los Océ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Quinta Parte: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VOLUCIÓN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ctónica y evolución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ntes de Recursos Minerales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56:51Z</dcterms:created>
  <dc:creator>Universidad de Chile</dc:creator>
  <dc:description/>
  <dc:language>en-US</dc:language>
  <cp:lastModifiedBy>Universidad de Chile</cp:lastModifiedBy>
  <dcterms:modified xsi:type="dcterms:W3CDTF">2001-04-11T22:02:47Z</dcterms:modified>
  <cp:revision>5</cp:revision>
  <dc:subject/>
  <dc:title>CURSO GEOLOGÍA GENERAL                                          PROGRAMA </dc:title>
</cp:coreProperties>
</file>