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B55A6-7501-4FDA-BD12-BE3ADFE79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71B43-4824-4C06-A9CE-2371543C7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68920-873E-41CA-BD07-A6A0EB928D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3421C-8281-4FD1-A115-7FF61A5A3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406EA-4BEB-431E-A444-C1CB3003D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B341F-F7EE-4D45-B37C-C391DFAC0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BA170-E67A-4545-A71C-5717E22AA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B91B7-E12D-45A1-B5A8-99F285E54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1B25E-3D75-4A83-B20D-3332358C6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34A17-2864-4085-ADFB-F3AAE5541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121A8-C3CC-411B-AC57-B34C7E583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5D1A5-F24C-4350-A309-F236888AD3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A8B73-8616-44AA-A3E0-E4A35F0B4D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0" y="457200"/>
            <a:ext cx="9144000" cy="6400800"/>
          </a:xfrm>
          <a:prstGeom prst="rect">
            <a:avLst/>
          </a:prstGeom>
          <a:noFill/>
          <a:ln w="0">
            <a:noFill/>
          </a:ln>
        </p:spPr>
        <p:txBody>
          <a:bodyPr lIns="90000" rIns="90000" tIns="46800" bIns="46800" anchor="t">
            <a:normAutofit fontScale="96000"/>
          </a:bodyPr>
          <a:p>
            <a:pPr marL="329040" indent="-3290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LOS  OCÉANOS  Y  LAGOS,   EL  AGUA  ESTÁ  EN  CONSTANTE MOVIMIENTO.  SE  MUEVE  POR  EL VIENTO,  QUE  GENERA  LAS   OLAS,   POR  LAS  MAREAS,     LOS   TSUNAMIS,     LAS   CORRIENTES    MARGINALES    Y   LITORALES,   LAS   CORRIENTES DE TUBIDEZ,     Y   UNA  VARIEDAD  DE   SISTEMAS  DE   CIRCULACIÓN,  COMO SON  LAS GRANDES   CORRIENTES  OCEÁNICAS    PRODUCIDAS,  ESENCIALMENTE,  POR  LAS DIFERENCIAS  DE  DENSIDADES  DEL  AGUA   (</a:t>
            </a:r>
            <a:r>
              <a:rPr b="0" lang="es-ES_tradnl" sz="2000" spc="-1" strike="noStrike">
                <a:solidFill>
                  <a:srgbClr val="ffffff"/>
                </a:solidFill>
                <a:latin typeface="Times New Roman"/>
              </a:rPr>
              <a:t>flujos de agua  horizontales  y   verticales).</a:t>
            </a:r>
            <a:endParaRPr b="0" lang="en-US" sz="20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N  SU   MOVIMIENTO,   EL   AGUA   MODIFICA   CONSTANTEMENTE    LAS   COSTAS  DE  TODOS   LOS  CONTINENTES  E    ISLAS   DEL MUNDO,   MODELANDO   LAS   LINEAS  DE   COSTA   CON   LA    ACTIVIDAD PERMANENTE   DE    LAS   OLAS   Y   LAS   CORRIENTES.</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ROCESOS  DE   LINEAS   DE   COSTA   PUEDEN CAMBIAR   EN INTENSIDAD   DE   DÍA  EN  DÍA,  Y   DE   ESTACIÓN   EN   ESTACIÓN,    PERO   NUNCA   SE   DETIENEN.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LINEAS  DE  COSTA  DEL   MUNDO   ACTUAL   NO  SON,   SIN  EMBARGO,   EL   RESULTADO  DE   SÓLO    LOS   PROCESOS   DESCRITOS.   TAMBIÉN  HAN SIDO   AFECTADAS  POR   LAS   VARIACIONES   DEL   NIVEL   DEL MAR,   QUE RESULTAN    DE  LA    FUSIÓN   DE   LOS   GLACIARES   PLEISTOCENOS .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CONFIGURACIÓN   DE   LA   COSTA   ACTUAL   ES   TAMBIÉN   RESULTADO   DE    OTROS    PROCESOS   NO  MARINOS ,    COMO SON   LAS   CORRIENTES   DE   EROSIÓN   O   DEPOSITACIÓN,    LAS  GLACIACIONES,   EL  VOLCANISMO,   LOS   MOVIMIENTOS   DE    LA   CORTEZA,    E    INCLUSIVE   EL   CRECIMIENTO   DE    ORGANISMOS.</a:t>
            </a:r>
            <a:r>
              <a:rPr b="0" lang="es-ES_tradnl" sz="1800" spc="-1" strike="noStrike">
                <a:solidFill>
                  <a:srgbClr val="ccccff"/>
                </a:solidFill>
                <a:latin typeface="Times New Roman"/>
              </a:rPr>
              <a:t>     </a:t>
            </a:r>
            <a:endParaRPr b="0" lang="en-US" sz="1800" spc="-1" strike="noStrike">
              <a:solidFill>
                <a:srgbClr val="000000"/>
              </a:solidFill>
              <a:latin typeface="Times New Roman"/>
            </a:endParaRPr>
          </a:p>
        </p:txBody>
      </p:sp>
      <p:sp>
        <p:nvSpPr>
          <p:cNvPr id="42" name="PlaceHolder 2"/>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Times New Roman"/>
              </a:rPr>
              <a:t>SISTEMAS   DE   LINEAS   DE   COS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423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0" y="228600"/>
            <a:ext cx="9144000" cy="6324480"/>
          </a:xfrm>
          <a:prstGeom prst="rect">
            <a:avLst/>
          </a:prstGeom>
          <a:noFill/>
          <a:ln w="0">
            <a:noFill/>
          </a:ln>
        </p:spPr>
        <p:txBody>
          <a:bodyPr lIns="90000" rIns="90000" tIns="46800" bIns="46800" anchor="t">
            <a:normAutofit fontScale="96000"/>
          </a:bodyPr>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LINEAS  DE  COSTA  SON  UN  SISTEMA   DINÁMICO   QUE   ENVUELVE   LA  ENERGÍA  DE   LAS OLAS   Y   DE  LAS  CORRIENTES  MARGINALES   Y LITORALES,   RESPONSABLES   DE    LA  EROSIÓN,   LA  TRANSPORTACIÓN   Y  LA  DEPOSITACIÓN  DE   LOS SEDIMENTOS  A  LO LARGO   DEL   LITORAL.   LA  MAYOR  PARTE  DE  ESTA   ENERGÍA  LA  PROVEE   EL VIENTO.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FORMA  DE  LA  OLA  DE  AGUA  GENERADA   POR    EL VIENTO    SE   DESCRIBE   CON  LOS  MISMOS  TÉRMINOS  APLICADOS  PARA  OTROS  FENÓMENOS  DE   ONDAS,  ESTO   ES,  </a:t>
            </a:r>
            <a:r>
              <a:rPr b="0" i="1" lang="es-ES_tradnl" sz="1800" spc="-1" strike="noStrike" u="sng">
                <a:solidFill>
                  <a:srgbClr val="ffffff"/>
                </a:solidFill>
                <a:uFillTx/>
                <a:latin typeface="Times New Roman"/>
              </a:rPr>
              <a:t> CRESTA</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DEPRESIÓN</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LARGO DE ONDA</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ALTO  DE  ONDA</a:t>
            </a:r>
            <a:r>
              <a:rPr b="0" lang="es-ES_tradnl" sz="1800" spc="-1" strike="noStrike">
                <a:solidFill>
                  <a:srgbClr val="ffffff"/>
                </a:solidFill>
                <a:latin typeface="Times New Roman"/>
              </a:rPr>
              <a:t>   Y   </a:t>
            </a:r>
            <a:r>
              <a:rPr b="0" i="1" lang="es-ES_tradnl" sz="1800" spc="-1" strike="noStrike" u="sng">
                <a:solidFill>
                  <a:srgbClr val="ffffff"/>
                </a:solidFill>
                <a:uFillTx/>
                <a:latin typeface="Times New Roman"/>
              </a:rPr>
              <a:t>PERÍODO  DE  LA  ONDA </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NATURALEZA    DEL   MOVIMIENTO   DEL  AGUA   EN   UNA  OLA   ES  EN    ÓRBITAS  CIRCULARES;   ESTE  MOVIMIENTO  CIRCULAR  DE  LAS PARTÍCULAS  DE  AGUA   DECRECE   EN   PROFUNDIDAD,    HASTA  DESAPARECER  A   UNA PROFUNDIDAD   APROXIMADAMENTE   IGUAL  A LA  MITAD  DE  LA </a:t>
            </a:r>
            <a:r>
              <a:rPr b="0" i="1" lang="es-ES_tradnl" sz="1800" spc="-1" strike="noStrike">
                <a:solidFill>
                  <a:srgbClr val="ffffff"/>
                </a:solidFill>
                <a:latin typeface="Times New Roman"/>
              </a:rPr>
              <a:t>LONGITUD DE  ONDA.</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AVANCE  DE  LAS  OLAS NO   PRODUCE   UN   DESPLAZAMIENTO  DE  LA MASA  DE  AGUA,   SALVO   CUANDO   SE   APROXIMA   A   AGUAS   POCO   PROGFUNDAS  Y  EL  MOVIMIENTO  CIRCULAR   DE  LAS PARTICULAS   DEL  FONDO  SE  VE  AFECTADO   POR   EL  ROCE  DE  FONDO.  A   PARTIR  DE  ESE   MOMENTO  OCURRE   UN  CAMBIO   IMPORTANTE:   EL </a:t>
            </a:r>
            <a:r>
              <a:rPr b="0" i="1" lang="es-ES_tradnl" sz="1800" spc="-1" strike="noStrike">
                <a:solidFill>
                  <a:srgbClr val="ffffff"/>
                </a:solidFill>
                <a:latin typeface="Times New Roman"/>
              </a:rPr>
              <a:t>ALTO  DE  ONDA  </a:t>
            </a:r>
            <a:r>
              <a:rPr b="0" lang="es-ES_tradnl" sz="1800" spc="-1" strike="noStrike">
                <a:solidFill>
                  <a:srgbClr val="ffffff"/>
                </a:solidFill>
                <a:latin typeface="Times New Roman"/>
              </a:rPr>
              <a:t>CRECE  Y  EL   </a:t>
            </a:r>
            <a:r>
              <a:rPr b="0" i="1" lang="es-ES_tradnl" sz="1800" spc="-1" strike="noStrike">
                <a:solidFill>
                  <a:srgbClr val="ffffff"/>
                </a:solidFill>
                <a:latin typeface="Times New Roman"/>
              </a:rPr>
              <a:t>LARGO  DE   ONDA</a:t>
            </a:r>
            <a:r>
              <a:rPr b="0" lang="es-ES_tradnl" sz="1800" spc="-1" strike="noStrike">
                <a:solidFill>
                  <a:srgbClr val="ffffff"/>
                </a:solidFill>
                <a:latin typeface="Times New Roman"/>
              </a:rPr>
              <a:t>    DECRECE,   INICIÁNDOSE  EN  LA  PARTE  ALTA  DE  LA  OLA  UN   DESPLAZAMIENTO  DE   LA  MASA  DE   AGUA,   MAS  RÁPIDO  QUE    EN LA PARTE   BAJA,    HASTA QUE    LA  COLUMNA   DE   AGUA   COLAPSA   Y   LA   OLA   ROMPE  DE   MANERA  TURBULENTA.</a:t>
            </a:r>
            <a:endParaRPr b="0" lang="en-US" sz="1800" spc="-1" strike="noStrike">
              <a:solidFill>
                <a:srgbClr val="000000"/>
              </a:solidFill>
              <a:latin typeface="Times New Roman"/>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3423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  ROMPER    LA   OLA,   EL  AGUA  FLUYE   SOBRE  LA  PENDIENTE   DE  LA  PLAYA,   Y  LUEGO  RETORNA    (</a:t>
            </a:r>
            <a:r>
              <a:rPr b="0" lang="es-ES_tradnl" sz="2000" spc="-1" strike="noStrike">
                <a:solidFill>
                  <a:srgbClr val="ffffff"/>
                </a:solidFill>
                <a:latin typeface="Times New Roman"/>
              </a:rPr>
              <a:t>al menos parte   de  ella</a:t>
            </a:r>
            <a:r>
              <a:rPr b="0" lang="es-ES_tradnl" sz="1800" spc="-1" strike="noStrike">
                <a:solidFill>
                  <a:srgbClr val="ffffff"/>
                </a:solidFill>
                <a:latin typeface="Times New Roman"/>
              </a:rPr>
              <a:t>).   FLUJO  Y REFLUJO.</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OLAS  AVANZAN  DE   MANERA  OBLICUA   CONTRA  LA   LINEA   DE  COSTA,  DE  FORMA  TAL  QUE  EL  AGUA Y  LOS SEDIMENTOS  TAMBIÉN   SE   DESPLAZAN   SOBRE   LA  PLAYA   EN  DIRECCIÓN    OBLICUA   AL  FRENTE   DE  COSTA;   SIN EMBARGO,    SU  RETORNO  ES  EN   LA  DIRECCIÓN  DE  MÁXIMA   PENDIENTE ,   ESTO  ES,    EN  DIRECCIÓN   PERPENDICULAR   AL  FRENTE  DE  PLAYA.</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ESTE   MOVIMIENTO   RESULTA  UNO  DE   LOS  PROCESOS   MAS IMPORTANTES EN   LAS LINEAS DE   COSTA,  COMO  LO  ES  EL TRANSPORTE   NETO,   PARALELO  A  LA COSTA,    DE   ENORMES  CANTIDADES  DE   SEDIMENTOS.</a:t>
            </a:r>
            <a:r>
              <a:rPr b="0" lang="es-ES_tradnl" sz="1800" spc="-1" strike="noStrike">
                <a:solidFill>
                  <a:srgbClr val="ccccff"/>
                </a:solidFill>
                <a:latin typeface="Times New Roman"/>
              </a:rPr>
              <a:t>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SEDIMENTO TRANSPORTADO  POR  LAS OLAS Y CORRIENTES A  LO  LARGO  DE  LA  COSTA,  SE  DEPOSITA  LUEGO  EN  ÁREAS   DE   BAJA  ENERGÍA,   PARA  FORMAR  </a:t>
            </a:r>
            <a:r>
              <a:rPr b="0" i="1" lang="es-ES_tradnl" sz="1800" spc="-1" strike="noStrike" u="sng">
                <a:solidFill>
                  <a:srgbClr val="ffffff"/>
                </a:solidFill>
                <a:uFillTx/>
                <a:latin typeface="Times New Roman"/>
              </a:rPr>
              <a:t>PLAYAS</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PUNTILLAS</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BARRAS DE  ISLAS</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TÓMBOLOS</a:t>
            </a:r>
            <a:r>
              <a:rPr b="0" lang="es-ES_tradnl" sz="1800" spc="-1" strike="noStrike">
                <a:solidFill>
                  <a:srgbClr val="ffffff"/>
                </a:solidFill>
                <a:latin typeface="Times New Roman"/>
              </a:rPr>
              <a:t>,  ETC.</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OLAS   QUE   SE   APROXIMAN  A  LA  COSTA    SON   DESVIADAS    O  REFRACTADAS,   DE   TAL    FORMA  QUE   </a:t>
            </a:r>
            <a:r>
              <a:rPr b="1" lang="es-ES_tradnl" sz="1800" spc="-1" strike="noStrike">
                <a:solidFill>
                  <a:srgbClr val="ffffff"/>
                </a:solidFill>
                <a:latin typeface="Times New Roman"/>
              </a:rPr>
              <a:t>CONCENTRAN   LA  ENERGÍA    EN  LAS    CABECERAS   DE  LAS   SALIENTES    Y   SE   DISPERSAN   EN   LAS BAHÍAS</a:t>
            </a:r>
            <a:r>
              <a:rPr b="0"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EROSIÓN  Y  DEPOSITACIÓN  A  LO  LARGO  DE   LA   COSTA   TIENDE    A   DESRROLLAR   LINEAS  DE  COSTA  RECTAS  O  LIGERAMENTE   CURVAS.   LAS  </a:t>
            </a:r>
            <a:r>
              <a:rPr b="0" i="1" lang="es-ES_tradnl" sz="1800" spc="-1" strike="noStrike">
                <a:solidFill>
                  <a:srgbClr val="ffffff"/>
                </a:solidFill>
                <a:latin typeface="Times New Roman"/>
              </a:rPr>
              <a:t>CABEZAS   DE  COSTA</a:t>
            </a:r>
            <a:r>
              <a:rPr b="0" i="1" lang="es-ES_tradnl" sz="1800" spc="-1" strike="noStrike">
                <a:solidFill>
                  <a:srgbClr val="ffffff"/>
                </a:solidFill>
                <a:latin typeface="Times New Roman"/>
              </a:rPr>
              <a:t>  O   </a:t>
            </a:r>
            <a:r>
              <a:rPr b="0" i="1" lang="es-ES_tradnl" sz="1800" spc="-1" strike="noStrike">
                <a:solidFill>
                  <a:srgbClr val="ffffff"/>
                </a:solidFill>
                <a:latin typeface="Times New Roman"/>
              </a:rPr>
              <a:t>PUNTILLAS</a:t>
            </a:r>
            <a:r>
              <a:rPr b="0" lang="es-ES_tradnl" sz="1800" spc="-1" strike="noStrike">
                <a:solidFill>
                  <a:srgbClr val="ffffff"/>
                </a:solidFill>
                <a:latin typeface="Times New Roman"/>
              </a:rPr>
              <a:t>   SON   ERODADAS,   Y  LAS   </a:t>
            </a:r>
            <a:r>
              <a:rPr b="0" i="1" lang="es-ES_tradnl" sz="1800" spc="-1" strike="noStrike">
                <a:solidFill>
                  <a:srgbClr val="ffffff"/>
                </a:solidFill>
                <a:latin typeface="Times New Roman"/>
              </a:rPr>
              <a:t>BAHÍAS </a:t>
            </a:r>
            <a:r>
              <a:rPr b="0" lang="es-ES_tradnl" sz="1800" spc="-1" strike="noStrike">
                <a:solidFill>
                  <a:srgbClr val="ffffff"/>
                </a:solidFill>
                <a:latin typeface="Times New Roman"/>
              </a:rPr>
              <a:t> Y   </a:t>
            </a:r>
            <a:r>
              <a:rPr b="0" i="1" lang="es-ES_tradnl" sz="1800" spc="-1" strike="noStrike">
                <a:solidFill>
                  <a:srgbClr val="ffffff"/>
                </a:solidFill>
                <a:latin typeface="Times New Roman"/>
              </a:rPr>
              <a:t>ESTUARIOS </a:t>
            </a:r>
            <a:r>
              <a:rPr b="0" lang="es-ES_tradnl" sz="1800" spc="-1" strike="noStrike">
                <a:solidFill>
                  <a:srgbClr val="ffffff"/>
                </a:solidFill>
                <a:latin typeface="Times New Roman"/>
              </a:rPr>
              <a:t>  SON  RELLENADOS   CON  SEDIMENTO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194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0" y="-360"/>
            <a:ext cx="9144000" cy="7162920"/>
          </a:xfrm>
          <a:prstGeom prst="rect">
            <a:avLst/>
          </a:prstGeom>
          <a:noFill/>
          <a:ln w="0">
            <a:noFill/>
          </a:ln>
        </p:spPr>
        <p:txBody>
          <a:bodyPr lIns="90000" rIns="90000" tIns="46800" bIns="46800" anchor="t">
            <a:normAutofit fontScale="98000"/>
          </a:bodyPr>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CONFIGURACIÓN   DE  LA  COSTA  EVOLUCIONA  ASÍ   HASTA  ALCANZAR   UN  EQUILIBRIO  ENTRE  LA  FORMA  DE  LA  LINEA  DE  COSTA Y LA  ENERGÍA   DE  LAS  OLAS  QUE  ACTÚAN   SOBRE   ELLA.  LA  ENERGÍA  DE  LAS  OLAS  SE  DISTRIBUYE   DE  MANERA   IGUAL  A  LO  LARGO  DE  LA  LINEA  DE   COSTA,  Y  NO  SE  SE  PRODUCE    EROSIÓN   NI  SEDIMENTACIÓN   A  GRAN   ESCALA.   </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TÍPICOS  ACANTILADOS  COSTEROS  SON   GENERADOS   POR  LA  ACCIÓN   ABRASIVA  DE  LA ARENA Y GRAVA,  MOVIDA  POR LAS OLAS  Y  CORRIENTES,   Y  POR  EXTENCIÓN,   POR  SOLUCIÓN  Y  POR  LA  ACCIÓN   HIDRÁULICA.     LAS OLAS Y  CORRIENTES  ERODAN  PROGRESIVAMENTE   LA  BASE   DEL ACANTILADO,    FORMANDO  UNA  CORNISA  EN    LA  PARTE   ALTA,   QUE  LUEGO  COLAPSA.   DE  ESTA FORMA  EL  FRENTE   DEL  ACANTILADO  RETROCEDE,  Y  EN  LA MEDIDA  QUE   ÉSTO  OCURRE,   SE   DESARROLLA,   A  NIVEL  DE  CORTE   DEL  OLEAJE  Y  LAS CORRIENTES,   UNA SUPERFICIE   ATERRAZADA  QUE  SE   CONOCE   COMO  LA    </a:t>
            </a:r>
            <a:r>
              <a:rPr b="0" i="1" lang="es-ES_tradnl" sz="1800" spc="-1" strike="noStrike" u="sng">
                <a:solidFill>
                  <a:srgbClr val="ffffff"/>
                </a:solidFill>
                <a:uFillTx/>
                <a:latin typeface="Times New Roman"/>
              </a:rPr>
              <a:t>PLATAFORMA  DE  ABRASIÓN</a:t>
            </a:r>
            <a:r>
              <a:rPr b="0" lang="es-ES_tradnl" sz="1800" spc="-1" strike="noStrike">
                <a:solidFill>
                  <a:srgbClr val="ffffff"/>
                </a:solidFill>
                <a:latin typeface="Times New Roman"/>
              </a:rPr>
              <a:t> . </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FORMAS MENORES DE  EROSIÓN,   ASOCIADAS  AL  DESARROLLO  DEL ACANTILADO,   INCLUYEN   CAVERNAS,    ARCOS  Y   PUNTILLAS.</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DESARROLLO  DE  LA  LINEA  DE  COSTA  ES  INTERRUMPIDO  EN  MUCHAS  ÁREAS   POR  ALZAMIENTOS  TECTÓNICOS,   QUE  ELEVAN  ABRUPTAMENTE    </a:t>
            </a:r>
            <a:r>
              <a:rPr b="0" i="1" lang="es-ES_tradnl" sz="1800" spc="-1" strike="noStrike" u="sng">
                <a:solidFill>
                  <a:srgbClr val="ffffff"/>
                </a:solidFill>
                <a:uFillTx/>
                <a:latin typeface="Times New Roman"/>
              </a:rPr>
              <a:t>LA  PLATAFORMA  DE   ABRASIÓN</a:t>
            </a:r>
            <a:r>
              <a:rPr b="0" lang="es-ES_tradnl" sz="1800" spc="-1" strike="noStrike">
                <a:solidFill>
                  <a:srgbClr val="ffffff"/>
                </a:solidFill>
                <a:latin typeface="Times New Roman"/>
              </a:rPr>
              <a:t>   POR  ENCIMA  DEL  NIVEL  DE  LAS  OLAS, DANDO   FORMA   A  LO  QUE SE  DENOMINA </a:t>
            </a:r>
            <a:r>
              <a:rPr b="0" i="1" lang="es-ES_tradnl" sz="1800" spc="-1" strike="noStrike" u="sng">
                <a:solidFill>
                  <a:srgbClr val="ffffff"/>
                </a:solidFill>
                <a:uFillTx/>
                <a:latin typeface="Times New Roman"/>
              </a:rPr>
              <a:t>TERRAZAS  MARINAS</a:t>
            </a:r>
            <a:r>
              <a:rPr b="0" lang="es-ES_tradnl" sz="1800" spc="-1" strike="noStrike">
                <a:solidFill>
                  <a:srgbClr val="ffffff"/>
                </a:solidFill>
                <a:latin typeface="Times New Roman"/>
              </a:rPr>
              <a:t> .   CUANDO  ESTO  OCURRE,   SE  INICIA  UNA  NUEVA  EROSIÓN  DE   LAS  OLAS   A  UN  NIVEL  MAS  BAJO,  Y  LAS  TERRAZAS  MARINAS  ELEVADAS  SON  ATACADAS  Y    EVENTUALMENTE  OBLITERADAS   POR  LA  METEORIZACIÓNN  Y  LA EROSIÓN   DE   SISTEMAS  FLUVIALE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 R R E C I F E S</a:t>
            </a:r>
            <a:endParaRPr b="0" lang="en-US" sz="2000" spc="-1" strike="noStrike">
              <a:solidFill>
                <a:srgbClr val="000000"/>
              </a:solidFill>
              <a:latin typeface="Times New Roman"/>
            </a:endParaRPr>
          </a:p>
        </p:txBody>
      </p:sp>
      <p:sp>
        <p:nvSpPr>
          <p:cNvPr id="50" name="PlaceHolder 2"/>
          <p:cNvSpPr>
            <a:spLocks noGrp="1"/>
          </p:cNvSpPr>
          <p:nvPr>
            <p:ph/>
          </p:nvPr>
        </p:nvSpPr>
        <p:spPr>
          <a:xfrm>
            <a:off x="0" y="609480"/>
            <a:ext cx="9144000" cy="5943600"/>
          </a:xfrm>
          <a:prstGeom prst="rect">
            <a:avLst/>
          </a:prstGeom>
          <a:noFill/>
          <a:ln w="0">
            <a:noFill/>
          </a:ln>
        </p:spPr>
        <p:txBody>
          <a:bodyPr lIns="90000" rIns="90000" tIns="46800" bIns="46800" anchor="t">
            <a:normAutofit fontScale="98000"/>
          </a:bodyPr>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a:t>
            </a:r>
            <a:r>
              <a:rPr b="0" i="1" lang="es-ES_tradnl" sz="1800" spc="-1" strike="noStrike" u="sng">
                <a:solidFill>
                  <a:srgbClr val="ffffff"/>
                </a:solidFill>
                <a:uFillTx/>
                <a:latin typeface="Times New Roman"/>
              </a:rPr>
              <a:t>ARRECIFES</a:t>
            </a:r>
            <a:r>
              <a:rPr b="0" lang="es-ES_tradnl" sz="1800" spc="-1" strike="noStrike">
                <a:solidFill>
                  <a:srgbClr val="ffffff"/>
                </a:solidFill>
                <a:latin typeface="Times New Roman"/>
              </a:rPr>
              <a:t>  FORMAN  UN  TIPO  ÚNICO  DE COSTA ,  CON  RASGOS  PECULIARES,   DEBIDO  A QUE  ELOS  TIENEN UN  ORIGEN  BIOLÓGICO.</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RRECIFES  MODERNOS  HAN  SIDO  CONSTRUÍDOS  POR  COMPLEJAS  COMUNIDAES  DE   </a:t>
            </a:r>
            <a:r>
              <a:rPr b="0" i="1" lang="es-ES_tradnl" sz="1800" spc="-1" strike="noStrike" u="sng">
                <a:solidFill>
                  <a:srgbClr val="ffffff"/>
                </a:solidFill>
                <a:uFillTx/>
                <a:latin typeface="Times New Roman"/>
              </a:rPr>
              <a:t>CORALES</a:t>
            </a:r>
            <a:r>
              <a:rPr b="0" i="1"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 ALGAS,</a:t>
            </a:r>
            <a:r>
              <a:rPr b="0" i="1"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ESPONJAS</a:t>
            </a:r>
            <a:r>
              <a:rPr b="0" i="1" lang="es-ES_tradnl" sz="1800" spc="-1" strike="noStrike">
                <a:solidFill>
                  <a:srgbClr val="ffffff"/>
                </a:solidFill>
                <a:latin typeface="Times New Roman"/>
              </a:rPr>
              <a:t>  Y  OTROS</a:t>
            </a:r>
            <a:r>
              <a:rPr b="0" i="1" lang="es-ES_tradnl" sz="1800" spc="-1" strike="noStrike" u="sng">
                <a:solidFill>
                  <a:srgbClr val="ffffff"/>
                </a:solidFill>
                <a:uFillTx/>
                <a:latin typeface="Times New Roman"/>
              </a:rPr>
              <a:t>  ORGANÍSMOS INVERTEBRADOS   MARINOS</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MAYOR  PARTE  DE  LOS  </a:t>
            </a:r>
            <a:r>
              <a:rPr b="0" i="1" lang="es-ES_tradnl" sz="1800" spc="-1" strike="noStrike" u="sng">
                <a:solidFill>
                  <a:srgbClr val="ffffff"/>
                </a:solidFill>
                <a:uFillTx/>
                <a:latin typeface="Times New Roman"/>
              </a:rPr>
              <a:t>ARECIFES </a:t>
            </a:r>
            <a:r>
              <a:rPr b="0" lang="es-ES_tradnl" sz="1800" spc="-1" strike="noStrike">
                <a:solidFill>
                  <a:srgbClr val="ffffff"/>
                </a:solidFill>
                <a:latin typeface="Times New Roman"/>
              </a:rPr>
              <a:t>  CRECEN  EN  CLIMAS  TROPICALES  Y  FLORECENN SÓLO  EN  AGUAS  CLARAS.   ELLOS    SE  DESARROLLAN  SÓLO  BAJO  ESTRICTAS  CONDICIONES   DE  TEMPERATURA,  SALINIDAD  Y  PROFUNDIDAD  CUANDO  CRECEN  EN  TORNO  A  ISLAS  VOLCÁNICAS  PUEDEN  TRANSFORMARSE  EN  </a:t>
            </a:r>
            <a:r>
              <a:rPr b="0" i="1" lang="es-ES_tradnl" sz="1800" spc="-1" strike="noStrike" u="sng">
                <a:solidFill>
                  <a:srgbClr val="ffffff"/>
                </a:solidFill>
                <a:uFillTx/>
                <a:latin typeface="Times New Roman"/>
              </a:rPr>
              <a:t>ATOLONES..</a:t>
            </a:r>
            <a:endParaRPr b="0" lang="en-US" sz="1800" spc="-1" strike="noStrike">
              <a:solidFill>
                <a:srgbClr val="000000"/>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T I P O S    D E   C O S T A S</a:t>
            </a:r>
            <a:endParaRPr b="0" lang="en-US" sz="20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  ESCALA  GLOBAL  LAS  COSTAS  SE  CLASIFICAN  DE   ACUERDO  A  SU  ASENTAMIENTO  TECTÓNICO:           </a:t>
            </a:r>
            <a:r>
              <a:rPr b="0" lang="es-ES_tradnl" sz="2000" spc="-1" strike="noStrike">
                <a:solidFill>
                  <a:srgbClr val="ffffff"/>
                </a:solidFill>
                <a:latin typeface="Times New Roman"/>
              </a:rPr>
              <a:t>  a</a:t>
            </a:r>
            <a:r>
              <a:rPr b="0" lang="es-ES_tradnl" sz="1800" spc="-1" strike="noStrike">
                <a:solidFill>
                  <a:srgbClr val="ffffff"/>
                </a:solidFill>
                <a:latin typeface="Times New Roman"/>
              </a:rPr>
              <a:t>)  </a:t>
            </a:r>
            <a:r>
              <a:rPr b="1" lang="es-ES_tradnl" sz="1800" spc="-1" strike="noStrike">
                <a:solidFill>
                  <a:srgbClr val="ffffff"/>
                </a:solidFill>
                <a:latin typeface="Times New Roman"/>
              </a:rPr>
              <a:t>COSTAS  CONVERGENTES</a:t>
            </a:r>
            <a:r>
              <a:rPr b="0" lang="es-ES_tradnl" sz="1800" spc="-1" strike="noStrike">
                <a:solidFill>
                  <a:srgbClr val="ffffff"/>
                </a:solidFill>
                <a:latin typeface="Times New Roman"/>
              </a:rPr>
              <a:t>,                      </a:t>
            </a:r>
            <a:r>
              <a:rPr b="0" lang="es-ES_tradnl" sz="2000" spc="-1" strike="noStrike">
                <a:solidFill>
                  <a:srgbClr val="ffffff"/>
                </a:solidFill>
                <a:latin typeface="Times New Roman"/>
              </a:rPr>
              <a:t>b</a:t>
            </a:r>
            <a:r>
              <a:rPr b="0" lang="es-ES_tradnl" sz="1800" spc="-1" strike="noStrike">
                <a:solidFill>
                  <a:srgbClr val="ffffff"/>
                </a:solidFill>
                <a:latin typeface="Times New Roman"/>
              </a:rPr>
              <a:t>)    </a:t>
            </a:r>
            <a:r>
              <a:rPr b="1" lang="es-ES_tradnl" sz="1800" spc="-1" strike="noStrike">
                <a:solidFill>
                  <a:srgbClr val="ffffff"/>
                </a:solidFill>
                <a:latin typeface="Times New Roman"/>
              </a:rPr>
              <a:t>COSTAS   DE  MARGEN  PASIVO</a:t>
            </a:r>
            <a:r>
              <a:rPr b="0" lang="es-ES_tradnl" sz="1800" spc="-1" strike="noStrike">
                <a:solidFill>
                  <a:srgbClr val="ffffff"/>
                </a:solidFill>
                <a:latin typeface="Times New Roman"/>
              </a:rPr>
              <a:t>        </a:t>
            </a:r>
            <a:r>
              <a:rPr b="0" lang="es-ES_tradnl" sz="2000" spc="-1" strike="noStrike">
                <a:solidFill>
                  <a:srgbClr val="ffffff"/>
                </a:solidFill>
                <a:latin typeface="Times New Roman"/>
              </a:rPr>
              <a:t>c)</a:t>
            </a:r>
            <a:r>
              <a:rPr b="0" lang="es-ES_tradnl" sz="1800" spc="-1" strike="noStrike">
                <a:solidFill>
                  <a:srgbClr val="ffffff"/>
                </a:solidFill>
                <a:latin typeface="Times New Roman"/>
              </a:rPr>
              <a:t>   </a:t>
            </a:r>
            <a:r>
              <a:rPr b="1" lang="es-ES_tradnl" sz="1800" spc="-1" strike="noStrike">
                <a:solidFill>
                  <a:srgbClr val="ffffff"/>
                </a:solidFill>
                <a:latin typeface="Times New Roman"/>
              </a:rPr>
              <a:t>COSTAS  DE  MARES  MARGINALES.</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  ESCALA  LOCAL  LAS  COSTAS  SE   CLASIFICAN  EN  BASE  A  LOS  PROCESOS  TEMPRANOS  MAYORMENTE    RESPONSABLES  DE  SU  CONFIGURACIÓN:   </a:t>
            </a:r>
            <a:r>
              <a:rPr b="0" lang="es-ES_tradnl" sz="2000" spc="-1" strike="noStrike">
                <a:solidFill>
                  <a:srgbClr val="ffffff"/>
                </a:solidFill>
                <a:latin typeface="Times New Roman"/>
              </a:rPr>
              <a:t>a)</a:t>
            </a:r>
            <a:r>
              <a:rPr b="0" lang="es-ES_tradnl" sz="1800" spc="-1" strike="noStrike">
                <a:solidFill>
                  <a:srgbClr val="ffffff"/>
                </a:solidFill>
                <a:latin typeface="Times New Roman"/>
              </a:rPr>
              <a:t>   </a:t>
            </a:r>
            <a:r>
              <a:rPr b="1" lang="es-ES_tradnl" sz="1800" spc="-1" strike="noStrike">
                <a:solidFill>
                  <a:srgbClr val="ffffff"/>
                </a:solidFill>
                <a:latin typeface="Times New Roman"/>
              </a:rPr>
              <a:t>COSTAS  FORMADAS  POR  PROCESOS  SUBAÉREOS</a:t>
            </a:r>
            <a:r>
              <a:rPr b="0" lang="es-ES_tradnl" sz="1800" spc="-1" strike="noStrike">
                <a:solidFill>
                  <a:srgbClr val="ffffff"/>
                </a:solidFill>
                <a:latin typeface="Times New Roman"/>
              </a:rPr>
              <a:t>   </a:t>
            </a:r>
            <a:r>
              <a:rPr b="0" lang="es-ES_tradnl" sz="2000" spc="-1" strike="noStrike">
                <a:solidFill>
                  <a:srgbClr val="ffffff"/>
                </a:solidFill>
                <a:latin typeface="Times New Roman"/>
              </a:rPr>
              <a:t>(costas  de erosión  fluvial,  costas depositación  fluvial  (deltaica)  y   costas  de erosión  glaciar);    b)  </a:t>
            </a:r>
            <a:r>
              <a:rPr b="1" lang="es-ES_tradnl" sz="1800" spc="-1" strike="noStrike">
                <a:solidFill>
                  <a:srgbClr val="ffffff"/>
                </a:solidFill>
                <a:latin typeface="Times New Roman"/>
              </a:rPr>
              <a:t>COSTAS   FORMADAS  POR  PROCESOS  MARINO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lang="es-ES_tradnl" sz="1800" spc="-1" strike="noStrike">
                <a:solidFill>
                  <a:srgbClr val="ffffff"/>
                </a:solidFill>
                <a:latin typeface="Times New Roman"/>
              </a:rPr>
              <a:t>E  U  S  T  A  T  I  S  M  </a:t>
            </a:r>
            <a:r>
              <a:rPr b="1" lang="es-ES_tradnl" sz="2000" spc="-1" strike="noStrike">
                <a:solidFill>
                  <a:srgbClr val="ffffff"/>
                </a:solidFill>
                <a:latin typeface="Times New Roman"/>
              </a:rPr>
              <a:t>O</a:t>
            </a:r>
            <a:br>
              <a:rPr sz="1400"/>
            </a:br>
            <a:r>
              <a:rPr b="1" lang="es-ES_tradnl" sz="1400" spc="-1" strike="noStrike">
                <a:solidFill>
                  <a:srgbClr val="ffffff"/>
                </a:solidFill>
                <a:latin typeface="Times New Roman"/>
              </a:rPr>
              <a:t> </a:t>
            </a:r>
            <a:br>
              <a:rPr sz="1400"/>
            </a:br>
            <a:endParaRPr b="0" lang="en-US" sz="1400" spc="-1" strike="noStrike">
              <a:solidFill>
                <a:srgbClr val="000000"/>
              </a:solidFill>
              <a:latin typeface="Times New Roman"/>
            </a:endParaRPr>
          </a:p>
        </p:txBody>
      </p:sp>
      <p:sp>
        <p:nvSpPr>
          <p:cNvPr id="52"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SON    CAMBIOS    DE  LA   COTA  DEL  NIVEL   DEL   MAR  DE   ORIGEN   NO TECTÓNICO.    EL   ALZAMIENTO   DE   LA  COTA  DEL  NIVEL  DEL  MAR,   ASOCIADO  CON  GLACIARES   PLEISTOCENOS,   HIZO  QUE  EL  MAR   TRANSGREDIERA   E   INVADIERA   MUCHOS TERRENOS  DEL LITORA</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M  A  R  E  A  S</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MAREAS SE   PRODUCEN   POR   LA   ATRACCIÓN GRAVITACIONAL  DE   LA   LUNA   Y   DE  LA FUERZA  CENTRÍFUGA  DEL    </a:t>
            </a:r>
            <a:r>
              <a:rPr b="0" i="1" lang="es-ES_tradnl" sz="1800" spc="-1" strike="noStrike" u="sng">
                <a:solidFill>
                  <a:srgbClr val="ffffff"/>
                </a:solidFill>
                <a:uFillTx/>
                <a:latin typeface="Times New Roman"/>
              </a:rPr>
              <a:t>SISTEMA    LUNA -- TIERRA</a:t>
            </a:r>
            <a:r>
              <a:rPr b="0" lang="es-ES_tradnl" sz="1800" spc="-1" strike="noStrike">
                <a:solidFill>
                  <a:srgbClr val="ffffff"/>
                </a:solidFill>
                <a:latin typeface="Times New Roman"/>
              </a:rPr>
              <a:t>.        LAS  MAREAS  EJERCEN  LOCALMENTE   UNA INFLUENCIA  MAYOR  EN  LAS  LINEAS  DE  COSTA,   POR   DOS  CAMINOS:  1)  POR    INICIACIÓN  DEL  </a:t>
            </a:r>
            <a:r>
              <a:rPr b="1" lang="es-ES_tradnl" sz="1800" spc="-1" strike="noStrike">
                <a:solidFill>
                  <a:srgbClr val="ffffff"/>
                </a:solidFill>
                <a:latin typeface="Times New Roman"/>
              </a:rPr>
              <a:t>LEVANTAMIENTO  </a:t>
            </a:r>
            <a:r>
              <a:rPr b="0" lang="es-ES_tradnl" sz="1800" spc="-1" strike="noStrike">
                <a:solidFill>
                  <a:srgbClr val="ffffff"/>
                </a:solidFill>
                <a:latin typeface="Times New Roman"/>
              </a:rPr>
              <a:t>Y  DE L</a:t>
            </a:r>
            <a:r>
              <a:rPr b="1" lang="es-ES_tradnl" sz="1800" spc="-1" strike="noStrike">
                <a:solidFill>
                  <a:srgbClr val="ffffff"/>
                </a:solidFill>
                <a:latin typeface="Times New Roman"/>
              </a:rPr>
              <a:t>  DESCENSO   DEL  NIVEL  DEL  AGUA</a:t>
            </a:r>
            <a:r>
              <a:rPr b="0" lang="es-ES_tradnl" sz="1800" spc="-1" strike="noStrike">
                <a:solidFill>
                  <a:srgbClr val="ffffff"/>
                </a:solidFill>
                <a:latin typeface="Times New Roman"/>
              </a:rPr>
              <a:t>.     2)   POR  GENERACIÓN  DE  </a:t>
            </a:r>
            <a:r>
              <a:rPr b="1" lang="es-ES_tradnl" sz="1800" spc="-1" strike="noStrike">
                <a:solidFill>
                  <a:srgbClr val="ffffff"/>
                </a:solidFill>
                <a:latin typeface="Times New Roman"/>
              </a:rPr>
              <a:t>CORRIENTES  DE   MAREA.</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FACTORES QUE MODIFICAN EL RANGO DE MAREA SON:  1)  LA</a:t>
            </a:r>
            <a:r>
              <a:rPr b="0" i="1" lang="es-ES_tradnl" sz="1800" spc="-1" strike="noStrike">
                <a:solidFill>
                  <a:srgbClr val="ffffff"/>
                </a:solidFill>
                <a:latin typeface="Times New Roman"/>
              </a:rPr>
              <a:t> PENDIENTE DEL FONDO</a:t>
            </a:r>
            <a:r>
              <a:rPr b="0" lang="es-ES_tradnl" sz="1800" spc="-1" strike="noStrike">
                <a:solidFill>
                  <a:srgbClr val="ffffff"/>
                </a:solidFill>
                <a:latin typeface="Times New Roman"/>
              </a:rPr>
              <a:t>;   2)     LA </a:t>
            </a:r>
            <a:r>
              <a:rPr b="0" i="1" lang="es-ES_tradnl" sz="1800" spc="-1" strike="noStrike">
                <a:solidFill>
                  <a:srgbClr val="ffffff"/>
                </a:solidFill>
                <a:latin typeface="Times New Roman"/>
              </a:rPr>
              <a:t>CONFIGURACIÓN DE LA COSTA</a:t>
            </a:r>
            <a:r>
              <a:rPr b="0" lang="es-ES_tradnl" sz="1800" spc="-1" strike="noStrike">
                <a:solidFill>
                  <a:srgbClr val="ffffff"/>
                </a:solidFill>
                <a:latin typeface="Times New Roman"/>
              </a:rPr>
              <a:t>;    3)    LA    </a:t>
            </a:r>
            <a:r>
              <a:rPr b="0" i="1" lang="es-ES_tradnl" sz="1800" spc="-1" strike="noStrike">
                <a:solidFill>
                  <a:srgbClr val="ffffff"/>
                </a:solidFill>
                <a:latin typeface="Times New Roman"/>
              </a:rPr>
              <a:t>POSICIÓN RELATIVA   DEL   SOL   Y   LA  LUNA</a:t>
            </a:r>
            <a:r>
              <a:rPr b="0" lang="es-ES_tradnl" sz="1800" spc="-1" strike="noStrike">
                <a:solidFill>
                  <a:srgbClr val="ffffff"/>
                </a:solidFill>
                <a:latin typeface="Times New Roman"/>
              </a:rPr>
              <a:t>;    4)    LAS  </a:t>
            </a:r>
            <a:r>
              <a:rPr b="0" i="1" lang="es-ES_tradnl" sz="1800" spc="-1" strike="noStrike">
                <a:solidFill>
                  <a:srgbClr val="ffffff"/>
                </a:solidFill>
                <a:latin typeface="Times New Roman"/>
              </a:rPr>
              <a:t>CONDICIONES ATMOSFÉRI9CAS</a:t>
            </a:r>
            <a:endParaRPr b="0" lang="en-US" sz="18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2000" spc="-1" strike="noStrike">
                <a:solidFill>
                  <a:srgbClr val="ffffff"/>
                </a:solidFill>
                <a:latin typeface="Times New Roman"/>
              </a:rPr>
              <a:t>T  S  U  N  A  M  I  S</a:t>
            </a:r>
            <a:endParaRPr b="0" lang="en-US" sz="20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S    UN  MOVIMIENTO  DEL  FONDO  OCEÁNICO  PROVOCADO  POR   UN TERREMOTO,   ERUPCIONES  VOLCÁNICAS   O  DESLIZAMIENTO  (REMOCIÓN EN MASA)  SUBMARINO.   ÉSTE    PRODUCE   UNA  OLA  INUSUAL,  DE   POCA </a:t>
            </a:r>
            <a:r>
              <a:rPr b="0" i="1" lang="es-ES_tradnl" sz="1800" spc="-1" strike="noStrike">
                <a:solidFill>
                  <a:srgbClr val="ffffff"/>
                </a:solidFill>
                <a:latin typeface="Times New Roman"/>
              </a:rPr>
              <a:t>ALTURA</a:t>
            </a:r>
            <a:r>
              <a:rPr b="0" lang="es-ES_tradnl" sz="1800" spc="-1" strike="noStrike">
                <a:solidFill>
                  <a:srgbClr val="ffffff"/>
                </a:solidFill>
                <a:latin typeface="Times New Roman"/>
              </a:rPr>
              <a:t>  Y  LARGA  </a:t>
            </a:r>
            <a:r>
              <a:rPr b="0" i="1" lang="es-ES_tradnl" sz="1800" spc="-1" strike="noStrike">
                <a:solidFill>
                  <a:srgbClr val="ffffff"/>
                </a:solidFill>
                <a:latin typeface="Times New Roman"/>
              </a:rPr>
              <a:t>LONGITUD  DE  ONDA</a:t>
            </a:r>
            <a:r>
              <a:rPr b="0" lang="es-ES_tradnl" sz="1800" spc="-1" strike="noStrike">
                <a:solidFill>
                  <a:srgbClr val="ffffff"/>
                </a:solidFill>
                <a:latin typeface="Times New Roman"/>
              </a:rPr>
              <a:t>,   QUE   VIAJAN  A  TRAVÉS  DEL  OCÉANO  ABIERTO  A  GRANDES  VELOCIDADES  (1.300</a:t>
            </a:r>
            <a:r>
              <a:rPr b="0" i="1" lang="es-ES_tradnl" sz="1800" spc="-1" strike="noStrike" u="sng">
                <a:solidFill>
                  <a:srgbClr val="ffffff"/>
                </a:solidFill>
                <a:uFillTx/>
                <a:latin typeface="Times New Roman"/>
              </a:rPr>
              <a:t>   </a:t>
            </a:r>
            <a:r>
              <a:rPr b="0" lang="es-ES_tradnl" sz="1800" spc="-1" strike="noStrike">
                <a:solidFill>
                  <a:srgbClr val="ffffff"/>
                </a:solidFill>
                <a:latin typeface="Times New Roman"/>
              </a:rPr>
              <a:t>km / hora) ,  LLAMADAS  </a:t>
            </a:r>
            <a:r>
              <a:rPr b="0" i="1" lang="es-ES_tradnl" sz="1800" spc="-1" strike="noStrike" u="sng">
                <a:solidFill>
                  <a:srgbClr val="ffffff"/>
                </a:solidFill>
                <a:uFillTx/>
                <a:latin typeface="Times New Roman"/>
              </a:rPr>
              <a:t>TSUNAMI</a:t>
            </a:r>
            <a:r>
              <a:rPr b="0" lang="es-ES_tradnl" sz="1800" spc="-1" strike="noStrike">
                <a:solidFill>
                  <a:srgbClr val="ffffff"/>
                </a:solidFill>
                <a:latin typeface="Times New Roman"/>
              </a:rPr>
              <a:t>.    PUEDEN  SER  UN   FORMIDABLE   AGENTE  DE   DESTRUCCIÓN  A  LO  LARGO  DE  LA  LINEA  DE  COSTA,   AL   APROXIMARSE  A  ELL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lementos  del  perfil  de  costa</a:t>
            </a:r>
            <a:endParaRPr b="0" lang="en-US" sz="4400" spc="-1" strike="noStrike">
              <a:solidFill>
                <a:srgbClr val="000000"/>
              </a:solidFill>
              <a:latin typeface="Times New Roman"/>
            </a:endParaRPr>
          </a:p>
        </p:txBody>
      </p:sp>
      <p:sp>
        <p:nvSpPr>
          <p:cNvPr id="54" name="PlaceHolder 2"/>
          <p:cNvSpPr>
            <a:spLocks noGrp="1"/>
          </p:cNvSpPr>
          <p:nvPr>
            <p:ph/>
          </p:nvPr>
        </p:nvSpPr>
        <p:spPr>
          <a:xfrm>
            <a:off x="609480" y="1447560"/>
            <a:ext cx="7772400" cy="4647960"/>
          </a:xfrm>
          <a:prstGeom prst="rect">
            <a:avLst/>
          </a:prstGeom>
          <a:solidFill>
            <a:srgbClr val="3333cc"/>
          </a:solid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ffffff"/>
                </a:solidFill>
                <a:latin typeface="Times New Roman"/>
              </a:rPr>
              <a:t> </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5" name=""/>
          <p:cNvSpPr/>
          <p:nvPr/>
        </p:nvSpPr>
        <p:spPr>
          <a:xfrm>
            <a:off x="1828800" y="49528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914400" y="2743200"/>
            <a:ext cx="7183440" cy="2246400"/>
          </a:xfrm>
          <a:custGeom>
            <a:avLst/>
            <a:gdLst/>
            <a:ahLst/>
            <a:rect l="l" t="t" r="r" b="b"/>
            <a:pathLst>
              <a:path w="4525" h="1415">
                <a:moveTo>
                  <a:pt x="4525" y="235"/>
                </a:moveTo>
                <a:cubicBezTo>
                  <a:pt x="4402" y="50"/>
                  <a:pt x="4205" y="108"/>
                  <a:pt x="4043" y="0"/>
                </a:cubicBezTo>
                <a:cubicBezTo>
                  <a:pt x="4026" y="3"/>
                  <a:pt x="3951" y="11"/>
                  <a:pt x="3926" y="26"/>
                </a:cubicBezTo>
                <a:cubicBezTo>
                  <a:pt x="3915" y="32"/>
                  <a:pt x="3909" y="45"/>
                  <a:pt x="3899" y="52"/>
                </a:cubicBezTo>
                <a:cubicBezTo>
                  <a:pt x="3814" y="108"/>
                  <a:pt x="3880" y="55"/>
                  <a:pt x="3808" y="91"/>
                </a:cubicBezTo>
                <a:cubicBezTo>
                  <a:pt x="3743" y="124"/>
                  <a:pt x="3685" y="164"/>
                  <a:pt x="3613" y="183"/>
                </a:cubicBezTo>
                <a:cubicBezTo>
                  <a:pt x="3561" y="217"/>
                  <a:pt x="3543" y="209"/>
                  <a:pt x="3508" y="261"/>
                </a:cubicBezTo>
                <a:cubicBezTo>
                  <a:pt x="3495" y="317"/>
                  <a:pt x="3486" y="375"/>
                  <a:pt x="3469" y="430"/>
                </a:cubicBezTo>
                <a:cubicBezTo>
                  <a:pt x="3464" y="445"/>
                  <a:pt x="3448" y="455"/>
                  <a:pt x="3443" y="470"/>
                </a:cubicBezTo>
                <a:cubicBezTo>
                  <a:pt x="3402" y="582"/>
                  <a:pt x="3412" y="680"/>
                  <a:pt x="3326" y="770"/>
                </a:cubicBezTo>
                <a:cubicBezTo>
                  <a:pt x="3322" y="796"/>
                  <a:pt x="3322" y="823"/>
                  <a:pt x="3313" y="848"/>
                </a:cubicBezTo>
                <a:cubicBezTo>
                  <a:pt x="3300" y="881"/>
                  <a:pt x="3223" y="896"/>
                  <a:pt x="3208" y="900"/>
                </a:cubicBezTo>
                <a:cubicBezTo>
                  <a:pt x="3043" y="941"/>
                  <a:pt x="2962" y="960"/>
                  <a:pt x="2778" y="978"/>
                </a:cubicBezTo>
                <a:cubicBezTo>
                  <a:pt x="2726" y="983"/>
                  <a:pt x="2673" y="987"/>
                  <a:pt x="2621" y="991"/>
                </a:cubicBezTo>
                <a:cubicBezTo>
                  <a:pt x="2504" y="1000"/>
                  <a:pt x="2386" y="1008"/>
                  <a:pt x="2269" y="1017"/>
                </a:cubicBezTo>
                <a:cubicBezTo>
                  <a:pt x="2226" y="1021"/>
                  <a:pt x="2182" y="1026"/>
                  <a:pt x="2139" y="1030"/>
                </a:cubicBezTo>
                <a:cubicBezTo>
                  <a:pt x="1934" y="1083"/>
                  <a:pt x="2071" y="1056"/>
                  <a:pt x="1722" y="1070"/>
                </a:cubicBezTo>
                <a:cubicBezTo>
                  <a:pt x="1719" y="1071"/>
                  <a:pt x="1631" y="1085"/>
                  <a:pt x="1617" y="1096"/>
                </a:cubicBezTo>
                <a:cubicBezTo>
                  <a:pt x="1550" y="1150"/>
                  <a:pt x="1635" y="1127"/>
                  <a:pt x="1552" y="1148"/>
                </a:cubicBezTo>
                <a:cubicBezTo>
                  <a:pt x="1414" y="1183"/>
                  <a:pt x="1272" y="1202"/>
                  <a:pt x="1135" y="1239"/>
                </a:cubicBezTo>
                <a:cubicBezTo>
                  <a:pt x="1067" y="1258"/>
                  <a:pt x="967" y="1310"/>
                  <a:pt x="900" y="1317"/>
                </a:cubicBezTo>
                <a:cubicBezTo>
                  <a:pt x="856" y="1321"/>
                  <a:pt x="813" y="1326"/>
                  <a:pt x="769" y="1330"/>
                </a:cubicBezTo>
                <a:cubicBezTo>
                  <a:pt x="747" y="1339"/>
                  <a:pt x="726" y="1349"/>
                  <a:pt x="704" y="1357"/>
                </a:cubicBezTo>
                <a:cubicBezTo>
                  <a:pt x="678" y="1367"/>
                  <a:pt x="626" y="1383"/>
                  <a:pt x="626" y="1383"/>
                </a:cubicBezTo>
                <a:cubicBezTo>
                  <a:pt x="596" y="1379"/>
                  <a:pt x="561" y="1387"/>
                  <a:pt x="535" y="1370"/>
                </a:cubicBezTo>
                <a:cubicBezTo>
                  <a:pt x="498" y="1346"/>
                  <a:pt x="488" y="1295"/>
                  <a:pt x="456" y="1265"/>
                </a:cubicBezTo>
                <a:cubicBezTo>
                  <a:pt x="236" y="1324"/>
                  <a:pt x="327" y="1306"/>
                  <a:pt x="183" y="1330"/>
                </a:cubicBezTo>
                <a:cubicBezTo>
                  <a:pt x="136" y="1402"/>
                  <a:pt x="91" y="1386"/>
                  <a:pt x="0" y="1396"/>
                </a:cubicBezTo>
                <a:cubicBezTo>
                  <a:pt x="48" y="1412"/>
                  <a:pt x="51" y="1415"/>
                  <a:pt x="13" y="1396"/>
                </a:cubicBezTo>
              </a:path>
            </a:pathLst>
          </a:custGeom>
          <a:no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952880" y="41911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505320" y="44197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077320" y="2057400"/>
            <a:ext cx="609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400800" y="4267080"/>
            <a:ext cx="380880" cy="53352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171840" y="2039760"/>
            <a:ext cx="761400" cy="36720"/>
          </a:xfrm>
          <a:prstGeom prst="line">
            <a:avLst/>
          </a:prstGeom>
          <a:ln w="38160">
            <a:solidFill>
              <a:srgbClr val="ffffff"/>
            </a:solidFill>
            <a:miter/>
            <a:head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62" name=""/>
          <p:cNvSpPr/>
          <p:nvPr/>
        </p:nvSpPr>
        <p:spPr>
          <a:xfrm>
            <a:off x="6781680" y="4800600"/>
            <a:ext cx="38124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066680" y="4800600"/>
            <a:ext cx="1219320" cy="609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rra</a:t>
            </a:r>
            <a:endParaRPr b="0" lang="en-US" sz="2400" spc="-1" strike="noStrike">
              <a:solidFill>
                <a:srgbClr val="000000"/>
              </a:solidFill>
              <a:latin typeface="Times New Roman"/>
            </a:endParaRPr>
          </a:p>
        </p:txBody>
      </p:sp>
      <p:sp>
        <p:nvSpPr>
          <p:cNvPr id="64" name=""/>
          <p:cNvSpPr/>
          <p:nvPr/>
        </p:nvSpPr>
        <p:spPr>
          <a:xfrm>
            <a:off x="3429000" y="3048120"/>
            <a:ext cx="1447920" cy="1143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e play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rra</a:t>
            </a:r>
            <a:endParaRPr b="0" lang="en-US" sz="2400" spc="-1" strike="noStrike">
              <a:solidFill>
                <a:srgbClr val="000000"/>
              </a:solidFill>
              <a:latin typeface="Times New Roman"/>
            </a:endParaRPr>
          </a:p>
        </p:txBody>
      </p:sp>
      <p:sp>
        <p:nvSpPr>
          <p:cNvPr id="65" name=""/>
          <p:cNvSpPr/>
          <p:nvPr/>
        </p:nvSpPr>
        <p:spPr>
          <a:xfrm>
            <a:off x="5029200" y="3048120"/>
            <a:ext cx="1295280" cy="990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ost playa</a:t>
            </a:r>
            <a:endParaRPr b="0" lang="en-US" sz="2400" spc="-1" strike="noStrike">
              <a:solidFill>
                <a:srgbClr val="000000"/>
              </a:solidFill>
              <a:latin typeface="Times New Roman"/>
            </a:endParaRPr>
          </a:p>
        </p:txBody>
      </p:sp>
      <p:sp>
        <p:nvSpPr>
          <p:cNvPr id="66" name=""/>
          <p:cNvSpPr/>
          <p:nvPr/>
        </p:nvSpPr>
        <p:spPr>
          <a:xfrm>
            <a:off x="6705720" y="1828800"/>
            <a:ext cx="1447560" cy="609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st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7" name=""/>
          <p:cNvSpPr/>
          <p:nvPr/>
        </p:nvSpPr>
        <p:spPr>
          <a:xfrm>
            <a:off x="6477120" y="5334120"/>
            <a:ext cx="1523880" cy="7617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antil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5T02:12:40Z</dcterms:created>
  <dc:creator>Compaq</dc:creator>
  <dc:description/>
  <dc:language>en-US</dc:language>
  <cp:lastModifiedBy>Universidad de Chile</cp:lastModifiedBy>
  <cp:lastPrinted>2001-05-29T02:22:41Z</cp:lastPrinted>
  <dcterms:modified xsi:type="dcterms:W3CDTF">2001-06-06T00:00:47Z</dcterms:modified>
  <cp:revision>16</cp:revision>
  <dc:subject/>
  <dc:title>SISTEMAS   DE   LINEAS   DE   COSTA</dc:title>
</cp:coreProperties>
</file>