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9D7F-2E64-4E7E-98BD-CB64099EC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7864-1EE9-454F-98C4-FA15AD70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CA7A-605B-4E12-955D-236C3CF3E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7662-35A3-4798-979F-E4AB42268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4F41-346C-4023-B7D7-6732758C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3D46-2FB3-45C2-B0F4-96FD87FC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6AED-8F04-43CD-A622-DE317382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633B-8E64-4CED-A327-E8FB9F9B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3D18-B8CB-436E-BACF-A015C113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CC1E-BBEF-4CFF-9CEA-32B45DC7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DCBD-ACF4-46AB-B38F-8FE13251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183F-38C6-4EAF-ACBD-726AE9FE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AACF-1AD4-43D3-94E4-D59BBE441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ICLO    DE    VIDAS    DE   LOS   OCÉ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OCÉAN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SON  LOS  RASGOS  MAS  IMPORTANTES  DE  LA  SUPERFICIE  DE   LA  TIERRA,  Y  SU  EXISTENCIA  Y   EVOLUCIÓN    CONTROLA  MUCHO   DE   LOS  PROCESOS  GEOLÓGICOS   MAS   NOTABLES   DEL  PLANE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NO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CÉAN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HAN   APARECIDO   SOBRE    LA   FAZ   DE   LA  TIERRA     MAS   RECIENTEMENTE   QUE  OTROS,  Y   OTROS  EXISTEN   DESDE   TIEMPOS  MUY  ANTIGUO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AMBIÉN,   ALGUNAS  PARTES  DE   UN  MISMO   OCÉANO  SON  MAS  VIEJAS   O   MAS  JÓVENES  QUE  OT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ENCAS  OCEÁNICAS  SE  INICIA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(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  NACE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,   A   PARTIR   DE   UN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IFTING  CONTINENT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Y  TERMINAN   (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  MUERE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,     BAJO  EL  EFECTO  DE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UBDUCCIÓN   LITOSFÉ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SU  DESARROLLO   ES  PROGRESIVO  Y  SU  EVOLUCIÓN   E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ÍCL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ENCAS  OCEÁNICAS  CRECEN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SDE  SU INICIO,   DE   MUY  PEQUEÑAS  HASTA  UN  MÁXIMO,  Y  DESPUÉ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 CONTRAEN  Y  RECOGE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(VUELVEN  A   SER   PEQUEÑOS),   HASTA DESAPARECER  EN  ALGUNOS CAS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ICLO  DE VIDA   DE  LOS  OCÉAN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FUE     PROPUESTO   POR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TUZO  WILSO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EN  1968,   QUIÉN  DEFINIÓ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EIS  ETAPAS  DE   DESARROLL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CADA  UNA  DE   ELLAS   REPRESENTADA   HOY   DÍA   SOBRE  LA  FAZ    DE    LA TIERRA,   POR   OCÉANOS   REALES,   O   POR     ESTRUCTURAS   GLOBALES   Y  PECULIARES  EXISTENTES  EN  DETERMINADOS  LUGARES DEL PLAN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ICLO    DE   VIDA    DE    LOS    OCÉANOS    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(continuació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TAPA   1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TADO  EMBRIONARI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Ej:  RIFT -  VALLEYS  ESTE   AFRICAN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vimiento  dominante:  levanta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TAPA   2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TADO  JÓVEN.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j:  MAR  ROJO;  GOLFO  DE  ADÉN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vimiento  dominante:  expans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TAPA   3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ESTADO   MADURO.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j  OCÉANO  ATLÁNTICO.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vimiento  dominante:  expasí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TAPA   4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ESTADO   DECLINANTE.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j:  OCÉANO  PACÍFICO.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vimiento dominante:  cont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 baseline="-2000">
                <a:solidFill>
                  <a:srgbClr val="ffffff"/>
                </a:solidFill>
                <a:uFillTx/>
                <a:latin typeface="Times New Roman"/>
              </a:rPr>
              <a:t>ETAPA   5</a:t>
            </a:r>
            <a:r>
              <a:rPr b="0" i="1" lang="es-ES_tradnl" sz="2800" spc="-1" strike="noStrike" baseline="-2000">
                <a:solidFill>
                  <a:srgbClr val="ffffff"/>
                </a:solidFill>
                <a:latin typeface="Times New Roman"/>
              </a:rPr>
              <a:t>      ESTADO   TERMINAL.            </a:t>
            </a:r>
            <a:r>
              <a:rPr b="0" lang="es-ES_tradnl" sz="2800" spc="-1" strike="noStrike" baseline="-2000">
                <a:solidFill>
                  <a:srgbClr val="ffffff"/>
                </a:solidFill>
                <a:latin typeface="Times New Roman"/>
              </a:rPr>
              <a:t>Ej.  MAR  MEDITERRÁNEO.                              Movimiento  dominante:  contracción  y  levan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 baseline="-2000">
                <a:solidFill>
                  <a:srgbClr val="ffffff"/>
                </a:solidFill>
                <a:uFillTx/>
                <a:latin typeface="Times New Roman"/>
              </a:rPr>
              <a:t>ETAPA   6</a:t>
            </a:r>
            <a:r>
              <a:rPr b="1" lang="es-ES_tradnl" sz="2800" spc="-1" strike="noStrike" baseline="-2000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s-ES_tradnl" sz="2800" spc="-1" strike="noStrike" baseline="-2000">
                <a:solidFill>
                  <a:srgbClr val="ffffff"/>
                </a:solidFill>
                <a:latin typeface="Times New Roman"/>
              </a:rPr>
              <a:t>ESTADO    RELICTO. (CICATRIZADO).   </a:t>
            </a:r>
            <a:r>
              <a:rPr b="0" lang="es-ES_tradnl" sz="2800" spc="-1" strike="noStrike" baseline="-2000">
                <a:solidFill>
                  <a:srgbClr val="ffffff"/>
                </a:solidFill>
                <a:latin typeface="Times New Roman"/>
              </a:rPr>
              <a:t>Ej:   SUTURA  ÍNDICA  DE   LOS   HIMALAYAS.  Movimiento  dominante:  </a:t>
            </a:r>
            <a:r>
              <a:rPr b="0" lang="es-ES_tradnl" sz="3200" spc="-1" strike="noStrike" baseline="-2000">
                <a:solidFill>
                  <a:srgbClr val="ffffff"/>
                </a:solidFill>
                <a:latin typeface="Times New Roman"/>
              </a:rPr>
              <a:t>contracción  y  levant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30T00:12:08Z</dcterms:created>
  <dc:creator>Universidad de Chile</dc:creator>
  <dc:description/>
  <dc:language>en-US</dc:language>
  <cp:lastModifiedBy>Universidad de Chile</cp:lastModifiedBy>
  <cp:lastPrinted>2001-06-30T01:22:51Z</cp:lastPrinted>
  <dcterms:modified xsi:type="dcterms:W3CDTF">2001-06-30T01:29:03Z</dcterms:modified>
  <cp:revision>2</cp:revision>
  <dc:subject/>
  <dc:title>CICLO    DE    VIDAS    DE   LOS   OCÉANOS</dc:title>
</cp:coreProperties>
</file>