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1A3-9646-4B96-913E-7A9721A7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E58-C651-4EE2-8995-E4DDF259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373-CCCF-4424-9ADF-B5F5A1E3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278-48DB-4D09-A851-287F6DF1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12D-F0CA-4F98-84EB-4B76A75C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2BD-E3A9-475F-9F97-3DBACA44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15C-1B6B-453D-B9D7-7B16F15B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670-5DEB-4622-92BC-50BD0CFB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8F7-70C1-4D88-A8C7-17B4EB22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632-AC69-4D93-98B2-99D31ACC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837-5A56-4F5C-9305-39E66D14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5C1-E9C7-4989-9CF1-1E1021EC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A263-BB17-4F46-A77D-3BFA5DA6A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FORMACIÓN  DE  LA  CORTEZA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 de la corteza  está  documentada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vimientos  históricos  a  lo  largo  de   fall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marinas    y   playas  solevanta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(con  desarrollo   de   acantilado  costero)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ierras  sumergi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;    por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uerpos   de   roca   fracturados,    fallados   y   plega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etc...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mas  intensa  está  representada  por  las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DENAS   DE   MONTAÑAS   PLEGADAS,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se desarrollan  a  lo largo  de los  contactos  convergentes de  pl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OS   MOVIMIENTOS   OBSERVABLES,   EN    PROCESO  DE   DESARROLLO,     pueden   ser   MOVIMIENTOS   ABRUPTOS                     ( 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Yakutat:  15  m ,  San Francisco:  7  m ,  y  Valdivia:  2 m )                                                                        o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VIMIENTOS   LENTOS    (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Bakersfield    (California):     2.5  cm  x  año ,  Templo de Serapis ,  Mar  Báltico,  Costa  Austral de Ch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27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 rocas   expuestas   a esfuerzos   de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MPRESIÓN, EXTENSIÓN  Y  CIZALL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  responden   deformándose   y generando  estructuras   (llamadas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secundari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en  oposición a  las  estructuras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rimarias  o  singenétic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 son  comunes en  las  rocas  sedimentari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  roca  se  deforma  cuando  se  le   aplica  un  esfuerzo  que  excede  la  resistencia  del 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respuesta  será  en  función  de  la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RESIÓN   CONFINANTE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a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EMPERATURA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el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TIEMPO  DE  APLICACIÓN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os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FLUIDOS   INTRA  -POROS 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el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IPO  DE R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   general, cerca de la superficie,  la   roca   se  comporta   de manera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RAG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ígida)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se fractura..   Las estructuras resultantes son: 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DIACLASAS  y  FALLAS</a:t>
            </a: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mayor  profundidad  (del orden de 3 km),  la  roca  se comporta  de  manera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ÚCT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lásti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 se  pliega  o  fluye  plásticamente.  La estructura  resultante  es  un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grandes  profundidades  se  llega  al  dominio  de   la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USIÓN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viscoso),  dónde  se  originan  pliegues  de  flujo o  aparición  de  esquistocida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POS DE ESTRUCTURAS                                                  (y esfuerzos asoci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esfuerzo compresivo):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NTICLINALES    Y  SINCLIN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(simétrico,  asimétrico,  volcado,  recumbente,  isoclinal ;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NOCLINALES;   DOMOS  Y  CUENCAS;   PLIEGUES   COMPLEJ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mentos de un pliegu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LANCO  o  LIMBO,     PLANO AXIAL,    EJE   DE   PLIEGUE    o   CHAR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FRACTUR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sfuerzo compresivo, extensivo y de cizalle):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ALLA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ALLA   NORMAL,    FALLA   INVERSA   O   DE   EMPUJE,  FALLA   DE   RUMBO   O   TRANSCURRENTE  (SINESTRAL  Y  DEXTRAL);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IACLA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os de una falla: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lano de falla,   traza de  falla,   desplazamiento   de    falla,   estrías de   falla,   brecha   de   falla,   escarpe  de  falla,    facetas    triang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ientación  espacial  de  un plano   (estrato,  flanco  o  limbo  del  pliegue, diaclasa   o  falla):     </a:t>
            </a:r>
            <a:r>
              <a:rPr b="1" lang="es-ES_tradnl" sz="2800" spc="-1" strike="noStrike">
                <a:solidFill>
                  <a:srgbClr val="00cc99"/>
                </a:solidFill>
                <a:latin typeface="Times New Roman"/>
              </a:rPr>
              <a:t>RUMBO  y  MANT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liegues y fallas se producen  desde  dimenciones  microscópicos  (microestructuras)  a  macro  y   megascópicas  (megaestructuras  de  cientos  miles de   kilómetros de extens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IPSOIDE  DE   ESFUER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PSOIDE   DE  DE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752480"/>
            <a:ext cx="3733920" cy="1752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4572000"/>
            <a:ext cx="3657600" cy="1752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RDANCI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uperficie de tiemp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DE   ERO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 AN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3:25:44Z</dcterms:created>
  <dc:creator>Universidad de Chile</dc:creator>
  <dc:description/>
  <dc:language>en-US</dc:language>
  <cp:lastModifiedBy>Departamento de Geología</cp:lastModifiedBy>
  <cp:lastPrinted>2001-08-28T23:16:25Z</cp:lastPrinted>
  <dcterms:modified xsi:type="dcterms:W3CDTF">2001-08-30T21:59:45Z</dcterms:modified>
  <cp:revision>17</cp:revision>
  <dc:subject/>
  <dc:title>DEFORMACIÓN DE LA CORTEZA Disciplina geológica: GEOLOGÍA ESTRUCTURAL</dc:title>
</cp:coreProperties>
</file>