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E54-4BA1-48C9-BA81-DFCA8F3C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F7C-1150-4F15-9290-3465530E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4CA-D8C4-4BE5-A859-7D90D359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0A1-7C82-4F00-A098-19C5C430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5D0-55D3-41AB-BB36-739F497A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53E-9359-4CF2-A507-0CE102A5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A69-ED94-42E5-BC36-95FE00A5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47A-EE24-474B-810E-FDA6AAED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F64-B1C5-4633-8309-02827C11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26E-B6AC-4FEB-9F3D-D16E572D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72C-1B28-4D9C-BEB5-FFA6F79F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FD6-28A7-48CA-8569-BC09DBBD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673E-DE8C-48D2-B09B-0DDBA489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STEMA DE AGUAS SUBTERRA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AGUA  SUBTERRANEA  ES UNA PARTE  INTEGRAL DEL SISTEMA HIDROLÓGICO,  Y ESTÁ ÍNTIMAMENTE  RELACIONADO  CON  EL DRENAJE  DEL  AGUA SUPERFICIAL.   ES  UN  FENÓMENO   COMÚ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MOVIMIENTO  DEL AGUA   SUBTERRANEA  ES  CONTRALADO AMPLIAMEMNTE   POR 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RO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S ROCAS A TRAVÉS DE LAS QUE FLU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O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ORCENTAJE  DE  HUECOS  DEL VOLUMEN  TOTAL   DE  LA ROCA     (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PACIOS ENTRE GRANOS,   FRACTURAS,    CAVIDADES POR DISOLUCIÓN,  VESÍCU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PACIDAD DE LA ROCA PARA TRANSMITIR UN  FLUIDO.   DEPENDERÁ  DE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VISCOSIDAD  DEL FL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SIÓN HIDROSTÁT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AMAÑO DE LOS HUEC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OR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TICULARMENTE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GRADO DE INTERCONECCIÓN DE LOS POR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lujo es lento: m/día  o  m/añ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CUÍFER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SON  ROCAS  PERMEABLES   SATURADAS  DE AGU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P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 AGUAS  SUPTERRANE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ES  LA  SUPERFICIE   SUPERIOR  DE  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SATURA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 ENCIMA DE   ELLA   ESTÁ   L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AIRE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AGUA  SUBTERRANEA   ESCURRE   POR  GRAVEDAD,   PROVOCADO   POR  LA DIFERENCIA  DE ALTURA TOPOGRÁFICA  DE  LA  NAPA.  SE MUEVE DE  ZONAS DE ALTA PRESIÓN A ZONAS DE BAJA 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NATURAL  DEL AGUA   SUBTERRANEA  OCURRE   DONDE   EL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INTERSECTA  LA SUPERFICIE DEL SUELO  (O  DE EROSIÓN).  SUCEDE EN LUGARES POCO SOBRESALIENTES,  GENERALMENTE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OYOS,  CIÉNAG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NTAN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Y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LAG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LO  HACEN EN  FUNCIÓN DE  LA LITOLOGÍA,  ESTRUCTURA Y TOPOGRAFÍA DEL TERRENO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ARTIFICIAL   ES  A TRAVÉS D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ZO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DE  SE GENERAN  LOS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OS DE DEPRE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10800000">
            <a:off x="380880" y="-720"/>
            <a:ext cx="87631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GUA ARTESIAN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ESTÁ CONFINADA  BAJO PRESIÓN,  COMO AGUA  EN  UNA  PIPA.   ELLA  ESCURRE   EN  UNA  CAPA  PERMEABLE,   LIMITADA  ENTRE   FORMACIONES  IMPERMEABLES.   DONDE ESTE ACUÍFERO INTERSECTA  UNA PARED  O  FRACTURA,   EL AGUA ASCIENDE  POR LA APERTURA Y  ORIGINA  UN  MANANTIAL  DE CORRIENTE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   ARTES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MOVIMIENTO  LENTO  DEL AGUA SUBTERRANEA  PUEDE  DISOLVER ENORMES  CANTIDADES DE  ROCAS SOLUBLES Y TRANSPORTARLAS   LEJOS EN SOLUCIÓNES.  EN ALGUNAS ÁREAS ES EL AGENTE DE EROSIÓN DOMINANTE, PRODUCIENDO  UN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OPOGRAFÍA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KARS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,   QUE  SE CARACTERIZA POR LA EXISTENCIA DE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AVERNAS,  HOY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ERRENOS  HUNDIDOS, DOLINAS,  VALLES  DE  DISOLU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ESAPARICIÓN  DE CORR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23688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PRECIPITACIÓN  DE  MINERALES  DEL   AGUA  SUBTERRANEA   CREA  DEPÓSITOS  DE VARIADAS  FORMAS EN  CAVERNAS,  TALES   COMO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TIT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Y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MITAS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 PRODUCTOS 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DE   TRAVERTI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LICIFICACIÓN   DE  TRON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PÓSITOS DE MINE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OS   OBVIO   SON   LOS DEPÓSITOS  EN   ROCAS   PERMEABLES,  COMO ARENISCAS   Y CONGLOMERADOS,    DONDE   EL   AGUA SUBTERRANEA COMÚNMENTE   DEPOSITA  MATERIAL COMO CEMENTO ENTRE LOS GR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LTERACIÓN   DEL  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ALTERACIÓN DEL AGUA SUBTERRANEA POR ACTIVIDAD HUMANA   PUEDE   PRODUCIR  VARIOS  PROBLEMAS  IMPREVISTOS,  TALES   COMO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LU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OMPOSICIÓN  QUÍMICA,   INVASIÓN   DE   AGUAS  SA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EL  LITORAL   ( HASTA EL  CONO DE DEPRESIÓN),   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BIOS  DEL NIV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BSIDENCIA,   COLAPSOS,   INTERUPCIÓN   DE   ECOSISTE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   TERMALES    Y   GEY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AREAS  CON ACTIVIDAD   IGNEA RECIENTE,  LAS ROCAS ASOCIADAS  CON VIEJAS  CÁMARAS MAGMÁTICAS  PUEDEN  MANTENER  ALTAS  TEMPERATURAS  REMANENTES  POR CIENTOS Y MILES DE AÑ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GUA SUBTERRANEA QUE FLUYE A TRAVÉS  DE  ESTA  ÁREAS  SE CALIENTA,  Y CUANDO   DESCARGA  EN  LA SUPERFICIE  PRODUC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TERMALES Y GEYSER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GEYSERS TIENE ERUPCIONES CÍCLICAS  Y SON UNA FUENTE  DE ENERGÍA  PARA  EL USO HUMANO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(ENERGÍA GEOTERM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22:06:05Z</dcterms:created>
  <dc:creator>Universidad de Chile</dc:creator>
  <dc:description/>
  <dc:language>en-US</dc:language>
  <cp:lastModifiedBy>Universidad de Chile</cp:lastModifiedBy>
  <dcterms:modified xsi:type="dcterms:W3CDTF">2001-10-09T01:40:34Z</dcterms:modified>
  <cp:revision>11</cp:revision>
  <dc:subject/>
  <dc:title>SISTEMA DE AGUAS SUBTERRANEAS</dc:title>
</cp:coreProperties>
</file>