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6CAE-51DB-48C1-ACBC-04ADDC9E9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A649-9044-43B7-AFF4-CB4D51DE4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BF5F-03EC-4321-BEE7-D90B5A05C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6A94-FFA3-4BC0-9B9E-6A388ECD5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DF20-FBA8-4FAE-BE6E-AE667A710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4517-EDE0-433C-A633-3167088CD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371D-5FCF-4D86-9D33-916B4DDD7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1600-19B3-4EC9-B04A-9E89F27DA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7505-3E0F-4E75-813D-5AA6ED5F3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49D9-284B-4F3E-B3CC-A5D2575E7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B44D-4D37-4E35-AAD1-B6B3D38C9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9D9E-1225-4B70-920F-EB27940E7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69DF4-70B8-4FEA-A778-3757485475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610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IEMPO GEOLÓG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EL TIEMPO GEOLÓGICO SE MIDE POR LOS CAMBIOS,   Y LOS CAMBIOS OCURREN A DIFERENTES ESCALAS DE TIEMPO Y ESPAC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DEBIDO QUE  LAS ROCAS  SON   ELLAS MISMAS   EL TESTIMONIO DE LOS CAMBIOS QUE OCURREN EN LA NATURALEZA,  SON ELLAS LAS QUE MARCAN EL PASO DEL TIEMPO GEOLÓGIC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NUESTRO PLANETA TIENE UN VASTO  ARCHIVO  NATURAL  QUE REVELAN   LOS   EPISODIOS  DE LOS   NUMEROSOS   CAMBIOS  HABIDOS  EN  EL PASA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LA INTERPRETACIÓN DE LAS ROCAS COMO PRODUCTO Y REGISTRO DE EVENTOS EN LA HISTORIA DE LA TIERRA, ESTÁ BASADA EN EL PRINCIPIO DEL UNIFORMITARIANISMO, QUE ESTABLECE QUE LAS LEYES  DE LA NATURALEZA  NO CAMBIAN CON EL TIEMP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456840"/>
            <a:ext cx="8686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LA RADIOACTIVIDAD  ES UNA REACCIÓN  NUCLEAR ESPONTÁNEA,  CARACTERIZADA POR  LA  EMISIÓN  DE UNA RADIACIÓN  QUE CAMBIA LOS NUCLEOS.  EL NÚMERO DE PROTONES Y NEUTRONES  EN  EL NUCLEO CAMBIA  Y EL   ÁTOMO SE TRANSFORMA EN UN   ELEMENTO  DIFERENTE,  QUE PUEDE SER  ES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LAS DATACIONES RADIOMÉTRICAS SE BASAN  EN  EL DECAIMIENTO RADIOACTIVO DE  UN   ELEMENTO ISÓTOPO INESTABLE  (UN  ELEMENTO PUEDE TENER MUCHOS  ISÓTOPOS  DIFERENTES,  CADA UNO CON DIFERENTE NÚMERO DE NEUTRONES  E  IGUAL NÚMERO DE PROTONES,  PERO  NO TODOS  SON RADIOACTIVO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nuclidio inestable                                    nuclidio estable</a:t>
            </a:r>
            <a:br>
              <a:rPr sz="2400"/>
            </a:br>
            <a:br>
              <a:rPr sz="2400"/>
            </a:b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padre radioactivo                                    hijo radiogénico</a:t>
            </a:r>
            <a:br>
              <a:rPr sz="2400"/>
            </a:b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i="1" lang="es-ES_tradnl" sz="2000" spc="-1" strike="noStrike">
                <a:solidFill>
                  <a:srgbClr val="ffffff"/>
                </a:solidFill>
                <a:latin typeface="Times New Roman"/>
              </a:rPr>
              <a:t>ISÓTOPO PADRE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</a:t>
            </a:r>
            <a:r>
              <a:rPr b="1" i="1" lang="es-ES_tradnl" sz="2000" spc="-1" strike="noStrike">
                <a:solidFill>
                  <a:srgbClr val="ffffff"/>
                </a:solidFill>
                <a:latin typeface="Times New Roman"/>
              </a:rPr>
              <a:t>ISÓTOPO HIJ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920" y="151920"/>
            <a:ext cx="8610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A TRANSFORMACIÓN DE UN  NUCLIDIO EN OTRO SE HACE POR CASUALIDAD; NO SE PUEDE  PREDECIR EL MOMENTO EN QUE ESTO SUCEDERÁ. EN ALGÚN MOMENTO LAS FUERZAS DE LIGAZÓN Y REPULSIÓN  NUCLEARES  NO ESTÁN  EN EQUILIBRIO,  SALE   UNA PARTÍCULA Y  DA ORIGEN A  UN  NUCLEO  ES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L ÁTOMO QUE SE DESINTEGRA ES EL PADRE RADIOACTIVO  (“ISÓTOPO PADRE”),  Y EL PRODUCTO QUE RESULTA ES EL HIJO RADIOGÉNICO (“ISÓTOPO HIJO”)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5181480"/>
            <a:ext cx="2286000" cy="0"/>
          </a:xfrm>
          <a:prstGeom prst="line">
            <a:avLst/>
          </a:prstGeom>
          <a:ln w="572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581280" y="5943600"/>
            <a:ext cx="2133720" cy="0"/>
          </a:xfrm>
          <a:prstGeom prst="line">
            <a:avLst/>
          </a:prstGeom>
          <a:ln w="572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828800" y="5410080"/>
            <a:ext cx="0" cy="381240"/>
          </a:xfrm>
          <a:prstGeom prst="line">
            <a:avLst/>
          </a:prstGeom>
          <a:ln w="572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086600" y="5334120"/>
            <a:ext cx="0" cy="380880"/>
          </a:xfrm>
          <a:prstGeom prst="line">
            <a:avLst/>
          </a:prstGeom>
          <a:ln w="572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ADA ISÓTOPO RADIOACTIVO SE DESINTEGRA  A UNA VELOCIDAD DETERMINADA,  QUE SE CONOCE COMO “</a:t>
            </a: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CONSTANTE DE DESINTEGRACIÓN”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noción de desintegración:  duración de vida de un radio elemento).   ESTA </a:t>
            </a: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 CONSTANTE DE DESINTEGRACIÓN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NO ES AFECTADA POR NINGÚN  PROCESO FÍSICO  NI  QUÍMICO  CONOCIDO (se ha intentado modificarlo, pero sin éxit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L TIEMPO NECESARIO PARA LA DESINTEGRACIÓN  DE LA MITAD DE LOS ÁTOMOS  PADRES  SE CONOCE COMO “</a:t>
            </a: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PERÍODO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”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DEL  RADIO  ELEMENTO  O  </a:t>
            </a: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“VIDA-MEDIA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N  UNA  </a:t>
            </a: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VIDA -MEDI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LA MITAD  DE LOS ÁTOMOS ORIGINALES DECAE; EN UNA SEGUNDA </a:t>
            </a: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VIDA MEDIA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,  LA    MITAD  DE  LOS  ÁTOMOS   REMANENTES  DECAE  (UN CUARTO DE LOS ÁTOMOS ORIGINALES);  EN   UNA TERCERA </a:t>
            </a: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VIDA MEDIA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,  LA MITAD  DEL CUARTO REMANENTE  DECAE,  Y ASÍ   SUCESIVAMENTE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3428640"/>
            <a:ext cx="9144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EL TIEMPO DE FORMACIÓN DE UN CRISTAL,  QUE CONTIENE UN ELEMENTO RADIOACTIVO, SE  PUEDE CALCULAR A PARTIR DE LA VELOCIDAD  CON QUE EL ELEMENTO  PARTICULAR  DECAE.  EN UNA REACCIÓN DE DECAIMIENTO SIMPLE,  LA CANTIDAD DE  </a:t>
            </a:r>
            <a:r>
              <a:rPr b="0" i="1" lang="es-ES_tradnl" sz="2000" spc="-1" strike="noStrike" u="sng">
                <a:solidFill>
                  <a:srgbClr val="ffffff"/>
                </a:solidFill>
                <a:uFillTx/>
                <a:latin typeface="Times New Roman"/>
              </a:rPr>
              <a:t>ISÓTOPO PADRE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SE PUEDE COMPARAR CON LA CANTIDAD DE </a:t>
            </a:r>
            <a:r>
              <a:rPr b="0" i="1" lang="es-ES_tradnl" sz="2000" spc="-1" strike="noStrike" u="sng">
                <a:solidFill>
                  <a:srgbClr val="ffffff"/>
                </a:solidFill>
                <a:uFillTx/>
                <a:latin typeface="Times New Roman"/>
              </a:rPr>
              <a:t>ISÓTOPO HIJO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MUCHOS ISÓTOPOS DECAEN RÁPIDAMENTE,  PERDIENDO SU RADIOACTIVIDAD EN SÓLO   ALGUNOS  DÍAS  O  AÑOS,    PERO OTROS    DECAEN   MUY  LENTAMENTE  Y PUEDEN SER USADOS COMO  RELOJES  ATÓM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3657600"/>
            <a:ext cx="8610480" cy="283824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ISÓTOPOS    RADIOACTIVOS    COMÚNMENTE    USADOS    EN    DATACIONES      ABSOLUTAS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Uranio-328                                  Plomo-206                                  4.5 billones </a:t>
            </a:r>
            <a:br>
              <a:rPr sz="2000"/>
            </a:b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Uranio-235                                  Plomo-207                                 704 millones</a:t>
            </a:r>
            <a:br>
              <a:rPr sz="2000"/>
            </a:b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Thorio-232                                  Plomo-208                                14.0 billones </a:t>
            </a:r>
            <a:br>
              <a:rPr sz="2000"/>
            </a:b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Rubidio-87                                  Stroncio-87                              48.8  billones</a:t>
            </a:r>
            <a:br>
              <a:rPr sz="2000"/>
            </a:b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Potacio-40                                   Argón_40                                 1.25 billones  </a:t>
            </a:r>
            <a:br>
              <a:rPr sz="2000"/>
            </a:b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Carbono-14                                 Hidrógeno-14                            5,730     años</a:t>
            </a:r>
            <a:br>
              <a:rPr sz="2000"/>
            </a:b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Hidrógeno-3                                Helio-3                                         12.3    añ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 R E M I S A 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CONOCER CON  PRECISIÓN  LA CONSTANTE  DE  DESINTEG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CONOCER CON   PRECISIÓN   LA CANTIDAD   DE ISÓTOPOS    PADRES  E   ISÓTOPOS   HIJ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LA   ROCA  DEBE TENER  UN    SISTEMA  GEOQUÍMICO CERRADO   (sin pérdida ni ganancia de   isótop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NO  CONTENER  ISÓTOPOS   HIJOS   EN  EL MOMENTO  QUE  LA ROCA   SE FO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TIEMPO DE FORMACIÓN   CORTO   RESPECTO  A  LA EDAD   DE  LA  RO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MÉTODO   DE   ACUMULACIÓN                                             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uanto mayor es el número de Isótopos Hijo, mayor es la edad de la roca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181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MÉTODO  Rb / St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(Período largo: 48.8  billons.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Rb 87 (inestable)                                           St 87 (estab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40 Ma              70 Ma                                                  4.500 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MÉTODO   K 40 /Ar 4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15.000              50.000                                                             4.500 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MÉTODO  U 238 / PB 2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0.5                   1 Ma                                                        4.500 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57200" y="2362320"/>
            <a:ext cx="838080" cy="0"/>
          </a:xfrm>
          <a:prstGeom prst="line">
            <a:avLst/>
          </a:prstGeom>
          <a:ln cap="rnd" w="9360">
            <a:solidFill>
              <a:srgbClr val="00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133720" y="2438280"/>
            <a:ext cx="914400" cy="0"/>
          </a:xfrm>
          <a:prstGeom prst="line">
            <a:avLst/>
          </a:prstGeom>
          <a:ln w="38160">
            <a:solidFill>
              <a:srgbClr val="00cc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62520" y="2590920"/>
            <a:ext cx="4267080" cy="0"/>
          </a:xfrm>
          <a:prstGeom prst="line">
            <a:avLst/>
          </a:prstGeom>
          <a:ln w="57240">
            <a:solidFill>
              <a:srgbClr val="00cc99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3886200"/>
            <a:ext cx="380880" cy="0"/>
          </a:xfrm>
          <a:prstGeom prst="line">
            <a:avLst/>
          </a:prstGeom>
          <a:ln cap="rnd" w="9360">
            <a:solidFill>
              <a:srgbClr val="00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295280" y="3886200"/>
            <a:ext cx="914400" cy="0"/>
          </a:xfrm>
          <a:prstGeom prst="line">
            <a:avLst/>
          </a:prstGeom>
          <a:ln w="5724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124080" y="4038480"/>
            <a:ext cx="5029200" cy="0"/>
          </a:xfrm>
          <a:prstGeom prst="line">
            <a:avLst/>
          </a:prstGeom>
          <a:ln w="572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85800" y="5410080"/>
            <a:ext cx="304920" cy="0"/>
          </a:xfrm>
          <a:prstGeom prst="line">
            <a:avLst/>
          </a:prstGeom>
          <a:ln cap="rnd" w="9360">
            <a:solidFill>
              <a:srgbClr val="00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676520" y="5410080"/>
            <a:ext cx="1218960" cy="0"/>
          </a:xfrm>
          <a:prstGeom prst="line">
            <a:avLst/>
          </a:prstGeom>
          <a:ln w="5724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276720" y="5791320"/>
            <a:ext cx="5105160" cy="0"/>
          </a:xfrm>
          <a:prstGeom prst="line">
            <a:avLst/>
          </a:prstGeom>
          <a:ln w="572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MÉTODO   DE   DECAIMIENTO</a:t>
            </a:r>
            <a:br>
              <a:rPr sz="2000"/>
            </a:b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La cantidad de isótopos es constante durante la vigencia del sistema.                     Se rompe el equilibrio y disminuye la cantidad de isótopo con el tiempo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 u="sng">
                <a:solidFill>
                  <a:srgbClr val="ffffff"/>
                </a:solidFill>
                <a:uFillTx/>
                <a:latin typeface="Times New Roman"/>
              </a:rPr>
              <a:t>MÉTODO  C 14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    (continuamente   producido  en  la   estratósfer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RAYOS CÓSMICOS  COLISIONAN CON ÁTOMOS  EN  LA  ATMÓSFERA                              (se producen neutró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NEUTRONES COLISIONAN CON ÁTOMOS DE  N 14                                                 (se producen  átomo de  C 14  +  1 protó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 14  ES  RADIOACTIVO Y  SE  DESINTEGRA     (vuelve a generar  N 14  +  1electró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 14 REACCIONA CON OXÍGENO Y SE INTEGRA AL CICLO DEL C O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(DIÓXIDO DE CARBONO ES ABSORVIDO POR LAS PLANTAS  (fotosíntesis) O DISUELTO EN AGUA )  Carbón Ordinario  =  C O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 14 está comprometido con moléculas de gas carbónico  (C O 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MIENTRAS EL ANIMAL O PLANTA ESTÁN VIVOS, LA PROPORCIÓN DE  C 14 ES CONSTANTE  (generación y desintegración). CUANDO LA PLANTA O ANIMAL MUERE, SE ROMPE EL EQUILIBRIO Y EL C 14    NO   ES RENOVADO Y GRADUALMENTE  DECAE   a  N 14  (+ o - por  30.000 años)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-360"/>
            <a:ext cx="91440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EL ENORME  ABISMO DEL TIEMPO GEOLÓGICO FUE DECUBIERTO  EN  EDINBURGO, EN LOS AÑOS 1770,  POR </a:t>
            </a:r>
            <a:r>
              <a:rPr b="1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JAMES HUTTON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, CAMBIANDO EL PENSAMIENTO CONVENCIONAL QUE EXISTÍA EN  ESOS DÍAS, CUANDO SE ACEPTABA QUE LA TIERRA TENÍA LA EDAD   DE 6000 AÑOS,  ESTABLECIDA  POR EL   </a:t>
            </a:r>
            <a:r>
              <a:rPr b="1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ARZOBISPO  DE USHER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  (1581-1656)  A PARTIR  DE LA RECAPITULACIÓN  DE  LA CRONOLOGÍA BÍBLICA  (22 de octubre del 4004 A.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HUTTON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OBSERVÓ, A LO LARGO DE LA COSTA DE ESCOCIA,  QUE CADA FORMACIÓN   ROCOSA,   SIN IMPORTAR SU EDAD,  ERA EL PRODUCTO DE LA EROSIÓN DE OTRAS ROCAS MAS ANTIGU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SU DESCUBRIMIENTO MOSTRÓ QUE LAS RAICES  DEL TIEMPO ERAN  MUCHO MAS  PROFUNDAS  QUE  LO QUE   CUALQUIER OTRO HABÍA  SUPUES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DISCORDANC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5331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EL TIEMPO GEOLÓGICO ES CONTINUO, ESTO ES, NO TIENE INTERRUP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SIN EMBARGO, EN CADA SECUENCIA DE ROCAS O REGISTRO SE OBSERVAN   DISCONTINUIDADES MAYORES (“unconformities” o discordancias), QUE REVELAN INTERRUPCIONES  SIGNIFICATIVAS  DE  LOS  PROCESOS FORMADORES DE ROCA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ALGUNAS DE ESTAS INTERRUPCIONES  MAYORES,  O QUIEBRES EN LA CONTINUIDAD DE LA COLUMNA ESTRATIGRÁFICA,  SEPARAN FORMACIONES DE ROCAS DE EDADES MUY DISTINTAS,  ADEMÁS DE SER  LITOLÓGICA Y ESTRUCTURALMENTE  MUY DIFERE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ENTRE AMBAS FORMACIONES EXISTE UNA RELACIÓN DE CONTACTO DISCORDANTE, QUE SE CONOCE CON EL NOMBRE DE </a:t>
            </a:r>
            <a:r>
              <a:rPr b="1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DISCORDANCIA ANGULAR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-360"/>
            <a:ext cx="91440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LA EXISTENCIA DE UNA </a:t>
            </a:r>
            <a:r>
              <a:rPr b="1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DISCORDANCIA ANGU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IMPLICA  ACEPTAR   LOS   EVENTOS   GEOLÓG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SIGUIEN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a) formación de rocas ( estratificad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b) plegamiento, metamorfismo o intru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c) solevantamiento y erosión, que remueve la cobertura,  hasta exponer en la superficie la roca plegada, metamórfica o intrusiv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d) subsidencia (hundimiento) y  depositación de rocas sedimentarias (mas jóvenes) sobre la superficie eroda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e) plegamiento, nuevo solevantamiento y eros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OTRO TIPO DE DISCONTINUIDAD ES  LA  </a:t>
            </a:r>
            <a:r>
              <a:rPr b="1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DISCORDA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DE  EROSIÓN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(o “disconformity”),  DONDE NO HA HAB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PLEGAMIENTO PREVIO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y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LA SUPERFICIE DE  ERO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ES  PARA LELA  A  LOS ESTRATO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DE AMBAS UN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DADES RELATIV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E DETERMINAN  POR EL ORDEN CRONOLÓGICO DE LAS SECUENCIAS O DE LOS EVENTOS.   Los principios mas importantes que se aplican para determinar edades relativas son principios de marcada simplicidad y univers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) principio de SUPERPOSI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) principio de la SUCESIÓN FAUNÍS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) principio de CORTE o de CONTACTO entre dos cuerpos de ro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) principio de las INCLUS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) principio de la SUCESIÓN  DE DESARROLLO  DEL  PAISA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A EDAD RELATIVA IMPLICA QUE NO SE DEDUCEN VALORES  CUANTITATIVOS  O  ABSOLUTOS DE TIEMPO. SÓLO SE DEDUCE QUE UN EVENTO OCURRIÓ MAS TEMPRANO O MAS TARDE QUE OTR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8915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LA COLUMNA GEOLÓGICA  STAND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240" y="914400"/>
            <a:ext cx="89154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USANDO LOS PRINCIPIOS DE EDADES RELATIVAS, SE HAN  DETERMINADO  SECUENCIAS  CRONOLÓGICAS DE ROCAS DE DIFERENTES REGIONES DEL MUN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UEGO,  LAS SECUENCIAS DE LAS DIFERENTES PARTES DEL GLOBO SE   HAN  CORRELACIONADO  ENTRE  ELLAS,  BÁSICAMENTE  BASADO EN EL PRINCIPIO DEL CONTENIDO FAUNÍSTICO,  HASTA ESTABLECER   UNA </a:t>
            </a: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ESCALA GEOLÓGICA STANDAR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,  QUE SIRVE  COMO CALENDARIO PARA LA HISTORIA DE LA TIER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icialmente se reconocieron las columnas en Europa, donde están bien expuestas,  y después se han correlacionado con otras de  todo el mun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LAS UNIDADES DE ROCAS SE DISTINGUEN    UNA  DE OTRAS  POR CAMBIOS  MAYORES  EN  EL TIPO DE ROCA, DISCORDANCIAS, O ABRUPTOS CAMBIOS VERTICALES EN  EL CONTENIDO FAUNÍSTICO QUE   CONTIEN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LA SUBDIVISIÓN ORIGINAL DE LA COLUMNA  ESTÁ  BASADA   EN LA SECUENCIA DE LAS  FORMACIONES ROCOSAS  EN  EL ORDEN DE SUPERPOSICIÓN EN QUE FUERON  ENCONTRADAS EN  EUROP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EN  LA ESCALA RELATIVA DEL TIEMPO GEOLÓGICO,  EL TIEMPO TRANSCURRIDO SE HA FRACCIONADO EN INTERVALOS CADA VEZ MENORES.  LOS  INTERVALOS  MAYORES SE LES DENOMINA </a:t>
            </a:r>
            <a:r>
              <a:rPr b="1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EONES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 (Criptozoico y Fanerozoico); SUBDIVISIONES PROGRESIVANEBTRE MENORES SON LAS </a:t>
            </a:r>
            <a:r>
              <a:rPr b="1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ERAS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 (ej. Paleozoico, Mesozoico., Cenozoico), LOS </a:t>
            </a:r>
            <a:r>
              <a:rPr b="1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PERÍODOS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  (ej. Triásico, Jurásico, Cretácico),  Y LAS </a:t>
            </a:r>
            <a:r>
              <a:rPr b="1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EPOCAS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IEMPO ABSOLU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86868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EL TIEMPO ABSOLUTO DESIGNA UNA DURACIÓN ESPECÍFICA DE TIEMPO EN  UNIDADES DE HORAS, DÍAS O AÑOS.  EN GEOLOGÍA,  LARGOS  PERÍODOS  DE TIEMPO ABSOLUTO PUEDEN SER MEDIDOS POR LAS </a:t>
            </a:r>
            <a:r>
              <a:rPr b="1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DATACIONES RADIOMÉTRICAS.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LAS </a:t>
            </a:r>
            <a:r>
              <a:rPr b="1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DATACIONES RADIOMÉTRICAS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   PROVEEN  UN MÉTODO PARA MEDIDAS DIRECTAS DE TIEMPO GEOLÓGICO,  EN TÉRMINOS DE NÚMEROS ESPECÍFICOS DE AÑOS  (datación absolut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LAS DATACIONES ABSOLUTAS  HAN SIDO USADAS EXTENSIVAMENTE DURANTE LOS ÚLTIMOS  50 AÑOS,  PARA PROVEER UNA ESCALA DE TIEMPO ABSOLUTO PARA LOS EVENTOS DE LA HISTORIA DE LA TIER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LAS DATACIONES RADIOMÉTRICAS  SE   BASAN  EN EL PROCESO DE DESINTEGRACIÓN  RADIOACTIVA  QUE CARACTERIZA   A  ALGUNOS </a:t>
            </a:r>
            <a:r>
              <a:rPr b="1" i="1" lang="es-ES_tradnl" sz="2000" spc="-1" strike="noStrike">
                <a:solidFill>
                  <a:srgbClr val="ffffff"/>
                </a:solidFill>
                <a:latin typeface="Times New Roman"/>
              </a:rPr>
              <a:t>ELEMENTOS ISÓTOPOS,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QUE SON  INESTABLES.     LOS ELEMENTOS  ISÓTOPOS  SON  ELEMENTOS  CON IGUALES  PROPIEDADES  FÍSICAS Y QUÍMICAS,  PERO CON DIFERENTE MASA ATÓMIC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LAS PROPIEDADES DE UN DETERMINADO  ELEMENTO ESTÁN  DELIMITADAS   POR  EL NÚMERO DE</a:t>
            </a:r>
            <a:r>
              <a:rPr b="1" i="1" lang="es-ES_tradnl" sz="2000" spc="-1" strike="noStrike">
                <a:solidFill>
                  <a:srgbClr val="ffffff"/>
                </a:solidFill>
                <a:latin typeface="Times New Roman"/>
              </a:rPr>
              <a:t> PROTONES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EN EL NÚCLEO DE CADA ÁTOMO,  LO  QUE   DISTINGUE   A   ESE  ELEMENTO.   PERO,   NO OBSTANTE QUE  EL NÚMERO DE PROTONES EN CADA ÁTOMO ES CONSTANTE,  EL NÚMERO DE  </a:t>
            </a:r>
            <a:r>
              <a:rPr b="1" i="1" lang="es-ES_tradnl" sz="2000" spc="-1" strike="noStrike">
                <a:solidFill>
                  <a:srgbClr val="ffffff"/>
                </a:solidFill>
                <a:latin typeface="Times New Roman"/>
              </a:rPr>
              <a:t>NEUTRONES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PUEDE VARIAR,  LO QUE SIGNIFICA QUE EL  ÁTOMO  DE UN DETERMINADO  ELEMENTO PUEDE NO SER EXACTAMENTE IGUAL;     POSEE  LAS PROPIEDADES  DEL ELEMENTO   PERO TIENE  UNA  MASA  ATÓMICA    DIFER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ALGUNOS  ELEMENTOS  ISÓTOPOS  SON  INESTABLES;                         SON  RADIOACTIVOS  NATURALES,  PRODUCIENDO  UN CAMBIO EN EL NÚMERO DE PROTONES,   DE MODO QUE EL ÁTOMO SE   TRANSFORMA EN  UN ELEMENTO DIFERENTE,  CON PROPIEDADES  FÍSICAS Y QUÍMICAS  DISTINTIVA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8T17:21:33Z</dcterms:created>
  <dc:creator>Universidad de Chile</dc:creator>
  <dc:description/>
  <dc:language>en-US</dc:language>
  <cp:lastModifiedBy>postgrado</cp:lastModifiedBy>
  <cp:lastPrinted>2001-04-20T23:52:40Z</cp:lastPrinted>
  <dcterms:modified xsi:type="dcterms:W3CDTF">2001-09-06T17:14:49Z</dcterms:modified>
  <cp:revision>32</cp:revision>
  <dc:subject/>
  <dc:title>TIEMPO GEOLÓGICO</dc:title>
</cp:coreProperties>
</file>