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898-EF70-4604-9B4D-356B16C5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566-ED37-46AE-BD81-F9A40240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372-A388-42C1-9261-73646EDC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31E-A672-43D6-A0EC-865DB671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F2C-2B7F-4612-9CB9-23D18749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78C-392C-4F8E-9D55-9E4B4D8F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C89-87FD-4992-8ACB-7DAFD1E4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BF9-BACF-47EB-9BB3-AF2AF451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72B-237F-4C83-BC64-968AC13D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967-BF86-4491-88A5-0AEC9377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893-DB0B-4213-AC3A-BED67798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AAF-BAEB-4CA7-BD12-535EA98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A8BC-697D-4C3C-9A5F-E909B4184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CURSO GEOLOGÍA GENERAL</a:t>
            </a: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                                     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PROGRAMA</a:t>
            </a:r>
            <a:r>
              <a:rPr b="0" lang="es-ES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Primera Parte:</a:t>
            </a: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INTRODUCCIÓN A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Geología como disciplina científica.  El Sistema Tier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Método Científico. Escala de observación geológica. El factor tiempo en los procesos geológicos.  Principio del Uniformitari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tructura Interna de  la Tierra:  Núcleo, Manto Astenósfera, Litósfera, Cortez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Capas Externas envolventes: Atmósfera, Biósfera, Hiodrósf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Rasgos mayores de los Continentes y Océ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geológicos de la Tierra. Materia y Energía. Noción de equilibrio en los procesos ge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Dinámicos de la Tierra: Sistema Hidrológico,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 Tectónico, Gravedad e Isost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nda Part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MATERIALES,  ESTRUCTURAS  Y TIEMPO GEOLÓGI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Los materiales de la corteza. Minerales y Rocas. Rocas Igneas,   Rocas Sedimentarias y  Rocas Metamór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ructuras y formas de los materiales. Registros de  la deformación de los materiales.  Fracturas: diaclasas y fallas. Pliegues. Discord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l Tiempo Geológico: Edad absoluta y edad relativa de las rocas.  Geocronología.  Criterios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ara establecer  el orden cronológico de los procesos y eventos geológicos. Escala Geológica del Tiempo</a:t>
            </a: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rcera Parte: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 LOS PROCESOS EXÓGENOS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(geodinámica externa de la Ti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67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Atmósfera – Océano. Ciclo Hidr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Meteorización ( Intemperización) de los mate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Remociones en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fluvial. Transporte de los materiales hacia el océ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Aguas Subterrá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Glaciar. El trabajo del H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Costas. Evolución del litoral cos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Eólico. Evolución de los Desiertos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uarta Parte: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OS PROCESOS ENDÓGENOS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(geodinámica  interna de la Tierr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micidad.  Interior de la Tier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aleomagnetism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Volcanismo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ctónica de Placas. Teoría Unificadora de la evolución del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Di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Transcur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Con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untos Calientes (Hots Pots) y Plumas manté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iclo de vida de los Océ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Quinta Parte: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VOLUCIÓN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ctónica y evolución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ntes de Recursos Minerale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56:51Z</dcterms:created>
  <dc:creator>Universidad de Chile</dc:creator>
  <dc:description/>
  <dc:language>en-US</dc:language>
  <cp:lastModifiedBy>Universidad de Chile</cp:lastModifiedBy>
  <dcterms:modified xsi:type="dcterms:W3CDTF">2001-04-11T22:02:47Z</dcterms:modified>
  <cp:revision>5</cp:revision>
  <dc:subject/>
  <dc:title>CURSO GEOLOGÍA GENERAL                                          PROGRAMA </dc:title>
</cp:coreProperties>
</file>