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2B9-2DBE-430B-85FA-3710735A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9CD-5853-4D8F-8A2F-334FBB5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F43-49B4-4911-97F9-C43888F6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D33-34BB-48A3-85D7-4D1C7B71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82B38-EB78-4BB6-95E7-BAF0A356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1C4B0-484A-43A1-AFDC-D8ACD25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B849-8780-407B-8F14-16E530C4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4F3F-4CDC-4B0A-B07D-4844F6DC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82BF-DA62-4A3D-A5AC-8632995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991B5-6012-4155-8832-A255B619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F191C-807F-4ADC-BE0E-D0D9419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FBB-AB81-44B4-B96D-CC4F1BA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CCE11-517D-491C-8D0D-C5A3E08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328D-5CB4-403F-A34F-48CD714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5D73-3E62-4E6D-9BCF-0D2F29C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C0640-858E-4C88-BDFE-F22E4E7E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103C0-40C0-49BB-A152-486A710F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735-2820-4C44-B64A-FB71DF7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54A-5629-419A-A810-DBEE644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B83-08F3-45D0-B100-C766D3E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854-707D-4925-B36C-E53910B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795-77D0-4654-B043-3008461C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B8B-4124-4841-91A6-4C6B2BF0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F79-0488-44BE-A22B-7247DA8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804D-48BA-43CF-807B-5934368CA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9AA-9D89-4681-AF98-AF16E04E2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JGR-108-S-GAPS.pdf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628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GAPS SISMICOS Y TERREMO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Yufang Rong, David Jackson y Yang Ka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808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JOURNAL OF GEOPHYSICAL RESEARCH, VOL. 108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9400" y="3922560"/>
            <a:ext cx="21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ECILIA ZEL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OCTUBR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380880"/>
            <a:ext cx="56390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1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IPOTESIS NULA DE 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7940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mpararon la nueva hipótesis de Gap sísmico con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nsideró la hipótesis nula: que los terremotos resultan de un proceso de Poisson con una tasa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 en cualquier zona, entonces la probabilidad de que ocurra al menos un terremoto que califique,  aleatoriamente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p</a:t>
            </a:r>
            <a:r>
              <a:rPr b="1" i="1" lang="es-ES_tradnl" sz="2000" spc="-1" strike="noStrike" baseline="-25000">
                <a:solidFill>
                  <a:srgbClr val="66ffcc"/>
                </a:solidFill>
                <a:latin typeface="Tahoma"/>
              </a:rPr>
              <a:t>0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 = 1 – exp(- 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valores de r son calculados desde la sismicidad pas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utilizaron los catálogos CMT y PDE (1977 a 198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Terremotos más grandes o iguales a la magnitud característica M</a:t>
            </a:r>
            <a:r>
              <a:rPr b="1" lang="es-ES_tradnl" sz="1800" spc="-1" strike="noStrike" baseline="-25000">
                <a:solidFill>
                  <a:srgbClr val="66ffcc"/>
                </a:solidFill>
                <a:latin typeface="Tahoma"/>
              </a:rPr>
              <a:t>c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califican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Tabla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381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emplearon tres pruebas estadísticas para evaluar la nueva hipótesis de Gap sísmico y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En cada caso se definió un estadístico, se simularon 10</a:t>
            </a:r>
            <a:r>
              <a:rPr b="1" lang="es-ES_tradnl" sz="1800" spc="-1" strike="noStrike" baseline="30000">
                <a:solidFill>
                  <a:srgbClr val="66ffcc"/>
                </a:solidFill>
                <a:latin typeface="Tahoma"/>
              </a:rPr>
              <a:t>5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registros sintéticos para las dos hipótesis, se calculó el estadístico definido para los registros observados y simulados y se compararon los va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838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N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Nº total de zonas llena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igura 1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muestra la distribución acumulativa de los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valores para la nueva hipótesis de Gap sísmico (HNGS) y para la hipótesis nula (HN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rechaza la HNGS con un 95% de confianza para la M</a:t>
            </a:r>
            <a:r>
              <a:rPr b="1" lang="es-ES_tradnl" sz="1800" spc="-1" strike="noStrike" baseline="-25000">
                <a:solidFill>
                  <a:srgbClr val="ffff66"/>
                </a:solidFill>
                <a:latin typeface="Tahoma"/>
              </a:rPr>
              <a:t>c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y HNP p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P sobreestima el número de terremotos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Figura 2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: 17.2 terremotos (Nishenko) vs 3.3 terremotos para el modelo HN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Prueba L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Basada en el logaritmo de la probabilidad de un set particular de zonas que son llen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01840" y="2719440"/>
                <a:ext cx="316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8600" y="4114800"/>
            <a:ext cx="86104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=  número total de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probabilidad pronosticada por el modelo de gap o de Poisson para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es 1 si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 es llenada por un terremoto que califica en el catalogo y es 0 en otro ca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08640"/>
            <a:ext cx="794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S y la HNP pasan la “prueba L” para la magnitud característic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Figura 3 y Tabla 5)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R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test de razón de probabilidad contra un hipótesis nula raso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2666880"/>
                <a:ext cx="4952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4419720"/>
            <a:ext cx="79408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PDE la probabilidad de rechazar falsamente la hipótesis nula es del 80%, pero la probabilidad de rechazar falsamente la hipótesis de gap es menor a 1%. Entonces con un 95% de confiabilidad la HGS debe ser rechazada y no la HNP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CMT las probabilidades son 97.5% y 2.5%, respectivamente. Se debe rechazar HGS y no HNP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(Figura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260280"/>
            <a:ext cx="331308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DIS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3818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A pesar de que existen pequeños problemas asociados a la precisión de la magnitud y localización de los terremotos utilizados, los resultados indican que para magnitudes umbrales de 7 y 7.5 la hipótesis de gap sísmico no es vá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resultados obtenidos con mayor cantidad de datos (10 y 20 años), son similares a los obtenidos con menos datos (5 y 10 años) por los autores (1991 y 199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predice muchos más terremotosde los que ocurren y las simulaciones de este trabajo muestran que esta discrepancia no puede ser explicada por variaciones ale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Dificultades para estimar el tiempo de recurr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Acumulación no uniforme de de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Cantidad de desplazamientos asis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iberación de energía por frecuentes sismos peque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agrupamiento de terremotos explica de mejor forma la sismicidad de la cuenca del Pacífico que Poisson o la hipótesis de gap sísmico. (Kagan and Jackson 1999 y 20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1280" y="549360"/>
            <a:ext cx="41277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0028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ipótesis de Gap sísmico no predice bien los grandes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de que las zonas rojas del modelo MNSK son significativamente más propensas a tener fuertes terremotos que las verdes y naranjas puede ser rechazada con un alto nivel de confiabilidad. Por el contrario éstas zonas tienen tasas más bajas de terremotos que las otras 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sísmico de Nishenko (1991) predice lejos más terremotos de los que ocur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nula de Poisson pasa la mayoría de las pruebas y desajusta la nueva hipótesis de  gap sísm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1932120"/>
            <a:ext cx="79405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hipótesis de Gap Sísmico implica que el riesgo de terremoto es pequeño inmediatamente después de un gran terremoto y se incrementa con el tiempo en ciertos bordes de placa y fa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Reid (1910) sugirió que el tiempo entre grandes terremotos se podía predecir a través de medidas geodésicas del desplazamiento cosísmico durante los eventos previos y la tasa de acumulación de strain .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Ocurrencia quasiperio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idea de Gap sísmico ha sido aplicada para predicciones de terremotos a largo plazo en muchas reg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cCann (1979) y Nishenko (1989 y 1991) hicieron predicciones a largo plazo para la mayor parte del anillo del Pací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9480" y="1932120"/>
            <a:ext cx="794052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diferencia entre McCann y Nishenko es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potencial de un terremoto en un rango de categorías, basado en el tiempo transcurrido desde el último gran evento (MNSK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emás estima la probabilidad de un terremoto característico basado en el tiempo de recurrencia medio y el lapso de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Kagan y Jackson (1991 y 1995) probaron y rechazaron los modelos MNSK y de Nishenko, con 10 y 5 años de dato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07680" y="404640"/>
            <a:ext cx="25794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989000"/>
            <a:ext cx="7580160" cy="1008720"/>
          </a:xfrm>
          <a:prstGeom prst="rect">
            <a:avLst/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ahoma"/>
              </a:rPr>
              <a:t>PROBAR LOS MODELOS MNSK (1979) Y DE NISHENKO (1991) BASANDOSE EN 20 Y 10 AÑOS DE DATOS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el presente trabajo son similares con los encontrados por lo autores anteriormente en que los modelos de gaps sísmicos son inconsistentes con los dato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is categorías para el potencial sísmico.  Este rango va de mayor a menor: </a:t>
            </a:r>
            <a:r>
              <a:rPr b="1" lang="es-ES" sz="1800" spc="-1" strike="noStrike" u="sng">
                <a:solidFill>
                  <a:srgbClr val="66ffcc"/>
                </a:solidFill>
                <a:uFillTx/>
                <a:latin typeface="Tahoma"/>
              </a:rPr>
              <a:t>rojo (R), naranja (O), verde (G),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amarillo (Y), hatched (H) y púrpura (P – no tienen registro histórico de grandes terremot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MNSK, asociando los terremotos con zon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Terremotos Ms ≥ 7.0 desde el catalogo PDE (NEIC) 1978 a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19280" y="3538440"/>
            <a:ext cx="5724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34136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Zonas rojas deberían tener más actividad sísmica y las verdes men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99520" y="2205000"/>
            <a:ext cx="4167360" cy="405720"/>
          </a:xfrm>
          <a:prstGeom prst="rect">
            <a:avLst/>
          </a:prstGeom>
          <a:noFill/>
          <a:ln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7940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tabl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muestran que las zonas rojas exhiben menos sismicidad que las otras dos zonas. Estas diferencias se prueban estadístic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7940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 compararon el número de  zonas llenas de terremotos (distribución binomial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Zonas:  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 y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Verde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: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hipótesis de gap 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645000"/>
            <a:ext cx="79405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Desde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se obtuvieron los siguientes valores de 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para terremotos de magnitud 7.0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24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53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ara terremotos de magnitud 7.5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52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38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NO SE PUEDE RECHAZAR H</a:t>
            </a:r>
            <a:r>
              <a:rPr b="1" lang="es-ES" sz="1800" spc="-1" strike="noStrike" baseline="-25000">
                <a:solidFill>
                  <a:srgbClr val="66ffcc"/>
                </a:solidFill>
                <a:latin typeface="Tahoma"/>
              </a:rPr>
              <a:t>O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, EN AMBAS PRUEBAS. Sin embargo no significa que se puede rechazar la hipótesis de Gap direct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341360"/>
            <a:ext cx="79408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Para probar la hipótesis de Gap sísmico asumen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= 0.48    y 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= 1.5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(a) ;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2.0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G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Probabilidad de que 5 o menos zonas rojas de 17 sean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llenadas por terremotos M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≥ 7.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14172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Se obtienen bajas probabilidades: 3.2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6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, para (a)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y (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Realizan la misma prueba para terremotos M ≥ 7.5 y también obtienen bajas probabilidades 3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ESTAS BAJAS PROBABILIDADES INDICAN QUE LA HIPOTESIS DE GAP SISMICO PUEDE SER RECHAZADA CON UN ALTO NIVEL DE CONFI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DICCION PARA EL PACIFICO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GÚN NIS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79405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cífico para definir las zon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y se usaron l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robabilidades condicionales de Nishenko (1991) como específicas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s zonas fueron ajustadas de acuerdo a sus magnitudes características y probabilidades (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a 3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). Se asume que las probabilidades son para la ocurrencia de al menos un terremoto que califique en una zona 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6:45Z</dcterms:created>
  <dc:creator>alumno</dc:creator>
  <dc:description/>
  <dc:language>en-US</dc:language>
  <cp:lastModifiedBy>alumno</cp:lastModifiedBy>
  <dcterms:modified xsi:type="dcterms:W3CDTF">2005-10-27T16:20:34Z</dcterms:modified>
  <cp:revision>29</cp:revision>
  <dc:subject/>
  <dc:title>Diapositiva 1</dc:title>
</cp:coreProperties>
</file>