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FE0-C987-4B67-B4B9-BA076164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0BE-877A-48BD-9920-7B3E5288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9F9-9A04-4B83-8741-D5C09A3B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52B-E519-40B7-A963-71D2D5A9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36D2A-0418-4EA2-9A10-D94D7862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B6871-D437-4E57-A113-041410C5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795A0-3A7C-47FB-8189-B2DA49BC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93439-5A2E-4BF0-9BDE-DDAB60E7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B565F-13FD-4F1C-B3C0-6E7895EB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003B2-9C06-44B8-BC4A-BA3BA18E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95FD8-DFD5-458C-BDB7-FDA00267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E57-53C2-4ACE-9163-E12B56FF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04E16-58FE-430F-81DB-F8EBCFD6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9836E-0728-4710-95AA-C305E15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A4B9F-1CC9-4CD8-8B5D-433963E3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4ED14-0C39-4A37-8C58-4FE19BE0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DCFE1-09D5-4184-85E9-D8D815D8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37B-3656-4862-8547-414708CB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6719-D573-4529-AB4A-F2F4E04C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5B06-4FE4-44F5-81FD-F3108DB8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295-E6AC-46C2-9264-487E5634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0E5-6256-4768-AA77-3BCF9C0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3AE-713C-4E91-8B4D-D4C16712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FF5-8CD0-4F0A-AADA-9BFEE7E8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8754-88AE-450F-9F8D-8BDFB3B119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2AB6-C98B-4B03-B86C-C43A62B6F0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hyperlink" Target="file:///JGR-108-S-GAPS.pdf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/JGR-108-S-GAPS.pdf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hyperlink" Target="file:///JGR-108-S-GAPS.pdf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file:///JGR-108-S-GAPS.pdf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1628640"/>
            <a:ext cx="80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GAPS SISMICOS Y TERREMOT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ahoma"/>
              </a:rPr>
              <a:t>Yufang Rong, David Jackson y Yang Ka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20808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JOURNAL OF GEOPHYSICAL RESEARCH, VOL. 108, 200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79400" y="3922560"/>
            <a:ext cx="21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Tahoma"/>
              </a:rPr>
              <a:t>CECILIA ZELAY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ahoma"/>
              </a:rPr>
              <a:t>OCTUBRE 20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5280" y="380880"/>
            <a:ext cx="56390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1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HIPOTESIS NULA DE POIS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1371600"/>
            <a:ext cx="7940520" cy="54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mpararon la nueva hipótesis de Gap sísmico con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consideró la hipótesis nula: que los terremotos resultan de un proceso de Poisson con una tasa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r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 en cualquier zona, entonces la probabilidad de que ocurra al menos un terremoto que califique,  aleatoriamente 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	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p</a:t>
            </a:r>
            <a:r>
              <a:rPr b="1" i="1" lang="es-ES_tradnl" sz="2000" spc="-1" strike="noStrike" baseline="-25000">
                <a:solidFill>
                  <a:srgbClr val="66ffcc"/>
                </a:solidFill>
                <a:latin typeface="Tahoma"/>
              </a:rPr>
              <a:t>0</a:t>
            </a:r>
            <a:r>
              <a:rPr b="1" i="1" lang="es-ES_tradnl" sz="2000" spc="-1" strike="noStrike">
                <a:solidFill>
                  <a:srgbClr val="66ffcc"/>
                </a:solidFill>
                <a:latin typeface="Tahoma"/>
              </a:rPr>
              <a:t> = 1 – exp(- 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just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valores de r son calculados desde la sismicidad pas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utilizaron los catálogos CMT y PDE (1977 a 1988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Terremotos más grandes o iguales a la magnitud característica M</a:t>
            </a:r>
            <a:r>
              <a:rPr b="1" lang="es-ES_tradnl" sz="1800" spc="-1" strike="noStrike" baseline="-25000">
                <a:solidFill>
                  <a:srgbClr val="66ffcc"/>
                </a:solidFill>
                <a:latin typeface="Tahoma"/>
              </a:rPr>
              <a:t>c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califican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Tabla 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66ff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83818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Se emplearon tres pruebas estadísticas para evaluar la nueva hipótesis de Gap sísmico y la hipótesis nula de Pois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En cada caso se definió un estadístico, se simularon 10</a:t>
            </a:r>
            <a:r>
              <a:rPr b="1" lang="es-ES_tradnl" sz="1800" spc="-1" strike="noStrike" baseline="30000">
                <a:solidFill>
                  <a:srgbClr val="66ffcc"/>
                </a:solidFill>
                <a:latin typeface="Tahoma"/>
              </a:rPr>
              <a:t>5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 registros sintéticos para las dos hipótesis, se calculó el estadístico definido para los registros observados y simulados y se compararon los val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3124080"/>
            <a:ext cx="83822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N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Nº total de zonas llena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Figura 1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muestra la distribución acumulativa de los </a:t>
            </a:r>
            <a:r>
              <a:rPr b="1" i="1" lang="es-ES_tradnl" sz="18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valores para la nueva hipótesis de Gap sísmico (HNGS) y para la hipótesis nula (HNP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Se rechaza la HNGS con un 95% de confianza para la M</a:t>
            </a:r>
            <a:r>
              <a:rPr b="1" lang="es-ES_tradnl" sz="1800" spc="-1" strike="noStrike" baseline="-25000">
                <a:solidFill>
                  <a:srgbClr val="ffff66"/>
                </a:solidFill>
                <a:latin typeface="Tahoma"/>
              </a:rPr>
              <a:t>c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y HNP pa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P sobreestima el número de terremotos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Figura 2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: 17.2 terremotos (Nishenko) vs 3.3 terremotos para el modelo HNP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66ff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66ffcc"/>
                </a:solidFill>
                <a:uFillTx/>
                <a:latin typeface="Tahoma"/>
              </a:rPr>
              <a:t>Prueba L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Basada en el logaritmo de la probabilidad de un set particular de zonas que son llena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772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01840" y="2719440"/>
                <a:ext cx="3168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28600" y="4114800"/>
            <a:ext cx="861048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n=  número total de zo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probabilidad pronosticada por el modelo de gap o de Poisson para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= es 1 si la i</a:t>
            </a:r>
            <a:r>
              <a:rPr b="0" lang="es-ES_tradnl" sz="1600" spc="-1" strike="noStrike" baseline="-25000">
                <a:solidFill>
                  <a:srgbClr val="ffffff"/>
                </a:solidFill>
                <a:latin typeface="Tahoma"/>
              </a:rPr>
              <a:t>ésima</a:t>
            </a: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 zona es llenada por un terremoto que califica en el catalogo y es 0 en otro cas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408640"/>
            <a:ext cx="79405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NGS y la HNP pasan la “prueba L” para la magnitud característica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(Figura 3 y Tabla 5)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371600"/>
            <a:ext cx="83818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“</a:t>
            </a:r>
            <a:r>
              <a:rPr b="1" lang="es-ES_tradnl" sz="1800" spc="-1" strike="noStrike" u="sng">
                <a:solidFill>
                  <a:srgbClr val="ffff66"/>
                </a:solidFill>
                <a:uFillTx/>
                <a:latin typeface="Tahoma"/>
              </a:rPr>
              <a:t>Prueba R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Basada en el test de razón de probabilidad contra un hipótesis nula rason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28600"/>
            <a:ext cx="563904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UEBAS ESTADISTICAS DE PREDIC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9560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05120" y="2666880"/>
                <a:ext cx="495288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den>
                                </m:f>
                              </m:e>
                            </m:d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380880" y="4419720"/>
            <a:ext cx="794088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PDE la probabilidad de rechazar falsamente la hipótesis nula es del 80%, pero la probabilidad de rechazar falsamente la hipótesis de gap es menor a 1%. Entonces con un 95% de confiabilidad la HGS debe ser rechazada y no la HNP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ra el catálogo CMT las probabilidades son 97.5% y 2.5%, respectivamente. Se debe rechazar HGS y no HNP. 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(Figura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771640" y="260280"/>
            <a:ext cx="331308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5. DISC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052640"/>
            <a:ext cx="8381880" cy="63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A pesar de que existen pequeños problemas asociados a la precisión de la magnitud y localización de los terremotos utilizados, los resultados indican que para magnitudes umbrales de 7 y 7.5 la hipótesis de gap sísmico no es vá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os resultados obtenidos con mayor cantidad de datos (10 y 20 años), son similares a los obtenidos con menos datos (5 y 10 años) por los autores (1991 y 1995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predice muchos más terremotosde los que ocurren y las simulaciones de este trabajo muestran que esta discrepancia no puede ser explicada por variaciones aleato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56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Dificultades para estimar el tiempo de recurrenc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Acumulación no uniforme de deformació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Cantidad de desplazamientos asism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125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iberación de energía por frecuentes sismos peque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451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agrupamiento de terremotos explica de mejor forma la sismicidad de la cuenca del Pacífico que Poisson o la hipótesis de gap sísmico. (Kagan and Jackson 1999 y 200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11280" y="549360"/>
            <a:ext cx="412776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6. CONCLU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700280"/>
            <a:ext cx="83818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hipótesis de Gap sísmico no predice bien los grandes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de que las zonas rojas del modelo MNSK son significativamente más propensas a tener fuertes terremotos que las verdes y naranjas puede ser rechazada con un alto nivel de confiabilidad. Por el contrario éstas zonas tienen tasas más bajas de terremotos que las otras 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La nueva hipótesis de gap sísmico de Nishenko (1991) predice lejos más terremotos de los que ocurr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 hipótesis nula de Poisson pasa la mayoría de las pruebas y desajusta la nueva hipótesis de  gap sísm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79480" y="1932120"/>
            <a:ext cx="794052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hipótesis de Gap Sísmico implica que el riesgo de terremoto es pequeño inmediatamente después de un gran terremoto y se incrementa con el tiempo en ciertos bordes de placa y fall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Reid (1910) sugirió que el tiempo entre grandes terremotos se podía predecir a través de medidas geodésicas del desplazamiento cosísmico durante los eventos previos y la tasa de acumulación de strain .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Ocurrencia quasiperiodi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idea de Gap sísmico ha sido aplicada para predicciones de terremotos a largo plazo en muchas reg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McCann (1979) y Nishenko (1989 y 1991) hicieron predicciones a largo plazo para la mayor parte del anillo del Pacíf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9480" y="1932120"/>
            <a:ext cx="7940520" cy="39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La diferencia entre McCann y Nishenko es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El potencial de un terremoto en un rango de categorías, basado en el tiempo transcurrido desde el último gran evento (MNSK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Además estima la probabilidad de un terremoto característico basado en el tiempo de recurrencia medio y el lapso de tiemp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Kagan y Jackson (1991 y 1995) probaron y rechazaron los modelos MNSK y de Nishenko, con 10 y 5 años de dato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2440" indent="-16524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91200" y="372960"/>
            <a:ext cx="389484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INTRODUCC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07680" y="404640"/>
            <a:ext cx="25794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OBJE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989000"/>
            <a:ext cx="7580160" cy="1008720"/>
          </a:xfrm>
          <a:prstGeom prst="rect">
            <a:avLst/>
          </a:prstGeom>
          <a:noFill/>
          <a:ln w="381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cc"/>
                </a:solidFill>
                <a:latin typeface="Tahoma"/>
              </a:rPr>
              <a:t>PROBAR LOS MODELOS MNSK (1979) Y DE NISHENKO (1991) BASANDOSE EN 20 Y 10 AÑOS DE DATOS RESPECTIV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386064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el presente trabajo son similares con los encontrados por lo autores anteriormente en que los modelos de gaps sísmicos son inconsistentes con los datos de terremo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12536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is categorías para el potencial sísmico.  Este rango va de mayor a menor: </a:t>
            </a:r>
            <a:r>
              <a:rPr b="1" lang="es-ES" sz="1800" spc="-1" strike="noStrike" u="sng">
                <a:solidFill>
                  <a:srgbClr val="66ffcc"/>
                </a:solidFill>
                <a:uFillTx/>
                <a:latin typeface="Tahoma"/>
              </a:rPr>
              <a:t>rojo (R), naranja (O), verde (G),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amarillo (Y), hatched (H) y púrpura (P – no tienen registro histórico de grandes terremoto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MNSK, asociando los terremotos con zona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Terremotos Ms ≥ 7.0 desde el catalogo PDE (NEIC) 1978 a 199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619280" y="3538440"/>
            <a:ext cx="572436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26028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DICCION PARA EL PACIFICO CON MNSK (197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341360"/>
            <a:ext cx="79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Zonas rojas deberían tener más actividad sísmica y las verdes men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11120" y="1571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99520" y="2205000"/>
            <a:ext cx="4167360" cy="405720"/>
          </a:xfrm>
          <a:prstGeom prst="rect">
            <a:avLst/>
          </a:prstGeom>
          <a:noFill/>
          <a:ln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213000"/>
            <a:ext cx="794088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Los resultados presentados en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tabl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muestran que las zonas rojas exhiben menos sismicidad que las otras dos zonas. Estas diferencias se prueban estadístic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341360"/>
            <a:ext cx="79408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Se compararon el número de  zonas llenas de terremotos (distribución binomial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Zonas:  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 y R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ojo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 vs 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Verde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: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hipótesis de gap </a:t>
            </a:r>
            <a:r>
              <a:rPr b="1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roj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      y  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naranja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&gt;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v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645000"/>
            <a:ext cx="79405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Desde la 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</a:t>
            </a:r>
            <a:r>
              <a:rPr b="0" lang="es-ES" sz="18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a</a:t>
            </a:r>
            <a:r>
              <a:rPr b="1" lang="es-ES_tradnl" sz="1800" spc="-1" strike="noStrike" u="sng">
                <a:solidFill>
                  <a:srgbClr val="ffcc00"/>
                </a:solidFill>
                <a:uFillTx/>
                <a:latin typeface="Tahoma"/>
              </a:rPr>
              <a:t> 2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se obtuvieron los siguientes valores de 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 para terremotos de magnitud 7.0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24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53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ara terremotos de magnitud 7.5: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0.52   y </a:t>
            </a:r>
            <a:r>
              <a:rPr b="1" lang="es-ES" sz="1800" spc="-1" strike="noStrike">
                <a:solidFill>
                  <a:srgbClr val="ffff66"/>
                </a:solidFill>
                <a:latin typeface="Symbol"/>
                <a:ea typeface="Symbol"/>
              </a:rPr>
              <a:t>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 0.38 para las zonas rojas y naranjas respectiv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NO SE PUEDE RECHAZAR H</a:t>
            </a:r>
            <a:r>
              <a:rPr b="1" lang="es-ES" sz="1800" spc="-1" strike="noStrike" baseline="-25000">
                <a:solidFill>
                  <a:srgbClr val="66ffcc"/>
                </a:solidFill>
                <a:latin typeface="Tahoma"/>
              </a:rPr>
              <a:t>O </a:t>
            </a: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, EN AMBAS PRUEBAS. Sin embargo no significa que se puede rechazar la hipótesis de Gap directam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1341360"/>
            <a:ext cx="794088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cc"/>
                </a:solidFill>
                <a:latin typeface="Tahoma"/>
              </a:rPr>
              <a:t>Para probar la hipótesis de Gap sísmico asumen q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 = P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G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= 0.48    y 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= 1.5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O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(a) ; 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R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=2.0 P</a:t>
            </a:r>
            <a:r>
              <a:rPr b="1" lang="es-ES" sz="1800" spc="-1" strike="noStrike" baseline="-25000">
                <a:solidFill>
                  <a:srgbClr val="ffff66"/>
                </a:solidFill>
                <a:latin typeface="Tahoma"/>
              </a:rPr>
              <a:t>G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(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54080" indent="-59688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s-ES" sz="18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: Probabilidad de que 5 o menos zonas rojas de 17 sean </a:t>
            </a:r>
            <a:r>
              <a:rPr b="1" lang="es-ES_tradnl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ff0000"/>
                </a:solidFill>
                <a:latin typeface="Tahoma"/>
              </a:rPr>
              <a:t>llenadas por terremotos M </a:t>
            </a:r>
            <a:r>
              <a:rPr b="1" lang="es-ES" sz="1800" spc="-1" strike="noStrike">
                <a:solidFill>
                  <a:srgbClr val="ff3300"/>
                </a:solidFill>
                <a:latin typeface="Tahoma"/>
              </a:rPr>
              <a:t>≥ 7.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141720"/>
            <a:ext cx="794052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Se obtienen bajas probabilidades: 3.2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6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, para (a)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y (b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Realizan la misma prueba para terremotos M ≥ 7.5 y también obtienen bajas probabilidades 3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 y 8.7 X 10</a:t>
            </a:r>
            <a:r>
              <a:rPr b="1" lang="en-US" sz="1800" spc="-1" strike="noStrike" baseline="30000">
                <a:solidFill>
                  <a:srgbClr val="ffff66"/>
                </a:solidFill>
                <a:latin typeface="Tahoma"/>
              </a:rPr>
              <a:t>-4</a:t>
            </a: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cc"/>
                </a:solidFill>
                <a:latin typeface="Tahoma"/>
              </a:rPr>
              <a:t>ESTAS BAJAS PROBABILIDADES INDICAN QUE LA HIPOTESIS DE GAP SISMICO PUEDE SER RECHAZADA CON UN ALTO NIVEL DE CONFI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404640"/>
            <a:ext cx="676944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1 PRUEBA PARA EL NUMERO DE Z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713800" cy="58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REDICCION PARA EL PACIFICO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EGÚN NISHENK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600200"/>
            <a:ext cx="7940520" cy="31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 digitalizó el mapa de color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acífico para definir las zon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,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 y se usaron las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ffff66"/>
                </a:solidFill>
                <a:latin typeface="Tahoma"/>
              </a:rPr>
              <a:t>probabilidades condicionales de Nishenko (1991) como específicas 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 algn="just">
              <a:lnSpc>
                <a:spcPct val="100000"/>
              </a:lnSpc>
              <a:spcAft>
                <a:spcPts val="1349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Las zonas fueron ajustadas de acuerdo a sus magnitudes características y probabilidades (</a:t>
            </a:r>
            <a:r>
              <a:rPr b="0" lang="es-ES_tradnl" sz="18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Tabla 3</a:t>
            </a:r>
            <a:r>
              <a:rPr b="1" lang="es-ES_tradnl" sz="1800" spc="-1" strike="noStrike">
                <a:solidFill>
                  <a:srgbClr val="66ffcc"/>
                </a:solidFill>
                <a:latin typeface="Tahoma"/>
              </a:rPr>
              <a:t>). Se asume que las probabilidades son para la ocurrencia de al menos un terremoto que califique en una zona d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3:56:45Z</dcterms:created>
  <dc:creator>alumno</dc:creator>
  <dc:description/>
  <dc:language>en-US</dc:language>
  <cp:lastModifiedBy>alumno</cp:lastModifiedBy>
  <dcterms:modified xsi:type="dcterms:W3CDTF">2005-10-27T16:20:34Z</dcterms:modified>
  <cp:revision>29</cp:revision>
  <dc:subject/>
  <dc:title>Diapositiva 1</dc:title>
</cp:coreProperties>
</file>