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23A-AB31-4F68-B169-268D153A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115-067A-4E80-86F3-8C141467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943-C692-454A-8868-B8BFEA10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8B6-5642-466D-A50B-6F521247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17A0F-2CCB-4A31-AB1B-343403B5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4E31D-8358-447B-995A-9173CD80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BD591-56BB-4CD3-ACCB-73DF7DA6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A59F0-1D85-45BD-891F-714408F6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4150C-E232-4446-973F-6A6C76F8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B3D62-E061-4FD2-A5A9-8EF0BECD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60E80-89D4-4B94-8EA4-CFC6E662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30F-1E5E-4073-8408-FE28C1C4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F9BCC-F6C8-4A66-80B7-B0065BF6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F2CF5-E7A8-4002-AA9A-84C25B46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8F739-8100-4A36-9245-B191281E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C50E3-AE57-4B1C-BAAE-FDFA9B7B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108ED-ABD1-472E-825E-6045934F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784-DE67-4C16-AE75-1ADB6D93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497-CE6E-42D0-A4B7-140A0EA8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727-D5E3-4032-9F33-B380BE2E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3FA-9512-4CBD-B001-F449B0A1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284-32F9-475F-896D-25F6B0D0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E4C-EF53-48CD-AF04-15AEB559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20C-A6ED-4798-AD45-7B4E3A28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B3E2-CDD5-4AA7-BAAD-1752474EA6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FA7A-B910-4363-AA4D-9C32EEAF6F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file:///JGR-108-S-GAPS.pdf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JGR-108-S-GAPS.pdf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hyperlink" Target="file:///JGR-108-S-GAPS.pdf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file:///JGR-108-S-GAPS.pdf" TargetMode="External"/><Relationship Id="rId5" Type="http://schemas.openxmlformats.org/officeDocument/2006/relationships/hyperlink" Target="file:///JGR-108-S-GAPS.pdf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JGR-108-S-GAPS.pdf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file:///JGR-108-S-GAPS.pdf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JGR-108-S-GAPS.pdf" TargetMode="External"/><Relationship Id="rId6" Type="http://schemas.openxmlformats.org/officeDocument/2006/relationships/hyperlink" Target="file:///JGR-108-S-GAPS.pdf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JGR-108-S-GAPS.pdf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1628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GAPS SISMICOS Y TERREMO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Yufang Rong, David Jackson y Yang Ka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20808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JOURNAL OF GEOPHYSICAL RESEARCH, VOL. 108, 200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79400" y="3922560"/>
            <a:ext cx="21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CECILIA ZELA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Tahoma"/>
              </a:rPr>
              <a:t>OCTUBR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5280" y="380880"/>
            <a:ext cx="56390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1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HIPOTESIS NULA DE POI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371600"/>
            <a:ext cx="7940520" cy="54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Se compararon la nueva hipótesis de Gap sísmico con la hipótesis nula de Pois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Se consideró la hipótesis nula: que los terremotos resultan de un proceso de Poisson con una tasa </a:t>
            </a:r>
            <a:r>
              <a:rPr b="1" i="1" lang="es-ES_tradnl" sz="1800" spc="-1" strike="noStrike">
                <a:solidFill>
                  <a:srgbClr val="ffff66"/>
                </a:solidFill>
                <a:latin typeface="Tahoma"/>
              </a:rPr>
              <a:t>r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 en cualquier zona, entonces la probabilidad de que ocurra al menos un terremoto que califique,  aleatoriamente 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1" i="1" lang="es-ES_tradnl" sz="2000" spc="-1" strike="noStrike">
                <a:solidFill>
                  <a:srgbClr val="66ffcc"/>
                </a:solidFill>
                <a:latin typeface="Tahoma"/>
              </a:rPr>
              <a:t>p</a:t>
            </a:r>
            <a:r>
              <a:rPr b="1" i="1" lang="es-ES_tradnl" sz="2000" spc="-1" strike="noStrike" baseline="-25000">
                <a:solidFill>
                  <a:srgbClr val="66ffcc"/>
                </a:solidFill>
                <a:latin typeface="Tahoma"/>
              </a:rPr>
              <a:t>0</a:t>
            </a:r>
            <a:r>
              <a:rPr b="1" i="1" lang="es-ES_tradnl" sz="2000" spc="-1" strike="noStrike">
                <a:solidFill>
                  <a:srgbClr val="66ffcc"/>
                </a:solidFill>
                <a:latin typeface="Tahoma"/>
              </a:rPr>
              <a:t> = 1 – exp(- 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os valores de r son calculados desde la sismicidad pas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Se utilizaron los catálogos CMT y PDE (1977 a 1988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Terremotos más grandes o iguales a la magnitud característica M</a:t>
            </a:r>
            <a:r>
              <a:rPr b="1" lang="es-ES_tradnl" sz="1800" spc="-1" strike="noStrike" baseline="-25000">
                <a:solidFill>
                  <a:srgbClr val="66ffcc"/>
                </a:solidFill>
                <a:latin typeface="Tahoma"/>
              </a:rPr>
              <a:t>c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 califican.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(Tabla 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ff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5280" y="228600"/>
            <a:ext cx="563904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UEBAS ESTADISTIC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219320"/>
            <a:ext cx="83818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Se emplearon tres pruebas estadísticas para evaluar la nueva hipótesis de Gap sísmico y la hipótesis nula de Pois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En cada caso se definió un estadístico, se simularon 10</a:t>
            </a:r>
            <a:r>
              <a:rPr b="1" lang="es-ES_tradnl" sz="1800" spc="-1" strike="noStrike" baseline="30000">
                <a:solidFill>
                  <a:srgbClr val="66ffcc"/>
                </a:solidFill>
                <a:latin typeface="Tahoma"/>
              </a:rPr>
              <a:t>5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 registros sintéticos para las dos hipótesis, se calculó el estadístico definido para los registros observados y simulados y se compararon los val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124080"/>
            <a:ext cx="83822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“</a:t>
            </a: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Prueba N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Basada en el Nº total de zonas llenas de ter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Figura 1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muestra la distribución acumulativa de los </a:t>
            </a:r>
            <a:r>
              <a:rPr b="1" i="1" lang="es-ES_tradnl" sz="18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valores para la nueva hipótesis de Gap sísmico (HNGS) y para la hipótesis nula (HN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Se rechaza la HNGS con un 95% de confianza para la M</a:t>
            </a:r>
            <a:r>
              <a:rPr b="1" lang="es-ES_tradnl" sz="1800" spc="-1" strike="noStrike" baseline="-25000">
                <a:solidFill>
                  <a:srgbClr val="ffff66"/>
                </a:solidFill>
                <a:latin typeface="Tahoma"/>
              </a:rPr>
              <a:t>c 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y HNP pa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HNGP sobreestima el número de terremotos.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Figura 2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: 17.2 terremotos (Nishenko) vs 3.3 terremotos para el modelo HNP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371600"/>
            <a:ext cx="83818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66ffcc"/>
                </a:solidFill>
                <a:uFillTx/>
                <a:latin typeface="Tahoma"/>
              </a:rPr>
              <a:t>“</a:t>
            </a:r>
            <a:r>
              <a:rPr b="1" lang="es-ES_tradnl" sz="1800" spc="-1" strike="noStrike" u="sng">
                <a:solidFill>
                  <a:srgbClr val="66ffcc"/>
                </a:solidFill>
                <a:uFillTx/>
                <a:latin typeface="Tahoma"/>
              </a:rPr>
              <a:t>Prueba L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Basada en el logaritmo de la probabilidad de un set particular de zonas que son llena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28600"/>
            <a:ext cx="563904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UEBAS ESTADISTIC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77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01840" y="2719440"/>
                <a:ext cx="3168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28600" y="4114800"/>
            <a:ext cx="861048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n=  número total de zon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= probabilidad pronosticada por el modelo de gap o de Poisson para la i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ésima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zon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= es 1 si la i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ésima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zona es llenada por un terremoto que califica en el catalogo y es 0 en otro cas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408640"/>
            <a:ext cx="79405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HNGS y la HNP pasan la “prueba L” para la magnitud característica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(Figura 3 y Tabla 5)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371600"/>
            <a:ext cx="83818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“</a:t>
            </a: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Prueba R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Basada en el test de razón de probabilidad contra un hipótesis nula rason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28600"/>
            <a:ext cx="563904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UEBAS ESTADISTIC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9560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05120" y="2666880"/>
                <a:ext cx="495288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380880" y="4419720"/>
            <a:ext cx="794088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ara el catálogo PDE la probabilidad de rechazar falsamente la hipótesis nula es del 80%, pero la probabilidad de rechazar falsamente la hipótesis de gap es menor a 1%. Entonces con un 95% de confiabilidad la HGS debe ser rechazada y no la HNP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ara el catálogo CMT las probabilidades son 97.5% y 2.5%, respectivamente. Se debe rechazar HGS y no HNP.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(Figura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71640" y="260280"/>
            <a:ext cx="331308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5. DISC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052640"/>
            <a:ext cx="8381880" cy="63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A pesar de que existen pequeños problemas asociados a la precisión de la magnitud y localización de los terremotos utilizados, los resultados indican que para magnitudes umbrales de 7 y 7.5 la hipótesis de gap sísmico no es vál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os resultados obtenidos con mayor cantidad de datos (10 y 20 años), son similares a los obtenidos con menos datos (5 y 10 años) por los autores (1991 y 1995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nueva hipótesis de gap predice muchos más terremotosde los que ocurren y las simulaciones de este trabajo muestran que esta discrepancia no puede ser explicada por variaciones aleato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56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Dificultades para estimar el tiempo de recurrenci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Acumulación no uniforme de deformació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Cantidad de desplazamientos asism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125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iberación de energía por frecuentes sismos peque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El agrupamiento de terremotos explica de mejor forma la sismicidad de la cuenca del Pacífico que Poisson o la hipótesis de gap sísmico. (Kagan and Jackson 1999 y 200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11280" y="549360"/>
            <a:ext cx="412776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. CONCLU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700280"/>
            <a:ext cx="83818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hipótesis de Gap sísmico no predice bien los grandes ter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a hipótesis de que las zonas rojas del modelo MNSK son significativamente más propensas a tener fuertes terremotos que las verdes y naranjas puede ser rechazada con un alto nivel de confiabilidad. Por el contrario éstas zonas tienen tasas más bajas de terremotos que las otras 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nueva hipótesis de gap sísmico de Nishenko (1991) predice lejos más terremotos de los que ocur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a hipótesis nula de Poisson pasa la mayoría de las pruebas y desajusta la nueva hipótesis de  gap sísm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91200" y="372960"/>
            <a:ext cx="389484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 INTRODUC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79480" y="1932120"/>
            <a:ext cx="794052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a hipótesis de Gap Sísmico implica que el riesgo de terremoto es pequeño inmediatamente después de un gran terremoto y se incrementa con el tiempo en ciertos bordes de placa y fall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Reid (1910) sugirió que el tiempo entre grandes terremotos se podía predecir a través de medidas geodésicas del desplazamiento cosísmico durante los eventos previos y la tasa de acumulación de strain .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Ocurrencia quasiperiod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a idea de Gap sísmico ha sido aplicada para predicciones de terremotos a largo plazo en muchas reg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McCann (1979) y Nishenko (1989 y 1991) hicieron predicciones a largo plazo para la mayor parte del anillo del Pacíf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9480" y="1932120"/>
            <a:ext cx="7940520" cy="39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a diferencia entre McCann y Nishenko es q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El potencial de un terremoto en un rango de categorías, basado en el tiempo transcurrido desde el último gran evento (MNSK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Además estima la probabilidad de un terremoto característico basado en el tiempo de recurrencia medio y el lapso de ti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Kagan y Jackson (1991 y 1995) probaron y rechazaron los modelos MNSK y de Nishenko, con 10 y 5 años de datos respectiv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91200" y="372960"/>
            <a:ext cx="389484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 INTRODUC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07680" y="404640"/>
            <a:ext cx="25794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. OBJE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989000"/>
            <a:ext cx="7580160" cy="1008720"/>
          </a:xfrm>
          <a:prstGeom prst="rect">
            <a:avLst/>
          </a:prstGeom>
          <a:noFill/>
          <a:ln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Tahoma"/>
              </a:rPr>
              <a:t>PROBAR LOS MODELOS MNSK (1979) Y DE NISHENKO (1991) BASANDOSE EN 20 Y 10 AÑOS DE DATOS RESPECTIV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386064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Los resultados presentados en el presente trabajo son similares con los encontrados por lo autores anteriormente en que los modelos de gaps sísmicos son inconsistentes con los datos de ter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260280"/>
            <a:ext cx="87138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EDICCION PARA EL PACIFICO CON MNSK (197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25360"/>
            <a:ext cx="794052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Seis categorías para el potencial sísmico.  Este rango va de mayor a menor: </a:t>
            </a:r>
            <a:r>
              <a:rPr b="1" lang="es-ES" sz="1800" spc="-1" strike="noStrike" u="sng">
                <a:solidFill>
                  <a:srgbClr val="66ffcc"/>
                </a:solidFill>
                <a:uFillTx/>
                <a:latin typeface="Tahoma"/>
              </a:rPr>
              <a:t>rojo (R), naranja (O), verde (G),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amarillo (Y), hatched (H) y púrpura (P – no tienen registro histórico de grandes terremoto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Se digitalizó el mapa de color MNSK, asociando los terremotos con zon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Terremotos Ms ≥ 7.0 desde el catalogo PDE (NEIC) 1978 a 199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619280" y="3538440"/>
            <a:ext cx="572436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260280"/>
            <a:ext cx="87138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EDICCION PARA EL PACIFICO CON MNSK (197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341360"/>
            <a:ext cx="79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cc"/>
                </a:solidFill>
                <a:latin typeface="Tahoma"/>
              </a:rPr>
              <a:t>Zonas rojas deberían tener más actividad sísmica y las verdes men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11120" y="1571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99520" y="2205000"/>
            <a:ext cx="4167360" cy="405720"/>
          </a:xfrm>
          <a:prstGeom prst="rect">
            <a:avLst/>
          </a:prstGeom>
          <a:noFill/>
          <a:ln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rojo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      y   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v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213000"/>
            <a:ext cx="79408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Los resultados presentados en la 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tabla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Tahoma"/>
              </a:rPr>
              <a:t> 2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muestran que las zonas rojas exhiben menos sismicidad que las otras dos zonas. Estas diferencias se prueban estadístic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404640"/>
            <a:ext cx="67694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1 PRUEBA PARA EL NUMERO DE Z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341360"/>
            <a:ext cx="79408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Se compararon el número de  zonas llenas de terremotos (distribución binomial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Zonas:   R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ojo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vs 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 y R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ojo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vs 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Verde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: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R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=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=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: hipótesis de gap 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roj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      y   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v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645000"/>
            <a:ext cx="79405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Desde la 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tabl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a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Tahoma"/>
              </a:rPr>
              <a:t> 2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, se obtuvieron los siguientes valores de 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, para terremotos de magnitud 7.0: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0.24   y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 0.53 para las zonas rojas y naranjas respectiv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Para terremotos de magnitud 7.5: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0.52   y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 0.38 para las zonas rojas y naranjas respectiv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NO SE PUEDE RECHAZAR H</a:t>
            </a:r>
            <a:r>
              <a:rPr b="1" lang="es-ES" sz="1800" spc="-1" strike="noStrike" baseline="-25000">
                <a:solidFill>
                  <a:srgbClr val="66ffcc"/>
                </a:solidFill>
                <a:latin typeface="Tahoma"/>
              </a:rPr>
              <a:t>O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, EN AMBAS PRUEBAS. Sin embargo no significa que se puede rechazar la hipótesis de Gap direct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1341360"/>
            <a:ext cx="794088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Para probar la hipótesis de Gap sísmico asumen q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4080" indent="-59688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: 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=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G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= 0.48    y  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R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= 1.5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(a) ; 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R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2.0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G 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4080" indent="-59688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: Probabilidad de que 5 o menos zonas rojas de 17 sean 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llenadas por terremotos M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≥ 7.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141720"/>
            <a:ext cx="794052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Se obtienen bajas probabilidades: 3.2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 y 8.6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, para (a)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y (b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Realizan la misma prueba para terremotos M ≥ 7.5 y también obtienen bajas probabilidades 3.7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 y 8.7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cc"/>
                </a:solidFill>
                <a:latin typeface="Tahoma"/>
              </a:rPr>
              <a:t>ESTAS BAJAS PROBABILIDADES INDICAN QUE LA HIPOTESIS DE GAP SISMICO PUEDE SER RECHAZADA CON UN ALTO NIVEL DE CONFI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404640"/>
            <a:ext cx="67694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1 PRUEBA PARA EL NUMERO DE Z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8600"/>
            <a:ext cx="87138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REDICCION PARA EL PACIFICO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EGÚN NISHENK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600200"/>
            <a:ext cx="794052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Se digitalizó el mapa de color 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acífico para definir las zonas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,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y se usaron las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robabilidades condicionales de Nishenko (1991) como específicas 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as zonas fueron ajustadas de acuerdo a sus magnitudes características y probabilidades (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Tabla 3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). Se asume que las probabilidades son para la ocurrencia de al menos un terremoto que califique en una zona d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3:56:45Z</dcterms:created>
  <dc:creator>alumno</dc:creator>
  <dc:description/>
  <dc:language>en-US</dc:language>
  <cp:lastModifiedBy>alumno</cp:lastModifiedBy>
  <dcterms:modified xsi:type="dcterms:W3CDTF">2005-10-27T16:20:34Z</dcterms:modified>
  <cp:revision>29</cp:revision>
  <dc:subject/>
  <dc:title>Diapositiva 1</dc:title>
</cp:coreProperties>
</file>