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wmf" ContentType="image/x-wmf"/>
  <Override PartName="/ppt/media/image14.png" ContentType="image/png"/>
  <Override PartName="/ppt/media/image16.wmf" ContentType="image/x-wmf"/>
  <Override PartName="/ppt/media/image8.gif" ContentType="image/gi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1C6-ACA7-4692-A466-80F4242B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C43-7299-4677-9005-83429E7E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248-F6FE-46C2-BAA0-33633176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036-3A61-4A03-B3C3-1E9A4DFB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278-A192-47DD-A9D4-1FBE8FC0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4FD-41DD-4A57-B719-34E40D65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277-C04F-47B2-B729-B31C0D7A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0DA-6B46-4DB2-92B2-3355E284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029-56AF-4B58-9AB2-1EA5721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631-3CA4-47FE-A92E-A4BFA057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292-4705-44B9-AD9E-12F1083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901-97A2-4670-ABFE-84BAE1D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B184-A2C5-4308-9DCE-DF9C7542A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380880"/>
            <a:ext cx="8839080" cy="2743200"/>
            <a:chOff x="0" y="380880"/>
            <a:chExt cx="8839080" cy="274320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0" y="380880"/>
                  <a:ext cx="88390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v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vsin</m:t>
                      </m:r>
                      <m:r>
                        <m:t xml:space="preserve">ϕ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w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0" y="1295280"/>
                  <a:ext cx="7086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v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usin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0" y="2286000"/>
                  <a:ext cx="70880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128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131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146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147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62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163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153120" cy="303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149720"/>
                <a:ext cx="88390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+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116000" y="5661000"/>
            <a:ext cx="662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: ¡¡Estimar los sigma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057400" y="533520"/>
            <a:ext cx="6781320" cy="4573440"/>
            <a:chOff x="2057400" y="533520"/>
            <a:chExt cx="6781320" cy="4573440"/>
          </a:xfrm>
        </p:grpSpPr>
        <p:sp>
          <p:nvSpPr>
            <p:cNvPr id="183" name=""/>
            <p:cNvSpPr/>
            <p:nvPr/>
          </p:nvSpPr>
          <p:spPr>
            <a:xfrm>
              <a:off x="2057400" y="533520"/>
              <a:ext cx="211932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RL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Sweden on a super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1920" y="30103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384400">
              <a:off x="3962160" y="1197360"/>
              <a:ext cx="2001600" cy="1573200"/>
            </a:xfrm>
            <a:custGeom>
              <a:avLst/>
              <a:gdLst>
                <a:gd name="textAreaLeft" fmla="*/ 0 w 2001600"/>
                <a:gd name="textAreaRight" fmla="*/ 2001960 w 2001600"/>
                <a:gd name="textAreaTop" fmla="*/ 0 h 1573200"/>
                <a:gd name="textAreaBottom" fmla="*/ 1573560 h 15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9760" y="5335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IRVI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936800">
              <a:off x="6860520" y="2334240"/>
              <a:ext cx="1255680" cy="250812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2508120"/>
                <a:gd name="textAreaBottom" fmla="*/ 2508480 h 25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7800">
              <a:off x="2763000" y="2628720"/>
              <a:ext cx="1836360" cy="2476080"/>
            </a:xfrm>
            <a:custGeom>
              <a:avLst/>
              <a:gdLst>
                <a:gd name="textAreaLeft" fmla="*/ 286920 w 1836360"/>
                <a:gd name="textAreaRight" fmla="*/ 1607040 w 1836360"/>
                <a:gd name="textAreaTop" fmla="*/ 618840 h 2476080"/>
                <a:gd name="textAreaBottom" fmla="*/ 1857240 h 24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1422360"/>
            <a:ext cx="914400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11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468520" cy="2468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240" y="5181480"/>
            <a:ext cx="25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x5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 km vert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00x400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715000" y="3809880"/>
            <a:ext cx="342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VALIDACIÓN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omparación sistemática contra obser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ter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ción y caracterización de problemas de di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emisión, dispersión y re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banos y reg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3480" y="198108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360" y="6095880"/>
            <a:ext cx="230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...”Le tenimos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¡Buena suerte y ojalá les haya sido útil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0384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miliarizar a los estudiantes con modelos de disper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habilidades y establecer criterios pertinentes al desarrollo y aplicación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880" y="45684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lasificar problemas según escalas de tiempo y esp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finir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Identificar y describir leyes 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conocer términos de la ec.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solver ecs.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Aplicar modelos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aracterizar modelos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scribir y analizar parametrizaciones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criterios de el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procedimientos de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rsos básic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ís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Gan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76560" y="838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 de investigación y 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Trabajo equivalente a 9 hrs/sem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Ejercicios y controles de lectura periódicos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0000"/>
                </a:solidFill>
                <a:latin typeface="Times New Roman"/>
              </a:rPr>
              <a:t>Presentación de proyecto de investigación de 4 semanas de duración (5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amen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65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14600" y="990720"/>
            <a:ext cx="3581280" cy="2514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ipien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masa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720" y="1447920"/>
            <a:ext cx="2363040" cy="1295280"/>
            <a:chOff x="-720" y="1447920"/>
            <a:chExt cx="2363040" cy="1295280"/>
          </a:xfrm>
        </p:grpSpPr>
        <p:sp>
          <p:nvSpPr>
            <p:cNvPr id="68" name=""/>
            <p:cNvSpPr/>
            <p:nvPr/>
          </p:nvSpPr>
          <p:spPr>
            <a:xfrm>
              <a:off x="838080" y="2133720"/>
              <a:ext cx="1524240" cy="609480"/>
            </a:xfrm>
            <a:prstGeom prst="rightArrow">
              <a:avLst>
                <a:gd name="adj1" fmla="val 50000"/>
                <a:gd name="adj2" fmla="val 6252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-720" y="14479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uentes (Q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324480" y="1314360"/>
            <a:ext cx="2658240" cy="1276560"/>
            <a:chOff x="6324480" y="1314360"/>
            <a:chExt cx="2658240" cy="1276560"/>
          </a:xfrm>
        </p:grpSpPr>
        <p:sp>
          <p:nvSpPr>
            <p:cNvPr id="71" name=""/>
            <p:cNvSpPr/>
            <p:nvPr/>
          </p:nvSpPr>
          <p:spPr>
            <a:xfrm>
              <a:off x="6324480" y="1981080"/>
              <a:ext cx="1524240" cy="60984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59480" y="1314360"/>
              <a:ext cx="25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mideros (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080" y="-225360"/>
            <a:ext cx="66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Tiempo de Recambio </a:t>
            </a: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76720" y="3733920"/>
                <a:ext cx="2361960" cy="20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87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286000" y="609480"/>
            <a:ext cx="4829760" cy="1295640"/>
            <a:chOff x="2286000" y="609480"/>
            <a:chExt cx="4829760" cy="1295640"/>
          </a:xfrm>
        </p:grpSpPr>
        <p:sp>
          <p:nvSpPr>
            <p:cNvPr id="90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3760" y="60948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93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96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99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5080" y="380880"/>
            <a:ext cx="8908920" cy="2743200"/>
            <a:chOff x="235080" y="3808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35080" y="14479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>
              <a:off x="763560" y="3808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6640" y="5335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5-11-16T14:46:04Z</dcterms:modified>
  <cp:revision>38</cp:revision>
  <dc:subject/>
  <dc:title>GF515 Modelación atmosférica orientada a la dispersión de contaminantes</dc:title>
</cp:coreProperties>
</file>