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4FB-3F33-472B-B7EE-E3452654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05C-EC29-4AC0-A81B-0675DDA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31E-FDB4-4CDD-964F-09749F7D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3BB-876C-4712-8E12-D6C01235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C40-7A34-457F-B5CD-D63351F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28D-A000-4B14-8E19-1962CB10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05E-B45D-47D2-81B7-F27BBA3B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7DD-1021-4194-8665-BB22A47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79-FB67-4888-841A-A9D134B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AFC-1940-4E67-BB49-5CB58B8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66A-508C-411E-8CE3-72CF748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4E9-B09E-44FB-80B5-CD5119C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B2EA-69DB-410B-9C36-3A9A7F428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380880"/>
            <a:ext cx="8839080" cy="2743200"/>
            <a:chOff x="0" y="380880"/>
            <a:chExt cx="8839080" cy="27432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0" y="380880"/>
                  <a:ext cx="88390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v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vsin</m:t>
                      </m:r>
                      <m:r>
                        <m:t xml:space="preserve">ϕ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w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0" y="1295280"/>
                  <a:ext cx="7086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usin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0" y="2286000"/>
                  <a:ext cx="7088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8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31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46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147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62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163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057400" y="533520"/>
            <a:ext cx="6781320" cy="4573440"/>
            <a:chOff x="2057400" y="533520"/>
            <a:chExt cx="6781320" cy="4573440"/>
          </a:xfrm>
        </p:grpSpPr>
        <p:sp>
          <p:nvSpPr>
            <p:cNvPr id="183" name=""/>
            <p:cNvSpPr/>
            <p:nvPr/>
          </p:nvSpPr>
          <p:spPr>
            <a:xfrm>
              <a:off x="2057400" y="533520"/>
              <a:ext cx="211932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RL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Sweden on a super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1920" y="30103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84400">
              <a:off x="3962160" y="1197360"/>
              <a:ext cx="2001600" cy="157320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1573200"/>
                <a:gd name="textAreaBottom" fmla="*/ 1573560 h 15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9760" y="5335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V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36800">
              <a:off x="6860520" y="2334240"/>
              <a:ext cx="1255680" cy="250812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7800">
              <a:off x="2763000" y="2628720"/>
              <a:ext cx="1836360" cy="2476080"/>
            </a:xfrm>
            <a:custGeom>
              <a:avLst/>
              <a:gdLst>
                <a:gd name="textAreaLeft" fmla="*/ 286920 w 1836360"/>
                <a:gd name="textAreaRight" fmla="*/ 1607040 w 1836360"/>
                <a:gd name="textAreaTop" fmla="*/ 618840 h 2476080"/>
                <a:gd name="textAreaBottom" fmla="*/ 1857240 h 24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1422360"/>
            <a:ext cx="914400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11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240" y="5181480"/>
            <a:ext cx="25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x5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 km vert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00x400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715000" y="3809880"/>
            <a:ext cx="34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VALIDACIÓN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omparación sistemática contra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ter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¡Buena suerte y ojalá les haya sido úti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5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65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14600" y="990720"/>
            <a:ext cx="3581280" cy="2514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ipi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masa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720" y="1447920"/>
            <a:ext cx="2363040" cy="1295280"/>
            <a:chOff x="-720" y="1447920"/>
            <a:chExt cx="2363040" cy="1295280"/>
          </a:xfrm>
        </p:grpSpPr>
        <p:sp>
          <p:nvSpPr>
            <p:cNvPr id="68" name=""/>
            <p:cNvSpPr/>
            <p:nvPr/>
          </p:nvSpPr>
          <p:spPr>
            <a:xfrm>
              <a:off x="838080" y="2133720"/>
              <a:ext cx="1524240" cy="609480"/>
            </a:xfrm>
            <a:prstGeom prst="rightArrow">
              <a:avLst>
                <a:gd name="adj1" fmla="val 50000"/>
                <a:gd name="adj2" fmla="val 6252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720" y="14479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uentes (Q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1314360"/>
            <a:ext cx="2658240" cy="1276560"/>
            <a:chOff x="6324480" y="1314360"/>
            <a:chExt cx="2658240" cy="1276560"/>
          </a:xfrm>
        </p:grpSpPr>
        <p:sp>
          <p:nvSpPr>
            <p:cNvPr id="71" name=""/>
            <p:cNvSpPr/>
            <p:nvPr/>
          </p:nvSpPr>
          <p:spPr>
            <a:xfrm>
              <a:off x="6324480" y="1981080"/>
              <a:ext cx="1524240" cy="60984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9480" y="1314360"/>
              <a:ext cx="25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mideros 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080" y="-22536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iempo de Recambio </a:t>
            </a: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3733920"/>
                <a:ext cx="236196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87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90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93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96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99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11-16T14:46:04Z</dcterms:modified>
  <cp:revision>38</cp:revision>
  <dc:subject/>
  <dc:title>GF515 Modelación atmosférica orientada a la dispersión de contaminantes</dc:title>
</cp:coreProperties>
</file>