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18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7.jpeg" ContentType="image/jpeg"/>
  <Override PartName="/ppt/media/image16.jpeg" ContentType="image/jpeg"/>
  <Override PartName="/ppt/media/image24.wmf" ContentType="image/x-wmf"/>
  <Override PartName="/ppt/media/image1.wmf" ContentType="image/x-wmf"/>
  <Override PartName="/ppt/media/image2.jpeg" ContentType="image/jpeg"/>
  <Override PartName="/ppt/media/image25.wmf" ContentType="image/x-wmf"/>
  <Override PartName="/ppt/media/image23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BA5-087A-49BC-A6C2-1AD914A3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940-9727-4055-864D-C1F84E15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2F4-9F68-42CA-8EE1-A46A9632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7F4-FD42-43E9-AD8B-C1F1A699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791-8998-445E-A4C1-2145DF3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CAB-9C62-4BDC-9E63-363B841D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41D-3D80-4758-94DE-CD530BE1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774-24F0-450A-A23C-11B566E0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EE4-AB8D-40FA-919B-F6A6AB0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E3F-17CA-45C3-821D-163C599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A3B-2D8B-457D-8C50-252F77D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EA8-2D84-4226-9EC4-B42EA1D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586-8823-4B80-9968-EC42848F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osis.net/members/journals/df/abstract.php?a_id=263" TargetMode="External"/><Relationship Id="rId2" Type="http://schemas.openxmlformats.org/officeDocument/2006/relationships/hyperlink" Target="http://www.cmm.uchile.cl/umesam" TargetMode="External"/><Relationship Id="rId3" Type="http://schemas.openxmlformats.org/officeDocument/2006/relationships/hyperlink" Target="http://earthobservatory.nasa.gov/Library/Aerosols/" TargetMode="External"/><Relationship Id="rId4" Type="http://schemas.openxmlformats.org/officeDocument/2006/relationships/hyperlink" Target="http://www.copernicus.org/EGU/acp/acpd/5/481/acpd-5-481_p.pdf" TargetMode="External"/><Relationship Id="rId5" Type="http://schemas.openxmlformats.org/officeDocument/2006/relationships/hyperlink" Target="http://www.epa.gov/methane/sources.html" TargetMode="External"/><Relationship Id="rId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78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8320" y="2743200"/>
            <a:ext cx="4038480" cy="2209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s de remo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7600" y="261000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1181160" cy="1199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43800" y="21337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49400" y="428616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343400"/>
            <a:ext cx="13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U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05720" y="4572000"/>
            <a:ext cx="1181160" cy="120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62840" y="17524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77320" y="350532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93760" y="914400"/>
            <a:ext cx="83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moción de gases y aerosoles por hidrometeo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76720" y="1905120"/>
            <a:ext cx="4281480" cy="2057400"/>
            <a:chOff x="3276720" y="1905120"/>
            <a:chExt cx="4281480" cy="2057400"/>
          </a:xfrm>
        </p:grpSpPr>
        <p:sp>
          <p:nvSpPr>
            <p:cNvPr id="96" name=""/>
            <p:cNvSpPr/>
            <p:nvPr/>
          </p:nvSpPr>
          <p:spPr>
            <a:xfrm>
              <a:off x="3276720" y="1981080"/>
              <a:ext cx="609480" cy="198144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4240" y="1905120"/>
              <a:ext cx="30639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ub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Gotas de neblin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luv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ie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600" y="3296160"/>
            <a:ext cx="8634600" cy="2863080"/>
            <a:chOff x="57600" y="3296160"/>
            <a:chExt cx="8634600" cy="2863080"/>
          </a:xfrm>
        </p:grpSpPr>
        <p:sp>
          <p:nvSpPr>
            <p:cNvPr id="99" name=""/>
            <p:cNvSpPr/>
            <p:nvPr/>
          </p:nvSpPr>
          <p:spPr>
            <a:xfrm rot="5456400">
              <a:off x="4342320" y="533880"/>
              <a:ext cx="914400" cy="777096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202320 h 7770960"/>
                <a:gd name="textAreaBottom" fmla="*/ 7568640 h 77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410000">
              <a:off x="-1080" y="4493160"/>
              <a:ext cx="4205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O en estado condensa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9279800">
              <a:off x="5006520" y="4276440"/>
              <a:ext cx="3320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Arrastre/Scaveng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0760" y="56386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Transformaciones de fase y 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gua atmosférica y llu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ce" descr=""/>
          <p:cNvPicPr/>
          <p:nvPr/>
        </p:nvPicPr>
        <p:blipFill>
          <a:blip r:embed="rId1"/>
          <a:stretch/>
        </p:blipFill>
        <p:spPr>
          <a:xfrm>
            <a:off x="68580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5" name="liqw" descr=""/>
          <p:cNvPicPr/>
          <p:nvPr/>
        </p:nvPicPr>
        <p:blipFill>
          <a:blip r:embed="rId2"/>
          <a:stretch/>
        </p:blipFill>
        <p:spPr>
          <a:xfrm>
            <a:off x="3948120" y="2695680"/>
            <a:ext cx="1504800" cy="1770120"/>
          </a:xfrm>
          <a:prstGeom prst="rect">
            <a:avLst/>
          </a:prstGeom>
          <a:ln w="0">
            <a:noFill/>
          </a:ln>
        </p:spPr>
      </p:pic>
      <p:pic>
        <p:nvPicPr>
          <p:cNvPr id="106" name="watv" descr=""/>
          <p:cNvPicPr/>
          <p:nvPr/>
        </p:nvPicPr>
        <p:blipFill>
          <a:blip r:embed="rId3"/>
          <a:stretch/>
        </p:blipFill>
        <p:spPr>
          <a:xfrm>
            <a:off x="6629400" y="2685960"/>
            <a:ext cx="1504800" cy="1779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gua (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es un compuesto con una estructura dipolar que se presenta en la atmósfera en fases sólida, líquida y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3000" y="4084920"/>
            <a:ext cx="8895240" cy="4301280"/>
            <a:chOff x="243000" y="4084920"/>
            <a:chExt cx="8895240" cy="4301280"/>
          </a:xfrm>
        </p:grpSpPr>
        <p:sp>
          <p:nvSpPr>
            <p:cNvPr id="109" name=""/>
            <p:cNvSpPr/>
            <p:nvPr/>
          </p:nvSpPr>
          <p:spPr>
            <a:xfrm>
              <a:off x="3200400" y="5099040"/>
              <a:ext cx="5410080" cy="520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Gota de lluvia (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 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,1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3000" y="4084920"/>
              <a:ext cx="8895240" cy="4301280"/>
              <a:chOff x="243000" y="4084920"/>
              <a:chExt cx="8895240" cy="43012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1879200" y="4084920"/>
                <a:ext cx="4322520" cy="4301280"/>
                <a:chOff x="1879200" y="4084920"/>
                <a:chExt cx="4322520" cy="4301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470320" y="4495680"/>
                  <a:ext cx="27720" cy="21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648760" y="4495680"/>
                  <a:ext cx="142200" cy="1087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8963600">
                  <a:off x="2311920" y="4914360"/>
                  <a:ext cx="3456720" cy="2642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243000" y="5556240"/>
                <a:ext cx="571932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Núcleo de condensación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.1 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74640" y="4648320"/>
                <a:ext cx="3963600" cy="520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Gota de nube (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0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, 10</a:t>
                </a:r>
                <a:r>
                  <a:rPr b="0" lang="es-ES_tradnl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6</a:t>
                </a: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447920" y="4571640"/>
                <a:ext cx="1066680" cy="10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flipV="1">
                <a:off x="5867280" y="4571640"/>
                <a:ext cx="91440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4191120" y="4800600"/>
                <a:ext cx="15228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ara que llue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8748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gotas deben crecer. Esto requi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siones y coalesc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ciones entre gotas de agua y cristales de hi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que se den estos procesos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Aeros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vimiento verticales (ascenso y descen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0"/>
            <a:ext cx="88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Hilding Köhler (1921)...: el agua NO condensa espontáneamente en a atmósfera...debe haber solutos/aero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3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886200" cy="269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7920" y="0"/>
            <a:ext cx="667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://www.igac.noaa.gov/newsletter/23/facchini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00800" y="2590920"/>
            <a:ext cx="2514240" cy="4029840"/>
            <a:chOff x="6400800" y="2590920"/>
            <a:chExt cx="2514240" cy="4029840"/>
          </a:xfrm>
        </p:grpSpPr>
        <p:grpSp>
          <p:nvGrpSpPr>
            <p:cNvPr id="129" name=""/>
            <p:cNvGrpSpPr/>
            <p:nvPr/>
          </p:nvGrpSpPr>
          <p:grpSpPr>
            <a:xfrm>
              <a:off x="7010280" y="3429000"/>
              <a:ext cx="1904760" cy="3191760"/>
              <a:chOff x="7010280" y="3429000"/>
              <a:chExt cx="1904760" cy="3191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10280" y="3429000"/>
                <a:ext cx="1792800" cy="152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7110360" y="5002200"/>
                <a:ext cx="1804680" cy="1618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000000"/>
                    </a:solidFill>
                    <a:latin typeface="Times New Roman"/>
                  </a:rPr>
                  <a:t>M. Cristina Facchini et al (1999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Times New Roman"/>
                  </a:rPr>
                  <a:t>Dr. Química, Bologn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400800" y="2590920"/>
              <a:ext cx="83808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38560" y="1256400"/>
            <a:ext cx="1617840" cy="651240"/>
            <a:chOff x="3238560" y="1256400"/>
            <a:chExt cx="1617840" cy="651240"/>
          </a:xfrm>
        </p:grpSpPr>
        <p:sp>
          <p:nvSpPr>
            <p:cNvPr id="134" name=""/>
            <p:cNvSpPr/>
            <p:nvPr/>
          </p:nvSpPr>
          <p:spPr>
            <a:xfrm>
              <a:off x="3505320" y="1447920"/>
              <a:ext cx="135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3238560" y="1256400"/>
              <a:ext cx="989640" cy="30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92160" y="2966760"/>
            <a:ext cx="2532240" cy="1912680"/>
            <a:chOff x="2792160" y="2966760"/>
            <a:chExt cx="2532240" cy="1912680"/>
          </a:xfrm>
        </p:grpSpPr>
        <p:sp>
          <p:nvSpPr>
            <p:cNvPr id="137" name=""/>
            <p:cNvSpPr/>
            <p:nvPr/>
          </p:nvSpPr>
          <p:spPr>
            <a:xfrm>
              <a:off x="2818080" y="4419720"/>
              <a:ext cx="2506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organic+Orga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92160" y="2966760"/>
              <a:ext cx="816120" cy="145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reactores nubo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48080" y="0"/>
            <a:ext cx="47959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426708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2720" y="0"/>
            <a:ext cx="45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Húme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733320"/>
            <a:ext cx="8610480" cy="947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uelve una amplia gama de escalas y procesos, desde la mi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sta la macroescala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" y="1676520"/>
            <a:ext cx="8582400" cy="1175760"/>
            <a:chOff x="334800" y="1676520"/>
            <a:chExt cx="8582400" cy="1175760"/>
          </a:xfrm>
        </p:grpSpPr>
        <p:sp>
          <p:nvSpPr>
            <p:cNvPr id="145" name=""/>
            <p:cNvSpPr/>
            <p:nvPr/>
          </p:nvSpPr>
          <p:spPr>
            <a:xfrm>
              <a:off x="334800" y="2209680"/>
              <a:ext cx="8582400" cy="64260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¡Estos procesos requieren ser parametrizados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2520" y="1676520"/>
              <a:ext cx="304560" cy="609480"/>
            </a:xfrm>
            <a:prstGeom prst="lightningBol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39680" y="3200400"/>
            <a:ext cx="7736400" cy="3061080"/>
            <a:chOff x="1039680" y="3200400"/>
            <a:chExt cx="7736400" cy="3061080"/>
          </a:xfrm>
        </p:grpSpPr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438280" y="3200400"/>
                  <a:ext cx="3962520" cy="16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Λ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9" name=""/>
            <p:cNvSpPr/>
            <p:nvPr/>
          </p:nvSpPr>
          <p:spPr>
            <a:xfrm>
              <a:off x="1039680" y="5192640"/>
              <a:ext cx="699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oeficiente de remoción/ “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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olubilidad, hidrometeoro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6600" y="426708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ípicam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Húme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1496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4500720" y="2133720"/>
            <a:ext cx="4338720" cy="2062800"/>
            <a:chOff x="4500720" y="2133720"/>
            <a:chExt cx="4338720" cy="2062800"/>
          </a:xfrm>
        </p:grpSpPr>
        <p:sp>
          <p:nvSpPr>
            <p:cNvPr id="154" name=""/>
            <p:cNvSpPr/>
            <p:nvPr/>
          </p:nvSpPr>
          <p:spPr>
            <a:xfrm>
              <a:off x="5008680" y="2152800"/>
              <a:ext cx="3830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“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In cloud scavenging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Ley de Hen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2133720"/>
              <a:ext cx="431640" cy="194292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67280" y="4149720"/>
            <a:ext cx="5073480" cy="2014560"/>
            <a:chOff x="4067280" y="4149720"/>
            <a:chExt cx="5073480" cy="2014560"/>
          </a:xfrm>
        </p:grpSpPr>
        <p:sp>
          <p:nvSpPr>
            <p:cNvPr id="157" name=""/>
            <p:cNvSpPr/>
            <p:nvPr/>
          </p:nvSpPr>
          <p:spPr>
            <a:xfrm>
              <a:off x="4505400" y="4149720"/>
              <a:ext cx="4635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“</a:t>
              </a: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Sub-cloud scavenging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Inerci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cc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3300"/>
                  </a:solidFill>
                  <a:latin typeface="Times New Roman"/>
                </a:rPr>
                <a:t>Col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4221000"/>
              <a:ext cx="431640" cy="1943280"/>
            </a:xfrm>
            <a:custGeom>
              <a:avLst/>
              <a:gdLst>
                <a:gd name="textAreaLeft" fmla="*/ 0 w 431640"/>
                <a:gd name="textAreaRight" fmla="*/ 155880 w 431640"/>
                <a:gd name="textAreaTop" fmla="*/ 50400 h 1943280"/>
                <a:gd name="textAreaBottom" fmla="*/ 189288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97000"/>
            <a:ext cx="7773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Decibamus hier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: OZONO y capacidad oxidativa de la atmósf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ecanismos de remoción (Deposi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húm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t only collecto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181160" cy="120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485800" cy="335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209680" cy="2068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56360" y="4038480"/>
            <a:ext cx="258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¡Hay mé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medició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06440" y="5562720"/>
            <a:ext cx="144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=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451944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87480" y="19368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en Chile cuá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5715000" cy="39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63836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04920" y="-360"/>
            <a:ext cx="8610120" cy="6324120"/>
            <a:chOff x="304920" y="-360"/>
            <a:chExt cx="8610120" cy="6324120"/>
          </a:xfrm>
        </p:grpSpPr>
        <p:sp>
          <p:nvSpPr>
            <p:cNvPr id="172" name=""/>
            <p:cNvSpPr/>
            <p:nvPr/>
          </p:nvSpPr>
          <p:spPr>
            <a:xfrm>
              <a:off x="1850040" y="6138000"/>
              <a:ext cx="59616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9000" y="410868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29000" y="51368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9000" y="256824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53440" y="53730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amin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3440" y="4372200"/>
              <a:ext cx="28710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Superfi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4040" y="38581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apa Lím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3440" y="1289520"/>
              <a:ext cx="2871000" cy="79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Tropósfera Li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29000" y="513720"/>
              <a:ext cx="5961600" cy="180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6760" y="2568240"/>
              <a:ext cx="144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26760" y="4372200"/>
              <a:ext cx="1440" cy="18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850040" y="-360"/>
              <a:ext cx="1440" cy="632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920" y="488628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920" y="3859920"/>
              <a:ext cx="1105200" cy="52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2317680"/>
              <a:ext cx="1105200" cy="52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 k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 txBox="1"/>
          <p:nvPr/>
        </p:nvSpPr>
        <p:spPr>
          <a:xfrm rot="17682600">
            <a:off x="6286320" y="4017960"/>
            <a:ext cx="3419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lujos  turbulento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4284720" cy="4221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422600" y="0"/>
            <a:ext cx="46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álogo de Ley de O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17080" y="177336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17080" y="292428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17080" y="4076640"/>
            <a:ext cx="352080" cy="647640"/>
          </a:xfrm>
          <a:custGeom>
            <a:avLst/>
            <a:gdLst/>
            <a:ahLst/>
            <a:rect l="l" t="t" r="r" b="b"/>
            <a:pathLst>
              <a:path w="222" h="408">
                <a:moveTo>
                  <a:pt x="26" y="0"/>
                </a:moveTo>
                <a:cubicBezTo>
                  <a:pt x="30" y="36"/>
                  <a:pt x="38" y="72"/>
                  <a:pt x="38" y="108"/>
                </a:cubicBezTo>
                <a:cubicBezTo>
                  <a:pt x="38" y="141"/>
                  <a:pt x="0" y="152"/>
                  <a:pt x="50" y="180"/>
                </a:cubicBezTo>
                <a:cubicBezTo>
                  <a:pt x="75" y="194"/>
                  <a:pt x="106" y="197"/>
                  <a:pt x="134" y="204"/>
                </a:cubicBezTo>
                <a:cubicBezTo>
                  <a:pt x="158" y="209"/>
                  <a:pt x="182" y="212"/>
                  <a:pt x="206" y="216"/>
                </a:cubicBezTo>
                <a:cubicBezTo>
                  <a:pt x="34" y="245"/>
                  <a:pt x="14" y="233"/>
                  <a:pt x="146" y="252"/>
                </a:cubicBezTo>
                <a:cubicBezTo>
                  <a:pt x="114" y="256"/>
                  <a:pt x="30" y="239"/>
                  <a:pt x="50" y="264"/>
                </a:cubicBezTo>
                <a:cubicBezTo>
                  <a:pt x="82" y="304"/>
                  <a:pt x="222" y="270"/>
                  <a:pt x="194" y="312"/>
                </a:cubicBezTo>
                <a:cubicBezTo>
                  <a:pt x="163" y="359"/>
                  <a:pt x="82" y="304"/>
                  <a:pt x="26" y="300"/>
                </a:cubicBezTo>
                <a:cubicBezTo>
                  <a:pt x="63" y="356"/>
                  <a:pt x="50" y="322"/>
                  <a:pt x="50" y="40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4360" y="144792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sistencia 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los flujos turbu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38600" y="2924280"/>
            <a:ext cx="3907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r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s flujos viscosos/lamin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8600" y="429264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istencia Fisiológica/Quí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360" y="5157720"/>
            <a:ext cx="415944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4067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osición Se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6480" y="836640"/>
            <a:ext cx="2324880" cy="1019880"/>
            <a:chOff x="546480" y="836640"/>
            <a:chExt cx="2324880" cy="1019880"/>
          </a:xfrm>
        </p:grpSpPr>
        <p:grpSp>
          <p:nvGrpSpPr>
            <p:cNvPr id="199" name=""/>
            <p:cNvGrpSpPr/>
            <p:nvPr/>
          </p:nvGrpSpPr>
          <p:grpSpPr>
            <a:xfrm>
              <a:off x="546480" y="836640"/>
              <a:ext cx="2324880" cy="1019880"/>
              <a:chOff x="546480" y="836640"/>
              <a:chExt cx="2324880" cy="1019880"/>
            </a:xfrm>
          </p:grpSpPr>
          <p:sp>
            <p:nvSpPr>
              <p:cNvPr id="200" name=""/>
              <p:cNvSpPr/>
              <p:nvPr/>
            </p:nvSpPr>
            <p:spPr>
              <a:xfrm>
                <a:off x="546480" y="1270800"/>
                <a:ext cx="400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7960" y="1396800"/>
                <a:ext cx="3834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08960" y="836640"/>
                <a:ext cx="2829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31240" y="1238400"/>
              <a:ext cx="1375200" cy="560160"/>
              <a:chOff x="831240" y="1238400"/>
              <a:chExt cx="1375200" cy="560160"/>
            </a:xfrm>
          </p:grpSpPr>
          <p:sp>
            <p:nvSpPr>
              <p:cNvPr id="204" name=""/>
              <p:cNvSpPr/>
              <p:nvPr/>
            </p:nvSpPr>
            <p:spPr>
              <a:xfrm>
                <a:off x="1039320" y="1238400"/>
                <a:ext cx="90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31240" y="1238400"/>
                <a:ext cx="1375200" cy="560160"/>
                <a:chOff x="831240" y="1238400"/>
                <a:chExt cx="1375200" cy="5601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39320" y="1238400"/>
                  <a:ext cx="0" cy="18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831240" y="1238400"/>
                  <a:ext cx="1375200" cy="560160"/>
                  <a:chOff x="831240" y="1238400"/>
                  <a:chExt cx="1375200" cy="5601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831240" y="1424880"/>
                    <a:ext cx="48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970200" y="1549440"/>
                    <a:ext cx="208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039320" y="1238400"/>
                    <a:ext cx="1167120" cy="560160"/>
                    <a:chOff x="1039320" y="1238400"/>
                    <a:chExt cx="1167120" cy="56016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039320" y="1798560"/>
                      <a:ext cx="901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885680" y="1253880"/>
                      <a:ext cx="320760" cy="52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408">
                          <a:moveTo>
                            <a:pt x="26" y="0"/>
                          </a:moveTo>
                          <a:cubicBezTo>
                            <a:pt x="30" y="36"/>
                            <a:pt x="38" y="72"/>
                            <a:pt x="38" y="108"/>
                          </a:cubicBezTo>
                          <a:cubicBezTo>
                            <a:pt x="38" y="141"/>
                            <a:pt x="0" y="152"/>
                            <a:pt x="50" y="180"/>
                          </a:cubicBezTo>
                          <a:cubicBezTo>
                            <a:pt x="75" y="194"/>
                            <a:pt x="106" y="197"/>
                            <a:pt x="134" y="204"/>
                          </a:cubicBezTo>
                          <a:cubicBezTo>
                            <a:pt x="158" y="209"/>
                            <a:pt x="182" y="212"/>
                            <a:pt x="206" y="216"/>
                          </a:cubicBezTo>
                          <a:cubicBezTo>
                            <a:pt x="34" y="245"/>
                            <a:pt x="14" y="233"/>
                            <a:pt x="146" y="252"/>
                          </a:cubicBezTo>
                          <a:cubicBezTo>
                            <a:pt x="114" y="256"/>
                            <a:pt x="30" y="239"/>
                            <a:pt x="50" y="264"/>
                          </a:cubicBezTo>
                          <a:cubicBezTo>
                            <a:pt x="82" y="304"/>
                            <a:pt x="222" y="270"/>
                            <a:pt x="194" y="312"/>
                          </a:cubicBezTo>
                          <a:cubicBezTo>
                            <a:pt x="163" y="359"/>
                            <a:pt x="82" y="304"/>
                            <a:pt x="26" y="300"/>
                          </a:cubicBezTo>
                          <a:cubicBezTo>
                            <a:pt x="63" y="356"/>
                            <a:pt x="50" y="322"/>
                            <a:pt x="50" y="40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39320" y="1549080"/>
                      <a:ext cx="0" cy="248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247040" y="1238400"/>
                      <a:ext cx="346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5" name=""/>
          <p:cNvGrpSpPr/>
          <p:nvPr/>
        </p:nvGrpSpPr>
        <p:grpSpPr>
          <a:xfrm>
            <a:off x="8101080" y="1484280"/>
            <a:ext cx="1042920" cy="3889440"/>
            <a:chOff x="8101080" y="1484280"/>
            <a:chExt cx="1042920" cy="3889440"/>
          </a:xfrm>
        </p:grpSpPr>
        <p:sp>
          <p:nvSpPr>
            <p:cNvPr id="216" name=""/>
            <p:cNvSpPr/>
            <p:nvPr/>
          </p:nvSpPr>
          <p:spPr>
            <a:xfrm>
              <a:off x="8388360" y="1484280"/>
              <a:ext cx="1440" cy="388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01080" y="5373720"/>
              <a:ext cx="104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060640"/>
                <a:ext cx="128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V</m:t>
                    </m:r>
                    <m:r>
                      <m:t xml:space="preserve">=</m:t>
                    </m:r>
                    <m: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sición Se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33000" y="2178000"/>
            <a:ext cx="342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hay méto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andariz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tamiento en mod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modelos se parametriza en términos de una “velocidad” o tasa de deposición según el medio subyacente, la estabilidad, etc. y típicamente se impone como condición de borde inf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2000" y="4641840"/>
                <a:ext cx="40323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*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1684440" cy="1163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48436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635280" y="2133720"/>
            <a:ext cx="1608120" cy="177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iempo de recambio c/r deposi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140360" y="1773360"/>
                <a:ext cx="1944360" cy="15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24000" y="3789360"/>
            <a:ext cx="4159080" cy="1480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=C/R=C v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Por convención a 10 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940360" y="3716280"/>
                <a:ext cx="2303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p_sec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803160" y="553716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Y con respecto a la deposición húme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RABAJOS Y GRU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072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Pronóstico del tiempo químico: ¿cuál es el estado del arte?, ¿qué se está haciendo en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cosis.net/members/journals/df/abstract.php?a_id=2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ptimización de inventarios de emisiones de fuentes móviles: necesidades y aproximaciones metodológic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cmm.uchile.cl/umes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Aerosoles y nubes: ¿puede haber una perturbación antrópica de los estratocúmulos costa afuera de Chile?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earthobservatory.nasa.gov/Library/Aerosols/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Quema de biomasa y pirocúmulus en el Amazonas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opernicus.org/EGU/acp/acpd/5/481/acpd-5-481_p.pdf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Volcanes andinos: ¿qué implican para la química atmosférica a escalas local, regional y global? Mather, T. A., V. I. Tsanev, D. M. Pyle, A. J. S. McGonigle, C. Oppenheimer, and A. G. Allen (2004), Characterization and evolution of tropospheric plumes from Lascar and Villarrica volcanoes, Chile, J. Geophys. Res., 109, D21303, doi:10.1029/2004JD00493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La producción de arroz, las termitas, el gas natural y el cambio climático. Punto de partida: </a:t>
            </a:r>
            <a:r>
              <a:rPr b="0" lang="es-E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epa.gov/methane/sourc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</a:rPr>
              <a:t>Otro tema a acordar con la pro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040" y="316080"/>
            <a:ext cx="8305920" cy="6224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R: Tropospheric Ozone Residual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http://asd-www.larc.nasa.gov/TOR/data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9989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914400" y="1828800"/>
            <a:ext cx="7924680" cy="3657600"/>
            <a:chOff x="914400" y="1828800"/>
            <a:chExt cx="7924680" cy="3657600"/>
          </a:xfrm>
        </p:grpSpPr>
        <p:sp>
          <p:nvSpPr>
            <p:cNvPr id="62" name=""/>
            <p:cNvSpPr/>
            <p:nvPr/>
          </p:nvSpPr>
          <p:spPr>
            <a:xfrm>
              <a:off x="1905120" y="182880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14400" y="4343400"/>
              <a:ext cx="76212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77320" y="4267080"/>
              <a:ext cx="761760" cy="114300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rmación de O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" y="2743200"/>
                <a:ext cx="82360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315nm</m:t>
                        </m:r>
                      </m:e>
                      <m:e>
                        <m:r>
                          <m:t xml:space="preserve">O</m:t>
                        </m:r>
                        <m:sSup>
                          <m:e>
                            <m:r>
                              <m:t xml:space="preserve">(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O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676520" y="2438280"/>
            <a:ext cx="76176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3200400"/>
            <a:ext cx="1295280" cy="1143000"/>
          </a:xfrm>
          <a:prstGeom prst="ellipse">
            <a:avLst/>
          </a:prstGeom>
          <a:noFill/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" y="4902120"/>
            <a:ext cx="728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radical OH es el “detergente” de la atmósfe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el agente que le da su carácter oxid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bu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Absorbe radiación UV y así protege los tejidos viv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olabora en el calentamiento global del planeta (lo hace habi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s responsable de la capacidad de limpieza de la tropósf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troposférico, lo m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U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bsorbe radiación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Químicamente re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1981080"/>
            <a:ext cx="3809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Hay regiones donde está aumentando y colabora en el calentamiento global “extra” del planet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En grandes cantidades es corrosivo e irrita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 desbalance puede inducir cambios en otras espec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23:28:45Z</dcterms:created>
  <dc:creator>Laura Gallardo Klenner</dc:creator>
  <dc:description/>
  <dc:language>en-US</dc:language>
  <cp:lastModifiedBy>LGK</cp:lastModifiedBy>
  <cp:lastPrinted>2001-05-02T19:27:25Z</cp:lastPrinted>
  <dcterms:modified xsi:type="dcterms:W3CDTF">2005-09-21T19:34:13Z</dcterms:modified>
  <cp:revision>28</cp:revision>
  <dc:subject/>
  <dc:title>Transformaciones</dc:title>
</cp:coreProperties>
</file>