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18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.jpeg" ContentType="image/jpeg"/>
  <Override PartName="/ppt/media/image25.wmf" ContentType="image/x-wmf"/>
  <Override PartName="/ppt/media/image23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333-2A4B-4474-97A4-F1CF4CDE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FAB-8AFE-49B4-A925-89621605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B4B-A419-4553-AA43-BBD6DFE6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B12-4A13-4855-9299-6E0C693B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62B-3E0D-47B8-BB0A-DDAF1F3D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C98-E5F2-443B-910D-F3DEBE8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D9F-3FA0-4300-BB57-E64643FE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679-0888-43A3-BF39-8D6AA191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AD3-5A89-44AD-B337-5F05D306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FED-A72A-4CD3-BC3D-0F71AF31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94D-6F7A-4226-99EC-488FECA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75F-B270-4357-AD41-4E90CE3E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3D7A-6CD5-4846-B3FA-F2B23AE6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osis.net/members/journals/df/abstract.php?a_id=263" TargetMode="External"/><Relationship Id="rId2" Type="http://schemas.openxmlformats.org/officeDocument/2006/relationships/hyperlink" Target="http://www.cmm.uchile.cl/umesam" TargetMode="External"/><Relationship Id="rId3" Type="http://schemas.openxmlformats.org/officeDocument/2006/relationships/hyperlink" Target="http://earthobservatory.nasa.gov/Library/Aerosols/" TargetMode="External"/><Relationship Id="rId4" Type="http://schemas.openxmlformats.org/officeDocument/2006/relationships/hyperlink" Target="http://www.copernicus.org/EGU/acp/acpd/5/481/acpd-5-481_p.pdf" TargetMode="External"/><Relationship Id="rId5" Type="http://schemas.openxmlformats.org/officeDocument/2006/relationships/hyperlink" Target="http://www.epa.gov/methane/sources.html" TargetMode="External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78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8320" y="2743200"/>
            <a:ext cx="4038480" cy="2209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s de remo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7600" y="26100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1181160" cy="119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9400" y="42861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343400"/>
            <a:ext cx="13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11811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96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99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ua atmosférica y llu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ce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5" name="liqw" descr=""/>
          <p:cNvPicPr/>
          <p:nvPr/>
        </p:nvPicPr>
        <p:blipFill>
          <a:blip r:embed="rId2"/>
          <a:stretch/>
        </p:blipFill>
        <p:spPr>
          <a:xfrm>
            <a:off x="394812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6" name="watv" descr=""/>
          <p:cNvPicPr/>
          <p:nvPr/>
        </p:nvPicPr>
        <p:blipFill>
          <a:blip r:embed="rId3"/>
          <a:stretch/>
        </p:blipFill>
        <p:spPr>
          <a:xfrm>
            <a:off x="6629400" y="2685960"/>
            <a:ext cx="1504800" cy="1779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(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es un compuesto con una estructura dipolar que se presenta en la atmósfera en fases sólida, líquida y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000" y="4084920"/>
            <a:ext cx="8895240" cy="4301280"/>
            <a:chOff x="243000" y="4084920"/>
            <a:chExt cx="8895240" cy="4301280"/>
          </a:xfrm>
        </p:grpSpPr>
        <p:sp>
          <p:nvSpPr>
            <p:cNvPr id="109" name=""/>
            <p:cNvSpPr/>
            <p:nvPr/>
          </p:nvSpPr>
          <p:spPr>
            <a:xfrm>
              <a:off x="3200400" y="5099040"/>
              <a:ext cx="5410080" cy="520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Gota de lluvia (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3000" y="4084920"/>
              <a:ext cx="8895240" cy="4301280"/>
              <a:chOff x="243000" y="4084920"/>
              <a:chExt cx="8895240" cy="430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879200" y="4084920"/>
                <a:ext cx="4322520" cy="4301280"/>
                <a:chOff x="1879200" y="4084920"/>
                <a:chExt cx="4322520" cy="4301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470320" y="4495680"/>
                  <a:ext cx="27720" cy="21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648760" y="4495680"/>
                  <a:ext cx="142200" cy="1087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8963600">
                  <a:off x="2311920" y="4914360"/>
                  <a:ext cx="3456720" cy="264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43000" y="5556240"/>
                <a:ext cx="571932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Núcleo de condensación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 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74640" y="4648320"/>
                <a:ext cx="396360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Gota de nube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447920" y="4571640"/>
                <a:ext cx="106668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5867280" y="4571640"/>
                <a:ext cx="9144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191120" y="4800600"/>
                <a:ext cx="15228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ra que llu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8748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otas deben crecer. Esto requ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iones y coalesc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entre gotas de agua y cristale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den estos procesos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vimiento verticales (ascenso y des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88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ilding Köhler (1921)...: el agua NO condensa espontáneamente en a atmósfera...debe haber solutos/aero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86200" cy="269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920" y="0"/>
            <a:ext cx="667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igac.noaa.gov/newsletter/23/facchini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0800" y="2590920"/>
            <a:ext cx="2514240" cy="4029840"/>
            <a:chOff x="6400800" y="2590920"/>
            <a:chExt cx="2514240" cy="4029840"/>
          </a:xfrm>
        </p:grpSpPr>
        <p:grpSp>
          <p:nvGrpSpPr>
            <p:cNvPr id="129" name=""/>
            <p:cNvGrpSpPr/>
            <p:nvPr/>
          </p:nvGrpSpPr>
          <p:grpSpPr>
            <a:xfrm>
              <a:off x="7010280" y="3429000"/>
              <a:ext cx="1904760" cy="3191760"/>
              <a:chOff x="7010280" y="3429000"/>
              <a:chExt cx="1904760" cy="3191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3429000"/>
                <a:ext cx="1792800" cy="15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110360" y="5002200"/>
                <a:ext cx="1804680" cy="161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M. Cristina Facchini et al (1999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Dr. Química, Bolog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400800" y="2590920"/>
              <a:ext cx="838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38560" y="1256400"/>
            <a:ext cx="1617840" cy="651240"/>
            <a:chOff x="3238560" y="1256400"/>
            <a:chExt cx="1617840" cy="651240"/>
          </a:xfrm>
        </p:grpSpPr>
        <p:sp>
          <p:nvSpPr>
            <p:cNvPr id="134" name=""/>
            <p:cNvSpPr/>
            <p:nvPr/>
          </p:nvSpPr>
          <p:spPr>
            <a:xfrm>
              <a:off x="3505320" y="144792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238560" y="1256400"/>
              <a:ext cx="989640" cy="3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92160" y="2966760"/>
            <a:ext cx="2532240" cy="1912680"/>
            <a:chOff x="2792160" y="2966760"/>
            <a:chExt cx="2532240" cy="1912680"/>
          </a:xfrm>
        </p:grpSpPr>
        <p:sp>
          <p:nvSpPr>
            <p:cNvPr id="137" name=""/>
            <p:cNvSpPr/>
            <p:nvPr/>
          </p:nvSpPr>
          <p:spPr>
            <a:xfrm>
              <a:off x="2818080" y="4419720"/>
              <a:ext cx="2506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+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92160" y="2966760"/>
              <a:ext cx="816120" cy="14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reactores nub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733320"/>
            <a:ext cx="861048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uelve una amplia gama de escalas y procesos, desde la mi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ta la ma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" y="1676520"/>
            <a:ext cx="8582400" cy="1175760"/>
            <a:chOff x="334800" y="1676520"/>
            <a:chExt cx="8582400" cy="1175760"/>
          </a:xfrm>
        </p:grpSpPr>
        <p:sp>
          <p:nvSpPr>
            <p:cNvPr id="145" name=""/>
            <p:cNvSpPr/>
            <p:nvPr/>
          </p:nvSpPr>
          <p:spPr>
            <a:xfrm>
              <a:off x="334800" y="2209680"/>
              <a:ext cx="8582400" cy="64260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¡Estos procesos requieren ser parametrizado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1676520"/>
              <a:ext cx="304560" cy="609480"/>
            </a:xfrm>
            <a:prstGeom prst="lightningBol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39680" y="3200400"/>
            <a:ext cx="7736400" cy="3061080"/>
            <a:chOff x="1039680" y="3200400"/>
            <a:chExt cx="7736400" cy="306108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438280" y="3200400"/>
                  <a:ext cx="3962520" cy="16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1039680" y="5192640"/>
              <a:ext cx="699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eficiente de remoción/ “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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ubilidad, hidrometeor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42670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ípic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149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4500720" y="2133720"/>
            <a:ext cx="4338720" cy="2062800"/>
            <a:chOff x="4500720" y="2133720"/>
            <a:chExt cx="4338720" cy="2062800"/>
          </a:xfrm>
        </p:grpSpPr>
        <p:sp>
          <p:nvSpPr>
            <p:cNvPr id="154" name=""/>
            <p:cNvSpPr/>
            <p:nvPr/>
          </p:nvSpPr>
          <p:spPr>
            <a:xfrm>
              <a:off x="5008680" y="2152800"/>
              <a:ext cx="3830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 cloud 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Ley de Hen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2133720"/>
              <a:ext cx="431640" cy="19429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67280" y="4149720"/>
            <a:ext cx="5073480" cy="2014560"/>
            <a:chOff x="4067280" y="4149720"/>
            <a:chExt cx="5073480" cy="2014560"/>
          </a:xfrm>
        </p:grpSpPr>
        <p:sp>
          <p:nvSpPr>
            <p:cNvPr id="157" name=""/>
            <p:cNvSpPr/>
            <p:nvPr/>
          </p:nvSpPr>
          <p:spPr>
            <a:xfrm>
              <a:off x="4505400" y="4149720"/>
              <a:ext cx="463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“</a:t>
              </a: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Sub-cloud scaveng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Inerci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Col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4221000"/>
              <a:ext cx="431640" cy="194328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3280"/>
                <a:gd name="textAreaBottom" fmla="*/ 189288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9700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cibamus hie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OZONO y capacidad oxidativa de la atmó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canismos de remoción (Depo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úm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t only collecto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48580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209680" cy="2068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56360" y="4038480"/>
            <a:ext cx="258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Hay mé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medi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06440" y="5562720"/>
            <a:ext cx="144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=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451944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87480" y="1936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en Chile cuá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715000" cy="39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63836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04920" y="-360"/>
            <a:ext cx="8610120" cy="6324120"/>
            <a:chOff x="304920" y="-360"/>
            <a:chExt cx="8610120" cy="6324120"/>
          </a:xfrm>
        </p:grpSpPr>
        <p:sp>
          <p:nvSpPr>
            <p:cNvPr id="172" name=""/>
            <p:cNvSpPr/>
            <p:nvPr/>
          </p:nvSpPr>
          <p:spPr>
            <a:xfrm>
              <a:off x="1850040" y="6138000"/>
              <a:ext cx="596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410868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29000" y="51368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9000" y="25682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53440" y="53730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amin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3440" y="43722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Superf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4040" y="38581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ím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3440" y="12895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ropósfera 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9000" y="51372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6760" y="2568240"/>
              <a:ext cx="14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6760" y="4372200"/>
              <a:ext cx="144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850040" y="-360"/>
              <a:ext cx="1440" cy="63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920" y="488628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385992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317680"/>
              <a:ext cx="1105200" cy="52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 rot="17682600">
            <a:off x="6286320" y="401796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lujos  turbulent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99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200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204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5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216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33000" y="2178000"/>
            <a:ext cx="34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hay méto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tamiento en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modelos se parametriza en términos de una “velocidad” o tasa de deposición según el medio subyacente, la estabilidad, etc. y típicamente se impone como condición de borde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2000" y="4641840"/>
                <a:ext cx="403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684440" cy="1163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4843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608120" cy="17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empo de recambio c/r depos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40360" y="1773360"/>
                <a:ext cx="1944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24000" y="3789360"/>
            <a:ext cx="415908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3716280"/>
                <a:ext cx="2303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_se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3160" y="5537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con respecto a la deposición húm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Pronóstico del tiempo químico: ¿cuál es el estado del arte?, ¿qué se está haciendo en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osis.net/members/journals/df/abstract.php?a_id=2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ptimización de inventarios de emisiones de fuentes móviles: necesidades y aproximaciones metodológic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mm.uchile.cl/umes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Aerosoles y nubes: ¿puede haber una perturbación antrópica de los estratocúmulos costa afuera de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earthobservatory.nasa.gov/Library/Aerosols/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Quema de biomasa y pirocúmulus en el Amazon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opernicus.org/EGU/acp/acpd/5/481/acpd-5-481_p.pdf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Volcanes andinos: ¿qué implican para la química atmosférica a escalas local, regional y global? Mather, T. A., V. I. Tsanev, D. M. Pyle, A. J. S. McGonigle, C. Oppenheimer, and A. G. Allen (2004), Characterization and evolution of tropospheric plumes from Lascar and Villarrica volcanoes, Chile, J. Geophys. Res., 109, D21303, doi:10.1029/2004JD00493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La producción de arroz, las termitas, el gas natural y el cambio climático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epa.gov/methane/sourc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tro tema a acordar con la pro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9989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62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rmación de 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2743200"/>
                <a:ext cx="82360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15nm</m:t>
                        </m:r>
                      </m:e>
                      <m:e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O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676520" y="2438280"/>
            <a:ext cx="76176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200400"/>
            <a:ext cx="129528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" y="4902120"/>
            <a:ext cx="728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radical OH es el “detergente” de la atmósfe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agente que le da su carácter oxid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5-09-21T19:34:13Z</dcterms:modified>
  <cp:revision>28</cp:revision>
  <dc:subject/>
  <dc:title>Transformaciones</dc:title>
</cp:coreProperties>
</file>