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png" ContentType="image/png"/>
  <Override PartName="/ppt/media/image11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3.jpeg" ContentType="image/jpeg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8C2C-A5F3-4BF5-ADA0-BF3B2C8B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FD85-386E-4A23-800A-CE316ADF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59C-4A50-43E9-A768-ECC1B966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A3B9-5DB7-488A-965F-31C14FCF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A56-0088-41A5-A770-96761515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EDB6-4007-4346-97B0-2C8640D6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1E5E-1E0A-4B85-98FB-218DC37C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0AE3-BED7-4528-95CA-A2BC7605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9C9-4560-4B85-A01E-040D8565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FE0-8CD5-4E49-9BC2-93A5B805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A40D-8AD2-47CB-B8C8-ACEFB956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1A24-1D4D-40F3-A34E-2925E52C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7192-4B5C-451E-86F5-E97EE17453E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elación atmosférica y dispersión de contaminan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F 515 200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4800600"/>
            <a:ext cx="8763120" cy="2057400"/>
            <a:chOff x="0" y="4800600"/>
            <a:chExt cx="8763120" cy="20574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3657600" y="5105520"/>
              <a:ext cx="94464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4829040"/>
              <a:ext cx="3038400" cy="202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6781680" y="4800600"/>
              <a:ext cx="1981440" cy="1295280"/>
              <a:chOff x="6781680" y="4800600"/>
              <a:chExt cx="1981440" cy="1295280"/>
            </a:xfrm>
          </p:grpSpPr>
          <p:sp>
            <p:nvSpPr>
              <p:cNvPr id="46" name=""/>
              <p:cNvSpPr/>
              <p:nvPr/>
            </p:nvSpPr>
            <p:spPr>
              <a:xfrm>
                <a:off x="6781680" y="4800600"/>
                <a:ext cx="198144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43800" y="5181480"/>
                <a:ext cx="4572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5029200"/>
                <a:ext cx="914400" cy="91440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9" name=""/>
            <p:cNvCxnSpPr/>
            <p:nvPr/>
          </p:nvCxnSpPr>
          <p:spPr>
            <a:xfrm flipV="1">
              <a:off x="3048120" y="5180760"/>
              <a:ext cx="1092960" cy="739080"/>
            </a:xfrm>
            <a:prstGeom prst="bentConnector4">
              <a:avLst>
                <a:gd name="adj1" fmla="val 28336"/>
                <a:gd name="adj2" fmla="val 130945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50" name=""/>
            <p:cNvCxnSpPr>
              <a:stCxn id="43" idx="3"/>
              <a:endCxn id="46" idx="1"/>
            </p:cNvCxnSpPr>
            <p:nvPr/>
          </p:nvCxnSpPr>
          <p:spPr>
            <a:xfrm flipV="1">
              <a:off x="4602240" y="4991040"/>
              <a:ext cx="2179800" cy="704520"/>
            </a:xfrm>
            <a:prstGeom prst="bentConnector3">
              <a:avLst>
                <a:gd name="adj1" fmla="val 49900"/>
              </a:avLst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02040" y="1066680"/>
            <a:ext cx="8400240" cy="1854360"/>
            <a:chOff x="302040" y="1066680"/>
            <a:chExt cx="8400240" cy="1854360"/>
          </a:xfrm>
        </p:grpSpPr>
        <p:sp>
          <p:nvSpPr>
            <p:cNvPr id="106" name=""/>
            <p:cNvSpPr/>
            <p:nvPr/>
          </p:nvSpPr>
          <p:spPr>
            <a:xfrm>
              <a:off x="302040" y="1066680"/>
              <a:ext cx="186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r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360360" y="1600200"/>
                  <a:ext cx="834192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→</m:t>
                          </m:r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kABM</m:t>
                          </m:r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lécul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78000" y="3124080"/>
            <a:ext cx="7432560" cy="1854360"/>
            <a:chOff x="378000" y="3124080"/>
            <a:chExt cx="7432560" cy="1854360"/>
          </a:xfrm>
        </p:grpSpPr>
        <p:sp>
          <p:nvSpPr>
            <p:cNvPr id="110" name=""/>
            <p:cNvSpPr/>
            <p:nvPr/>
          </p:nvSpPr>
          <p:spPr>
            <a:xfrm>
              <a:off x="378000" y="3124080"/>
              <a:ext cx="186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r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1401480" y="3657600"/>
                  <a:ext cx="640908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→</m:t>
                          </m:r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M</m:t>
                          </m:r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lécul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" name=""/>
          <p:cNvSpPr/>
          <p:nvPr/>
        </p:nvSpPr>
        <p:spPr>
          <a:xfrm>
            <a:off x="141480" y="5334120"/>
            <a:ext cx="8413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B. M significa una molécula que actúa como catalizador per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 cambia en la reacción. Típicamente 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280" y="990720"/>
            <a:ext cx="581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asas de las reacciones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bimolecula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ípicamente independientes de la 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cientes respecto de la temperatur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79080" y="2666880"/>
            <a:ext cx="6211800" cy="3233520"/>
            <a:chOff x="379080" y="2666880"/>
            <a:chExt cx="6211800" cy="3233520"/>
          </a:xfrm>
        </p:grpSpPr>
        <p:grpSp>
          <p:nvGrpSpPr>
            <p:cNvPr id="116" name=""/>
            <p:cNvGrpSpPr/>
            <p:nvPr/>
          </p:nvGrpSpPr>
          <p:grpSpPr>
            <a:xfrm>
              <a:off x="379080" y="2666880"/>
              <a:ext cx="5834520" cy="1535400"/>
              <a:chOff x="379080" y="2666880"/>
              <a:chExt cx="5834520" cy="1535400"/>
            </a:xfrm>
          </p:grpSpPr>
          <p:sp>
            <p:nvSpPr>
              <p:cNvPr id="117" name=""/>
              <p:cNvSpPr/>
              <p:nvPr/>
            </p:nvSpPr>
            <p:spPr>
              <a:xfrm>
                <a:off x="379080" y="2666880"/>
                <a:ext cx="194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ormalmente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8" name=""/>
                  <p:cNvSpPr txBox="1"/>
                  <p:nvPr/>
                </p:nvSpPr>
                <p:spPr>
                  <a:xfrm>
                    <a:off x="2971800" y="2743200"/>
                    <a:ext cx="3241800" cy="1459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a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gT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9" name=""/>
            <p:cNvSpPr/>
            <p:nvPr/>
          </p:nvSpPr>
          <p:spPr>
            <a:xfrm>
              <a:off x="678240" y="4343400"/>
              <a:ext cx="5912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: Relacionado con la frecuencia de colisi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a: Energía de activación 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(&lt;50 KJ/mo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g: Constante de los g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k es típicamente menor que 10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Times New Roman"/>
                </a:rPr>
                <a:t>-10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 cm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/molec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981080"/>
            <a:ext cx="83818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escomposición térmi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poco frecuente pues no son muchas las moléculas con enlaces de baja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tipo de reacciones presenta típicamente tasas dependientes tanto de la temperatura como de la presión:  </a:t>
            </a: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k=k(p, 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ada la estratificación atmosférica, este tipo de moléculas  resultan menos estables cerca de la superficie y más estables en las capas sup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82880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cciones de recombina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n el inverso de la disociación molecular y por lo tanto también presentan: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=k(p, T)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 normalmente la dependencia de la temperatura es débil  y/o inversa.Además, requieren típicamente de un tercer cuerpo que se lleve la energía en exce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320" y="54000"/>
            <a:ext cx="47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ciones fotoquím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91440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que una reacción fotoquímica ocurra, energía debe ser incorporada a la molécula (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absor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lo tanto,  la energía de los fotones incidentes debe coincidir con las energías entre los niveles energéticos de la moléc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niveles energéticos se asocian a mo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t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br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vimientos electr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Típicamente, en la atmósfera se requiere de fotones capaces de excitar los niveles electrónicos (IR cercano, visible y U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36600" y="339840"/>
            <a:ext cx="6922800" cy="1252080"/>
            <a:chOff x="336600" y="339840"/>
            <a:chExt cx="6922800" cy="1252080"/>
          </a:xfrm>
        </p:grpSpPr>
        <p:sp>
          <p:nvSpPr>
            <p:cNvPr id="127" name=""/>
            <p:cNvSpPr/>
            <p:nvPr/>
          </p:nvSpPr>
          <p:spPr>
            <a:xfrm>
              <a:off x="336600" y="339840"/>
              <a:ext cx="6922800" cy="12520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Una vez que una molécula AB ha absorbido energía h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3333cc"/>
                  </a:solidFill>
                  <a:latin typeface="Times New Roman"/>
                </a:rPr>
                <a:t>AB+h</a:t>
              </a:r>
              <a:r>
                <a:rPr b="0" lang="es-ES_tradnl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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uede devolverla como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86200" y="990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94960" y="1940040"/>
            <a:ext cx="56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diación/fluorescencia: AB*         AB+h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85680" y="2666880"/>
            <a:ext cx="5442480" cy="825480"/>
            <a:chOff x="985680" y="2666880"/>
            <a:chExt cx="5442480" cy="825480"/>
          </a:xfrm>
        </p:grpSpPr>
        <p:sp>
          <p:nvSpPr>
            <p:cNvPr id="132" name=""/>
            <p:cNvSpPr/>
            <p:nvPr/>
          </p:nvSpPr>
          <p:spPr>
            <a:xfrm>
              <a:off x="985680" y="2666880"/>
              <a:ext cx="544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isipación por colisiones (“Quenching”)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B*+M         AB+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81280" y="32763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600560" y="3581280"/>
            <a:ext cx="3761640" cy="459720"/>
            <a:chOff x="1600560" y="3581280"/>
            <a:chExt cx="3761640" cy="459720"/>
          </a:xfrm>
        </p:grpSpPr>
        <p:sp>
          <p:nvSpPr>
            <p:cNvPr id="135" name=""/>
            <p:cNvSpPr/>
            <p:nvPr/>
          </p:nvSpPr>
          <p:spPr>
            <a:xfrm>
              <a:off x="1600560" y="3581280"/>
              <a:ext cx="37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ociación: AB*         A+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809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066680" y="4343400"/>
            <a:ext cx="6248520" cy="459720"/>
            <a:chOff x="1066680" y="4343400"/>
            <a:chExt cx="6248520" cy="459720"/>
          </a:xfrm>
        </p:grpSpPr>
        <p:sp>
          <p:nvSpPr>
            <p:cNvPr id="138" name=""/>
            <p:cNvSpPr/>
            <p:nvPr/>
          </p:nvSpPr>
          <p:spPr>
            <a:xfrm>
              <a:off x="1066680" y="4343400"/>
              <a:ext cx="624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encia de energía: AB* +C        AB+C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45720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65240" y="5111640"/>
            <a:ext cx="5076720" cy="459720"/>
            <a:chOff x="1065240" y="5111640"/>
            <a:chExt cx="5076720" cy="459720"/>
          </a:xfrm>
        </p:grpSpPr>
        <p:sp>
          <p:nvSpPr>
            <p:cNvPr id="141" name=""/>
            <p:cNvSpPr/>
            <p:nvPr/>
          </p:nvSpPr>
          <p:spPr>
            <a:xfrm>
              <a:off x="1065240" y="511164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acción química: AB*+C         A+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00600" y="5334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tasa de reacción fotoquí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211400" y="2136600"/>
                <a:ext cx="6145200" cy="26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Δλ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dℓ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dλ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Δλ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dλ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 rot="16324200">
            <a:off x="2303280" y="4403520"/>
            <a:ext cx="533520" cy="800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20880 h 800280"/>
              <a:gd name="textAreaBottom" fmla="*/ 77940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41560" y="5070600"/>
            <a:ext cx="25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ficiencia cu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 producción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6520" y="487692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rción energética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5890400">
            <a:off x="4266000" y="3667680"/>
            <a:ext cx="533520" cy="1903680"/>
          </a:xfrm>
          <a:custGeom>
            <a:avLst/>
            <a:gdLst>
              <a:gd name="textAreaLeft" fmla="*/ 340920 w 533520"/>
              <a:gd name="textAreaRight" fmla="*/ 533880 w 533520"/>
              <a:gd name="textAreaTop" fmla="*/ 49320 h 1903680"/>
              <a:gd name="textAreaBottom" fmla="*/ 1854360 h 190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48360" y="990720"/>
            <a:ext cx="2486520" cy="1312920"/>
          </a:xfrm>
          <a:prstGeom prst="rect">
            <a:avLst/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+h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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ones Numér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36920" y="2251080"/>
            <a:ext cx="7792560" cy="1928880"/>
            <a:chOff x="736920" y="2251080"/>
            <a:chExt cx="7792560" cy="1928880"/>
          </a:xfrm>
        </p:grpSpPr>
        <p:sp>
          <p:nvSpPr>
            <p:cNvPr id="153" name=""/>
            <p:cNvSpPr/>
            <p:nvPr/>
          </p:nvSpPr>
          <p:spPr>
            <a:xfrm>
              <a:off x="736920" y="2251080"/>
              <a:ext cx="753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 los modelos de dispersión se resuelven sistemas del tip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919080" y="3048120"/>
                  <a:ext cx="7610400" cy="11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C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t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químic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C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t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ransport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C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t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eposición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5" name=""/>
          <p:cNvSpPr/>
          <p:nvPr/>
        </p:nvSpPr>
        <p:spPr>
          <a:xfrm>
            <a:off x="811800" y="4613400"/>
            <a:ext cx="73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se hace de manera secuencial y/o alternada a través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cación de operadores químicos, de transpor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deposición, etc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el caso de los operadores químicos en fase gaseosa  típicamente se tiene un sistema de ecuaciones de la for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376440" y="2290680"/>
                <a:ext cx="207504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449640" y="3276720"/>
            <a:ext cx="598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diferencias finitas se puede resolver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295280" y="3809880"/>
                <a:ext cx="56581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32440" y="441972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Método de E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0960" y="5070600"/>
            <a:ext cx="62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bién se usan métodos implícitos y asintó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97800" y="1512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inear Sulfur Chemistry (CHEMISTRY_S_LIN.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87840" y="1295280"/>
            <a:ext cx="8864640" cy="3830760"/>
            <a:chOff x="87840" y="1295280"/>
            <a:chExt cx="8864640" cy="3830760"/>
          </a:xfrm>
        </p:grpSpPr>
        <p:sp>
          <p:nvSpPr>
            <p:cNvPr id="164" name=""/>
            <p:cNvSpPr/>
            <p:nvPr/>
          </p:nvSpPr>
          <p:spPr>
            <a:xfrm>
              <a:off x="4335480" y="1295280"/>
              <a:ext cx="73188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K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6960" y="190404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(5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840" y="1827720"/>
              <a:ext cx="100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(95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914400" y="1371600"/>
              <a:ext cx="7696080" cy="3754440"/>
              <a:chOff x="914400" y="1371600"/>
              <a:chExt cx="7696080" cy="3754440"/>
            </a:xfrm>
          </p:grpSpPr>
          <p:sp>
            <p:nvSpPr>
              <p:cNvPr id="168" name=""/>
              <p:cNvSpPr/>
              <p:nvPr/>
            </p:nvSpPr>
            <p:spPr>
              <a:xfrm>
                <a:off x="2380320" y="1371600"/>
                <a:ext cx="1343520" cy="1651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200" spc="-1" strike="noStrike">
                    <a:solidFill>
                      <a:srgbClr val="000000"/>
                    </a:solidFill>
                    <a:latin typeface="Times New Roman"/>
                  </a:rPr>
                  <a:t>SO</a:t>
                </a:r>
                <a:r>
                  <a:rPr b="0" lang="es-E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556240" y="1371600"/>
                <a:ext cx="1465920" cy="1651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000000"/>
                    </a:solidFill>
                    <a:latin typeface="Times New Roman"/>
                  </a:rPr>
                  <a:t>Sulfat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723840" y="2122200"/>
                <a:ext cx="183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990880" y="3023280"/>
                <a:ext cx="0" cy="21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045120" y="3023280"/>
                <a:ext cx="0" cy="21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533640" y="3023280"/>
                <a:ext cx="0" cy="21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13280" y="3924360"/>
                <a:ext cx="732960" cy="6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D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656040" y="3624120"/>
                <a:ext cx="732960" cy="6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D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189760" y="3774240"/>
                <a:ext cx="855000" cy="6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W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036440" y="1821960"/>
                <a:ext cx="610560" cy="9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2920" y="2122200"/>
                <a:ext cx="97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7022160" y="2122200"/>
                <a:ext cx="85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14400" y="5126040"/>
                <a:ext cx="769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" name=""/>
          <p:cNvSpPr txBox="1"/>
          <p:nvPr/>
        </p:nvSpPr>
        <p:spPr>
          <a:xfrm>
            <a:off x="0" y="4994280"/>
            <a:ext cx="2858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b2b2b2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 Black"/>
              </a:rPr>
              <a:t>Q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b2b2b2"/>
                  </a:gs>
                  <a:gs pos="100000">
                    <a:srgbClr val="000000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1880" y="4224240"/>
            <a:ext cx="1844640" cy="929880"/>
            <a:chOff x="461880" y="4224240"/>
            <a:chExt cx="1844640" cy="929880"/>
          </a:xfrm>
        </p:grpSpPr>
        <p:sp>
          <p:nvSpPr>
            <p:cNvPr id="183" name=""/>
            <p:cNvSpPr/>
            <p:nvPr/>
          </p:nvSpPr>
          <p:spPr>
            <a:xfrm>
              <a:off x="1603800" y="4224240"/>
              <a:ext cx="7027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r>
                <a:rPr b="0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 - SO</a:t>
              </a:r>
              <a:r>
                <a:rPr b="0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61880" y="4448880"/>
              <a:ext cx="1032120" cy="70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82760" y="5186520"/>
            <a:ext cx="1955160" cy="924480"/>
            <a:chOff x="482760" y="5186520"/>
            <a:chExt cx="1955160" cy="924480"/>
          </a:xfrm>
        </p:grpSpPr>
        <p:sp>
          <p:nvSpPr>
            <p:cNvPr id="186" name=""/>
            <p:cNvSpPr/>
            <p:nvPr/>
          </p:nvSpPr>
          <p:spPr>
            <a:xfrm>
              <a:off x="1495080" y="5186520"/>
              <a:ext cx="942840" cy="9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N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NH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2760" y="5251320"/>
              <a:ext cx="96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61880" y="5475240"/>
            <a:ext cx="1954440" cy="1415880"/>
            <a:chOff x="461880" y="5475240"/>
            <a:chExt cx="1954440" cy="1415880"/>
          </a:xfrm>
        </p:grpSpPr>
        <p:sp>
          <p:nvSpPr>
            <p:cNvPr id="189" name=""/>
            <p:cNvSpPr/>
            <p:nvPr/>
          </p:nvSpPr>
          <p:spPr>
            <a:xfrm>
              <a:off x="658800" y="6276960"/>
              <a:ext cx="17575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N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S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- HC - C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1880" y="5475240"/>
              <a:ext cx="966600" cy="73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515960" y="4129200"/>
            <a:ext cx="770040" cy="747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Cómo se representan los procesos de transform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acciones fotoquí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“smog” fotoquímico (primera aproxi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 FORTR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990720"/>
            <a:ext cx="83055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NR=30*(MM-1)+D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FA=3.1416*(DNR-90.)/18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T=3.E-6+2.E-6*SIN(ALF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DO 120 K=1,NLE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110 J=1,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100 I=1,N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XYZ1=-KT*CONCMLP(I,J,K,C,SO2)*D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MLP(I,J,K,C,XYZ1)=CONCMLP(I,J,K,C,XYZ1)+DTXZ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MLP(I,J,K,C,XYZ2)=CONCMLP(I,J,K,C,XYZ2)-DTXYZ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XYZ1=LXYZ1-DTXYZ1*DXDY(I,J)*LS(I,J,K)*RHO(I,J,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CONTIN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0 CONTIN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62120" y="0"/>
            <a:ext cx="7772400" cy="1523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xidos de nitrógeno 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x=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+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5880" y="2057400"/>
            <a:ext cx="2819520" cy="1600200"/>
            <a:chOff x="6095880" y="2057400"/>
            <a:chExt cx="2819520" cy="1600200"/>
          </a:xfrm>
        </p:grpSpPr>
        <p:sp>
          <p:nvSpPr>
            <p:cNvPr id="196" name=""/>
            <p:cNvSpPr/>
            <p:nvPr/>
          </p:nvSpPr>
          <p:spPr>
            <a:xfrm>
              <a:off x="6095880" y="2057400"/>
              <a:ext cx="281952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77600" y="2514600"/>
              <a:ext cx="2448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HNO</a:t>
              </a:r>
              <a:r>
                <a:rPr b="0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, nitra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730320" y="1828800"/>
            <a:ext cx="2672640" cy="1295280"/>
            <a:chOff x="3730320" y="1828800"/>
            <a:chExt cx="2672640" cy="1295280"/>
          </a:xfrm>
        </p:grpSpPr>
        <p:sp>
          <p:nvSpPr>
            <p:cNvPr id="199" name=""/>
            <p:cNvSpPr/>
            <p:nvPr/>
          </p:nvSpPr>
          <p:spPr>
            <a:xfrm>
              <a:off x="4114800" y="2438280"/>
              <a:ext cx="1981080" cy="685800"/>
            </a:xfrm>
            <a:prstGeom prst="rightArrow">
              <a:avLst>
                <a:gd name="adj1" fmla="val 50000"/>
                <a:gd name="adj2" fmla="val 72218"/>
              </a:avLst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30320" y="1828800"/>
              <a:ext cx="267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Oxidación, O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142280" y="3581280"/>
            <a:ext cx="2421000" cy="2873520"/>
            <a:chOff x="1142280" y="3581280"/>
            <a:chExt cx="2421000" cy="2873520"/>
          </a:xfrm>
        </p:grpSpPr>
        <p:sp>
          <p:nvSpPr>
            <p:cNvPr id="202" name=""/>
            <p:cNvSpPr/>
            <p:nvPr/>
          </p:nvSpPr>
          <p:spPr>
            <a:xfrm>
              <a:off x="1614600" y="3581280"/>
              <a:ext cx="533160" cy="2286000"/>
            </a:xfrm>
            <a:prstGeom prst="upArrow">
              <a:avLst>
                <a:gd name="adj1" fmla="val 50000"/>
                <a:gd name="adj2" fmla="val 10719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42280" y="5934240"/>
              <a:ext cx="24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misión direc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620120" y="3581280"/>
            <a:ext cx="1181160" cy="2133720"/>
            <a:chOff x="7620120" y="3581280"/>
            <a:chExt cx="1181160" cy="2133720"/>
          </a:xfrm>
        </p:grpSpPr>
        <p:sp>
          <p:nvSpPr>
            <p:cNvPr id="205" name=""/>
            <p:cNvSpPr/>
            <p:nvPr/>
          </p:nvSpPr>
          <p:spPr>
            <a:xfrm>
              <a:off x="7848720" y="3581280"/>
              <a:ext cx="685800" cy="2133720"/>
            </a:xfrm>
            <a:prstGeom prst="downArrow">
              <a:avLst>
                <a:gd name="adj1" fmla="val 50000"/>
                <a:gd name="adj2" fmla="val 777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7620120" y="3733920"/>
              <a:ext cx="1181160" cy="119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380880" y="4340880"/>
            <a:ext cx="533520" cy="2136240"/>
            <a:chOff x="380880" y="4340880"/>
            <a:chExt cx="533520" cy="2136240"/>
          </a:xfrm>
        </p:grpSpPr>
        <p:sp>
          <p:nvSpPr>
            <p:cNvPr id="208" name=""/>
            <p:cNvSpPr/>
            <p:nvPr/>
          </p:nvSpPr>
          <p:spPr>
            <a:xfrm rot="16209000">
              <a:off x="-164520" y="4889880"/>
              <a:ext cx="16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p. Se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0880" y="4343400"/>
              <a:ext cx="533520" cy="2133720"/>
            </a:xfrm>
            <a:prstGeom prst="downArrow">
              <a:avLst>
                <a:gd name="adj1" fmla="val 50000"/>
                <a:gd name="adj2" fmla="val 9998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713960" y="1371600"/>
            <a:ext cx="1600560" cy="722520"/>
            <a:chOff x="1713960" y="1371600"/>
            <a:chExt cx="1600560" cy="722520"/>
          </a:xfrm>
        </p:grpSpPr>
        <p:cxnSp>
          <p:nvCxnSpPr>
            <p:cNvPr id="211" name=""/>
            <p:cNvCxnSpPr>
              <a:stCxn id="212" idx="0"/>
              <a:endCxn id="213" idx="0"/>
            </p:cNvCxnSpPr>
            <p:nvPr/>
          </p:nvCxnSpPr>
          <p:spPr>
            <a:xfrm rot="5400000">
              <a:off x="2513160" y="1292760"/>
              <a:ext cx="2160" cy="160092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4" name=""/>
            <p:cNvSpPr/>
            <p:nvPr/>
          </p:nvSpPr>
          <p:spPr>
            <a:xfrm>
              <a:off x="2440080" y="1371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713600" y="2819520"/>
            <a:ext cx="1600560" cy="650160"/>
            <a:chOff x="1713600" y="2819520"/>
            <a:chExt cx="1600560" cy="650160"/>
          </a:xfrm>
        </p:grpSpPr>
        <p:cxnSp>
          <p:nvCxnSpPr>
            <p:cNvPr id="216" name=""/>
            <p:cNvCxnSpPr>
              <a:stCxn id="213" idx="4"/>
              <a:endCxn id="212" idx="4"/>
            </p:cNvCxnSpPr>
            <p:nvPr/>
          </p:nvCxnSpPr>
          <p:spPr>
            <a:xfrm flipH="1" rot="16200000">
              <a:off x="2512800" y="2359440"/>
              <a:ext cx="2520" cy="160092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2294640" y="2819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733920" y="4419720"/>
            <a:ext cx="1371600" cy="990360"/>
            <a:chOff x="3733920" y="4419720"/>
            <a:chExt cx="1371600" cy="990360"/>
          </a:xfrm>
        </p:grpSpPr>
        <p:sp>
          <p:nvSpPr>
            <p:cNvPr id="219" name=""/>
            <p:cNvSpPr/>
            <p:nvPr/>
          </p:nvSpPr>
          <p:spPr>
            <a:xfrm>
              <a:off x="3733920" y="4419720"/>
              <a:ext cx="137160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47840" y="464832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410080" y="4343400"/>
            <a:ext cx="1371600" cy="990720"/>
            <a:chOff x="5410080" y="4343400"/>
            <a:chExt cx="1371600" cy="990720"/>
          </a:xfrm>
        </p:grpSpPr>
        <p:sp>
          <p:nvSpPr>
            <p:cNvPr id="222" name=""/>
            <p:cNvSpPr/>
            <p:nvPr/>
          </p:nvSpPr>
          <p:spPr>
            <a:xfrm>
              <a:off x="5410080" y="4343400"/>
              <a:ext cx="137160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8680" y="4689360"/>
              <a:ext cx="79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0" y="3505320"/>
            <a:ext cx="1371600" cy="990360"/>
            <a:chOff x="0" y="3505320"/>
            <a:chExt cx="1371600" cy="990360"/>
          </a:xfrm>
        </p:grpSpPr>
        <p:sp>
          <p:nvSpPr>
            <p:cNvPr id="225" name=""/>
            <p:cNvSpPr/>
            <p:nvPr/>
          </p:nvSpPr>
          <p:spPr>
            <a:xfrm>
              <a:off x="0" y="3505320"/>
              <a:ext cx="137160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560" y="3733920"/>
              <a:ext cx="1218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85800" y="1981080"/>
            <a:ext cx="3429000" cy="1371600"/>
            <a:chOff x="685800" y="1981080"/>
            <a:chExt cx="3429000" cy="1371600"/>
          </a:xfrm>
        </p:grpSpPr>
        <p:grpSp>
          <p:nvGrpSpPr>
            <p:cNvPr id="228" name=""/>
            <p:cNvGrpSpPr/>
            <p:nvPr/>
          </p:nvGrpSpPr>
          <p:grpSpPr>
            <a:xfrm>
              <a:off x="2514600" y="2092320"/>
              <a:ext cx="1600200" cy="1066680"/>
              <a:chOff x="2514600" y="2092320"/>
              <a:chExt cx="1600200" cy="1066680"/>
            </a:xfrm>
          </p:grpSpPr>
          <p:sp>
            <p:nvSpPr>
              <p:cNvPr id="229" name=""/>
              <p:cNvSpPr/>
              <p:nvPr/>
            </p:nvSpPr>
            <p:spPr>
              <a:xfrm>
                <a:off x="3058920" y="2362320"/>
                <a:ext cx="816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514600" y="2092320"/>
                <a:ext cx="1600200" cy="1066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914400" y="2092320"/>
              <a:ext cx="1600200" cy="1066680"/>
              <a:chOff x="914400" y="2092320"/>
              <a:chExt cx="1600200" cy="1066680"/>
            </a:xfrm>
          </p:grpSpPr>
          <p:sp>
            <p:nvSpPr>
              <p:cNvPr id="231" name=""/>
              <p:cNvSpPr/>
              <p:nvPr/>
            </p:nvSpPr>
            <p:spPr>
              <a:xfrm>
                <a:off x="1371600" y="2438280"/>
                <a:ext cx="71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914400" y="2092320"/>
                <a:ext cx="1600200" cy="1066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685800" y="1981080"/>
              <a:ext cx="342900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160760" y="3809880"/>
            <a:ext cx="535320" cy="2133720"/>
            <a:chOff x="7160760" y="3809880"/>
            <a:chExt cx="535320" cy="2133720"/>
          </a:xfrm>
        </p:grpSpPr>
        <p:sp>
          <p:nvSpPr>
            <p:cNvPr id="234" name=""/>
            <p:cNvSpPr/>
            <p:nvPr/>
          </p:nvSpPr>
          <p:spPr>
            <a:xfrm rot="16209000">
              <a:off x="6613920" y="4359600"/>
              <a:ext cx="16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p. Se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62920" y="3809880"/>
              <a:ext cx="533160" cy="2133720"/>
            </a:xfrm>
            <a:prstGeom prst="downArrow">
              <a:avLst>
                <a:gd name="adj1" fmla="val 50000"/>
                <a:gd name="adj2" fmla="val 1000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588760" y="3886200"/>
            <a:ext cx="535320" cy="2133720"/>
            <a:chOff x="2588760" y="3886200"/>
            <a:chExt cx="535320" cy="2133720"/>
          </a:xfrm>
        </p:grpSpPr>
        <p:sp>
          <p:nvSpPr>
            <p:cNvPr id="237" name=""/>
            <p:cNvSpPr/>
            <p:nvPr/>
          </p:nvSpPr>
          <p:spPr>
            <a:xfrm rot="16209000">
              <a:off x="2041920" y="4435920"/>
              <a:ext cx="16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p. Se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90920" y="3886200"/>
              <a:ext cx="533160" cy="2133720"/>
            </a:xfrm>
            <a:prstGeom prst="downArrow">
              <a:avLst>
                <a:gd name="adj1" fmla="val 50000"/>
                <a:gd name="adj2" fmla="val 1000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252080" y="3394080"/>
            <a:ext cx="500400" cy="568440"/>
            <a:chOff x="1252080" y="3394080"/>
            <a:chExt cx="500400" cy="568440"/>
          </a:xfrm>
        </p:grpSpPr>
        <p:cxnSp>
          <p:nvCxnSpPr>
            <p:cNvPr id="240" name=""/>
            <p:cNvCxnSpPr>
              <a:stCxn id="226" idx="3"/>
            </p:cNvCxnSpPr>
            <p:nvPr/>
          </p:nvCxnSpPr>
          <p:spPr>
            <a:xfrm flipV="1">
              <a:off x="1252080" y="3428640"/>
              <a:ext cx="500760" cy="5342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1" name=""/>
            <p:cNvSpPr/>
            <p:nvPr/>
          </p:nvSpPr>
          <p:spPr>
            <a:xfrm>
              <a:off x="1281240" y="3394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9000" y="2286000"/>
            <a:ext cx="691560" cy="1364040"/>
            <a:chOff x="9000" y="2286000"/>
            <a:chExt cx="691560" cy="1364040"/>
          </a:xfrm>
        </p:grpSpPr>
        <p:cxnSp>
          <p:nvCxnSpPr>
            <p:cNvPr id="243" name=""/>
            <p:cNvCxnSpPr>
              <a:stCxn id="232" idx="1"/>
              <a:endCxn id="225" idx="1"/>
            </p:cNvCxnSpPr>
            <p:nvPr/>
          </p:nvCxnSpPr>
          <p:spPr>
            <a:xfrm flipV="1" rot="10800000">
              <a:off x="200880" y="2666520"/>
              <a:ext cx="484920" cy="9835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4" name=""/>
            <p:cNvSpPr/>
            <p:nvPr/>
          </p:nvSpPr>
          <p:spPr>
            <a:xfrm>
              <a:off x="9000" y="2286000"/>
              <a:ext cx="69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114080" y="2666160"/>
            <a:ext cx="929160" cy="1753200"/>
            <a:chOff x="4114080" y="2666160"/>
            <a:chExt cx="929160" cy="1753200"/>
          </a:xfrm>
        </p:grpSpPr>
        <p:cxnSp>
          <p:nvCxnSpPr>
            <p:cNvPr id="246" name=""/>
            <p:cNvCxnSpPr>
              <a:stCxn id="219" idx="0"/>
              <a:endCxn id="232" idx="3"/>
            </p:cNvCxnSpPr>
            <p:nvPr/>
          </p:nvCxnSpPr>
          <p:spPr>
            <a:xfrm flipV="1" rot="16200000">
              <a:off x="3390120" y="3390120"/>
              <a:ext cx="1753560" cy="3056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7" name=""/>
            <p:cNvSpPr/>
            <p:nvPr/>
          </p:nvSpPr>
          <p:spPr>
            <a:xfrm>
              <a:off x="4557600" y="3241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400480" y="3352320"/>
            <a:ext cx="1535400" cy="1211760"/>
            <a:chOff x="2400480" y="3352320"/>
            <a:chExt cx="1535400" cy="1211760"/>
          </a:xfrm>
        </p:grpSpPr>
        <p:cxnSp>
          <p:nvCxnSpPr>
            <p:cNvPr id="249" name=""/>
            <p:cNvCxnSpPr>
              <a:stCxn id="232" idx="2"/>
              <a:endCxn id="219" idx="1"/>
            </p:cNvCxnSpPr>
            <p:nvPr/>
          </p:nvCxnSpPr>
          <p:spPr>
            <a:xfrm flipH="1" rot="16200000">
              <a:off x="2562120" y="3190320"/>
              <a:ext cx="1212120" cy="1535760"/>
            </a:xfrm>
            <a:prstGeom prst="curvedConnector5">
              <a:avLst>
                <a:gd name="adj1" fmla="val 44028"/>
                <a:gd name="adj2" fmla="val 49988"/>
                <a:gd name="adj3" fmla="val 44028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3437640" y="35053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508440" y="3421800"/>
            <a:ext cx="736200" cy="1065600"/>
            <a:chOff x="6508440" y="3421800"/>
            <a:chExt cx="736200" cy="1065600"/>
          </a:xfrm>
        </p:grpSpPr>
        <p:cxnSp>
          <p:nvCxnSpPr>
            <p:cNvPr id="252" name=""/>
            <p:cNvCxnSpPr>
              <a:stCxn id="222" idx="7"/>
              <a:endCxn id="196" idx="3"/>
            </p:cNvCxnSpPr>
            <p:nvPr/>
          </p:nvCxnSpPr>
          <p:spPr>
            <a:xfrm flipV="1" rot="16200000">
              <a:off x="6011280" y="3918600"/>
              <a:ext cx="1065960" cy="72000"/>
            </a:xfrm>
            <a:prstGeom prst="curvedConnector5">
              <a:avLst>
                <a:gd name="adj1" fmla="val 45743"/>
                <a:gd name="adj2" fmla="val 49748"/>
                <a:gd name="adj3" fmla="val 4574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3" name=""/>
            <p:cNvSpPr/>
            <p:nvPr/>
          </p:nvSpPr>
          <p:spPr>
            <a:xfrm>
              <a:off x="6690600" y="362268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419720" y="5333400"/>
            <a:ext cx="1676520" cy="780480"/>
            <a:chOff x="4419720" y="5333400"/>
            <a:chExt cx="1676520" cy="780480"/>
          </a:xfrm>
        </p:grpSpPr>
        <p:cxnSp>
          <p:nvCxnSpPr>
            <p:cNvPr id="255" name=""/>
            <p:cNvCxnSpPr>
              <a:stCxn id="219" idx="4"/>
              <a:endCxn id="222" idx="4"/>
            </p:cNvCxnSpPr>
            <p:nvPr/>
          </p:nvCxnSpPr>
          <p:spPr>
            <a:xfrm flipH="1" flipV="1" rot="5400000">
              <a:off x="5219640" y="4533480"/>
              <a:ext cx="76680" cy="1676880"/>
            </a:xfrm>
            <a:prstGeom prst="curvedConnector5">
              <a:avLst>
                <a:gd name="adj1" fmla="val -300000"/>
                <a:gd name="adj2" fmla="val 49989"/>
                <a:gd name="adj3" fmla="val -3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6" name=""/>
            <p:cNvSpPr/>
            <p:nvPr/>
          </p:nvSpPr>
          <p:spPr>
            <a:xfrm>
              <a:off x="5175000" y="560376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3809880" cy="3060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4572000" cy="315900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0" y="1371600"/>
            <a:ext cx="4190760" cy="1230120"/>
            <a:chOff x="0" y="1371600"/>
            <a:chExt cx="4190760" cy="1230120"/>
          </a:xfrm>
        </p:grpSpPr>
        <p:sp>
          <p:nvSpPr>
            <p:cNvPr id="260" name=""/>
            <p:cNvSpPr/>
            <p:nvPr/>
          </p:nvSpPr>
          <p:spPr>
            <a:xfrm>
              <a:off x="3143160" y="2083680"/>
              <a:ext cx="1047600" cy="518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814320" y="1694880"/>
              <a:ext cx="698400" cy="38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2083680"/>
              <a:ext cx="1047600" cy="518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12720" y="1371600"/>
              <a:ext cx="1047600" cy="518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44400" y="1695240"/>
              <a:ext cx="1047600" cy="51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81760" y="1630440"/>
              <a:ext cx="815040" cy="45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137520" y="685800"/>
            <a:ext cx="5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9900cc"/>
                </a:solidFill>
                <a:latin typeface="Symbol"/>
                <a:ea typeface="Symbol"/>
              </a:rPr>
              <a:t>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82160" y="2427120"/>
            <a:ext cx="5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181480" y="3962520"/>
            <a:ext cx="2641680" cy="26413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93280" y="-52560"/>
            <a:ext cx="167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zo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toquímic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presencia de radiación solar y óxidos de nitrógeno (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, la oxidación de CO, 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 HC da lugar a la formación de ozo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ausencia de 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los mismos procesos conllevan a la destrucción de ozo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5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toquí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+OH -&gt;H+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+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&gt; H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NO -&gt; OH+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h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&lt;410 nm)-&gt;NO+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+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M -&gt;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+2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h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-&gt; 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+OH -&gt;H+C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+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-&gt; H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+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-&gt; OH +2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e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 +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-&gt;C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ÚNICA FORMA D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IR OZONO EN L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PÓSF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066680" y="2774880"/>
                <a:ext cx="73152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atmósferas limpi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143000" y="1508040"/>
                <a:ext cx="7315200" cy="240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J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k</m:t>
                            </m:r>
                          </m:lim>
                        </m:limUp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457560" y="4648320"/>
            <a:ext cx="7505280" cy="1447200"/>
            <a:chOff x="457560" y="4648320"/>
            <a:chExt cx="7505280" cy="1447200"/>
          </a:xfrm>
        </p:grpSpPr>
        <p:grpSp>
          <p:nvGrpSpPr>
            <p:cNvPr id="280" name=""/>
            <p:cNvGrpSpPr/>
            <p:nvPr/>
          </p:nvGrpSpPr>
          <p:grpSpPr>
            <a:xfrm>
              <a:off x="457560" y="4648320"/>
              <a:ext cx="3885840" cy="1447200"/>
              <a:chOff x="457560" y="4648320"/>
              <a:chExt cx="3885840" cy="1447200"/>
            </a:xfrm>
          </p:grpSpPr>
          <p:sp>
            <p:nvSpPr>
              <p:cNvPr id="281" name=""/>
              <p:cNvSpPr/>
              <p:nvPr/>
            </p:nvSpPr>
            <p:spPr>
              <a:xfrm>
                <a:off x="685800" y="510516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57560" y="4648320"/>
                <a:ext cx="3816000" cy="1447200"/>
                <a:chOff x="457560" y="4648320"/>
                <a:chExt cx="3816000" cy="14472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905120" y="5105160"/>
                  <a:ext cx="838080" cy="990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57560" y="4648320"/>
                  <a:ext cx="1026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P O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200400" y="4648320"/>
                  <a:ext cx="1073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 O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5029200" y="4724280"/>
                  <a:ext cx="2933640" cy="116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og” Fotoquímico (atmósferas sucia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as actividades humanas que dan lugar a emisiones de precursores de ozono (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 H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ciones meteorológicas que permiten la acumulación de los precursores de oz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743560" y="4191120"/>
            <a:ext cx="3663720" cy="1904400"/>
            <a:chOff x="2743560" y="4191120"/>
            <a:chExt cx="3663720" cy="1904400"/>
          </a:xfrm>
        </p:grpSpPr>
        <p:sp>
          <p:nvSpPr>
            <p:cNvPr id="290" name=""/>
            <p:cNvSpPr/>
            <p:nvPr/>
          </p:nvSpPr>
          <p:spPr>
            <a:xfrm>
              <a:off x="2743560" y="4647960"/>
              <a:ext cx="102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 O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91120" y="5105160"/>
              <a:ext cx="838080" cy="9903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34120" y="4191120"/>
              <a:ext cx="10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 O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505320" y="4800600"/>
              <a:ext cx="236196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066680" y="609480"/>
                <a:ext cx="7315200" cy="332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J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k</m:t>
                            </m:r>
                          </m:lim>
                        </m:limUp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5" name=""/>
          <p:cNvGrpSpPr/>
          <p:nvPr/>
        </p:nvGrpSpPr>
        <p:grpSpPr>
          <a:xfrm>
            <a:off x="360" y="4572000"/>
            <a:ext cx="9097560" cy="1905120"/>
            <a:chOff x="360" y="4572000"/>
            <a:chExt cx="9097560" cy="1905120"/>
          </a:xfrm>
        </p:grpSpPr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3895560" y="4691160"/>
                  <a:ext cx="5202360" cy="12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t xml:space="preserve">]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*R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97" name=""/>
            <p:cNvGrpSpPr/>
            <p:nvPr/>
          </p:nvGrpSpPr>
          <p:grpSpPr>
            <a:xfrm>
              <a:off x="360" y="4572000"/>
              <a:ext cx="3663720" cy="1905120"/>
              <a:chOff x="360" y="4572000"/>
              <a:chExt cx="3663720" cy="1905120"/>
            </a:xfrm>
          </p:grpSpPr>
          <p:sp>
            <p:nvSpPr>
              <p:cNvPr id="298" name=""/>
              <p:cNvSpPr/>
              <p:nvPr/>
            </p:nvSpPr>
            <p:spPr>
              <a:xfrm>
                <a:off x="360" y="5029200"/>
                <a:ext cx="102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P O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47920" y="5486400"/>
                <a:ext cx="8380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590920" y="4572000"/>
                <a:ext cx="107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 O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762120" y="5181480"/>
                <a:ext cx="236196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n la atmósfer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320040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9320" y="5334120"/>
            <a:ext cx="6933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2362320"/>
            <a:ext cx="990720" cy="1447560"/>
          </a:xfrm>
          <a:prstGeom prst="downArrow">
            <a:avLst>
              <a:gd name="adj1" fmla="val 50000"/>
              <a:gd name="adj2" fmla="val 3652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23240" y="2381400"/>
            <a:ext cx="373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trusión desde arri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4114800"/>
            <a:ext cx="1371600" cy="1219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5410080"/>
            <a:ext cx="414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ursores (HC, CO,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82480" y="4100400"/>
            <a:ext cx="5940720" cy="821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ción Fotoquí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38880" y="4343400"/>
            <a:ext cx="762120" cy="1676520"/>
          </a:xfrm>
          <a:prstGeom prst="downArrow">
            <a:avLst>
              <a:gd name="adj1" fmla="val 50000"/>
              <a:gd name="adj2" fmla="val 5499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72200" y="6019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eposición se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906480" cy="9032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1087560" cy="6984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76560" y="3352680"/>
            <a:ext cx="21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410 n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90720" y="1600200"/>
            <a:ext cx="7226280" cy="2895120"/>
            <a:chOff x="990720" y="1600200"/>
            <a:chExt cx="7226280" cy="2895120"/>
          </a:xfrm>
        </p:grpSpPr>
        <p:sp>
          <p:nvSpPr>
            <p:cNvPr id="56" name=""/>
            <p:cNvSpPr/>
            <p:nvPr/>
          </p:nvSpPr>
          <p:spPr>
            <a:xfrm>
              <a:off x="1371600" y="1600200"/>
              <a:ext cx="6616800" cy="74916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ispersión y transformac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00800" y="2361960"/>
              <a:ext cx="0" cy="2082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286000" y="2285640"/>
              <a:ext cx="0" cy="2209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90720" y="3200040"/>
              <a:ext cx="2958840" cy="82512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Emis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24280" y="3200040"/>
              <a:ext cx="3492720" cy="82512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Remoció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114800" y="838080"/>
            <a:ext cx="4038480" cy="22100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5105520" cy="48276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5257800" y="7621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0" y="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Fuente: SESMA http://www.sesma.cl/sitio/pag/aire/indexjs3aireindgasesdemo.a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00960" y="5603760"/>
            <a:ext cx="38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áximo registrado: 208 ppb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523880" y="2371680"/>
            <a:ext cx="4800600" cy="2819520"/>
            <a:chOff x="1523880" y="2371680"/>
            <a:chExt cx="4800600" cy="2819520"/>
          </a:xfrm>
        </p:grpSpPr>
        <p:sp>
          <p:nvSpPr>
            <p:cNvPr id="320" name=""/>
            <p:cNvSpPr/>
            <p:nvPr/>
          </p:nvSpPr>
          <p:spPr>
            <a:xfrm>
              <a:off x="1523880" y="23716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52480" y="51912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3657600" y="191448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51240" y="1752480"/>
            <a:ext cx="48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lujo desde la estratósfera (11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4657680"/>
            <a:ext cx="609480" cy="1143000"/>
          </a:xfrm>
          <a:prstGeom prst="downArrow">
            <a:avLst>
              <a:gd name="adj1" fmla="val 50000"/>
              <a:gd name="adj2" fmla="val 4688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57913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Flujo hacia la superficie (-4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52480" y="3743280"/>
            <a:ext cx="1295640" cy="380880"/>
          </a:xfrm>
          <a:prstGeom prst="rightArrow">
            <a:avLst>
              <a:gd name="adj1" fmla="val 50000"/>
              <a:gd name="adj2" fmla="val 85043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1240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Producción fotoquímica (19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3040" y="304920"/>
            <a:ext cx="5296680" cy="764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en la tropósf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24280" y="3743280"/>
            <a:ext cx="1295640" cy="380880"/>
          </a:xfrm>
          <a:prstGeom prst="rightArrow">
            <a:avLst>
              <a:gd name="adj1" fmla="val 50000"/>
              <a:gd name="adj2" fmla="val 850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39625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Destrucción fotoquímica (-25.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26920" y="5840280"/>
            <a:ext cx="39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udget: Crutzen et al, 1999 (Tell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olec/cm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59920" cy="52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5594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97720" y="304920"/>
            <a:ext cx="51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www.cnrm.meteo.fr:8000/mozaic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09480" y="522360"/>
            <a:ext cx="8229600" cy="63356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127880" y="1936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ec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men sobre 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oposfé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bsorbe radiación IR =&gt;es un gas de invernad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bsorberadiación UV y da lugar a radical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unto a radiación solar y vapor de agua forma OH =&gt; controla la capacidad de limpieza de la atmósfe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 grandes cantidades causa irritación y daña a los vege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actividades humanas han dado lugar a aumento en sus concentraciones a escala urbana y regional (e.g., Santiag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modelos_urb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6124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0" y="0"/>
            <a:ext cx="4932360" cy="2781360"/>
            <a:chOff x="0" y="0"/>
            <a:chExt cx="4932360" cy="278136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0" y="0"/>
                  <a:ext cx="176364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2771640" y="1125360"/>
              <a:ext cx="2160720" cy="1656000"/>
            </a:xfrm>
            <a:prstGeom prst="rect">
              <a:avLst/>
            </a:prstGeom>
            <a:solidFill>
              <a:srgbClr val="ffff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763640" y="0"/>
            <a:ext cx="5905440" cy="2781360"/>
            <a:chOff x="1763640" y="0"/>
            <a:chExt cx="5905440" cy="2781360"/>
          </a:xfrm>
        </p:grpSpPr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763640" y="0"/>
                  <a:ext cx="547236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5508720" y="1125360"/>
              <a:ext cx="2160360" cy="1656000"/>
            </a:xfrm>
            <a:prstGeom prst="rect">
              <a:avLst/>
            </a:prstGeom>
            <a:solidFill>
              <a:srgbClr val="99ff6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780000" y="0"/>
            <a:ext cx="5364000" cy="4869000"/>
            <a:chOff x="3780000" y="0"/>
            <a:chExt cx="5364000" cy="4869000"/>
          </a:xfrm>
        </p:grpSpPr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7236000" y="0"/>
                  <a:ext cx="190800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1" name=""/>
            <p:cNvSpPr/>
            <p:nvPr/>
          </p:nvSpPr>
          <p:spPr>
            <a:xfrm>
              <a:off x="3780000" y="3213000"/>
              <a:ext cx="2160360" cy="165600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348000" y="2708280"/>
            <a:ext cx="2952720" cy="2521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sde interacciones moleculares hasta sistemas de tiempo de miles de kilómetros...¡todo a la ve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481880" y="4221000"/>
            <a:ext cx="1662120" cy="1946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67640" y="1700280"/>
            <a:ext cx="1249200" cy="1328760"/>
          </a:xfrm>
          <a:prstGeom prst="rect">
            <a:avLst/>
          </a:prstGeom>
          <a:ln w="0">
            <a:noFill/>
          </a:ln>
        </p:spPr>
      </p:pic>
      <p:pic>
        <p:nvPicPr>
          <p:cNvPr id="76" name="scales_brasseur" descr=""/>
          <p:cNvPicPr/>
          <p:nvPr/>
        </p:nvPicPr>
        <p:blipFill>
          <a:blip r:embed="rId3"/>
          <a:stretch/>
        </p:blipFill>
        <p:spPr>
          <a:xfrm>
            <a:off x="0" y="1125360"/>
            <a:ext cx="7596360" cy="522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+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+D, k(p,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+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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mbios de f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or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3505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78092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934320" y="2971800"/>
            <a:ext cx="166212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ey estequiom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0" y="1600200"/>
            <a:ext cx="902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número de átomos de cada tipo que participan en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ción química permanece constante (La masa se conserv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523880" y="3200400"/>
                <a:ext cx="61786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" name=""/>
          <p:cNvGrpSpPr/>
          <p:nvPr/>
        </p:nvGrpSpPr>
        <p:grpSpPr>
          <a:xfrm>
            <a:off x="1597680" y="3947760"/>
            <a:ext cx="2289600" cy="2181240"/>
            <a:chOff x="1597680" y="3947760"/>
            <a:chExt cx="2289600" cy="2181240"/>
          </a:xfrm>
        </p:grpSpPr>
        <p:sp>
          <p:nvSpPr>
            <p:cNvPr id="87" name=""/>
            <p:cNvSpPr/>
            <p:nvPr/>
          </p:nvSpPr>
          <p:spPr>
            <a:xfrm rot="16161600">
              <a:off x="2513520" y="3046680"/>
              <a:ext cx="457200" cy="228456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59400 h 2284560"/>
                <a:gd name="textAreaBottom" fmla="*/ 2225160 h 228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03680" y="4572000"/>
              <a:ext cx="1589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Reactant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C: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H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O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874400" y="3945600"/>
            <a:ext cx="2670480" cy="2259720"/>
            <a:chOff x="4874400" y="3945600"/>
            <a:chExt cx="2670480" cy="2259720"/>
          </a:xfrm>
        </p:grpSpPr>
        <p:sp>
          <p:nvSpPr>
            <p:cNvPr id="90" name=""/>
            <p:cNvSpPr/>
            <p:nvPr/>
          </p:nvSpPr>
          <p:spPr>
            <a:xfrm rot="16161600">
              <a:off x="5980680" y="2856240"/>
              <a:ext cx="457200" cy="26654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69480 h 2665440"/>
                <a:gd name="textAreaBottom" fmla="*/ 2595960 h 26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81840" y="4648320"/>
              <a:ext cx="14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Producto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: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H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O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80880" y="2101680"/>
                <a:ext cx="76964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47960" y="137160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omposición unimolec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23920" y="3657600"/>
            <a:ext cx="7776720" cy="2056680"/>
            <a:chOff x="223920" y="3657600"/>
            <a:chExt cx="7776720" cy="205668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808200" y="4416120"/>
                  <a:ext cx="7192440" cy="129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→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A</m:t>
                      </m:r>
                      <m:r>
                        <m:t xml:space="preserve">,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  <m:r>
                        <m:t xml:space="preserve">=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>
              <a:off x="223920" y="3657600"/>
              <a:ext cx="39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escomposición un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378720" y="1600200"/>
            <a:ext cx="8125560" cy="1854360"/>
            <a:chOff x="378720" y="1600200"/>
            <a:chExt cx="8125560" cy="1854360"/>
          </a:xfrm>
        </p:grpSpPr>
        <p:sp>
          <p:nvSpPr>
            <p:cNvPr id="99" name=""/>
            <p:cNvSpPr/>
            <p:nvPr/>
          </p:nvSpPr>
          <p:spPr>
            <a:xfrm>
              <a:off x="378720" y="1600200"/>
              <a:ext cx="177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B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709560" y="2133720"/>
                  <a:ext cx="779472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→</m:t>
                          </m:r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r>
                            <m:t xml:space="preserve">D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kAB</m:t>
                          </m:r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molécula</m:t>
                              </m:r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55040" y="4038480"/>
            <a:ext cx="8238240" cy="1854360"/>
            <a:chOff x="455040" y="4038480"/>
            <a:chExt cx="8238240" cy="1854360"/>
          </a:xfrm>
        </p:grpSpPr>
        <p:sp>
          <p:nvSpPr>
            <p:cNvPr id="103" name=""/>
            <p:cNvSpPr/>
            <p:nvPr/>
          </p:nvSpPr>
          <p:spPr>
            <a:xfrm>
              <a:off x="455040" y="4038480"/>
              <a:ext cx="177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B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673200" y="4572000"/>
                  <a:ext cx="802008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  <m:r>
                            <m:t xml:space="preserve">→</m:t>
                          </m:r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r>
                            <m:t xml:space="preserve">D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molécula</m:t>
                              </m:r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9:44Z</dcterms:created>
  <dc:creator>Laura Gallardo Klenner</dc:creator>
  <dc:description/>
  <dc:language>en-US</dc:language>
  <cp:lastModifiedBy>LGK</cp:lastModifiedBy>
  <cp:lastPrinted>2001-04-25T14:48:12Z</cp:lastPrinted>
  <dcterms:modified xsi:type="dcterms:W3CDTF">2005-09-07T15:23:37Z</dcterms:modified>
  <cp:revision>19</cp:revision>
  <dc:subject/>
  <dc:title>Sin título de diapositiva</dc:title>
</cp:coreProperties>
</file>