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2.png" ContentType="image/png"/>
  <Override PartName="/ppt/media/image11.wmf" ContentType="image/x-wmf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3.jpeg" ContentType="image/jpeg"/>
  <Override PartName="/ppt/media/image19.jpeg" ContentType="image/jpe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4D53-B2B8-476D-AAFD-213795CD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4CAE-D6CE-4EF8-91A3-B8600A7F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114-1506-479B-A6D5-5AF6D93E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194D-F6CA-4C57-B82A-C1E9A8BDF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F5C5-6C15-4222-8E61-166A5051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C5E-9F04-4CE6-969D-8D59436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E049-26E7-4DC2-BFA2-D0094BD6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52C0-A35D-4CF7-86D7-BDB2EC7C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CCFD-D5C8-45CC-8355-71CDADC2E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324-FBD6-4788-AE92-97051AB75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E946-E7E0-4B6E-A3B1-BD2E07CB8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7E5-D24C-4FD4-8F6C-3FD0A0F10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F100-0154-4094-9DCA-3EEA6D442F7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302040" y="1066680"/>
            <a:ext cx="8400240" cy="1854360"/>
            <a:chOff x="302040" y="1066680"/>
            <a:chExt cx="8400240" cy="1854360"/>
          </a:xfrm>
        </p:grpSpPr>
        <p:sp>
          <p:nvSpPr>
            <p:cNvPr id="106" name=""/>
            <p:cNvSpPr/>
            <p:nvPr/>
          </p:nvSpPr>
          <p:spPr>
            <a:xfrm>
              <a:off x="302040" y="10666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360360" y="1600200"/>
                  <a:ext cx="83419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8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78000" y="3124080"/>
            <a:ext cx="7432560" cy="1854360"/>
            <a:chOff x="378000" y="3124080"/>
            <a:chExt cx="7432560" cy="1854360"/>
          </a:xfrm>
        </p:grpSpPr>
        <p:sp>
          <p:nvSpPr>
            <p:cNvPr id="110" name=""/>
            <p:cNvSpPr/>
            <p:nvPr/>
          </p:nvSpPr>
          <p:spPr>
            <a:xfrm>
              <a:off x="378000" y="3124080"/>
              <a:ext cx="186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Tr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"/>
                <p:cNvSpPr txBox="1"/>
                <p:nvPr/>
              </p:nvSpPr>
              <p:spPr>
                <a:xfrm>
                  <a:off x="1401480" y="3657600"/>
                  <a:ext cx="6409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→</m:t>
                          </m:r>
                          <m:r>
                            <m:t xml:space="preserve">B</m:t>
                          </m:r>
                          <m:r>
                            <m:t xml:space="preserve">+</m:t>
                          </m:r>
                          <m:r>
                            <m:t xml:space="preserve">M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M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6</m:t>
                                  </m:r>
                                </m:sup>
                              </m:sSup>
                            </m:num>
                            <m:den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molécul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" name=""/>
          <p:cNvSpPr/>
          <p:nvPr/>
        </p:nvSpPr>
        <p:spPr>
          <a:xfrm>
            <a:off x="141480" y="5334120"/>
            <a:ext cx="8413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B. M significa una molécula que actúa como catalizador pero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 cambia en la reacción. Típicamente N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9280" y="990720"/>
            <a:ext cx="581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s tasas de las reacciones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bimolecular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ípicamente independientes de la 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ecientes respecto de la temperatura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9080" y="2666880"/>
            <a:ext cx="6211800" cy="3233520"/>
            <a:chOff x="379080" y="2666880"/>
            <a:chExt cx="6211800" cy="3233520"/>
          </a:xfrm>
        </p:grpSpPr>
        <p:grpSp>
          <p:nvGrpSpPr>
            <p:cNvPr id="116" name=""/>
            <p:cNvGrpSpPr/>
            <p:nvPr/>
          </p:nvGrpSpPr>
          <p:grpSpPr>
            <a:xfrm>
              <a:off x="379080" y="2666880"/>
              <a:ext cx="5834520" cy="1535400"/>
              <a:chOff x="379080" y="2666880"/>
              <a:chExt cx="5834520" cy="1535400"/>
            </a:xfrm>
          </p:grpSpPr>
          <p:sp>
            <p:nvSpPr>
              <p:cNvPr id="117" name=""/>
              <p:cNvSpPr/>
              <p:nvPr/>
            </p:nvSpPr>
            <p:spPr>
              <a:xfrm>
                <a:off x="379080" y="2666880"/>
                <a:ext cx="194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Normalmente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18" name=""/>
                  <p:cNvSpPr txBox="1"/>
                  <p:nvPr/>
                </p:nvSpPr>
                <p:spPr>
                  <a:xfrm>
                    <a:off x="2971800" y="2743200"/>
                    <a:ext cx="3241800" cy="1459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Ea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RgT</m:t>
                                </m:r>
                              </m:den>
                            </m:f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119" name=""/>
            <p:cNvSpPr/>
            <p:nvPr/>
          </p:nvSpPr>
          <p:spPr>
            <a:xfrm>
              <a:off x="678240" y="4343400"/>
              <a:ext cx="59126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: Relacionado con la frecuencia de colisio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a: Energía de activación 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(&lt;50 KJ/mol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Rg: Constante de los g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k es típicamente menor que 10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-10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 cm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Times New Roman"/>
                </a:rPr>
                <a:t>/molec 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981080"/>
            <a:ext cx="838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descomposición térmic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poco frecuente pues no son muchas las moléculas con enlaces de baja ener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tipo de reacciones presenta típicamente tasas dependientes tanto de la temperatura como de la presión:  </a:t>
            </a:r>
            <a:r>
              <a:rPr b="0" lang="es-ES_tradnl" sz="3600" spc="-1" strike="noStrike">
                <a:solidFill>
                  <a:srgbClr val="ff0000"/>
                </a:solidFill>
                <a:latin typeface="Times New Roman"/>
              </a:rPr>
              <a:t>k=k(p, 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ada la estratificación atmosférica, este tipo de moléculas  resultan menos estables cerca de la superficie y más estables en las capas sup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1828800"/>
            <a:ext cx="853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acciones de recombina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n el inverso de la disociación molecular y por lo tanto también presentan: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=k(p, T).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 normalmente la dependencia de la temperatura es débil  y/o inversa.Además, requieren típicamente de un tercer cuerpo que se lleve la energía en exces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320" y="54000"/>
            <a:ext cx="476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914400"/>
            <a:ext cx="838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a que una reacción fotoquímica ocurra, energía debe ser incorporada a la molécula (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absor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or lo tanto,  la energía de los fotones incidentes debe coincidir con las energías entre los niveles energéticos de la molécu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s niveles energéticos se asocian a mo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t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ib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ovimientos electrón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Típicamente, en la atmósfera se requiere de fotones capaces de excitar los niveles electrónicos (IR cercano, visible y U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336600" y="339840"/>
            <a:ext cx="6922800" cy="1252080"/>
            <a:chOff x="336600" y="339840"/>
            <a:chExt cx="6922800" cy="1252080"/>
          </a:xfrm>
        </p:grpSpPr>
        <p:sp>
          <p:nvSpPr>
            <p:cNvPr id="127" name=""/>
            <p:cNvSpPr/>
            <p:nvPr/>
          </p:nvSpPr>
          <p:spPr>
            <a:xfrm>
              <a:off x="336600" y="339840"/>
              <a:ext cx="6922800" cy="125208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Una vez que una molécula AB ha absorbido energía h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3333cc"/>
                  </a:solidFill>
                  <a:latin typeface="Times New Roman"/>
                </a:rPr>
                <a:t>AB+h</a:t>
              </a:r>
              <a:r>
                <a:rPr b="0" lang="es-ES_tradnl" sz="2800" spc="-1" strike="noStrike">
                  <a:solidFill>
                    <a:srgbClr val="3333cc"/>
                  </a:solidFill>
                  <a:latin typeface="Symbol"/>
                  <a:ea typeface="Symbol"/>
                </a:rPr>
                <a:t>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uede devolverla como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990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894960" y="1940040"/>
            <a:ext cx="56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diación/fluorescencia: AB*         AB+h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22096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985680" y="2666880"/>
            <a:ext cx="5442480" cy="825480"/>
            <a:chOff x="985680" y="2666880"/>
            <a:chExt cx="5442480" cy="825480"/>
          </a:xfrm>
        </p:grpSpPr>
        <p:sp>
          <p:nvSpPr>
            <p:cNvPr id="132" name=""/>
            <p:cNvSpPr/>
            <p:nvPr/>
          </p:nvSpPr>
          <p:spPr>
            <a:xfrm>
              <a:off x="985680" y="2666880"/>
              <a:ext cx="544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isipación por colisiones (“Quenching”)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B*+M         AB+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81280" y="32763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1600560" y="3581280"/>
            <a:ext cx="3761640" cy="459720"/>
            <a:chOff x="1600560" y="3581280"/>
            <a:chExt cx="3761640" cy="459720"/>
          </a:xfrm>
        </p:grpSpPr>
        <p:sp>
          <p:nvSpPr>
            <p:cNvPr id="135" name=""/>
            <p:cNvSpPr/>
            <p:nvPr/>
          </p:nvSpPr>
          <p:spPr>
            <a:xfrm>
              <a:off x="1600560" y="3581280"/>
              <a:ext cx="376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ociación: AB*         A+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809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1066680" y="4343400"/>
            <a:ext cx="6248520" cy="459720"/>
            <a:chOff x="1066680" y="4343400"/>
            <a:chExt cx="6248520" cy="459720"/>
          </a:xfrm>
        </p:grpSpPr>
        <p:sp>
          <p:nvSpPr>
            <p:cNvPr id="138" name=""/>
            <p:cNvSpPr/>
            <p:nvPr/>
          </p:nvSpPr>
          <p:spPr>
            <a:xfrm>
              <a:off x="1066680" y="4343400"/>
              <a:ext cx="624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encia de energía: AB* +C        AB+C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8680" y="45720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5240" y="5111640"/>
            <a:ext cx="5076720" cy="459720"/>
            <a:chOff x="1065240" y="5111640"/>
            <a:chExt cx="5076720" cy="459720"/>
          </a:xfrm>
        </p:grpSpPr>
        <p:sp>
          <p:nvSpPr>
            <p:cNvPr id="141" name=""/>
            <p:cNvSpPr/>
            <p:nvPr/>
          </p:nvSpPr>
          <p:spPr>
            <a:xfrm>
              <a:off x="1065240" y="5111640"/>
              <a:ext cx="50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eacción química: AB*+C         A+B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5334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tasa de reacción 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211400" y="2136600"/>
                <a:ext cx="6145200" cy="26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I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λ</m:t>
                                        </m:r>
                                      </m:e>
                                    </m:d>
                                  </m:num>
                                  <m:den>
                                    <m:r>
                                      <m:t xml:space="preserve">dℓ</m:t>
                                    </m:r>
                                  </m:den>
                                </m:f>
                              </m:e>
                            </m:d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dλ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A</m:t>
                        </m:r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Δλ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λ</m:t>
                                </m:r>
                              </m:e>
                            </m:d>
                          </m:e>
                        </m:nary>
                        <m:r>
                          <m:t xml:space="preserve"> 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dλ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J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A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rot="16324200">
            <a:off x="2303280" y="4403520"/>
            <a:ext cx="533520" cy="800280"/>
          </a:xfrm>
          <a:custGeom>
            <a:avLst/>
            <a:gdLst>
              <a:gd name="textAreaLeft" fmla="*/ 340920 w 533520"/>
              <a:gd name="textAreaRight" fmla="*/ 533880 w 533520"/>
              <a:gd name="textAreaTop" fmla="*/ 20880 h 800280"/>
              <a:gd name="textAreaBottom" fmla="*/ 779400 h 800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560" y="5070600"/>
            <a:ext cx="256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ficiencia cuán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 producción d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46520" y="487692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rción energética d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5890400">
            <a:off x="4266000" y="3667680"/>
            <a:ext cx="533520" cy="1903680"/>
          </a:xfrm>
          <a:custGeom>
            <a:avLst/>
            <a:gdLst>
              <a:gd name="textAreaLeft" fmla="*/ 340920 w 533520"/>
              <a:gd name="textAreaRight" fmla="*/ 533880 w 533520"/>
              <a:gd name="textAreaTop" fmla="*/ 49320 h 1903680"/>
              <a:gd name="textAreaBottom" fmla="*/ 1854360 h 190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48360" y="990720"/>
            <a:ext cx="2486520" cy="1312920"/>
          </a:xfrm>
          <a:prstGeom prst="rect">
            <a:avLst/>
          </a:prstGeom>
          <a:solidFill>
            <a:srgbClr val="ff99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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315200" y="1676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uciones Numér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736920" y="2251080"/>
            <a:ext cx="7792560" cy="1928880"/>
            <a:chOff x="736920" y="2251080"/>
            <a:chExt cx="7792560" cy="1928880"/>
          </a:xfrm>
        </p:grpSpPr>
        <p:sp>
          <p:nvSpPr>
            <p:cNvPr id="153" name=""/>
            <p:cNvSpPr/>
            <p:nvPr/>
          </p:nvSpPr>
          <p:spPr>
            <a:xfrm>
              <a:off x="736920" y="2251080"/>
              <a:ext cx="753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n los modelos de dispersión se resuelven sistemas del tip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919080" y="3048120"/>
                  <a:ext cx="7610400" cy="1131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química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ransporte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∂</m:t>
                                  </m:r>
                                  <m:r>
                                    <m:t xml:space="preserve">C</m:t>
                                  </m:r>
                                </m:num>
                                <m:den>
                                  <m:r>
                                    <m:t xml:space="preserve">∂</m:t>
                                  </m:r>
                                  <m:r>
                                    <m:t xml:space="preserve">t</m:t>
                                  </m:r>
                                </m:den>
                              </m:f>
                            </m:e>
                          </m:d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deposición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811800" y="4613400"/>
            <a:ext cx="739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se hace de manera secuencial y/o alternada a través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licación de operadores químicos, de transpor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eposición,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el caso de los operadores químicos en fase gaseosa  típicamente se tiene un sistema de ecuaciones de la for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376440" y="2290680"/>
                <a:ext cx="2075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449640" y="3276720"/>
            <a:ext cx="598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 diferencias finitas se puede resolver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295280" y="3809880"/>
                <a:ext cx="565812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Δ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532440" y="44197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étodo de E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60960" y="5070600"/>
            <a:ext cx="625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usan métodos implícitos y asintó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97800" y="151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inear Sulfur Chemistry (CHEMISTRY_S_LIN.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87840" y="1295280"/>
            <a:ext cx="8864640" cy="3830760"/>
            <a:chOff x="87840" y="1295280"/>
            <a:chExt cx="8864640" cy="3830760"/>
          </a:xfrm>
        </p:grpSpPr>
        <p:sp>
          <p:nvSpPr>
            <p:cNvPr id="164" name=""/>
            <p:cNvSpPr/>
            <p:nvPr/>
          </p:nvSpPr>
          <p:spPr>
            <a:xfrm>
              <a:off x="4335480" y="1295280"/>
              <a:ext cx="73188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Times New Roman"/>
                </a:rPr>
                <a:t>K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6960" y="190404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840" y="1827720"/>
              <a:ext cx="10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(95%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914400" y="1371600"/>
              <a:ext cx="7696080" cy="3754440"/>
              <a:chOff x="914400" y="1371600"/>
              <a:chExt cx="7696080" cy="3754440"/>
            </a:xfrm>
          </p:grpSpPr>
          <p:sp>
            <p:nvSpPr>
              <p:cNvPr id="168" name=""/>
              <p:cNvSpPr/>
              <p:nvPr/>
            </p:nvSpPr>
            <p:spPr>
              <a:xfrm>
                <a:off x="2380320" y="1371600"/>
                <a:ext cx="13435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SO</a:t>
                </a:r>
                <a:r>
                  <a:rPr b="0" lang="es-ES" sz="22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556240" y="1371600"/>
                <a:ext cx="1465920" cy="1651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700" spc="-1" strike="noStrike">
                    <a:solidFill>
                      <a:srgbClr val="000000"/>
                    </a:solidFill>
                    <a:latin typeface="Times New Roman"/>
                  </a:rPr>
                  <a:t>Sulfate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723840" y="2122200"/>
                <a:ext cx="18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99088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04512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533640" y="3023280"/>
                <a:ext cx="0" cy="210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113280" y="392436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656040" y="3624120"/>
                <a:ext cx="73296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Dr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189760" y="3774240"/>
                <a:ext cx="855000" cy="60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800" spc="-1" strike="noStrike">
                    <a:solidFill>
                      <a:srgbClr val="000000"/>
                    </a:solidFill>
                    <a:latin typeface="Times New Roman"/>
                  </a:rPr>
                  <a:t>We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036440" y="1821960"/>
                <a:ext cx="610560" cy="90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2920" y="2122200"/>
                <a:ext cx="97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7022160" y="2122200"/>
                <a:ext cx="85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14400" y="5126040"/>
                <a:ext cx="769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"/>
          <p:cNvSpPr txBox="1"/>
          <p:nvPr/>
        </p:nvSpPr>
        <p:spPr>
          <a:xfrm>
            <a:off x="0" y="4994280"/>
            <a:ext cx="285840" cy="57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b2b2b2"/>
                    </a:gs>
                    <a:gs pos="100000">
                      <a:srgbClr val="000000"/>
                    </a:gs>
                  </a:gsLst>
                  <a:lin ang="13500000"/>
                </a:gradFill>
                <a:latin typeface="Arial Black"/>
              </a:rPr>
              <a:t>Q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b2b2b2"/>
                  </a:gs>
                  <a:gs pos="100000">
                    <a:srgbClr val="000000"/>
                  </a:gs>
                </a:gsLst>
                <a:lin ang="13500000"/>
              </a:gradFill>
              <a:latin typeface="Arial Black"/>
              <a:ea typeface="Arial Black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61880" y="4224240"/>
            <a:ext cx="1844640" cy="929880"/>
            <a:chOff x="461880" y="4224240"/>
            <a:chExt cx="1844640" cy="929880"/>
          </a:xfrm>
        </p:grpSpPr>
        <p:sp>
          <p:nvSpPr>
            <p:cNvPr id="183" name=""/>
            <p:cNvSpPr/>
            <p:nvPr/>
          </p:nvSpPr>
          <p:spPr>
            <a:xfrm>
              <a:off x="1603800" y="4224240"/>
              <a:ext cx="7027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sz="18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61880" y="4448880"/>
              <a:ext cx="1032120" cy="70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482760" y="5186520"/>
            <a:ext cx="1955160" cy="924480"/>
            <a:chOff x="482760" y="5186520"/>
            <a:chExt cx="1955160" cy="924480"/>
          </a:xfrm>
        </p:grpSpPr>
        <p:sp>
          <p:nvSpPr>
            <p:cNvPr id="186" name=""/>
            <p:cNvSpPr/>
            <p:nvPr/>
          </p:nvSpPr>
          <p:spPr>
            <a:xfrm>
              <a:off x="1495080" y="5186520"/>
              <a:ext cx="9428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H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82760" y="5251320"/>
              <a:ext cx="9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61880" y="5475240"/>
            <a:ext cx="1954440" cy="1415880"/>
            <a:chOff x="461880" y="5475240"/>
            <a:chExt cx="1954440" cy="1415880"/>
          </a:xfrm>
        </p:grpSpPr>
        <p:sp>
          <p:nvSpPr>
            <p:cNvPr id="189" name=""/>
            <p:cNvSpPr/>
            <p:nvPr/>
          </p:nvSpPr>
          <p:spPr>
            <a:xfrm>
              <a:off x="658800" y="6276960"/>
              <a:ext cx="175752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N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 - SO</a:t>
              </a:r>
              <a:r>
                <a:rPr b="0" sz="1600" spc="-1" strike="noStrike" baseline="-25000">
                  <a:solidFill>
                    <a:srgbClr val="000000"/>
                  </a:solidFill>
                  <a:latin typeface="Times New Roman"/>
                </a:rPr>
                <a:t>x </a:t>
              </a:r>
              <a:r>
                <a:rPr b="0" sz="1600" spc="-1" strike="noStrike">
                  <a:solidFill>
                    <a:srgbClr val="000000"/>
                  </a:solidFill>
                  <a:latin typeface="Times New Roman"/>
                </a:rPr>
                <a:t>- HC - CO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1880" y="5475240"/>
              <a:ext cx="966600" cy="73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5960" y="4129200"/>
            <a:ext cx="770040" cy="747720"/>
          </a:xfrm>
          <a:prstGeom prst="ellipse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¿Cómo se representan los procesos de transformac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acciones fotoquí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l “smog” fotoquímico (primera aproxim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 FORTR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99072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NR=30*(MM-1)+D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FA=3.1416*(DNR-90.)/18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T=3.E-6+2.E-6*SIN(ALFA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O 120 K=1,NLE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10 J=1,N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 100 I=1,N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TXYZ1=-KT*CONCMLP(I,J,K,C,SO2)*D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1)=CONCMLP(I,J,K,C,XYZ1)+DTX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CMLP(I,J,K,C,XYZ2)=CONCMLP(I,J,K,C,XYZ2)-DTXYZ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XYZ1=LXYZ1-DTXYZ1*DXDY(I,J)*LS(I,J,K)*RHO(I,J,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CONTIN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0 CONTIN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62120" y="0"/>
            <a:ext cx="7772400" cy="1523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xidos de nitrógeno 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x=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+N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5880" y="2057400"/>
            <a:ext cx="2819520" cy="1600200"/>
            <a:chOff x="6095880" y="2057400"/>
            <a:chExt cx="2819520" cy="1600200"/>
          </a:xfrm>
        </p:grpSpPr>
        <p:sp>
          <p:nvSpPr>
            <p:cNvPr id="196" name=""/>
            <p:cNvSpPr/>
            <p:nvPr/>
          </p:nvSpPr>
          <p:spPr>
            <a:xfrm>
              <a:off x="6095880" y="2057400"/>
              <a:ext cx="281952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177600" y="2514600"/>
              <a:ext cx="24483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HNO</a:t>
              </a:r>
              <a:r>
                <a:rPr b="0" lang="en-US" sz="3200" spc="-1" strike="noStrike" baseline="-25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, nitra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3730320" y="1828800"/>
            <a:ext cx="2672640" cy="1295280"/>
            <a:chOff x="3730320" y="1828800"/>
            <a:chExt cx="2672640" cy="1295280"/>
          </a:xfrm>
        </p:grpSpPr>
        <p:sp>
          <p:nvSpPr>
            <p:cNvPr id="199" name=""/>
            <p:cNvSpPr/>
            <p:nvPr/>
          </p:nvSpPr>
          <p:spPr>
            <a:xfrm>
              <a:off x="4114800" y="2438280"/>
              <a:ext cx="1981080" cy="685800"/>
            </a:xfrm>
            <a:prstGeom prst="rightArrow">
              <a:avLst>
                <a:gd name="adj1" fmla="val 50000"/>
                <a:gd name="adj2" fmla="val 72218"/>
              </a:avLst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30320" y="1828800"/>
              <a:ext cx="2672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3300"/>
                  </a:solidFill>
                  <a:latin typeface="Times New Roman"/>
                </a:rPr>
                <a:t>Oxidación, OH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42280" y="3581280"/>
            <a:ext cx="2421000" cy="2873520"/>
            <a:chOff x="1142280" y="3581280"/>
            <a:chExt cx="2421000" cy="2873520"/>
          </a:xfrm>
        </p:grpSpPr>
        <p:sp>
          <p:nvSpPr>
            <p:cNvPr id="202" name=""/>
            <p:cNvSpPr/>
            <p:nvPr/>
          </p:nvSpPr>
          <p:spPr>
            <a:xfrm>
              <a:off x="1614600" y="3581280"/>
              <a:ext cx="533160" cy="2286000"/>
            </a:xfrm>
            <a:prstGeom prst="upArrow">
              <a:avLst>
                <a:gd name="adj1" fmla="val 50000"/>
                <a:gd name="adj2" fmla="val 10719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142280" y="5934240"/>
              <a:ext cx="242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Emisión direct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7620120" y="3581280"/>
            <a:ext cx="1181160" cy="2133720"/>
            <a:chOff x="7620120" y="3581280"/>
            <a:chExt cx="1181160" cy="2133720"/>
          </a:xfrm>
        </p:grpSpPr>
        <p:sp>
          <p:nvSpPr>
            <p:cNvPr id="205" name=""/>
            <p:cNvSpPr/>
            <p:nvPr/>
          </p:nvSpPr>
          <p:spPr>
            <a:xfrm>
              <a:off x="7848720" y="3581280"/>
              <a:ext cx="685800" cy="2133720"/>
            </a:xfrm>
            <a:prstGeom prst="downArrow">
              <a:avLst>
                <a:gd name="adj1" fmla="val 50000"/>
                <a:gd name="adj2" fmla="val 7778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1"/>
            <a:stretch/>
          </p:blipFill>
          <p:spPr>
            <a:xfrm>
              <a:off x="7620120" y="3733920"/>
              <a:ext cx="1181160" cy="119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7" name=""/>
          <p:cNvGrpSpPr/>
          <p:nvPr/>
        </p:nvGrpSpPr>
        <p:grpSpPr>
          <a:xfrm>
            <a:off x="380880" y="4340880"/>
            <a:ext cx="533520" cy="2136240"/>
            <a:chOff x="380880" y="4340880"/>
            <a:chExt cx="533520" cy="2136240"/>
          </a:xfrm>
        </p:grpSpPr>
        <p:sp>
          <p:nvSpPr>
            <p:cNvPr id="208" name=""/>
            <p:cNvSpPr/>
            <p:nvPr/>
          </p:nvSpPr>
          <p:spPr>
            <a:xfrm rot="16209000">
              <a:off x="-164520" y="488988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0880" y="4343400"/>
              <a:ext cx="533520" cy="2133720"/>
            </a:xfrm>
            <a:prstGeom prst="downArrow">
              <a:avLst>
                <a:gd name="adj1" fmla="val 50000"/>
                <a:gd name="adj2" fmla="val 9998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713960" y="1371600"/>
            <a:ext cx="1600560" cy="722520"/>
            <a:chOff x="1713960" y="1371600"/>
            <a:chExt cx="1600560" cy="722520"/>
          </a:xfrm>
        </p:grpSpPr>
        <p:cxnSp>
          <p:nvCxnSpPr>
            <p:cNvPr id="211" name=""/>
            <p:cNvCxnSpPr>
              <a:stCxn id="212" idx="0"/>
              <a:endCxn id="213" idx="0"/>
            </p:cNvCxnSpPr>
            <p:nvPr/>
          </p:nvCxnSpPr>
          <p:spPr>
            <a:xfrm rot="5400000">
              <a:off x="2513160" y="1292760"/>
              <a:ext cx="2160" cy="1600920"/>
            </a:xfrm>
            <a:prstGeom prst="curvedConnector5">
              <a:avLst>
                <a:gd name="adj1" fmla="val -14400000"/>
                <a:gd name="adj2" fmla="val 50000"/>
                <a:gd name="adj3" fmla="val -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2440080" y="13716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713600" y="2819520"/>
            <a:ext cx="1600560" cy="650160"/>
            <a:chOff x="1713600" y="2819520"/>
            <a:chExt cx="1600560" cy="650160"/>
          </a:xfrm>
        </p:grpSpPr>
        <p:cxnSp>
          <p:nvCxnSpPr>
            <p:cNvPr id="216" name=""/>
            <p:cNvCxnSpPr>
              <a:stCxn id="213" idx="4"/>
              <a:endCxn id="212" idx="4"/>
            </p:cNvCxnSpPr>
            <p:nvPr/>
          </p:nvCxnSpPr>
          <p:spPr>
            <a:xfrm flipH="1" rot="16200000">
              <a:off x="2512800" y="2359440"/>
              <a:ext cx="2520" cy="160092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7" name=""/>
            <p:cNvSpPr/>
            <p:nvPr/>
          </p:nvSpPr>
          <p:spPr>
            <a:xfrm>
              <a:off x="2294640" y="28195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3733920" y="4419720"/>
            <a:ext cx="1371600" cy="990360"/>
            <a:chOff x="3733920" y="4419720"/>
            <a:chExt cx="1371600" cy="990360"/>
          </a:xfrm>
        </p:grpSpPr>
        <p:sp>
          <p:nvSpPr>
            <p:cNvPr id="219" name=""/>
            <p:cNvSpPr/>
            <p:nvPr/>
          </p:nvSpPr>
          <p:spPr>
            <a:xfrm>
              <a:off x="3733920" y="44197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047840" y="464832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5410080" y="4343400"/>
            <a:ext cx="1371600" cy="990720"/>
            <a:chOff x="5410080" y="4343400"/>
            <a:chExt cx="1371600" cy="990720"/>
          </a:xfrm>
        </p:grpSpPr>
        <p:sp>
          <p:nvSpPr>
            <p:cNvPr id="222" name=""/>
            <p:cNvSpPr/>
            <p:nvPr/>
          </p:nvSpPr>
          <p:spPr>
            <a:xfrm>
              <a:off x="5410080" y="4343400"/>
              <a:ext cx="1371600" cy="990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638680" y="4689360"/>
              <a:ext cx="7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0" y="3505320"/>
            <a:ext cx="1371600" cy="990360"/>
            <a:chOff x="0" y="3505320"/>
            <a:chExt cx="1371600" cy="990360"/>
          </a:xfrm>
        </p:grpSpPr>
        <p:sp>
          <p:nvSpPr>
            <p:cNvPr id="225" name=""/>
            <p:cNvSpPr/>
            <p:nvPr/>
          </p:nvSpPr>
          <p:spPr>
            <a:xfrm>
              <a:off x="0" y="3505320"/>
              <a:ext cx="1371600" cy="990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560" y="3733920"/>
              <a:ext cx="1218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685800" y="1981080"/>
            <a:ext cx="3429000" cy="1371600"/>
            <a:chOff x="685800" y="1981080"/>
            <a:chExt cx="3429000" cy="1371600"/>
          </a:xfrm>
        </p:grpSpPr>
        <p:grpSp>
          <p:nvGrpSpPr>
            <p:cNvPr id="228" name=""/>
            <p:cNvGrpSpPr/>
            <p:nvPr/>
          </p:nvGrpSpPr>
          <p:grpSpPr>
            <a:xfrm>
              <a:off x="2514600" y="2092320"/>
              <a:ext cx="1600200" cy="1066680"/>
              <a:chOff x="2514600" y="2092320"/>
              <a:chExt cx="1600200" cy="1066680"/>
            </a:xfrm>
          </p:grpSpPr>
          <p:sp>
            <p:nvSpPr>
              <p:cNvPr id="229" name=""/>
              <p:cNvSpPr/>
              <p:nvPr/>
            </p:nvSpPr>
            <p:spPr>
              <a:xfrm>
                <a:off x="3058920" y="2362320"/>
                <a:ext cx="81612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r>
                  <a:rPr b="1" lang="en-US" sz="2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25146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914400" y="2092320"/>
              <a:ext cx="1600200" cy="1066680"/>
              <a:chOff x="914400" y="2092320"/>
              <a:chExt cx="1600200" cy="1066680"/>
            </a:xfrm>
          </p:grpSpPr>
          <p:sp>
            <p:nvSpPr>
              <p:cNvPr id="231" name=""/>
              <p:cNvSpPr/>
              <p:nvPr/>
            </p:nvSpPr>
            <p:spPr>
              <a:xfrm>
                <a:off x="1371600" y="2438280"/>
                <a:ext cx="71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O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914400" y="2092320"/>
                <a:ext cx="1600200" cy="10666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685800" y="1981080"/>
              <a:ext cx="3429000" cy="13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160760" y="3809880"/>
            <a:ext cx="535320" cy="2133720"/>
            <a:chOff x="7160760" y="3809880"/>
            <a:chExt cx="535320" cy="2133720"/>
          </a:xfrm>
        </p:grpSpPr>
        <p:sp>
          <p:nvSpPr>
            <p:cNvPr id="234" name=""/>
            <p:cNvSpPr/>
            <p:nvPr/>
          </p:nvSpPr>
          <p:spPr>
            <a:xfrm rot="16209000">
              <a:off x="6613920" y="435960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162920" y="380988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2588760" y="3886200"/>
            <a:ext cx="535320" cy="2133720"/>
            <a:chOff x="2588760" y="3886200"/>
            <a:chExt cx="535320" cy="2133720"/>
          </a:xfrm>
        </p:grpSpPr>
        <p:sp>
          <p:nvSpPr>
            <p:cNvPr id="237" name=""/>
            <p:cNvSpPr/>
            <p:nvPr/>
          </p:nvSpPr>
          <p:spPr>
            <a:xfrm rot="16209000">
              <a:off x="2041920" y="4435920"/>
              <a:ext cx="161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p. Sec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90920" y="3886200"/>
              <a:ext cx="533160" cy="2133720"/>
            </a:xfrm>
            <a:prstGeom prst="downArrow">
              <a:avLst>
                <a:gd name="adj1" fmla="val 50000"/>
                <a:gd name="adj2" fmla="val 100051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252080" y="3394080"/>
            <a:ext cx="500400" cy="568440"/>
            <a:chOff x="1252080" y="3394080"/>
            <a:chExt cx="500400" cy="568440"/>
          </a:xfrm>
        </p:grpSpPr>
        <p:cxnSp>
          <p:nvCxnSpPr>
            <p:cNvPr id="240" name=""/>
            <p:cNvCxnSpPr>
              <a:stCxn id="226" idx="3"/>
            </p:cNvCxnSpPr>
            <p:nvPr/>
          </p:nvCxnSpPr>
          <p:spPr>
            <a:xfrm flipV="1">
              <a:off x="1252080" y="3428640"/>
              <a:ext cx="500760" cy="5342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1281240" y="339408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000" y="2286000"/>
            <a:ext cx="691560" cy="1364040"/>
            <a:chOff x="9000" y="2286000"/>
            <a:chExt cx="691560" cy="1364040"/>
          </a:xfrm>
        </p:grpSpPr>
        <p:cxnSp>
          <p:nvCxnSpPr>
            <p:cNvPr id="243" name=""/>
            <p:cNvCxnSpPr>
              <a:stCxn id="232" idx="1"/>
              <a:endCxn id="225" idx="1"/>
            </p:cNvCxnSpPr>
            <p:nvPr/>
          </p:nvCxnSpPr>
          <p:spPr>
            <a:xfrm flipV="1" rot="10800000">
              <a:off x="200880" y="2666520"/>
              <a:ext cx="484920" cy="98352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9000" y="2286000"/>
              <a:ext cx="691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114080" y="2666160"/>
            <a:ext cx="929160" cy="1753200"/>
            <a:chOff x="4114080" y="2666160"/>
            <a:chExt cx="929160" cy="1753200"/>
          </a:xfrm>
        </p:grpSpPr>
        <p:cxnSp>
          <p:nvCxnSpPr>
            <p:cNvPr id="246" name=""/>
            <p:cNvCxnSpPr>
              <a:stCxn id="219" idx="0"/>
              <a:endCxn id="232" idx="3"/>
            </p:cNvCxnSpPr>
            <p:nvPr/>
          </p:nvCxnSpPr>
          <p:spPr>
            <a:xfrm flipV="1" rot="16200000">
              <a:off x="3390120" y="3390120"/>
              <a:ext cx="1753560" cy="30564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7" name=""/>
            <p:cNvSpPr/>
            <p:nvPr/>
          </p:nvSpPr>
          <p:spPr>
            <a:xfrm>
              <a:off x="4557600" y="32418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400480" y="3352320"/>
            <a:ext cx="1535400" cy="1211760"/>
            <a:chOff x="2400480" y="3352320"/>
            <a:chExt cx="1535400" cy="1211760"/>
          </a:xfrm>
        </p:grpSpPr>
        <p:cxnSp>
          <p:nvCxnSpPr>
            <p:cNvPr id="249" name=""/>
            <p:cNvCxnSpPr>
              <a:stCxn id="232" idx="2"/>
              <a:endCxn id="219" idx="1"/>
            </p:cNvCxnSpPr>
            <p:nvPr/>
          </p:nvCxnSpPr>
          <p:spPr>
            <a:xfrm flipH="1" rot="16200000">
              <a:off x="2562120" y="3190320"/>
              <a:ext cx="1212120" cy="1535760"/>
            </a:xfrm>
            <a:prstGeom prst="curvedConnector5">
              <a:avLst>
                <a:gd name="adj1" fmla="val 44028"/>
                <a:gd name="adj2" fmla="val 49988"/>
                <a:gd name="adj3" fmla="val 44028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3437640" y="35053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6508440" y="3421800"/>
            <a:ext cx="736200" cy="1065600"/>
            <a:chOff x="6508440" y="3421800"/>
            <a:chExt cx="736200" cy="1065600"/>
          </a:xfrm>
        </p:grpSpPr>
        <p:cxnSp>
          <p:nvCxnSpPr>
            <p:cNvPr id="252" name=""/>
            <p:cNvCxnSpPr>
              <a:stCxn id="222" idx="7"/>
              <a:endCxn id="196" idx="3"/>
            </p:cNvCxnSpPr>
            <p:nvPr/>
          </p:nvCxnSpPr>
          <p:spPr>
            <a:xfrm flipV="1" rot="16200000">
              <a:off x="6011280" y="3918600"/>
              <a:ext cx="1065960" cy="72000"/>
            </a:xfrm>
            <a:prstGeom prst="curvedConnector5">
              <a:avLst>
                <a:gd name="adj1" fmla="val 45743"/>
                <a:gd name="adj2" fmla="val 49748"/>
                <a:gd name="adj3" fmla="val 45743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3" name=""/>
            <p:cNvSpPr/>
            <p:nvPr/>
          </p:nvSpPr>
          <p:spPr>
            <a:xfrm>
              <a:off x="6690600" y="362268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4419720" y="5333400"/>
            <a:ext cx="1676520" cy="780480"/>
            <a:chOff x="4419720" y="5333400"/>
            <a:chExt cx="1676520" cy="780480"/>
          </a:xfrm>
        </p:grpSpPr>
        <p:cxnSp>
          <p:nvCxnSpPr>
            <p:cNvPr id="255" name=""/>
            <p:cNvCxnSpPr>
              <a:stCxn id="219" idx="4"/>
              <a:endCxn id="222" idx="4"/>
            </p:cNvCxnSpPr>
            <p:nvPr/>
          </p:nvCxnSpPr>
          <p:spPr>
            <a:xfrm flipH="1" flipV="1" rot="5400000">
              <a:off x="5219640" y="4533480"/>
              <a:ext cx="76680" cy="1676880"/>
            </a:xfrm>
            <a:prstGeom prst="curvedConnector5">
              <a:avLst>
                <a:gd name="adj1" fmla="val -300000"/>
                <a:gd name="adj2" fmla="val 49989"/>
                <a:gd name="adj3" fmla="val -3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6" name=""/>
            <p:cNvSpPr/>
            <p:nvPr/>
          </p:nvSpPr>
          <p:spPr>
            <a:xfrm>
              <a:off x="5175000" y="5603760"/>
              <a:ext cx="708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3809880" cy="30607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4343400" y="457200"/>
            <a:ext cx="4572000" cy="315900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0" y="1371600"/>
            <a:ext cx="4190760" cy="1230120"/>
            <a:chOff x="0" y="1371600"/>
            <a:chExt cx="4190760" cy="1230120"/>
          </a:xfrm>
        </p:grpSpPr>
        <p:sp>
          <p:nvSpPr>
            <p:cNvPr id="260" name=""/>
            <p:cNvSpPr/>
            <p:nvPr/>
          </p:nvSpPr>
          <p:spPr>
            <a:xfrm>
              <a:off x="314316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814320" y="1694880"/>
              <a:ext cx="698400" cy="38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0" y="208368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12720" y="1371600"/>
              <a:ext cx="1047600" cy="5180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444400" y="1695240"/>
              <a:ext cx="1047600" cy="51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81760" y="1630440"/>
              <a:ext cx="815040" cy="45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137520" y="68580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82160" y="2427120"/>
            <a:ext cx="59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181480" y="3962520"/>
            <a:ext cx="2641680" cy="264132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593280" y="-52560"/>
            <a:ext cx="167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zo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presencia de radiación solar y óxidos de nitrógeno (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, la oxidación de CO, 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e HC da lugar a la forma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 ausencia de N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 los mismos procesos conllevan a la destrucción de ozon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toquím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NO -&gt; OH+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h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(&lt;410 nm)-&gt;NO+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+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+M -&gt; O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+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+2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+h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-&gt; 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O+OH -&gt;H+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+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-&gt; OH +2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 +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-&gt;CO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+O</a:t>
            </a:r>
            <a:r>
              <a:rPr b="1" lang="en-US" sz="2400" spc="-1" strike="noStrike" baseline="-25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500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7" dur="500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ÚNICA FORMA D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IR OZONO EN LA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ÓSFE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1066680" y="2774880"/>
                <a:ext cx="7315200" cy="12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atmósferas limpia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143000" y="1508040"/>
                <a:ext cx="7315200" cy="240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457560" y="4648320"/>
            <a:ext cx="7505280" cy="1447200"/>
            <a:chOff x="457560" y="4648320"/>
            <a:chExt cx="7505280" cy="1447200"/>
          </a:xfrm>
        </p:grpSpPr>
        <p:grpSp>
          <p:nvGrpSpPr>
            <p:cNvPr id="280" name=""/>
            <p:cNvGrpSpPr/>
            <p:nvPr/>
          </p:nvGrpSpPr>
          <p:grpSpPr>
            <a:xfrm>
              <a:off x="457560" y="4648320"/>
              <a:ext cx="3885840" cy="1447200"/>
              <a:chOff x="457560" y="4648320"/>
              <a:chExt cx="3885840" cy="1447200"/>
            </a:xfrm>
          </p:grpSpPr>
          <p:sp>
            <p:nvSpPr>
              <p:cNvPr id="281" name=""/>
              <p:cNvSpPr/>
              <p:nvPr/>
            </p:nvSpPr>
            <p:spPr>
              <a:xfrm>
                <a:off x="685800" y="5105160"/>
                <a:ext cx="3657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57560" y="4648320"/>
                <a:ext cx="3816000" cy="1447200"/>
                <a:chOff x="457560" y="4648320"/>
                <a:chExt cx="3816000" cy="14472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905120" y="5105160"/>
                  <a:ext cx="838080" cy="9903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57560" y="4648320"/>
                  <a:ext cx="10263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P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00400" y="4648320"/>
                  <a:ext cx="1073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Times New Roman"/>
                    </a:rPr>
                    <a:t>D O</a:t>
                  </a: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mc:AlternateContent>
          <mc:Choice xmlns:a14="http://schemas.microsoft.com/office/drawing/2010/main" Requires="a14">
            <p:sp>
              <p:nvSpPr>
                <p:cNvPr id="286" name=""/>
                <p:cNvSpPr txBox="1"/>
                <p:nvPr/>
              </p:nvSpPr>
              <p:spPr>
                <a:xfrm>
                  <a:off x="5029200" y="4724280"/>
                  <a:ext cx="2933640" cy="1168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mog” Fotoquímico (atmósferas suci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actividades humanas que dan lugar a emisiones de precursores de ozono (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 H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iciones meteorológicas que permiten la acumulación de los precursores de 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2743560" y="4191120"/>
            <a:ext cx="3663720" cy="1904400"/>
            <a:chOff x="2743560" y="4191120"/>
            <a:chExt cx="3663720" cy="1904400"/>
          </a:xfrm>
        </p:grpSpPr>
        <p:sp>
          <p:nvSpPr>
            <p:cNvPr id="290" name=""/>
            <p:cNvSpPr/>
            <p:nvPr/>
          </p:nvSpPr>
          <p:spPr>
            <a:xfrm>
              <a:off x="2743560" y="4647960"/>
              <a:ext cx="1026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191120" y="5105160"/>
              <a:ext cx="838080" cy="99036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34120" y="4191120"/>
              <a:ext cx="10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D O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505320" y="4800600"/>
              <a:ext cx="236196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8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1066680" y="609480"/>
                <a:ext cx="7315200" cy="332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hν</m:t>
                        </m:r>
                        <m:r>
                          <m:t xml:space="preserve"> </m:t>
                        </m:r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J</m:t>
                            </m:r>
                          </m:lim>
                        </m:limUp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420nm</m:t>
                        </m:r>
                      </m:e>
                      <m:e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k</m:t>
                            </m:r>
                          </m:lim>
                        </m:limUp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</m:lim>
                        </m:limUp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5" name=""/>
          <p:cNvGrpSpPr/>
          <p:nvPr/>
        </p:nvGrpSpPr>
        <p:grpSpPr>
          <a:xfrm>
            <a:off x="360" y="4572000"/>
            <a:ext cx="9097560" cy="1905120"/>
            <a:chOff x="360" y="4572000"/>
            <a:chExt cx="9097560" cy="1905120"/>
          </a:xfrm>
        </p:grpSpPr>
        <mc:AlternateContent>
          <mc:Choice xmlns:a14="http://schemas.microsoft.com/office/drawing/2010/main" Requires="a14">
            <p:sp>
              <p:nvSpPr>
                <p:cNvPr id="296" name=""/>
                <p:cNvSpPr txBox="1"/>
                <p:nvPr/>
              </p:nvSpPr>
              <p:spPr>
                <a:xfrm>
                  <a:off x="3895560" y="4691160"/>
                  <a:ext cx="5202360" cy="123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f>
                        <m:num>
                          <m:r>
                            <m:t xml:space="preserve">J</m:t>
                          </m:r>
                          <m:r>
                            <m:t xml:space="preserve">[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]</m:t>
                          </m:r>
                        </m:num>
                        <m:den>
                          <m:r>
                            <m:t xml:space="preserve">k</m:t>
                          </m:r>
                          <m:r>
                            <m:t xml:space="preserve">[</m:t>
                          </m:r>
                          <m:r>
                            <m:rPr>
                              <m:lit/>
                              <m:nor/>
                            </m:rPr>
                            <m:t xml:space="preserve">NO</m:t>
                          </m:r>
                          <m:r>
                            <m:t xml:space="preserve">]</m:t>
                          </m:r>
                          <m:r>
                            <m:t xml:space="preserve">+</m:t>
                          </m:r>
                          <m:nary>
                            <m:naryPr>
                              <m:chr m:val="∑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k</m:t>
                                  </m:r>
                                </m:e>
                                <m:sub>
                                  <m:r>
                                    <m:t xml:space="preserve">R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*R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nary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297" name=""/>
            <p:cNvGrpSpPr/>
            <p:nvPr/>
          </p:nvGrpSpPr>
          <p:grpSpPr>
            <a:xfrm>
              <a:off x="360" y="4572000"/>
              <a:ext cx="3663720" cy="1905120"/>
              <a:chOff x="360" y="4572000"/>
              <a:chExt cx="3663720" cy="1905120"/>
            </a:xfrm>
          </p:grpSpPr>
          <p:sp>
            <p:nvSpPr>
              <p:cNvPr id="298" name=""/>
              <p:cNvSpPr/>
              <p:nvPr/>
            </p:nvSpPr>
            <p:spPr>
              <a:xfrm>
                <a:off x="360" y="5029200"/>
                <a:ext cx="102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P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47920" y="5486400"/>
                <a:ext cx="838080" cy="990720"/>
              </a:xfrm>
              <a:prstGeom prst="triangle">
                <a:avLst>
                  <a:gd name="adj" fmla="val 50000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590920" y="4572000"/>
                <a:ext cx="1073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 O</a:t>
                </a: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762120" y="5181480"/>
                <a:ext cx="2361960" cy="60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O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en la atmósfer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143000" y="3200400"/>
            <a:ext cx="6934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19320" y="5334120"/>
            <a:ext cx="6933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2362320"/>
            <a:ext cx="990720" cy="1447560"/>
          </a:xfrm>
          <a:prstGeom prst="downArrow">
            <a:avLst>
              <a:gd name="adj1" fmla="val 50000"/>
              <a:gd name="adj2" fmla="val 3652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23240" y="2381400"/>
            <a:ext cx="373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ntrusión desde arri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04920" y="4114800"/>
            <a:ext cx="1371600" cy="12193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5410080"/>
            <a:ext cx="4145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cursores (HC, CO,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482480" y="4100400"/>
            <a:ext cx="5940720" cy="821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ción Fotoquí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238880" y="4343400"/>
            <a:ext cx="762120" cy="1676520"/>
          </a:xfrm>
          <a:prstGeom prst="downArrow">
            <a:avLst>
              <a:gd name="adj1" fmla="val 50000"/>
              <a:gd name="adj2" fmla="val 54995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601992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posición se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906480" cy="9032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1087560" cy="6984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76560" y="3352680"/>
            <a:ext cx="216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410 n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90720" y="1600200"/>
            <a:ext cx="7226280" cy="2895120"/>
            <a:chOff x="990720" y="1600200"/>
            <a:chExt cx="7226280" cy="2895120"/>
          </a:xfrm>
        </p:grpSpPr>
        <p:sp>
          <p:nvSpPr>
            <p:cNvPr id="56" name=""/>
            <p:cNvSpPr/>
            <p:nvPr/>
          </p:nvSpPr>
          <p:spPr>
            <a:xfrm>
              <a:off x="1371600" y="1600200"/>
              <a:ext cx="6616800" cy="74916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Dispersión y transformac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400800" y="2361960"/>
              <a:ext cx="0" cy="2082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2286000" y="2285640"/>
              <a:ext cx="0" cy="2209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90720" y="3200040"/>
              <a:ext cx="295884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Emision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724280" y="3200040"/>
              <a:ext cx="3492720" cy="825120"/>
            </a:xfrm>
            <a:prstGeom prst="rect">
              <a:avLst/>
            </a:prstGeom>
            <a:solidFill>
              <a:srgbClr val="e3be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Remoción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4114800" y="838080"/>
            <a:ext cx="4038480" cy="221004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5105520" cy="48276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5257800" y="762120"/>
            <a:ext cx="3581280" cy="457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Fuente: SESMA http://www.sesma.cl/sitio/pag/aire/indexjs3aireindgasesdemo.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200960" y="560376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áximo registrado: 208 pp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"/>
          <p:cNvGrpSpPr/>
          <p:nvPr/>
        </p:nvGrpSpPr>
        <p:grpSpPr>
          <a:xfrm>
            <a:off x="1523880" y="2371680"/>
            <a:ext cx="4800600" cy="2819520"/>
            <a:chOff x="1523880" y="2371680"/>
            <a:chExt cx="4800600" cy="2819520"/>
          </a:xfrm>
        </p:grpSpPr>
        <p:sp>
          <p:nvSpPr>
            <p:cNvPr id="320" name=""/>
            <p:cNvSpPr/>
            <p:nvPr/>
          </p:nvSpPr>
          <p:spPr>
            <a:xfrm>
              <a:off x="1523880" y="237168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752480" y="5191200"/>
              <a:ext cx="457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657600" y="1914480"/>
            <a:ext cx="533520" cy="1143000"/>
          </a:xfrm>
          <a:prstGeom prst="downArrow">
            <a:avLst>
              <a:gd name="adj1" fmla="val 50000"/>
              <a:gd name="adj2" fmla="val 535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251240" y="1752480"/>
            <a:ext cx="485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Flujo desde la estratósfera (11.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4657680"/>
            <a:ext cx="609480" cy="1143000"/>
          </a:xfrm>
          <a:prstGeom prst="downArrow">
            <a:avLst>
              <a:gd name="adj1" fmla="val 50000"/>
              <a:gd name="adj2" fmla="val 46884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57913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Times New Roman"/>
              </a:rPr>
              <a:t>Flujo hacia la superficie (-4.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524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0" y="31240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Times New Roman"/>
              </a:rPr>
              <a:t>Producción fotoquímica (19.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33040" y="304920"/>
            <a:ext cx="5296680" cy="764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zono en la tropósfe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24280" y="3743280"/>
            <a:ext cx="1295640" cy="380880"/>
          </a:xfrm>
          <a:prstGeom prst="rightArrow">
            <a:avLst>
              <a:gd name="adj1" fmla="val 50000"/>
              <a:gd name="adj2" fmla="val 8504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038480" y="39625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imes New Roman"/>
              </a:rPr>
              <a:t>Destrucción fotoquímica (-25.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26920" y="5840280"/>
            <a:ext cx="39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udget: Crutzen et al, 1999 (Tell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olec/c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359920" cy="5244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5948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297720" y="30492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www.cnrm.meteo.fr:8000/mozaic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09480" y="522360"/>
            <a:ext cx="8229600" cy="63356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127880" y="193680"/>
            <a:ext cx="135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fec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men sobre 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troposfé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 radiación IR =&gt;es un gas de invernader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absorberadiación UV y da lugar a radicale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unto a radiación solar y vapor de agua forma OH =&gt; controla la capacidad de limpieza de la atmósfe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En grandes cantidades causa irritación y daña a los veget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Las actividades humanas han dado lugar a aumento en sus concentraciones a escala urbana y regional (e.g., Santiago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4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0" y="0"/>
            <a:ext cx="4932360" cy="2781360"/>
            <a:chOff x="0" y="0"/>
            <a:chExt cx="4932360" cy="2781360"/>
          </a:xfrm>
        </p:grpSpPr>
        <mc:AlternateContent>
          <mc:Choice xmlns:a14="http://schemas.microsoft.com/office/drawing/2010/main" Requires="a14">
            <p:sp>
              <p:nvSpPr>
                <p:cNvPr id="64" name=""/>
                <p:cNvSpPr txBox="1"/>
                <p:nvPr/>
              </p:nvSpPr>
              <p:spPr>
                <a:xfrm>
                  <a:off x="0" y="0"/>
                  <a:ext cx="1763640" cy="69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F</m:t>
                          </m:r>
                        </m:e>
                      </m:acc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 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a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5" name=""/>
            <p:cNvSpPr/>
            <p:nvPr/>
          </p:nvSpPr>
          <p:spPr>
            <a:xfrm>
              <a:off x="2771640" y="1125360"/>
              <a:ext cx="2160720" cy="16560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1763640" y="0"/>
            <a:ext cx="5905440" cy="2781360"/>
            <a:chOff x="1763640" y="0"/>
            <a:chExt cx="5905440" cy="2781360"/>
          </a:xfrm>
        </p:grpSpPr>
        <mc:AlternateContent>
          <mc:Choice xmlns:a14="http://schemas.microsoft.com/office/drawing/2010/main" Requires="a14">
            <p:sp>
              <p:nvSpPr>
                <p:cNvPr id="67" name=""/>
                <p:cNvSpPr txBox="1"/>
                <p:nvPr/>
              </p:nvSpPr>
              <p:spPr>
                <a:xfrm>
                  <a:off x="1763640" y="0"/>
                  <a:ext cx="547236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8" name=""/>
            <p:cNvSpPr/>
            <p:nvPr/>
          </p:nvSpPr>
          <p:spPr>
            <a:xfrm>
              <a:off x="5508720" y="1125360"/>
              <a:ext cx="2160360" cy="1656000"/>
            </a:xfrm>
            <a:prstGeom prst="rect">
              <a:avLst/>
            </a:prstGeom>
            <a:solidFill>
              <a:srgbClr val="99ff6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780000" y="0"/>
            <a:ext cx="5364000" cy="4869000"/>
            <a:chOff x="3780000" y="0"/>
            <a:chExt cx="5364000" cy="4869000"/>
          </a:xfrm>
        </p:grpSpPr>
        <mc:AlternateContent>
          <mc:Choice xmlns:a14="http://schemas.microsoft.com/office/drawing/2010/main" Requires="a14">
            <p:sp>
              <p:nvSpPr>
                <p:cNvPr id="70" name=""/>
                <p:cNvSpPr txBox="1"/>
                <p:nvPr/>
              </p:nvSpPr>
              <p:spPr>
                <a:xfrm>
                  <a:off x="7236000" y="0"/>
                  <a:ext cx="1908000" cy="674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1" name=""/>
            <p:cNvSpPr/>
            <p:nvPr/>
          </p:nvSpPr>
          <p:spPr>
            <a:xfrm>
              <a:off x="3780000" y="3213000"/>
              <a:ext cx="2160360" cy="16560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3348000" y="2708280"/>
            <a:ext cx="2952720" cy="25210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Desde interacciones moleculares hasta sistemas de tiempo de miles de kilómetros...¡todo a la vez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481880" y="4221000"/>
            <a:ext cx="1662120" cy="19465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667640" y="1700280"/>
            <a:ext cx="1249200" cy="1328760"/>
          </a:xfrm>
          <a:prstGeom prst="rect">
            <a:avLst/>
          </a:prstGeom>
          <a:ln w="0">
            <a:noFill/>
          </a:ln>
        </p:spPr>
      </p:pic>
      <p:pic>
        <p:nvPicPr>
          <p:cNvPr id="76" name="scales_brasseur" descr=""/>
          <p:cNvPicPr/>
          <p:nvPr/>
        </p:nvPicPr>
        <p:blipFill>
          <a:blip r:embed="rId3"/>
          <a:stretch/>
        </p:blipFill>
        <p:spPr>
          <a:xfrm>
            <a:off x="0" y="1125360"/>
            <a:ext cx="7596360" cy="522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+D, k(p,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h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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mbios de f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or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2286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934320" y="304920"/>
            <a:ext cx="1780920" cy="18288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934320" y="2971800"/>
            <a:ext cx="1662120" cy="236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ey estequiométr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0" y="1600200"/>
            <a:ext cx="902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número de átomos de cada tipo que participan en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ción química permanece constante (La masa se conserva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523880" y="3200400"/>
                <a:ext cx="61786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86" name=""/>
          <p:cNvGrpSpPr/>
          <p:nvPr/>
        </p:nvGrpSpPr>
        <p:grpSpPr>
          <a:xfrm>
            <a:off x="1597680" y="3947760"/>
            <a:ext cx="2289600" cy="2181240"/>
            <a:chOff x="1597680" y="3947760"/>
            <a:chExt cx="2289600" cy="2181240"/>
          </a:xfrm>
        </p:grpSpPr>
        <p:sp>
          <p:nvSpPr>
            <p:cNvPr id="87" name=""/>
            <p:cNvSpPr/>
            <p:nvPr/>
          </p:nvSpPr>
          <p:spPr>
            <a:xfrm rot="16161600">
              <a:off x="2513520" y="3046680"/>
              <a:ext cx="457200" cy="228456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59400 h 2284560"/>
                <a:gd name="textAreaBottom" fmla="*/ 2225160 h 228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03680" y="4572000"/>
              <a:ext cx="15890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Reactante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874400" y="3945600"/>
            <a:ext cx="2670480" cy="2259720"/>
            <a:chOff x="4874400" y="3945600"/>
            <a:chExt cx="2670480" cy="2259720"/>
          </a:xfrm>
        </p:grpSpPr>
        <p:sp>
          <p:nvSpPr>
            <p:cNvPr id="90" name=""/>
            <p:cNvSpPr/>
            <p:nvPr/>
          </p:nvSpPr>
          <p:spPr>
            <a:xfrm rot="16161600">
              <a:off x="5980680" y="2856240"/>
              <a:ext cx="457200" cy="266544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69480 h 2665440"/>
                <a:gd name="textAreaBottom" fmla="*/ 259596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181840" y="4648320"/>
              <a:ext cx="1486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Producto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: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H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O: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380880" y="2101680"/>
                <a:ext cx="769644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→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⇔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,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47960" y="1371600"/>
            <a:ext cx="398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omposición uni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23920" y="3657600"/>
            <a:ext cx="7776720" cy="2056680"/>
            <a:chOff x="223920" y="3657600"/>
            <a:chExt cx="7776720" cy="2056680"/>
          </a:xfrm>
        </p:grpSpPr>
        <mc:AlternateContent>
          <mc:Choice xmlns:a14="http://schemas.microsoft.com/office/drawing/2010/main" Requires="a14">
            <p:sp>
              <p:nvSpPr>
                <p:cNvPr id="96" name=""/>
                <p:cNvSpPr txBox="1"/>
                <p:nvPr/>
              </p:nvSpPr>
              <p:spPr>
                <a:xfrm>
                  <a:off x="808200" y="4416120"/>
                  <a:ext cx="7192440" cy="1298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→</m:t>
                      </m:r>
                      <m:r>
                        <m:t xml:space="preserve">B</m:t>
                      </m:r>
                      <m:r>
                        <m:t xml:space="preserve">+</m:t>
                      </m:r>
                      <m:r>
                        <m:t xml:space="preserve">B</m:t>
                      </m:r>
                      <m:r>
                        <m:t xml:space="preserve"> </m:t>
                      </m:r>
                      <m:r>
                        <m:t xml:space="preserve">⇔</m:t>
                      </m:r>
                      <m:r>
                        <m:t xml:space="preserve">−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A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B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kA</m:t>
                      </m:r>
                      <m:r>
                        <m:t xml:space="preserve">,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r>
                            <m:t xml:space="preserve">k</m:t>
                          </m:r>
                        </m:e>
                      </m:d>
                      <m:r>
                        <m:t xml:space="preserve">=</m:t>
                      </m:r>
                      <m:sSup>
                        <m:e>
                          <m:r>
                            <m:t xml:space="preserve">s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97" name=""/>
            <p:cNvSpPr/>
            <p:nvPr/>
          </p:nvSpPr>
          <p:spPr>
            <a:xfrm>
              <a:off x="223920" y="3657600"/>
              <a:ext cx="398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escomposición un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378720" y="1600200"/>
            <a:ext cx="8125560" cy="1854360"/>
            <a:chOff x="378720" y="1600200"/>
            <a:chExt cx="8125560" cy="1854360"/>
          </a:xfrm>
        </p:grpSpPr>
        <p:sp>
          <p:nvSpPr>
            <p:cNvPr id="99" name=""/>
            <p:cNvSpPr/>
            <p:nvPr/>
          </p:nvSpPr>
          <p:spPr>
            <a:xfrm>
              <a:off x="378720" y="160020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0" name=""/>
                <p:cNvSpPr txBox="1"/>
                <p:nvPr/>
              </p:nvSpPr>
              <p:spPr>
                <a:xfrm>
                  <a:off x="709560" y="2133720"/>
                  <a:ext cx="779472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B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kAB</m:t>
                          </m:r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1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5040" y="4038480"/>
            <a:ext cx="8238240" cy="1854360"/>
            <a:chOff x="455040" y="4038480"/>
            <a:chExt cx="8238240" cy="1854360"/>
          </a:xfrm>
        </p:grpSpPr>
        <p:sp>
          <p:nvSpPr>
            <p:cNvPr id="103" name=""/>
            <p:cNvSpPr/>
            <p:nvPr/>
          </p:nvSpPr>
          <p:spPr>
            <a:xfrm>
              <a:off x="455040" y="4038480"/>
              <a:ext cx="177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Bimolecula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"/>
                <p:cNvSpPr txBox="1"/>
                <p:nvPr/>
              </p:nvSpPr>
              <p:spPr>
                <a:xfrm>
                  <a:off x="673200" y="4572000"/>
                  <a:ext cx="8020080" cy="1320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A</m:t>
                          </m:r>
                          <m:r>
                            <m:t xml:space="preserve">+</m:t>
                          </m:r>
                          <m:r>
                            <m:t xml:space="preserve">A</m:t>
                          </m:r>
                          <m:r>
                            <m:t xml:space="preserve">→</m:t>
                          </m:r>
                          <m:r>
                            <m:t xml:space="preserve">C</m:t>
                          </m:r>
                          <m:r>
                            <m:t xml:space="preserve">+</m:t>
                          </m:r>
                          <m:r>
                            <m:t xml:space="preserve">D</m:t>
                          </m:r>
                          <m:r>
                            <m:t xml:space="preserve"> </m:t>
                          </m:r>
                          <m:r>
                            <m:t xml:space="preserve">⇔</m:t>
                          </m:r>
                        </m:e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A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B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C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dD</m:t>
                              </m:r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den>
                          </m:f>
                          <m:r>
                            <m:t xml:space="preserve">=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k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,</m:t>
                          </m:r>
                          <m:d>
                            <m:dPr>
                              <m:begChr m:val="["/>
                              <m:endChr m:val="]"/>
                            </m:dPr>
                            <m:e>
                              <m:r>
                                <m:t xml:space="preserve">k</m:t>
                              </m:r>
                            </m:e>
                          </m:d>
                          <m:r>
                            <m:t xml:space="preserve">=</m:t>
                          </m:r>
                          <m:f>
                            <m:num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m</m:t>
                                  </m:r>
                                </m:e>
                                <m:sup>
                                  <m:r>
                                    <m:t xml:space="preserve">3</m:t>
                                  </m:r>
                                </m:sup>
                              </m:sSup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molécula</m:t>
                              </m:r>
                              <m:r>
                                <m:t xml:space="preserve">∗</m:t>
                              </m:r>
                              <m:r>
                                <m:t xml:space="preserve">s</m:t>
                              </m:r>
                            </m:den>
                          </m:f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5T14:29:44Z</dcterms:created>
  <dc:creator>Laura Gallardo Klenner</dc:creator>
  <dc:description/>
  <dc:language>en-US</dc:language>
  <cp:lastModifiedBy>LGK</cp:lastModifiedBy>
  <cp:lastPrinted>2001-04-25T14:48:12Z</cp:lastPrinted>
  <dcterms:modified xsi:type="dcterms:W3CDTF">2005-09-07T15:23:37Z</dcterms:modified>
  <cp:revision>19</cp:revision>
  <dc:subject/>
  <dc:title>Sin título de diapositiva</dc:title>
</cp:coreProperties>
</file>