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png" ContentType="image/png"/>
  <Override PartName="/ppt/media/image1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3.jpeg" ContentType="image/jpe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1E5-79A6-4945-AA8E-94C17AFD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436-4680-40DF-8CB4-D1BF4171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A24-47DC-483A-85D0-A361EC8F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6A9-B46A-439A-84FE-9CCD4D2F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348-9044-4812-B9C9-5EB02FA5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743-83F7-4016-8DF9-EE4A387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306-FE20-4619-961C-B98715CE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E33-E734-49B0-A256-38805DE4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3A4-C1E1-4ECE-8155-0F429B14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03F-3730-4556-83D8-EB96B55F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F7B-4ACD-434D-BD8C-30E67EE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E9D-7B46-4DFC-86F5-37971F3C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BDCE-EF47-4C52-958B-846345D1821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2040" y="1066680"/>
            <a:ext cx="8400240" cy="1854360"/>
            <a:chOff x="302040" y="1066680"/>
            <a:chExt cx="8400240" cy="1854360"/>
          </a:xfrm>
        </p:grpSpPr>
        <p:sp>
          <p:nvSpPr>
            <p:cNvPr id="106" name=""/>
            <p:cNvSpPr/>
            <p:nvPr/>
          </p:nvSpPr>
          <p:spPr>
            <a:xfrm>
              <a:off x="302040" y="10666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0360" y="1600200"/>
                  <a:ext cx="83419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78000" y="3124080"/>
            <a:ext cx="7432560" cy="1854360"/>
            <a:chOff x="378000" y="3124080"/>
            <a:chExt cx="7432560" cy="1854360"/>
          </a:xfrm>
        </p:grpSpPr>
        <p:sp>
          <p:nvSpPr>
            <p:cNvPr id="110" name=""/>
            <p:cNvSpPr/>
            <p:nvPr/>
          </p:nvSpPr>
          <p:spPr>
            <a:xfrm>
              <a:off x="378000" y="3124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401480" y="3657600"/>
                  <a:ext cx="6409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141480" y="5334120"/>
            <a:ext cx="841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B. M significa una molécula que actúa como catalizador per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ambia en la reacción. Típicamente 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280" y="990720"/>
            <a:ext cx="58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asas de las reacciones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imolec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ípicamente independientes de l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s respecto de la temperat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9080" y="2666880"/>
            <a:ext cx="6211800" cy="3233520"/>
            <a:chOff x="379080" y="2666880"/>
            <a:chExt cx="6211800" cy="3233520"/>
          </a:xfrm>
        </p:grpSpPr>
        <p:grpSp>
          <p:nvGrpSpPr>
            <p:cNvPr id="116" name=""/>
            <p:cNvGrpSpPr/>
            <p:nvPr/>
          </p:nvGrpSpPr>
          <p:grpSpPr>
            <a:xfrm>
              <a:off x="379080" y="2666880"/>
              <a:ext cx="5834520" cy="1535400"/>
              <a:chOff x="379080" y="2666880"/>
              <a:chExt cx="5834520" cy="1535400"/>
            </a:xfrm>
          </p:grpSpPr>
          <p:sp>
            <p:nvSpPr>
              <p:cNvPr id="117" name=""/>
              <p:cNvSpPr/>
              <p:nvPr/>
            </p:nvSpPr>
            <p:spPr>
              <a:xfrm>
                <a:off x="379080" y="2666880"/>
                <a:ext cx="194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rmalmen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2971800" y="2743200"/>
                    <a:ext cx="3241800" cy="14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g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9" name=""/>
            <p:cNvSpPr/>
            <p:nvPr/>
          </p:nvSpPr>
          <p:spPr>
            <a:xfrm>
              <a:off x="678240" y="4343400"/>
              <a:ext cx="5912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: Relacionado con la frecuencia de colis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a: Energía de activación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(&lt;50 KJ/m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g: Constante de los 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k es típicamente menor que 10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-10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 cm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/molec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981080"/>
            <a:ext cx="838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escomposición térm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poco frecuente pues no son muchas las moléculas con enlaces de baja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tipo de reacciones presenta típicamente tasas dependientes tanto de la temperatura como de la presión:  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k=k(p, 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da la estratificación atmosférica, este tipo de moléculas  resultan menos estables cerca de la superficie y más estables en las capa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ciones de recombin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el inverso de la disociación molecular y por lo tanto también presentan: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=k(p, T)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normalmente la dependencia de la temperatura es débil  y/o inversa.Además, requieren típicamente de un tercer cuerpo que se lleve la energía en ex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20" y="5400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9144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e una reacción fotoquímica ocurra, energía debe ser incorporada a la molécula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bsor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 la energía de los fotones incidentes debe coincidir con las energías entre los niveles energéticos de l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niveles energéticos se asocian a m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b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vimiento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ípicamente, en la atmósfera se requiere de fotones capaces de excitar los niveles electrónicos (IR cercano, visible y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36600" y="339840"/>
            <a:ext cx="6922800" cy="1252080"/>
            <a:chOff x="336600" y="339840"/>
            <a:chExt cx="6922800" cy="1252080"/>
          </a:xfrm>
        </p:grpSpPr>
        <p:sp>
          <p:nvSpPr>
            <p:cNvPr id="127" name=""/>
            <p:cNvSpPr/>
            <p:nvPr/>
          </p:nvSpPr>
          <p:spPr>
            <a:xfrm>
              <a:off x="336600" y="339840"/>
              <a:ext cx="6922800" cy="125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a vez que una molécula AB ha absorbido energía h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AB+h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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uede devolverla como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94960" y="1940040"/>
            <a:ext cx="56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diación/fluorescencia: AB*         AB+h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2666880"/>
            <a:ext cx="5442480" cy="825480"/>
            <a:chOff x="985680" y="2666880"/>
            <a:chExt cx="5442480" cy="825480"/>
          </a:xfrm>
        </p:grpSpPr>
        <p:sp>
          <p:nvSpPr>
            <p:cNvPr id="132" name=""/>
            <p:cNvSpPr/>
            <p:nvPr/>
          </p:nvSpPr>
          <p:spPr>
            <a:xfrm>
              <a:off x="985680" y="2666880"/>
              <a:ext cx="544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isipación por colisiones (“Quenching”)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*+M         AB+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00560" y="3581280"/>
            <a:ext cx="3761640" cy="459720"/>
            <a:chOff x="1600560" y="3581280"/>
            <a:chExt cx="3761640" cy="459720"/>
          </a:xfrm>
        </p:grpSpPr>
        <p:sp>
          <p:nvSpPr>
            <p:cNvPr id="135" name=""/>
            <p:cNvSpPr/>
            <p:nvPr/>
          </p:nvSpPr>
          <p:spPr>
            <a:xfrm>
              <a:off x="1600560" y="3581280"/>
              <a:ext cx="37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ociación: AB*         A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4343400"/>
            <a:ext cx="6248520" cy="459720"/>
            <a:chOff x="1066680" y="4343400"/>
            <a:chExt cx="6248520" cy="459720"/>
          </a:xfrm>
        </p:grpSpPr>
        <p:sp>
          <p:nvSpPr>
            <p:cNvPr id="138" name=""/>
            <p:cNvSpPr/>
            <p:nvPr/>
          </p:nvSpPr>
          <p:spPr>
            <a:xfrm>
              <a:off x="1066680" y="434340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encia de energía: AB* +C        AB+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457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5240" y="5111640"/>
            <a:ext cx="5076720" cy="459720"/>
            <a:chOff x="1065240" y="5111640"/>
            <a:chExt cx="5076720" cy="459720"/>
          </a:xfrm>
        </p:grpSpPr>
        <p:sp>
          <p:nvSpPr>
            <p:cNvPr id="141" name=""/>
            <p:cNvSpPr/>
            <p:nvPr/>
          </p:nvSpPr>
          <p:spPr>
            <a:xfrm>
              <a:off x="1065240" y="511164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cción química: AB*+C         A+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sa de reacción 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11400" y="2136600"/>
                <a:ext cx="61452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ℓ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λ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rot="16324200">
            <a:off x="2303280" y="4403520"/>
            <a:ext cx="533520" cy="800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507060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iciencia cu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producción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6520" y="48769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ción energética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5890400">
            <a:off x="4266000" y="3667680"/>
            <a:ext cx="533520" cy="1903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3680"/>
              <a:gd name="textAreaBottom" fmla="*/ 1854360 h 19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8360" y="990720"/>
            <a:ext cx="2486520" cy="131292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ones Numér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6920" y="2251080"/>
            <a:ext cx="7792560" cy="1928880"/>
            <a:chOff x="736920" y="2251080"/>
            <a:chExt cx="7792560" cy="1928880"/>
          </a:xfrm>
        </p:grpSpPr>
        <p:sp>
          <p:nvSpPr>
            <p:cNvPr id="153" name=""/>
            <p:cNvSpPr/>
            <p:nvPr/>
          </p:nvSpPr>
          <p:spPr>
            <a:xfrm>
              <a:off x="736920" y="2251080"/>
              <a:ext cx="75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 los modelos de dispersión se resuelven sistemas del tip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919080" y="3048120"/>
                  <a:ext cx="76104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uímic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ansport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posición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811800" y="4613400"/>
            <a:ext cx="73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se hace de manera secuencial y/o alternada a través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ón de operadores químicos, de transpor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eposición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caso de los operadores químicos en fase gaseosa  típicamente se tiene un sistema de ecuaciones de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76440" y="2290680"/>
                <a:ext cx="2075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49640" y="3276720"/>
            <a:ext cx="59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diferencias finitas se puede resolve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3809880"/>
                <a:ext cx="5658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2440" y="4419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étodo de E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0960" y="507060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usan métodos implícitos y asintó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7800" y="151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ear Sulfur Chemistry (CHEMISTRY_S_LI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7840" y="1295280"/>
            <a:ext cx="8864640" cy="3830760"/>
            <a:chOff x="87840" y="1295280"/>
            <a:chExt cx="8864640" cy="3830760"/>
          </a:xfrm>
        </p:grpSpPr>
        <p:sp>
          <p:nvSpPr>
            <p:cNvPr id="164" name=""/>
            <p:cNvSpPr/>
            <p:nvPr/>
          </p:nvSpPr>
          <p:spPr>
            <a:xfrm>
              <a:off x="4335480" y="1295280"/>
              <a:ext cx="7318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6960" y="190404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840" y="1827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9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14400" y="1371600"/>
              <a:ext cx="7696080" cy="3754440"/>
              <a:chOff x="914400" y="1371600"/>
              <a:chExt cx="7696080" cy="3754440"/>
            </a:xfrm>
          </p:grpSpPr>
          <p:sp>
            <p:nvSpPr>
              <p:cNvPr id="168" name=""/>
              <p:cNvSpPr/>
              <p:nvPr/>
            </p:nvSpPr>
            <p:spPr>
              <a:xfrm>
                <a:off x="2380320" y="1371600"/>
                <a:ext cx="13435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r>
                  <a:rPr b="0" lang="es-E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56240" y="1371600"/>
                <a:ext cx="14659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Times New Roman"/>
                  </a:rPr>
                  <a:t>Sulf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23840" y="2122200"/>
                <a:ext cx="18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9088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4512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3364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13280" y="392436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56040" y="362412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89760" y="3774240"/>
                <a:ext cx="85500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W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36440" y="1821960"/>
                <a:ext cx="61056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2920" y="2122200"/>
                <a:ext cx="9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022160" y="2122200"/>
                <a:ext cx="85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4400" y="5126040"/>
                <a:ext cx="769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 txBox="1"/>
          <p:nvPr/>
        </p:nvSpPr>
        <p:spPr>
          <a:xfrm>
            <a:off x="0" y="4994280"/>
            <a:ext cx="285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Black"/>
              </a:rPr>
              <a:t>Q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1880" y="4224240"/>
            <a:ext cx="1844640" cy="929880"/>
            <a:chOff x="461880" y="4224240"/>
            <a:chExt cx="1844640" cy="929880"/>
          </a:xfrm>
        </p:grpSpPr>
        <p:sp>
          <p:nvSpPr>
            <p:cNvPr id="183" name=""/>
            <p:cNvSpPr/>
            <p:nvPr/>
          </p:nvSpPr>
          <p:spPr>
            <a:xfrm>
              <a:off x="1603800" y="4224240"/>
              <a:ext cx="7027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61880" y="4448880"/>
              <a:ext cx="103212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82760" y="5186520"/>
            <a:ext cx="1955160" cy="924480"/>
            <a:chOff x="482760" y="5186520"/>
            <a:chExt cx="1955160" cy="924480"/>
          </a:xfrm>
        </p:grpSpPr>
        <p:sp>
          <p:nvSpPr>
            <p:cNvPr id="186" name=""/>
            <p:cNvSpPr/>
            <p:nvPr/>
          </p:nvSpPr>
          <p:spPr>
            <a:xfrm>
              <a:off x="1495080" y="5186520"/>
              <a:ext cx="942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H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760" y="525132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880" y="5475240"/>
            <a:ext cx="1954440" cy="1415880"/>
            <a:chOff x="461880" y="5475240"/>
            <a:chExt cx="1954440" cy="1415880"/>
          </a:xfrm>
        </p:grpSpPr>
        <p:sp>
          <p:nvSpPr>
            <p:cNvPr id="189" name=""/>
            <p:cNvSpPr/>
            <p:nvPr/>
          </p:nvSpPr>
          <p:spPr>
            <a:xfrm>
              <a:off x="658800" y="6276960"/>
              <a:ext cx="1757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- HC - C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880" y="5475240"/>
              <a:ext cx="9666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15960" y="4129200"/>
            <a:ext cx="770040" cy="747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se representan los procesos de transform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“smog” fotoquímico (primera aproxi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99072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R=30*(MM-1)+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A=3.1416*(DNR-90.)/1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=3.E-6+2.E-6*SIN(AL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 120 K=1,NL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10 J=1,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00 I=1,N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XYZ1=-KT*CONCMLP(I,J,K,C,SO2)*D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1)=CONCMLP(I,J,K,C,XYZ1)+DTX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2)=CONCMLP(I,J,K,C,XYZ2)-DTXY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XYZ1=LXYZ1-DTXYZ1*DXDY(I,J)*LS(I,J,K)*RHO(I,J,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CONTIN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 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0"/>
            <a:ext cx="777240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s de nitrógeno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5880" y="2057400"/>
            <a:ext cx="2819520" cy="1600200"/>
            <a:chOff x="6095880" y="2057400"/>
            <a:chExt cx="2819520" cy="1600200"/>
          </a:xfrm>
        </p:grpSpPr>
        <p:sp>
          <p:nvSpPr>
            <p:cNvPr id="196" name=""/>
            <p:cNvSpPr/>
            <p:nvPr/>
          </p:nvSpPr>
          <p:spPr>
            <a:xfrm>
              <a:off x="6095880" y="2057400"/>
              <a:ext cx="281952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7600" y="2514600"/>
              <a:ext cx="2448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0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, nitra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30320" y="1828800"/>
            <a:ext cx="2672640" cy="1295280"/>
            <a:chOff x="3730320" y="1828800"/>
            <a:chExt cx="2672640" cy="1295280"/>
          </a:xfrm>
        </p:grpSpPr>
        <p:sp>
          <p:nvSpPr>
            <p:cNvPr id="199" name=""/>
            <p:cNvSpPr/>
            <p:nvPr/>
          </p:nvSpPr>
          <p:spPr>
            <a:xfrm>
              <a:off x="4114800" y="2438280"/>
              <a:ext cx="1981080" cy="685800"/>
            </a:xfrm>
            <a:prstGeom prst="rightArrow">
              <a:avLst>
                <a:gd name="adj1" fmla="val 50000"/>
                <a:gd name="adj2" fmla="val 72218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0320" y="1828800"/>
              <a:ext cx="26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xidación, O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42280" y="3581280"/>
            <a:ext cx="2421000" cy="2873520"/>
            <a:chOff x="1142280" y="3581280"/>
            <a:chExt cx="2421000" cy="2873520"/>
          </a:xfrm>
        </p:grpSpPr>
        <p:sp>
          <p:nvSpPr>
            <p:cNvPr id="202" name=""/>
            <p:cNvSpPr/>
            <p:nvPr/>
          </p:nvSpPr>
          <p:spPr>
            <a:xfrm>
              <a:off x="1614600" y="3581280"/>
              <a:ext cx="533160" cy="2286000"/>
            </a:xfrm>
            <a:prstGeom prst="upArrow">
              <a:avLst>
                <a:gd name="adj1" fmla="val 50000"/>
                <a:gd name="adj2" fmla="val 1071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2280" y="593424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misión direc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620120" y="3581280"/>
            <a:ext cx="1181160" cy="2133720"/>
            <a:chOff x="7620120" y="3581280"/>
            <a:chExt cx="1181160" cy="2133720"/>
          </a:xfrm>
        </p:grpSpPr>
        <p:sp>
          <p:nvSpPr>
            <p:cNvPr id="205" name=""/>
            <p:cNvSpPr/>
            <p:nvPr/>
          </p:nvSpPr>
          <p:spPr>
            <a:xfrm>
              <a:off x="7848720" y="3581280"/>
              <a:ext cx="685800" cy="2133720"/>
            </a:xfrm>
            <a:prstGeom prst="downArrow">
              <a:avLst>
                <a:gd name="adj1" fmla="val 50000"/>
                <a:gd name="adj2" fmla="val 77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620120" y="3733920"/>
              <a:ext cx="11811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80880" y="4340880"/>
            <a:ext cx="533520" cy="2136240"/>
            <a:chOff x="380880" y="4340880"/>
            <a:chExt cx="533520" cy="2136240"/>
          </a:xfrm>
        </p:grpSpPr>
        <p:sp>
          <p:nvSpPr>
            <p:cNvPr id="208" name=""/>
            <p:cNvSpPr/>
            <p:nvPr/>
          </p:nvSpPr>
          <p:spPr>
            <a:xfrm rot="16209000">
              <a:off x="-164520" y="488988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4343400"/>
              <a:ext cx="533520" cy="2133720"/>
            </a:xfrm>
            <a:prstGeom prst="downArrow">
              <a:avLst>
                <a:gd name="adj1" fmla="val 50000"/>
                <a:gd name="adj2" fmla="val 999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13960" y="1371600"/>
            <a:ext cx="1600560" cy="722520"/>
            <a:chOff x="1713960" y="1371600"/>
            <a:chExt cx="1600560" cy="722520"/>
          </a:xfrm>
        </p:grpSpPr>
        <p:cxnSp>
          <p:nvCxnSpPr>
            <p:cNvPr id="211" name=""/>
            <p:cNvCxnSpPr>
              <a:stCxn id="212" idx="0"/>
              <a:endCxn id="213" idx="0"/>
            </p:cNvCxnSpPr>
            <p:nvPr/>
          </p:nvCxnSpPr>
          <p:spPr>
            <a:xfrm rot="5400000">
              <a:off x="2513160" y="1292760"/>
              <a:ext cx="2160" cy="16009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2440080" y="137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13600" y="2819520"/>
            <a:ext cx="1600560" cy="650160"/>
            <a:chOff x="1713600" y="2819520"/>
            <a:chExt cx="1600560" cy="650160"/>
          </a:xfrm>
        </p:grpSpPr>
        <p:cxnSp>
          <p:nvCxnSpPr>
            <p:cNvPr id="216" name=""/>
            <p:cNvCxnSpPr>
              <a:stCxn id="213" idx="4"/>
              <a:endCxn id="212" idx="4"/>
            </p:cNvCxnSpPr>
            <p:nvPr/>
          </p:nvCxnSpPr>
          <p:spPr>
            <a:xfrm flipH="1" rot="16200000">
              <a:off x="2512800" y="2359440"/>
              <a:ext cx="2520" cy="1600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2294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33920" y="4419720"/>
            <a:ext cx="1371600" cy="990360"/>
            <a:chOff x="3733920" y="4419720"/>
            <a:chExt cx="1371600" cy="990360"/>
          </a:xfrm>
        </p:grpSpPr>
        <p:sp>
          <p:nvSpPr>
            <p:cNvPr id="219" name=""/>
            <p:cNvSpPr/>
            <p:nvPr/>
          </p:nvSpPr>
          <p:spPr>
            <a:xfrm>
              <a:off x="3733920" y="44197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7840" y="4648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0080" y="4343400"/>
            <a:ext cx="1371600" cy="990720"/>
            <a:chOff x="5410080" y="4343400"/>
            <a:chExt cx="1371600" cy="990720"/>
          </a:xfrm>
        </p:grpSpPr>
        <p:sp>
          <p:nvSpPr>
            <p:cNvPr id="222" name=""/>
            <p:cNvSpPr/>
            <p:nvPr/>
          </p:nvSpPr>
          <p:spPr>
            <a:xfrm>
              <a:off x="5410080" y="4343400"/>
              <a:ext cx="13716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4689360"/>
              <a:ext cx="7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0" y="3505320"/>
            <a:ext cx="1371600" cy="990360"/>
            <a:chOff x="0" y="3505320"/>
            <a:chExt cx="1371600" cy="990360"/>
          </a:xfrm>
        </p:grpSpPr>
        <p:sp>
          <p:nvSpPr>
            <p:cNvPr id="225" name=""/>
            <p:cNvSpPr/>
            <p:nvPr/>
          </p:nvSpPr>
          <p:spPr>
            <a:xfrm>
              <a:off x="0" y="35053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560" y="373392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1981080"/>
            <a:ext cx="3429000" cy="1371600"/>
            <a:chOff x="685800" y="1981080"/>
            <a:chExt cx="3429000" cy="1371600"/>
          </a:xfrm>
        </p:grpSpPr>
        <p:grpSp>
          <p:nvGrpSpPr>
            <p:cNvPr id="228" name=""/>
            <p:cNvGrpSpPr/>
            <p:nvPr/>
          </p:nvGrpSpPr>
          <p:grpSpPr>
            <a:xfrm>
              <a:off x="2514600" y="2092320"/>
              <a:ext cx="1600200" cy="1066680"/>
              <a:chOff x="2514600" y="2092320"/>
              <a:chExt cx="1600200" cy="1066680"/>
            </a:xfrm>
          </p:grpSpPr>
          <p:sp>
            <p:nvSpPr>
              <p:cNvPr id="229" name=""/>
              <p:cNvSpPr/>
              <p:nvPr/>
            </p:nvSpPr>
            <p:spPr>
              <a:xfrm>
                <a:off x="3058920" y="2362320"/>
                <a:ext cx="816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46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14400" y="2092320"/>
              <a:ext cx="1600200" cy="1066680"/>
              <a:chOff x="914400" y="2092320"/>
              <a:chExt cx="1600200" cy="1066680"/>
            </a:xfrm>
          </p:grpSpPr>
          <p:sp>
            <p:nvSpPr>
              <p:cNvPr id="231" name=""/>
              <p:cNvSpPr/>
              <p:nvPr/>
            </p:nvSpPr>
            <p:spPr>
              <a:xfrm>
                <a:off x="1371600" y="243828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144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85800" y="1981080"/>
              <a:ext cx="3429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160760" y="3809880"/>
            <a:ext cx="535320" cy="2133720"/>
            <a:chOff x="7160760" y="3809880"/>
            <a:chExt cx="535320" cy="2133720"/>
          </a:xfrm>
        </p:grpSpPr>
        <p:sp>
          <p:nvSpPr>
            <p:cNvPr id="234" name=""/>
            <p:cNvSpPr/>
            <p:nvPr/>
          </p:nvSpPr>
          <p:spPr>
            <a:xfrm rot="16209000">
              <a:off x="6613920" y="435960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62920" y="380988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88760" y="3886200"/>
            <a:ext cx="535320" cy="2133720"/>
            <a:chOff x="2588760" y="3886200"/>
            <a:chExt cx="535320" cy="2133720"/>
          </a:xfrm>
        </p:grpSpPr>
        <p:sp>
          <p:nvSpPr>
            <p:cNvPr id="237" name=""/>
            <p:cNvSpPr/>
            <p:nvPr/>
          </p:nvSpPr>
          <p:spPr>
            <a:xfrm rot="16209000">
              <a:off x="2041920" y="443592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388620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52080" y="3394080"/>
            <a:ext cx="500400" cy="568440"/>
            <a:chOff x="1252080" y="3394080"/>
            <a:chExt cx="500400" cy="568440"/>
          </a:xfrm>
        </p:grpSpPr>
        <p:cxnSp>
          <p:nvCxnSpPr>
            <p:cNvPr id="240" name=""/>
            <p:cNvCxnSpPr>
              <a:stCxn id="226" idx="3"/>
            </p:cNvCxnSpPr>
            <p:nvPr/>
          </p:nvCxnSpPr>
          <p:spPr>
            <a:xfrm flipV="1">
              <a:off x="1252080" y="3428640"/>
              <a:ext cx="500760" cy="534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1281240" y="339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000" y="2286000"/>
            <a:ext cx="691560" cy="1364040"/>
            <a:chOff x="9000" y="2286000"/>
            <a:chExt cx="691560" cy="1364040"/>
          </a:xfrm>
        </p:grpSpPr>
        <p:cxnSp>
          <p:nvCxnSpPr>
            <p:cNvPr id="243" name=""/>
            <p:cNvCxnSpPr>
              <a:stCxn id="232" idx="1"/>
              <a:endCxn id="225" idx="1"/>
            </p:cNvCxnSpPr>
            <p:nvPr/>
          </p:nvCxnSpPr>
          <p:spPr>
            <a:xfrm flipV="1" rot="10800000">
              <a:off x="200880" y="2666520"/>
              <a:ext cx="484920" cy="983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9000" y="2286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080" y="2666160"/>
            <a:ext cx="929160" cy="1753200"/>
            <a:chOff x="4114080" y="2666160"/>
            <a:chExt cx="929160" cy="1753200"/>
          </a:xfrm>
        </p:grpSpPr>
        <p:cxnSp>
          <p:nvCxnSpPr>
            <p:cNvPr id="246" name=""/>
            <p:cNvCxnSpPr>
              <a:stCxn id="219" idx="0"/>
              <a:endCxn id="232" idx="3"/>
            </p:cNvCxnSpPr>
            <p:nvPr/>
          </p:nvCxnSpPr>
          <p:spPr>
            <a:xfrm flipV="1" rot="16200000">
              <a:off x="3390120" y="3390120"/>
              <a:ext cx="1753560" cy="305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4557600" y="324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00480" y="3352320"/>
            <a:ext cx="1535400" cy="1211760"/>
            <a:chOff x="2400480" y="3352320"/>
            <a:chExt cx="1535400" cy="1211760"/>
          </a:xfrm>
        </p:grpSpPr>
        <p:cxnSp>
          <p:nvCxnSpPr>
            <p:cNvPr id="249" name=""/>
            <p:cNvCxnSpPr>
              <a:stCxn id="232" idx="2"/>
              <a:endCxn id="219" idx="1"/>
            </p:cNvCxnSpPr>
            <p:nvPr/>
          </p:nvCxnSpPr>
          <p:spPr>
            <a:xfrm flipH="1" rot="16200000">
              <a:off x="2562120" y="3190320"/>
              <a:ext cx="1212120" cy="1535760"/>
            </a:xfrm>
            <a:prstGeom prst="curvedConnector5">
              <a:avLst>
                <a:gd name="adj1" fmla="val 44028"/>
                <a:gd name="adj2" fmla="val 49988"/>
                <a:gd name="adj3" fmla="val 4402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34376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08440" y="3421800"/>
            <a:ext cx="736200" cy="1065600"/>
            <a:chOff x="6508440" y="3421800"/>
            <a:chExt cx="736200" cy="1065600"/>
          </a:xfrm>
        </p:grpSpPr>
        <p:cxnSp>
          <p:nvCxnSpPr>
            <p:cNvPr id="252" name=""/>
            <p:cNvCxnSpPr>
              <a:stCxn id="222" idx="7"/>
              <a:endCxn id="196" idx="3"/>
            </p:cNvCxnSpPr>
            <p:nvPr/>
          </p:nvCxnSpPr>
          <p:spPr>
            <a:xfrm flipV="1" rot="16200000">
              <a:off x="6011280" y="3918600"/>
              <a:ext cx="1065960" cy="72000"/>
            </a:xfrm>
            <a:prstGeom prst="curvedConnector5">
              <a:avLst>
                <a:gd name="adj1" fmla="val 45743"/>
                <a:gd name="adj2" fmla="val 49748"/>
                <a:gd name="adj3" fmla="val 457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3" name=""/>
            <p:cNvSpPr/>
            <p:nvPr/>
          </p:nvSpPr>
          <p:spPr>
            <a:xfrm>
              <a:off x="6690600" y="3622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19720" y="5333400"/>
            <a:ext cx="1676520" cy="780480"/>
            <a:chOff x="4419720" y="5333400"/>
            <a:chExt cx="1676520" cy="780480"/>
          </a:xfrm>
        </p:grpSpPr>
        <p:cxnSp>
          <p:nvCxnSpPr>
            <p:cNvPr id="255" name=""/>
            <p:cNvCxnSpPr>
              <a:stCxn id="219" idx="4"/>
              <a:endCxn id="222" idx="4"/>
            </p:cNvCxnSpPr>
            <p:nvPr/>
          </p:nvCxnSpPr>
          <p:spPr>
            <a:xfrm flipH="1" flipV="1" rot="5400000">
              <a:off x="5219640" y="4533480"/>
              <a:ext cx="76680" cy="1676880"/>
            </a:xfrm>
            <a:prstGeom prst="curvedConnector5">
              <a:avLst>
                <a:gd name="adj1" fmla="val -300000"/>
                <a:gd name="adj2" fmla="val 49989"/>
                <a:gd name="adj3" fmla="val -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6" name=""/>
            <p:cNvSpPr/>
            <p:nvPr/>
          </p:nvSpPr>
          <p:spPr>
            <a:xfrm>
              <a:off x="5175000" y="56037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809880" cy="30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572000" cy="31590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0" y="1371600"/>
            <a:ext cx="4190760" cy="1230120"/>
            <a:chOff x="0" y="1371600"/>
            <a:chExt cx="4190760" cy="1230120"/>
          </a:xfrm>
        </p:grpSpPr>
        <p:sp>
          <p:nvSpPr>
            <p:cNvPr id="260" name=""/>
            <p:cNvSpPr/>
            <p:nvPr/>
          </p:nvSpPr>
          <p:spPr>
            <a:xfrm>
              <a:off x="314316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14320" y="1694880"/>
              <a:ext cx="698400" cy="3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2720" y="137160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44400" y="1695240"/>
              <a:ext cx="1047600" cy="51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81760" y="1630440"/>
              <a:ext cx="815040" cy="45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37520" y="68580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2160" y="242712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641680" cy="264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93280" y="-5256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NO -&gt; OH+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&lt;410 nm)-&gt;NO+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M -&gt;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+2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&gt;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OH +2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&gt;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atmósferas limp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43000" y="1508040"/>
                <a:ext cx="731520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457560" y="4648320"/>
            <a:ext cx="7505280" cy="1447200"/>
            <a:chOff x="457560" y="4648320"/>
            <a:chExt cx="7505280" cy="1447200"/>
          </a:xfrm>
        </p:grpSpPr>
        <p:grpSp>
          <p:nvGrpSpPr>
            <p:cNvPr id="280" name=""/>
            <p:cNvGrpSpPr/>
            <p:nvPr/>
          </p:nvGrpSpPr>
          <p:grpSpPr>
            <a:xfrm>
              <a:off x="457560" y="4648320"/>
              <a:ext cx="3885840" cy="1447200"/>
              <a:chOff x="457560" y="4648320"/>
              <a:chExt cx="3885840" cy="1447200"/>
            </a:xfrm>
          </p:grpSpPr>
          <p:sp>
            <p:nvSpPr>
              <p:cNvPr id="281" name=""/>
              <p:cNvSpPr/>
              <p:nvPr/>
            </p:nvSpPr>
            <p:spPr>
              <a:xfrm>
                <a:off x="685800" y="510516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57560" y="4648320"/>
                <a:ext cx="3816000" cy="1447200"/>
                <a:chOff x="457560" y="4648320"/>
                <a:chExt cx="3816000" cy="14472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905120" y="5105160"/>
                  <a:ext cx="838080" cy="990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7560" y="4648320"/>
                  <a:ext cx="102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00400" y="4648320"/>
                  <a:ext cx="107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029200" y="4724280"/>
                  <a:ext cx="293364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” Fotoquímico (atmósferas suci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actividades humanas que dan lugar a emisiones de precursores de ozo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ones meteorológicas que permiten la acumulación de los precursores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43560" y="4191120"/>
            <a:ext cx="3663720" cy="1904400"/>
            <a:chOff x="2743560" y="4191120"/>
            <a:chExt cx="3663720" cy="1904400"/>
          </a:xfrm>
        </p:grpSpPr>
        <p:sp>
          <p:nvSpPr>
            <p:cNvPr id="290" name=""/>
            <p:cNvSpPr/>
            <p:nvPr/>
          </p:nvSpPr>
          <p:spPr>
            <a:xfrm>
              <a:off x="2743560" y="4647960"/>
              <a:ext cx="102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5105160"/>
              <a:ext cx="838080" cy="990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4120" y="4191120"/>
              <a:ext cx="10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05320" y="4800600"/>
              <a:ext cx="2361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66680" y="609480"/>
                <a:ext cx="731520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360" y="4572000"/>
            <a:ext cx="9097560" cy="1905120"/>
            <a:chOff x="360" y="4572000"/>
            <a:chExt cx="9097560" cy="1905120"/>
          </a:xfrm>
        </p:grpSpPr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895560" y="4691160"/>
                  <a:ext cx="520236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*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97" name=""/>
            <p:cNvGrpSpPr/>
            <p:nvPr/>
          </p:nvGrpSpPr>
          <p:grpSpPr>
            <a:xfrm>
              <a:off x="360" y="4572000"/>
              <a:ext cx="3663720" cy="1905120"/>
              <a:chOff x="360" y="4572000"/>
              <a:chExt cx="3663720" cy="1905120"/>
            </a:xfrm>
          </p:grpSpPr>
          <p:sp>
            <p:nvSpPr>
              <p:cNvPr id="298" name=""/>
              <p:cNvSpPr/>
              <p:nvPr/>
            </p:nvSpPr>
            <p:spPr>
              <a:xfrm>
                <a:off x="360" y="5029200"/>
                <a:ext cx="102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5486400"/>
                <a:ext cx="8380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90920" y="45720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762120" y="5181480"/>
                <a:ext cx="23619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 la atmósfer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2004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533412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23623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23240" y="23814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rusión desde arr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11480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5410080"/>
            <a:ext cx="414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ursores (HC, CO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2480" y="4100400"/>
            <a:ext cx="5940720" cy="82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ción Foto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34340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6019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906480" cy="9032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087560" cy="698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76560" y="3352680"/>
            <a:ext cx="21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41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56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14800" y="838080"/>
            <a:ext cx="4038480" cy="221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4827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uente: SESMA http://www.sesma.cl/sitio/pag/aire/indexjs3aireindgasesdemo.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00960" y="560376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registrado: 208 pp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523880" y="2371680"/>
            <a:ext cx="4800600" cy="2819520"/>
            <a:chOff x="1523880" y="2371680"/>
            <a:chExt cx="4800600" cy="2819520"/>
          </a:xfrm>
        </p:grpSpPr>
        <p:sp>
          <p:nvSpPr>
            <p:cNvPr id="320" name=""/>
            <p:cNvSpPr/>
            <p:nvPr/>
          </p:nvSpPr>
          <p:spPr>
            <a:xfrm>
              <a:off x="1523880" y="2371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52480" y="5191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657600" y="19144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51240" y="17524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lujo desde la estratósfera (1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46576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57913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Flujo hacia la superficie (-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124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ducción fotoquímica (1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3040" y="304920"/>
            <a:ext cx="529668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en la tropó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estrucción fotoquímica (-25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26920" y="5840280"/>
            <a:ext cx="39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dget: Crutzen et al, 1999 (Tel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lec/c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59920" cy="52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59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97720" y="30492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cnrm.meteo.fr:8000/mozai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09480" y="522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27880" y="193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en sobre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oposfé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 radiación IR =&gt;es un gas de invernad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radiación UV y da lugar a radica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unto a radiación solar y vapor de agua forma OH =&gt; controla la capacidad de limpieza de la atmósfe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 grandes cantidades causa irritación y daña a los vege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actividades humanas han dado lugar a aumento en sus concentraciones a escala urbana y regional (e.g., Santiag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76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D, k(p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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mbios de f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809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16621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estequiom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" y="1600200"/>
            <a:ext cx="90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úmero de átomos de cada tipo que participan en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ción química permanece constante (La masa se conser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23880" y="3200400"/>
                <a:ext cx="617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" name=""/>
          <p:cNvGrpSpPr/>
          <p:nvPr/>
        </p:nvGrpSpPr>
        <p:grpSpPr>
          <a:xfrm>
            <a:off x="1597680" y="3947760"/>
            <a:ext cx="2289600" cy="2181240"/>
            <a:chOff x="1597680" y="3947760"/>
            <a:chExt cx="2289600" cy="2181240"/>
          </a:xfrm>
        </p:grpSpPr>
        <p:sp>
          <p:nvSpPr>
            <p:cNvPr id="87" name=""/>
            <p:cNvSpPr/>
            <p:nvPr/>
          </p:nvSpPr>
          <p:spPr>
            <a:xfrm rot="16161600">
              <a:off x="2513520" y="3046680"/>
              <a:ext cx="457200" cy="22845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59400 h 2284560"/>
                <a:gd name="textAreaBottom" fmla="*/ 2225160 h 228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3680" y="457200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acta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74400" y="3945600"/>
            <a:ext cx="2670480" cy="2259720"/>
            <a:chOff x="4874400" y="3945600"/>
            <a:chExt cx="2670480" cy="2259720"/>
          </a:xfrm>
        </p:grpSpPr>
        <p:sp>
          <p:nvSpPr>
            <p:cNvPr id="90" name=""/>
            <p:cNvSpPr/>
            <p:nvPr/>
          </p:nvSpPr>
          <p:spPr>
            <a:xfrm rot="16161600">
              <a:off x="5980680" y="2856240"/>
              <a:ext cx="457200" cy="2665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1840" y="46483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oduc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0880" y="2101680"/>
                <a:ext cx="7696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796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omposición uni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3920" y="3657600"/>
            <a:ext cx="7776720" cy="2056680"/>
            <a:chOff x="223920" y="3657600"/>
            <a:chExt cx="7776720" cy="2056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08200" y="4416120"/>
                  <a:ext cx="7192440" cy="12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,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223920" y="3657600"/>
              <a:ext cx="39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composición un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78720" y="1600200"/>
            <a:ext cx="8125560" cy="1854360"/>
            <a:chOff x="378720" y="1600200"/>
            <a:chExt cx="8125560" cy="1854360"/>
          </a:xfrm>
        </p:grpSpPr>
        <p:sp>
          <p:nvSpPr>
            <p:cNvPr id="99" name=""/>
            <p:cNvSpPr/>
            <p:nvPr/>
          </p:nvSpPr>
          <p:spPr>
            <a:xfrm>
              <a:off x="378720" y="160020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09560" y="2133720"/>
                  <a:ext cx="7794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5040" y="4038480"/>
            <a:ext cx="8238240" cy="1854360"/>
            <a:chOff x="455040" y="4038480"/>
            <a:chExt cx="8238240" cy="1854360"/>
          </a:xfrm>
        </p:grpSpPr>
        <p:sp>
          <p:nvSpPr>
            <p:cNvPr id="103" name=""/>
            <p:cNvSpPr/>
            <p:nvPr/>
          </p:nvSpPr>
          <p:spPr>
            <a:xfrm>
              <a:off x="455040" y="403848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73200" y="4572000"/>
                  <a:ext cx="8020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9:44Z</dcterms:created>
  <dc:creator>Laura Gallardo Klenner</dc:creator>
  <dc:description/>
  <dc:language>en-US</dc:language>
  <cp:lastModifiedBy>LGK</cp:lastModifiedBy>
  <cp:lastPrinted>2001-04-25T14:48:12Z</cp:lastPrinted>
  <dcterms:modified xsi:type="dcterms:W3CDTF">2005-09-07T15:23:37Z</dcterms:modified>
  <cp:revision>19</cp:revision>
  <dc:subject/>
  <dc:title>Sin título de diapositiva</dc:title>
</cp:coreProperties>
</file>