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EDC-87FF-41C4-BC12-C89BC3D4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2BC-B98D-45ED-9C28-F73AFD1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534-5746-4053-A631-579FEEAD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6F2-F64B-410F-81F9-BEF96C30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599-F204-42FC-B4B5-13E37FB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0D9-FB55-4051-8AFE-92FCC4FB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DE2-87A4-41B5-9B34-73651B3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09A-99C0-4DDC-96A4-7ECDAA3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446-5745-40D7-BD3B-BDF2CCA4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C3B-3C1C-4C4B-A4B6-24A1394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376-D1AB-43AA-A98A-13244CB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C66-1E96-4BB5-BEFF-4A51B48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F13-027B-4B03-821C-414743F9F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24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46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51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57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mentarios sobre los perfiles sobre La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95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75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98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8" idx="6"/>
              <a:endCxn id="199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58120" cy="546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0840" y="1429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latina 16/10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69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72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75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78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81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89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0240" y="1219320"/>
            <a:ext cx="8485920" cy="2895480"/>
            <a:chOff x="210240" y="1219320"/>
            <a:chExt cx="8485920" cy="2895480"/>
          </a:xfrm>
        </p:grpSpPr>
        <p:sp>
          <p:nvSpPr>
            <p:cNvPr id="95" name=""/>
            <p:cNvSpPr/>
            <p:nvPr/>
          </p:nvSpPr>
          <p:spPr>
            <a:xfrm>
              <a:off x="210240" y="200016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745320" y="121932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 a Gau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520" y="1905120"/>
                <a:ext cx="807696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10400" y="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9360" y="2514600"/>
            <a:ext cx="2218320" cy="1068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108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11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08-24T15:58:03Z</dcterms:modified>
  <cp:revision>52</cp:revision>
  <dc:subject/>
  <dc:title>GF515 Modelación atmosférica orientada a la dispersión de contaminantes</dc:title>
</cp:coreProperties>
</file>