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5FC-A9B5-48CE-B967-6016D47E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429-C3BD-4339-A728-0D9EA76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510-A80A-40EA-B9CF-C5614E4D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301-8FCF-43A7-A8D4-F707FB61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65F-9A33-47E2-9229-49BF8B9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90D-1B25-40E9-A80F-1FF5691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D26-BDB8-46FF-81A6-9F4F5F18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500-7751-4518-9CD6-8438AF1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D87-AF91-4029-9C60-4EB1E03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61D-32BB-4275-BC0B-81EA24DE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E85-D9E3-47EC-B2F3-90AE4E7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AA9-E9A3-471C-9B51-D2BB1DC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DC5-4D92-45DC-96E5-0B7A32927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1760" y="1413000"/>
            <a:ext cx="637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F-4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TODOS DE EXPLORACIÓN GE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RRENO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29 DE OCTUBRE-1° DE NOVIEM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BALSE OVEJERIA (CODELCO AND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7800" cy="434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424400" cy="55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50880" y="18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CO GE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:100,000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4360" y="1699920"/>
            <a:ext cx="5472000" cy="5005800"/>
            <a:chOff x="684360" y="1699920"/>
            <a:chExt cx="5472000" cy="500580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763640" y="5734080"/>
              <a:ext cx="43815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684360" y="1699920"/>
              <a:ext cx="3527280" cy="108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360" y="2781360"/>
              <a:ext cx="107928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11640" y="1700280"/>
              <a:ext cx="194472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720" y="1890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52640"/>
            <a:ext cx="436896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46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40464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ÓN TOP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5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413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32320" y="765000"/>
            <a:ext cx="561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1080" y="2602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TP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21120" y="1197000"/>
            <a:ext cx="432288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021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3414600" cy="39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0720" y="30686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RABAJO PRO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79640" y="2492280"/>
            <a:ext cx="1800360" cy="287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11280" y="2636640"/>
            <a:ext cx="8654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79640" y="2421000"/>
            <a:ext cx="1728720" cy="287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4640" y="1609560"/>
            <a:ext cx="164880" cy="952560"/>
          </a:xfrm>
          <a:custGeom>
            <a:avLst/>
            <a:gdLst/>
            <a:ahLst/>
            <a:rect l="l" t="t" r="r" b="b"/>
            <a:pathLst>
              <a:path w="10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3" y="440"/>
                  <a:pt x="66" y="399"/>
                </a:cubicBezTo>
                <a:cubicBezTo>
                  <a:pt x="79" y="358"/>
                  <a:pt x="100" y="257"/>
                  <a:pt x="102" y="216"/>
                </a:cubicBezTo>
                <a:cubicBezTo>
                  <a:pt x="104" y="175"/>
                  <a:pt x="89" y="169"/>
                  <a:pt x="78" y="150"/>
                </a:cubicBezTo>
                <a:cubicBezTo>
                  <a:pt x="67" y="131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040" y="923760"/>
            <a:ext cx="976320" cy="1381320"/>
          </a:xfrm>
          <a:custGeom>
            <a:avLst/>
            <a:gdLst/>
            <a:ahLst/>
            <a:rect l="l" t="t" r="r" b="b"/>
            <a:pathLst>
              <a:path w="615" h="870">
                <a:moveTo>
                  <a:pt x="570" y="870"/>
                </a:moveTo>
                <a:cubicBezTo>
                  <a:pt x="575" y="840"/>
                  <a:pt x="588" y="734"/>
                  <a:pt x="592" y="692"/>
                </a:cubicBezTo>
                <a:cubicBezTo>
                  <a:pt x="596" y="650"/>
                  <a:pt x="589" y="651"/>
                  <a:pt x="592" y="620"/>
                </a:cubicBezTo>
                <a:cubicBezTo>
                  <a:pt x="595" y="589"/>
                  <a:pt x="615" y="541"/>
                  <a:pt x="612" y="504"/>
                </a:cubicBezTo>
                <a:cubicBezTo>
                  <a:pt x="609" y="467"/>
                  <a:pt x="589" y="430"/>
                  <a:pt x="576" y="396"/>
                </a:cubicBezTo>
                <a:cubicBezTo>
                  <a:pt x="563" y="362"/>
                  <a:pt x="530" y="345"/>
                  <a:pt x="534" y="300"/>
                </a:cubicBezTo>
                <a:cubicBezTo>
                  <a:pt x="538" y="255"/>
                  <a:pt x="599" y="164"/>
                  <a:pt x="600" y="126"/>
                </a:cubicBezTo>
                <a:cubicBezTo>
                  <a:pt x="601" y="88"/>
                  <a:pt x="555" y="93"/>
                  <a:pt x="540" y="72"/>
                </a:cubicBezTo>
                <a:cubicBezTo>
                  <a:pt x="525" y="51"/>
                  <a:pt x="529" y="0"/>
                  <a:pt x="510" y="0"/>
                </a:cubicBezTo>
                <a:cubicBezTo>
                  <a:pt x="491" y="0"/>
                  <a:pt x="482" y="43"/>
                  <a:pt x="426" y="72"/>
                </a:cubicBezTo>
                <a:cubicBezTo>
                  <a:pt x="370" y="101"/>
                  <a:pt x="245" y="120"/>
                  <a:pt x="174" y="174"/>
                </a:cubicBezTo>
                <a:cubicBezTo>
                  <a:pt x="103" y="228"/>
                  <a:pt x="36" y="350"/>
                  <a:pt x="0" y="396"/>
                </a:cubicBezTo>
              </a:path>
            </a:pathLst>
          </a:custGeom>
          <a:noFill/>
          <a:ln w="4140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718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93372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8920" y="3573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100M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8920" y="3789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200M (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365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3800" y="4221000"/>
            <a:ext cx="22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ISMICA REFRACCIÓN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472608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5080" y="4581360"/>
            <a:ext cx="241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V-TEM-OHMMAPPER (2-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000" y="487044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G ESTACIONES C/100M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720" y="189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8240" y="585720"/>
            <a:ext cx="472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eometría de basamento (sismica/gr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tectar filtraciones aguas abajo embalse ovejería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racterización petrofisica de basamento (mag/grav/sism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impermeable el basamento? (SEV/TEM/sismica?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Hay zonas preferentes de migración de fuidos en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mbalses de ovejería y huechun?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llas regionales ? (grav/m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720" y="551664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ETROFISICA (MUESTRAS/IN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7640" y="5991120"/>
            <a:ext cx="36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sceptibilidad magnética (susceptibilimetr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nsidad (pe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sistividad (ohm-map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376360" cy="231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2556000" y="2781360"/>
            <a:ext cx="504720" cy="71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141720"/>
            <a:ext cx="1447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06864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981000"/>
            <a:ext cx="223920" cy="1324080"/>
          </a:xfrm>
          <a:custGeom>
            <a:avLst/>
            <a:gdLst/>
            <a:ahLst/>
            <a:rect l="l" t="t" r="r" b="b"/>
            <a:pathLst>
              <a:path w="141" h="834">
                <a:moveTo>
                  <a:pt x="96" y="834"/>
                </a:moveTo>
                <a:cubicBezTo>
                  <a:pt x="101" y="804"/>
                  <a:pt x="114" y="698"/>
                  <a:pt x="118" y="656"/>
                </a:cubicBezTo>
                <a:cubicBezTo>
                  <a:pt x="122" y="614"/>
                  <a:pt x="115" y="615"/>
                  <a:pt x="118" y="584"/>
                </a:cubicBezTo>
                <a:cubicBezTo>
                  <a:pt x="121" y="553"/>
                  <a:pt x="141" y="505"/>
                  <a:pt x="138" y="468"/>
                </a:cubicBezTo>
                <a:cubicBezTo>
                  <a:pt x="135" y="431"/>
                  <a:pt x="115" y="394"/>
                  <a:pt x="102" y="360"/>
                </a:cubicBezTo>
                <a:cubicBezTo>
                  <a:pt x="89" y="326"/>
                  <a:pt x="56" y="309"/>
                  <a:pt x="60" y="264"/>
                </a:cubicBezTo>
                <a:cubicBezTo>
                  <a:pt x="64" y="219"/>
                  <a:pt x="136" y="134"/>
                  <a:pt x="126" y="90"/>
                </a:cubicBezTo>
                <a:cubicBezTo>
                  <a:pt x="116" y="46"/>
                  <a:pt x="26" y="19"/>
                  <a:pt x="0" y="0"/>
                </a:cubicBezTo>
              </a:path>
            </a:pathLst>
          </a:custGeom>
          <a:noFill/>
          <a:ln w="4140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1628640"/>
            <a:ext cx="149040" cy="952560"/>
          </a:xfrm>
          <a:custGeom>
            <a:avLst/>
            <a:gdLst/>
            <a:ahLst/>
            <a:rect l="l" t="t" r="r" b="b"/>
            <a:pathLst>
              <a:path w="9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5" y="428"/>
                  <a:pt x="66" y="399"/>
                </a:cubicBezTo>
                <a:cubicBezTo>
                  <a:pt x="77" y="370"/>
                  <a:pt x="90" y="331"/>
                  <a:pt x="92" y="290"/>
                </a:cubicBezTo>
                <a:cubicBezTo>
                  <a:pt x="94" y="249"/>
                  <a:pt x="87" y="181"/>
                  <a:pt x="78" y="150"/>
                </a:cubicBezTo>
                <a:cubicBezTo>
                  <a:pt x="69" y="119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6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0560" y="26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1224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2160" y="50846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dí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QUIPO PERSONAL DE TERRENO Y 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TILES DE ASEO (HAY DU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RVICIOS Y P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TECTOR SOLAR Y G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ZONA DE TRABAJO PERTENECE A DIVISIÓN ANDINA DE CODELCO POR TANTO ESTA ESTRICTAMENTE PROHIBIDO EL INGRESO E INGESTA DE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5:11Z</dcterms:created>
  <dc:creator>gyane003</dc:creator>
  <dc:description/>
  <dc:language>en-US</dc:language>
  <cp:lastModifiedBy>gyane003</cp:lastModifiedBy>
  <dcterms:modified xsi:type="dcterms:W3CDTF">2005-10-26T19:35:22Z</dcterms:modified>
  <cp:revision>12</cp:revision>
  <dc:subject/>
  <dc:title>Diapositiva 1</dc:title>
</cp:coreProperties>
</file>