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5AF9-9677-4C70-ACCD-FF88C613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8D04-FA22-4AFB-AF87-5AC1D7E3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E4E-679A-4C6B-990C-24046C5B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5D5B-CF46-43D1-B807-87A6D258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7D7B-5DA4-4728-ACB4-2C071BDF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6CC-CEB4-4CB4-B8D2-7F02F5E8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7D9E-AAAD-40C9-8BB1-C4EDD1F37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9B7F-E0C2-4AE3-93EA-7961D2B0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A32-7641-4BB9-A289-BC769167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1C9A-E28B-4D14-B6F2-4F7BAF6E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06DA-5FCE-48DD-876C-22F729EC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384-D493-4075-8F27-35A908E8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D322-C1C7-4929-8766-C9B4A40C0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81760" y="1413000"/>
            <a:ext cx="637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GF-42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ETODOS DE EXPLORACIÓN GEOFÍ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ERRENO 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29 DE OCTUBRE-1° DE NOVIEMB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MBALSE OVEJERIA (CODELCO ANDI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48360" y="836640"/>
            <a:ext cx="3817800" cy="43498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4424400" cy="5516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50880" y="189000"/>
            <a:ext cx="29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ARCO GEOLO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:100,000 SERNAGEO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684360" y="1699920"/>
            <a:ext cx="5472000" cy="5005800"/>
            <a:chOff x="684360" y="1699920"/>
            <a:chExt cx="5472000" cy="5005800"/>
          </a:xfrm>
        </p:grpSpPr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1763640" y="5734080"/>
              <a:ext cx="438156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 flipV="1">
              <a:off x="684360" y="1699920"/>
              <a:ext cx="3527280" cy="108108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4360" y="2781360"/>
              <a:ext cx="1079280" cy="331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211640" y="1700280"/>
              <a:ext cx="1944720" cy="40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708720" y="18900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775040" y="1052640"/>
            <a:ext cx="4368960" cy="5445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125360"/>
            <a:ext cx="4646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01800" y="40464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RRECCIÓN TOPO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3241440" cy="3547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684360" y="1413000"/>
            <a:ext cx="23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OPOGRAFI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532320" y="765000"/>
            <a:ext cx="561168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421080" y="26028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TP SERNAGEO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821120" y="1197000"/>
            <a:ext cx="4322880" cy="52578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450216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3414600" cy="3948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220720" y="3068640"/>
            <a:ext cx="27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RABAJO PROPU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979640" y="2492280"/>
            <a:ext cx="1800360" cy="28728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411280" y="2636640"/>
            <a:ext cx="865440" cy="144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1979640" y="2421000"/>
            <a:ext cx="1728720" cy="287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14640" y="1609560"/>
            <a:ext cx="164880" cy="952560"/>
          </a:xfrm>
          <a:custGeom>
            <a:avLst/>
            <a:gdLst/>
            <a:ahLst/>
            <a:rect l="l" t="t" r="r" b="b"/>
            <a:pathLst>
              <a:path w="104" h="600">
                <a:moveTo>
                  <a:pt x="30" y="600"/>
                </a:moveTo>
                <a:cubicBezTo>
                  <a:pt x="28" y="589"/>
                  <a:pt x="19" y="557"/>
                  <a:pt x="18" y="534"/>
                </a:cubicBezTo>
                <a:cubicBezTo>
                  <a:pt x="17" y="511"/>
                  <a:pt x="16" y="484"/>
                  <a:pt x="24" y="462"/>
                </a:cubicBezTo>
                <a:cubicBezTo>
                  <a:pt x="32" y="440"/>
                  <a:pt x="53" y="440"/>
                  <a:pt x="66" y="399"/>
                </a:cubicBezTo>
                <a:cubicBezTo>
                  <a:pt x="79" y="358"/>
                  <a:pt x="100" y="257"/>
                  <a:pt x="102" y="216"/>
                </a:cubicBezTo>
                <a:cubicBezTo>
                  <a:pt x="104" y="175"/>
                  <a:pt x="89" y="169"/>
                  <a:pt x="78" y="150"/>
                </a:cubicBezTo>
                <a:cubicBezTo>
                  <a:pt x="67" y="131"/>
                  <a:pt x="49" y="127"/>
                  <a:pt x="36" y="102"/>
                </a:cubicBezTo>
                <a:cubicBezTo>
                  <a:pt x="23" y="77"/>
                  <a:pt x="7" y="21"/>
                  <a:pt x="0" y="0"/>
                </a:cubicBezTo>
              </a:path>
            </a:pathLst>
          </a:custGeom>
          <a:noFill/>
          <a:ln w="3816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05040" y="923760"/>
            <a:ext cx="976320" cy="1381320"/>
          </a:xfrm>
          <a:custGeom>
            <a:avLst/>
            <a:gdLst/>
            <a:ahLst/>
            <a:rect l="l" t="t" r="r" b="b"/>
            <a:pathLst>
              <a:path w="615" h="870">
                <a:moveTo>
                  <a:pt x="570" y="870"/>
                </a:moveTo>
                <a:cubicBezTo>
                  <a:pt x="575" y="840"/>
                  <a:pt x="588" y="734"/>
                  <a:pt x="592" y="692"/>
                </a:cubicBezTo>
                <a:cubicBezTo>
                  <a:pt x="596" y="650"/>
                  <a:pt x="589" y="651"/>
                  <a:pt x="592" y="620"/>
                </a:cubicBezTo>
                <a:cubicBezTo>
                  <a:pt x="595" y="589"/>
                  <a:pt x="615" y="541"/>
                  <a:pt x="612" y="504"/>
                </a:cubicBezTo>
                <a:cubicBezTo>
                  <a:pt x="609" y="467"/>
                  <a:pt x="589" y="430"/>
                  <a:pt x="576" y="396"/>
                </a:cubicBezTo>
                <a:cubicBezTo>
                  <a:pt x="563" y="362"/>
                  <a:pt x="530" y="345"/>
                  <a:pt x="534" y="300"/>
                </a:cubicBezTo>
                <a:cubicBezTo>
                  <a:pt x="538" y="255"/>
                  <a:pt x="599" y="164"/>
                  <a:pt x="600" y="126"/>
                </a:cubicBezTo>
                <a:cubicBezTo>
                  <a:pt x="601" y="88"/>
                  <a:pt x="555" y="93"/>
                  <a:pt x="540" y="72"/>
                </a:cubicBezTo>
                <a:cubicBezTo>
                  <a:pt x="525" y="51"/>
                  <a:pt x="529" y="0"/>
                  <a:pt x="510" y="0"/>
                </a:cubicBezTo>
                <a:cubicBezTo>
                  <a:pt x="491" y="0"/>
                  <a:pt x="482" y="43"/>
                  <a:pt x="426" y="72"/>
                </a:cubicBezTo>
                <a:cubicBezTo>
                  <a:pt x="370" y="101"/>
                  <a:pt x="245" y="120"/>
                  <a:pt x="174" y="174"/>
                </a:cubicBezTo>
                <a:cubicBezTo>
                  <a:pt x="103" y="228"/>
                  <a:pt x="36" y="350"/>
                  <a:pt x="0" y="396"/>
                </a:cubicBezTo>
              </a:path>
            </a:pathLst>
          </a:custGeom>
          <a:noFill/>
          <a:ln w="41400">
            <a:solidFill>
              <a:srgbClr val="ff00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148360" y="371808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48360" y="3933720"/>
            <a:ext cx="36036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78920" y="3573360"/>
            <a:ext cx="30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RAV/GPS: ESTACIONES C/100M (1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78920" y="3789360"/>
            <a:ext cx="3013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RAV/GPS: ESTACIONES C/200M (2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48360" y="4365720"/>
            <a:ext cx="35856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53800" y="4221000"/>
            <a:ext cx="22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ISMICA REFRACCIÓN (1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48360" y="4726080"/>
            <a:ext cx="360360" cy="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25080" y="4581360"/>
            <a:ext cx="241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EV-TEM-OHMMAPPER (2-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48360" y="5013360"/>
            <a:ext cx="360360" cy="0"/>
          </a:xfrm>
          <a:prstGeom prst="line">
            <a:avLst/>
          </a:prstGeom>
          <a:ln w="38160">
            <a:solidFill>
              <a:srgbClr val="ff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24000" y="4870440"/>
            <a:ext cx="25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AG ESTACIONES C/100M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720" y="18900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78240" y="585720"/>
            <a:ext cx="47203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Geometría de basamento (sismica/gra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tectar filtraciones aguas abajo embalse ovejería (SEV/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racterización petrofisica de basamento (mag/grav/sismic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s impermeable el basamento? (SEV/TEM/sismica?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Hay zonas preferentes de migración de fuidos ent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mbalses de ovejería y huechun? (SEV/TE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Fallas regionales ? (grav/ma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720" y="5516640"/>
            <a:ext cx="400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ETROFISICA (MUESTRAS/INSIT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87640" y="5991120"/>
            <a:ext cx="361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Susceptibilidad magnética (susceptibilimetro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nsidad (pes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sistividad (ohm-map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2376360" cy="23162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 flipV="1">
            <a:off x="2556000" y="2781360"/>
            <a:ext cx="504720" cy="7128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35280" y="3141720"/>
            <a:ext cx="144720" cy="142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08360" y="306864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mpam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48000" y="981000"/>
            <a:ext cx="223920" cy="1324080"/>
          </a:xfrm>
          <a:custGeom>
            <a:avLst/>
            <a:gdLst/>
            <a:ahLst/>
            <a:rect l="l" t="t" r="r" b="b"/>
            <a:pathLst>
              <a:path w="141" h="834">
                <a:moveTo>
                  <a:pt x="96" y="834"/>
                </a:moveTo>
                <a:cubicBezTo>
                  <a:pt x="101" y="804"/>
                  <a:pt x="114" y="698"/>
                  <a:pt x="118" y="656"/>
                </a:cubicBezTo>
                <a:cubicBezTo>
                  <a:pt x="122" y="614"/>
                  <a:pt x="115" y="615"/>
                  <a:pt x="118" y="584"/>
                </a:cubicBezTo>
                <a:cubicBezTo>
                  <a:pt x="121" y="553"/>
                  <a:pt x="141" y="505"/>
                  <a:pt x="138" y="468"/>
                </a:cubicBezTo>
                <a:cubicBezTo>
                  <a:pt x="135" y="431"/>
                  <a:pt x="115" y="394"/>
                  <a:pt x="102" y="360"/>
                </a:cubicBezTo>
                <a:cubicBezTo>
                  <a:pt x="89" y="326"/>
                  <a:pt x="56" y="309"/>
                  <a:pt x="60" y="264"/>
                </a:cubicBezTo>
                <a:cubicBezTo>
                  <a:pt x="64" y="219"/>
                  <a:pt x="136" y="134"/>
                  <a:pt x="126" y="90"/>
                </a:cubicBezTo>
                <a:cubicBezTo>
                  <a:pt x="116" y="46"/>
                  <a:pt x="26" y="19"/>
                  <a:pt x="0" y="0"/>
                </a:cubicBezTo>
              </a:path>
            </a:pathLst>
          </a:custGeom>
          <a:noFill/>
          <a:ln w="4140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95640" y="1628640"/>
            <a:ext cx="149040" cy="952560"/>
          </a:xfrm>
          <a:custGeom>
            <a:avLst/>
            <a:gdLst/>
            <a:ahLst/>
            <a:rect l="l" t="t" r="r" b="b"/>
            <a:pathLst>
              <a:path w="94" h="600">
                <a:moveTo>
                  <a:pt x="30" y="600"/>
                </a:moveTo>
                <a:cubicBezTo>
                  <a:pt x="28" y="589"/>
                  <a:pt x="19" y="557"/>
                  <a:pt x="18" y="534"/>
                </a:cubicBezTo>
                <a:cubicBezTo>
                  <a:pt x="17" y="511"/>
                  <a:pt x="16" y="484"/>
                  <a:pt x="24" y="462"/>
                </a:cubicBezTo>
                <a:cubicBezTo>
                  <a:pt x="32" y="440"/>
                  <a:pt x="55" y="428"/>
                  <a:pt x="66" y="399"/>
                </a:cubicBezTo>
                <a:cubicBezTo>
                  <a:pt x="77" y="370"/>
                  <a:pt x="90" y="331"/>
                  <a:pt x="92" y="290"/>
                </a:cubicBezTo>
                <a:cubicBezTo>
                  <a:pt x="94" y="249"/>
                  <a:pt x="87" y="181"/>
                  <a:pt x="78" y="150"/>
                </a:cubicBezTo>
                <a:cubicBezTo>
                  <a:pt x="69" y="119"/>
                  <a:pt x="49" y="127"/>
                  <a:pt x="36" y="102"/>
                </a:cubicBezTo>
                <a:cubicBezTo>
                  <a:pt x="23" y="77"/>
                  <a:pt x="7" y="21"/>
                  <a:pt x="0" y="0"/>
                </a:cubicBezTo>
              </a:path>
            </a:pathLst>
          </a:custGeom>
          <a:noFill/>
          <a:ln w="3816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59280" y="260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2050560" y="2602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360" y="122400"/>
            <a:ext cx="5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5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42160" y="508464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(dí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QUIPO PERSONAL DE TERRENO Y RECOMEND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AR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ACO DE DORM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UTILES DE ASEO (HAY DUCH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ERVICIOS Y PL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ROTECTOR SOLAR Y G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ZONA DE TRABAJO PERTENECE A DIVISIÓN ANDINA DE CODELCO POR TANTO ESTA ESTRICTAMENTE PROHIBIDO EL INGRESO E INGESTA DE ALCOH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6T15:15:11Z</dcterms:created>
  <dc:creator>gyane003</dc:creator>
  <dc:description/>
  <dc:language>en-US</dc:language>
  <cp:lastModifiedBy>gyane003</cp:lastModifiedBy>
  <dcterms:modified xsi:type="dcterms:W3CDTF">2005-10-26T19:35:22Z</dcterms:modified>
  <cp:revision>12</cp:revision>
  <dc:subject/>
  <dc:title>Diapositiva 1</dc:title>
</cp:coreProperties>
</file>