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36DF-70FD-4934-B7D0-99B451F7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642F-3D52-4C58-AAD5-B54EEDE0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84D0-A5A4-4919-96FE-818F0550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3B4F-60B5-4D87-ADF7-DB170A6F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1571-BC39-4FA6-8AA7-24D5E2C0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0AFC-7E96-4D1E-9CD3-B12CD832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890-37E5-4BBB-A4F6-534FF56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259-E630-447B-BAAD-473832E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E14A-0CBF-4080-A21E-CF28474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230C-E45C-4886-A559-6F25104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5E91-3623-47D6-99A0-C2684D1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D569-7492-4B58-92D9-50DCED2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66E-1C4E-4579-8853-1090963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6C67-75BC-4ACD-9F19-82AEEA9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84F8-BD58-49AB-83C6-63E90BD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E997-A1D8-4469-8D3A-0A1831AB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468B-19BC-42C3-A688-4EDD379B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79FB-5FDA-4840-9EBE-8EE347D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3C47-6FA7-4493-9AF0-85B8A7C2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2533-B9D5-463C-A3D6-CA8D2B9D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80EC-BAC4-428D-9CCD-88BDF60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162F-BD54-416B-817A-1B6F641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0C2E-2863-4DE8-B9DF-0BCE350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A813-8E04-4BE7-8F39-693FE92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FAA-B574-46BE-B57C-F19D98D10CAB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77F2-B717-49CE-A08B-DC79F4134746}" type="slidenum">
              <a:rPr b="0" lang="es-E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87640" y="1699920"/>
            <a:ext cx="6019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Transformada de 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6075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Facultad de Ciencias Físicas y Matemática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Departamento de Ingeniería Eléctrica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Introducción al Procesamiento Digital de Imágenes</a:t>
            </a:r>
            <a:br>
              <a:rPr sz="1400"/>
            </a:br>
            <a:r>
              <a:rPr b="0" lang="es-ES_tradnl" sz="1400" spc="-1" strike="noStrike">
                <a:solidFill>
                  <a:srgbClr val="666699"/>
                </a:solidFill>
                <a:latin typeface="Arial"/>
              </a:rPr>
              <a:t>EM7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9205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62520" y="2973240"/>
            <a:ext cx="9763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9" idx="3"/>
          </p:cNvCxnSpPr>
          <p:nvPr/>
        </p:nvCxnSpPr>
        <p:spPr>
          <a:xfrm>
            <a:off x="4938480" y="3773160"/>
            <a:ext cx="17676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63" idx="1"/>
          </p:cNvCxnSpPr>
          <p:nvPr/>
        </p:nvCxnSpPr>
        <p:spPr>
          <a:xfrm flipH="1">
            <a:off x="1980360" y="3746520"/>
            <a:ext cx="5411160" cy="2161080"/>
          </a:xfrm>
          <a:prstGeom prst="bentConnector5">
            <a:avLst>
              <a:gd name="adj1" fmla="val -4224"/>
              <a:gd name="adj2" fmla="val 50633"/>
              <a:gd name="adj3" fmla="val 104224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64" name="direc_gruesa_var_escalada" descr=""/>
          <p:cNvPicPr/>
          <p:nvPr/>
        </p:nvPicPr>
        <p:blipFill>
          <a:blip r:embed="rId2"/>
          <a:stretch/>
        </p:blipFill>
        <p:spPr>
          <a:xfrm>
            <a:off x="1676520" y="2973240"/>
            <a:ext cx="2057400" cy="155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81480" y="291780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981080" y="510696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952880" y="5106960"/>
            <a:ext cx="2133720" cy="1596960"/>
          </a:xfrm>
          <a:prstGeom prst="rect">
            <a:avLst/>
          </a:prstGeom>
          <a:ln w="0">
            <a:noFill/>
          </a:ln>
        </p:spPr>
      </p:pic>
      <p:cxnSp>
        <p:nvCxnSpPr>
          <p:cNvPr id="168" name=""/>
          <p:cNvCxnSpPr>
            <a:stCxn id="169" idx="3"/>
            <a:endCxn id="164" idx="1"/>
          </p:cNvCxnSpPr>
          <p:nvPr/>
        </p:nvCxnSpPr>
        <p:spPr>
          <a:xfrm flipH="1">
            <a:off x="1676160" y="1942920"/>
            <a:ext cx="3962880" cy="1810440"/>
          </a:xfrm>
          <a:prstGeom prst="bentConnector5">
            <a:avLst>
              <a:gd name="adj1" fmla="val -5759"/>
              <a:gd name="adj2" fmla="val 50517"/>
              <a:gd name="adj3" fmla="val 105759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0" y="9079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1143000"/>
            <a:ext cx="2133360" cy="1598760"/>
          </a:xfrm>
          <a:prstGeom prst="rect">
            <a:avLst/>
          </a:prstGeom>
          <a:ln w="0">
            <a:noFill/>
          </a:ln>
        </p:spPr>
      </p:pic>
      <p:cxnSp>
        <p:nvCxnSpPr>
          <p:cNvPr id="172" name=""/>
          <p:cNvCxnSpPr/>
          <p:nvPr/>
        </p:nvCxnSpPr>
        <p:spPr>
          <a:xfrm>
            <a:off x="3762360" y="3781080"/>
            <a:ext cx="1771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4114800" y="594360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404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F478-EBD8-494F-98DD-755D687E0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3808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irec_fina_prom_var_escalada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grisr_fina_var_marcadaTilt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133720" cy="1622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00600" y="3962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71600" y="3083040"/>
            <a:ext cx="3429000" cy="1964880"/>
            <a:chOff x="1371600" y="3083040"/>
            <a:chExt cx="3429000" cy="196488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343400" y="3083040"/>
              <a:ext cx="45720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4038840" y="3311280"/>
              <a:ext cx="761760" cy="72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3733920" y="3616200"/>
              <a:ext cx="106668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2743200" y="3083040"/>
              <a:ext cx="457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2667240" y="3311280"/>
              <a:ext cx="628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2610000" y="3616200"/>
              <a:ext cx="7430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9"/>
            <a:stretch/>
          </p:blipFill>
          <p:spPr>
            <a:xfrm>
              <a:off x="1371600" y="3083040"/>
              <a:ext cx="381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371600" y="3311280"/>
              <a:ext cx="60984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1371600" y="3616200"/>
              <a:ext cx="914400" cy="8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1371600" y="3995640"/>
              <a:ext cx="10670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3"/>
            <a:stretch/>
          </p:blipFill>
          <p:spPr>
            <a:xfrm>
              <a:off x="2590920" y="3960720"/>
              <a:ext cx="8110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"/>
            <a:stretch/>
          </p:blipFill>
          <p:spPr>
            <a:xfrm>
              <a:off x="3657600" y="3954240"/>
              <a:ext cx="1143000" cy="10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 flipH="1">
            <a:off x="1143000" y="2819520"/>
            <a:ext cx="7772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819520"/>
            <a:ext cx="0" cy="1038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85776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gris_var2" descr=""/>
          <p:cNvPicPr/>
          <p:nvPr/>
        </p:nvPicPr>
        <p:blipFill>
          <a:blip r:embed="rId15"/>
          <a:stretch/>
        </p:blipFill>
        <p:spPr>
          <a:xfrm>
            <a:off x="1143000" y="10666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52680" y="19810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19810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15400" y="19810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957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5334120"/>
            <a:ext cx="5257800" cy="1295280"/>
            <a:chOff x="2286000" y="5334120"/>
            <a:chExt cx="5257800" cy="1295280"/>
          </a:xfrm>
        </p:grpSpPr>
        <p:sp>
          <p:nvSpPr>
            <p:cNvPr id="204" name=""/>
            <p:cNvSpPr/>
            <p:nvPr/>
          </p:nvSpPr>
          <p:spPr>
            <a:xfrm>
              <a:off x="2286000" y="5334120"/>
              <a:ext cx="525780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14600" y="5562720"/>
                  <a:ext cx="48006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R</m:t>
                              </m:r>
                              <m:r>
                                <m:t xml:space="preserve">Φ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b>
                            <m:sup/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O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O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</m:d>
                            </m:e>
                          </m:nary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R</m:t>
                                  </m:r>
                                  <m:r>
                                    <m:t xml:space="preserve">Φ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7529400" y="5829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1066680"/>
            <a:ext cx="2209680" cy="1660320"/>
            <a:chOff x="3657600" y="1066680"/>
            <a:chExt cx="2209680" cy="1660320"/>
          </a:xfrm>
        </p:grpSpPr>
        <p:pic>
          <p:nvPicPr>
            <p:cNvPr id="208" name="gris_var2" descr=""/>
            <p:cNvPicPr/>
            <p:nvPr/>
          </p:nvPicPr>
          <p:blipFill>
            <a:blip r:embed="rId16"/>
            <a:stretch/>
          </p:blipFill>
          <p:spPr>
            <a:xfrm>
              <a:off x="3657600" y="1066680"/>
              <a:ext cx="220968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19240" y="1209600"/>
              <a:ext cx="1399680" cy="1380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5680" y="183816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200" y="1952280"/>
              <a:ext cx="228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404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4B26-D49F-4C6B-9432-827F6F31F1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mite la localización de estructuras en imágenes, mediante técnicas de parametr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í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195640" y="4292640"/>
          <a:ext cx="38876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4292640"/>
                    <a:ext cx="38876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87C8-7B3E-408B-A68D-DBBDEA8EF5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arámetros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para dos puntos colineales son los mismos (fig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m, c) define un punto en el espacio de parámetros (fig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untos colineales p1 y p2 definen dos rectas distintas en el espacio de parámetros (fi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26920" y="3500280"/>
          <a:ext cx="7344000" cy="29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3500280"/>
                    <a:ext cx="734400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F873-960A-4049-B2C6-96BCD31A05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goritmo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ntizar el espacio de parámetros, definiendo rangos para m y c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icializar un arreglo A(c,m) en valores n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todos los puntos (x,y) en que el gradiente excede un umbral, incr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(c,m)= A(c,m)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el  par (m,c) que satisface c =-xm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máximos en A(c,m) corresponden a puntos colineale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imagen y los valores corresponden a una medida del número de puntos en la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7480-5643-42B4-B661-F96A3764A2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e representarse en forma po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= x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s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+ y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n(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692360" y="2924280"/>
          <a:ext cx="5400720" cy="23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924280"/>
                    <a:ext cx="5400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681E-8983-45E4-B187-AB4F5BE933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bordes “ruidos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178596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8706" t="27818" r="32459" b="21772"/>
          <a:stretch/>
        </p:blipFill>
        <p:spPr>
          <a:xfrm>
            <a:off x="5148360" y="3141720"/>
            <a:ext cx="180000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17859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8A60-9A2D-486F-976E-16B7374831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735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formada de 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tección de otras distribuciones parametrizables, por ejemplo, elip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92052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11631" t="19216" r="10819" b="11313"/>
          <a:stretch/>
        </p:blipFill>
        <p:spPr>
          <a:xfrm>
            <a:off x="971640" y="3141720"/>
            <a:ext cx="3384360" cy="245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11541" t="22887" r="12049" b="11127"/>
          <a:stretch/>
        </p:blipFill>
        <p:spPr>
          <a:xfrm>
            <a:off x="4500720" y="3141720"/>
            <a:ext cx="360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1C1D-3113-441D-A35E-620B813501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indow size = 7 pix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48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direc_gruesa_var_escalada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90720"/>
            <a:ext cx="5638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grisr_var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209680" cy="167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336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7400" y="5181480"/>
            <a:ext cx="5334120" cy="1524240"/>
            <a:chOff x="2057400" y="5181480"/>
            <a:chExt cx="5334120" cy="1524240"/>
          </a:xfrm>
        </p:grpSpPr>
        <p:sp>
          <p:nvSpPr>
            <p:cNvPr id="146" name=""/>
            <p:cNvSpPr/>
            <p:nvPr/>
          </p:nvSpPr>
          <p:spPr>
            <a:xfrm>
              <a:off x="2057400" y="5181480"/>
              <a:ext cx="533412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438280" y="5257800"/>
                  <a:ext cx="46483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7453440" y="5676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89548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81680" y="523800"/>
            <a:ext cx="2165400" cy="146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5335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0E5E-0BCD-4EB9-AA13-007CF65E7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181080" y="257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arse Face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8720" y="4800600"/>
                <a:ext cx="807552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in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x-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a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y-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0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b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≤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 range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rct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-y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-x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θ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09800" y="990720"/>
            <a:ext cx="257148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52280" y="762120"/>
            <a:ext cx="358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7240"/>
            <a:ext cx="2447640" cy="3122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880" y="1082520"/>
            <a:ext cx="1585800" cy="1998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89680" y="735120"/>
            <a:ext cx="3878280" cy="39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0743-2EA0-4AF5-9BA4-2882B3666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 Perez</cp:lastModifiedBy>
  <dcterms:modified xsi:type="dcterms:W3CDTF">2005-10-19T08:07:09Z</dcterms:modified>
  <cp:revision>239</cp:revision>
  <dc:subject/>
  <dc:title>PowerPoint Presentation</dc:title>
</cp:coreProperties>
</file>