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DEDD6-B187-4975-8D46-B00820A6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3A519-6F16-45B6-8935-8DC57A87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0D6BC-E336-470B-81F6-4464E42D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95F00-3783-4C0A-BC77-956B2EC1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D700-EF0C-4BDE-A8DF-D2072F3F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8C8F-4688-4249-AFE6-35FCB6E2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BFB3-BA75-4B5F-A4E1-59FF72E3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E5FC-F73E-4B6C-A513-B40B35A1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201C-52A1-419C-B6ED-87D9FD7E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A13D-B4F8-4B13-BCD5-6CFCBDB8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7C7A-C774-49D8-9989-30F18B5B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E53E-05E8-4D85-BD1F-B3F34E36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E02F-47A7-42DC-8805-43DBCF09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30D7-13D5-49F4-84F4-570F9402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7887-F16A-4F5A-A098-295028C6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B5E7-2D44-4201-ABBB-E51A8E76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A5C5-60FC-4A4A-9714-BC2D3868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EC83-F819-4C66-917A-466EE03A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D5628-3621-4D66-94BA-88205E02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FBE69-7529-40B5-B261-EA0E3ED4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B1044-3207-4471-8C01-C286BC69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6ED1C-8CB6-443A-AB03-FE1E2E2D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CD40-2F89-44DF-A322-724443B7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B318E-FFB3-4947-861C-25661D61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EA99-2A68-49A4-A3B6-D58B1A61175D}" type="slidenum">
              <a:rPr b="0" lang="es-E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B47F-1A5D-4992-B73C-C6257AE007E2}" type="slidenum">
              <a:rPr b="0" lang="es-E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3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987640" y="1699920"/>
            <a:ext cx="60199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Transformada de 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332000" y="0"/>
            <a:ext cx="607536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Universidad de Chile</a:t>
            </a:r>
            <a:br>
              <a:rPr sz="1400"/>
            </a:b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Facultad de Ciencias Físicas y Matemáticas</a:t>
            </a:r>
            <a:br>
              <a:rPr sz="1400"/>
            </a:b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Departamento de Ingeniería Eléctrica</a:t>
            </a:r>
            <a:br>
              <a:rPr sz="1400"/>
            </a:b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Introducción al Procesamiento Digital de Imágenes</a:t>
            </a:r>
            <a:br>
              <a:rPr sz="1400"/>
            </a:b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EM75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92052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62520" y="2973240"/>
            <a:ext cx="976320" cy="1600200"/>
          </a:xfrm>
          <a:prstGeom prst="rect">
            <a:avLst/>
          </a:prstGeom>
          <a:ln w="0">
            <a:noFill/>
          </a:ln>
        </p:spPr>
      </p:pic>
      <p:cxnSp>
        <p:nvCxnSpPr>
          <p:cNvPr id="160" name=""/>
          <p:cNvCxnSpPr>
            <a:stCxn id="159" idx="3"/>
          </p:cNvCxnSpPr>
          <p:nvPr/>
        </p:nvCxnSpPr>
        <p:spPr>
          <a:xfrm>
            <a:off x="4938480" y="3773160"/>
            <a:ext cx="1767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62" idx="3"/>
            <a:endCxn id="163" idx="1"/>
          </p:cNvCxnSpPr>
          <p:nvPr/>
        </p:nvCxnSpPr>
        <p:spPr>
          <a:xfrm flipH="1">
            <a:off x="1980360" y="3746520"/>
            <a:ext cx="5411160" cy="2161080"/>
          </a:xfrm>
          <a:prstGeom prst="bentConnector5">
            <a:avLst>
              <a:gd name="adj1" fmla="val -4224"/>
              <a:gd name="adj2" fmla="val 50633"/>
              <a:gd name="adj3" fmla="val 104224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pic>
        <p:nvPicPr>
          <p:cNvPr id="164" name="direc_gruesa_var_escalada" descr=""/>
          <p:cNvPicPr/>
          <p:nvPr/>
        </p:nvPicPr>
        <p:blipFill>
          <a:blip r:embed="rId2"/>
          <a:stretch/>
        </p:blipFill>
        <p:spPr>
          <a:xfrm>
            <a:off x="1676520" y="2973240"/>
            <a:ext cx="2057400" cy="1559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181480" y="2917800"/>
            <a:ext cx="2210040" cy="1655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981080" y="5106960"/>
            <a:ext cx="2133720" cy="159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4952880" y="5106960"/>
            <a:ext cx="2133720" cy="1596960"/>
          </a:xfrm>
          <a:prstGeom prst="rect">
            <a:avLst/>
          </a:prstGeom>
          <a:ln w="0">
            <a:noFill/>
          </a:ln>
        </p:spPr>
      </p:pic>
      <p:cxnSp>
        <p:nvCxnSpPr>
          <p:cNvPr id="168" name=""/>
          <p:cNvCxnSpPr>
            <a:stCxn id="169" idx="3"/>
            <a:endCxn id="164" idx="1"/>
          </p:cNvCxnSpPr>
          <p:nvPr/>
        </p:nvCxnSpPr>
        <p:spPr>
          <a:xfrm flipH="1">
            <a:off x="1676160" y="1942920"/>
            <a:ext cx="3962880" cy="1810440"/>
          </a:xfrm>
          <a:prstGeom prst="bentConnector5">
            <a:avLst>
              <a:gd name="adj1" fmla="val -5759"/>
              <a:gd name="adj2" fmla="val 50517"/>
              <a:gd name="adj3" fmla="val 105759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0" y="907920"/>
            <a:ext cx="5638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505320" y="1143000"/>
            <a:ext cx="2133360" cy="1598760"/>
          </a:xfrm>
          <a:prstGeom prst="rect">
            <a:avLst/>
          </a:prstGeom>
          <a:ln w="0">
            <a:noFill/>
          </a:ln>
        </p:spPr>
      </p:pic>
      <p:cxnSp>
        <p:nvCxnSpPr>
          <p:cNvPr id="172" name=""/>
          <p:cNvCxnSpPr/>
          <p:nvPr/>
        </p:nvCxnSpPr>
        <p:spPr>
          <a:xfrm>
            <a:off x="3762360" y="3781080"/>
            <a:ext cx="1771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4114800" y="5943600"/>
            <a:ext cx="8380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40464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arse Face De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6781680" y="523800"/>
            <a:ext cx="2165400" cy="1465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934320" y="533520"/>
            <a:ext cx="106668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0340-3D33-4A01-A8B0-24D716CED3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867280" y="198108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838080"/>
            <a:ext cx="5638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direc_fina_prom_var_escalada" descr=""/>
          <p:cNvPicPr/>
          <p:nvPr/>
        </p:nvPicPr>
        <p:blipFill>
          <a:blip r:embed="rId1"/>
          <a:stretch/>
        </p:blipFill>
        <p:spPr>
          <a:xfrm>
            <a:off x="6324480" y="106668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80" name="grisr_fina_var_marcadaTilt" descr=""/>
          <p:cNvPicPr/>
          <p:nvPr/>
        </p:nvPicPr>
        <p:blipFill>
          <a:blip r:embed="rId2"/>
          <a:stretch/>
        </p:blipFill>
        <p:spPr>
          <a:xfrm>
            <a:off x="5257800" y="3124080"/>
            <a:ext cx="2133720" cy="1622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800600" y="396252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371600" y="3083040"/>
            <a:ext cx="3429000" cy="1964880"/>
            <a:chOff x="1371600" y="3083040"/>
            <a:chExt cx="3429000" cy="1964880"/>
          </a:xfrm>
        </p:grpSpPr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4343400" y="3083040"/>
              <a:ext cx="45720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4038840" y="3311280"/>
              <a:ext cx="761760" cy="72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5"/>
            <a:stretch/>
          </p:blipFill>
          <p:spPr>
            <a:xfrm>
              <a:off x="3733920" y="3616200"/>
              <a:ext cx="106668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6"/>
            <a:stretch/>
          </p:blipFill>
          <p:spPr>
            <a:xfrm>
              <a:off x="2743200" y="3083040"/>
              <a:ext cx="457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7"/>
            <a:stretch/>
          </p:blipFill>
          <p:spPr>
            <a:xfrm>
              <a:off x="2667240" y="3311280"/>
              <a:ext cx="628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8"/>
            <a:stretch/>
          </p:blipFill>
          <p:spPr>
            <a:xfrm>
              <a:off x="2610000" y="3616200"/>
              <a:ext cx="74304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9"/>
            <a:stretch/>
          </p:blipFill>
          <p:spPr>
            <a:xfrm>
              <a:off x="1371600" y="3083040"/>
              <a:ext cx="3812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0"/>
            <a:stretch/>
          </p:blipFill>
          <p:spPr>
            <a:xfrm>
              <a:off x="1371600" y="3311280"/>
              <a:ext cx="609840" cy="57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1"/>
            <a:stretch/>
          </p:blipFill>
          <p:spPr>
            <a:xfrm>
              <a:off x="1371600" y="3616200"/>
              <a:ext cx="914400" cy="86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12"/>
            <a:stretch/>
          </p:blipFill>
          <p:spPr>
            <a:xfrm>
              <a:off x="1371600" y="3995640"/>
              <a:ext cx="106704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13"/>
            <a:stretch/>
          </p:blipFill>
          <p:spPr>
            <a:xfrm>
              <a:off x="2590920" y="3960720"/>
              <a:ext cx="81108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4"/>
            <a:stretch/>
          </p:blipFill>
          <p:spPr>
            <a:xfrm>
              <a:off x="3657600" y="3954240"/>
              <a:ext cx="1143000" cy="10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 flipH="1">
            <a:off x="1143000" y="2819520"/>
            <a:ext cx="7772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2819520"/>
            <a:ext cx="0" cy="1038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3857760"/>
            <a:ext cx="228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gris_var2" descr=""/>
          <p:cNvPicPr/>
          <p:nvPr/>
        </p:nvPicPr>
        <p:blipFill>
          <a:blip r:embed="rId15"/>
          <a:stretch/>
        </p:blipFill>
        <p:spPr>
          <a:xfrm>
            <a:off x="1143000" y="1066680"/>
            <a:ext cx="2209680" cy="1660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352680" y="198108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534520" y="198108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915400" y="1981080"/>
            <a:ext cx="0" cy="838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957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5334120"/>
            <a:ext cx="5257800" cy="1295280"/>
            <a:chOff x="2286000" y="5334120"/>
            <a:chExt cx="5257800" cy="1295280"/>
          </a:xfrm>
        </p:grpSpPr>
        <p:sp>
          <p:nvSpPr>
            <p:cNvPr id="204" name=""/>
            <p:cNvSpPr/>
            <p:nvPr/>
          </p:nvSpPr>
          <p:spPr>
            <a:xfrm>
              <a:off x="2286000" y="5334120"/>
              <a:ext cx="525780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514600" y="5562720"/>
                  <a:ext cx="480060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R</m:t>
                              </m:r>
                              <m:r>
                                <m:t xml:space="preserve">Φ</m:t>
                              </m:r>
                            </m:sub>
                          </m:sSub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R</m:t>
                                  </m:r>
                                  <m:r>
                                    <m:t xml:space="preserve">Φ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b>
                            <m:sup/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OI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RO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j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</m:e>
                              </m:d>
                            </m:e>
                          </m:nary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R</m:t>
                                  </m:r>
                                  <m:r>
                                    <m:t xml:space="preserve">Φ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7529400" y="5829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1066680"/>
            <a:ext cx="2209680" cy="1660320"/>
            <a:chOff x="3657600" y="1066680"/>
            <a:chExt cx="2209680" cy="1660320"/>
          </a:xfrm>
        </p:grpSpPr>
        <p:pic>
          <p:nvPicPr>
            <p:cNvPr id="208" name="gris_var2" descr=""/>
            <p:cNvPicPr/>
            <p:nvPr/>
          </p:nvPicPr>
          <p:blipFill>
            <a:blip r:embed="rId16"/>
            <a:stretch/>
          </p:blipFill>
          <p:spPr>
            <a:xfrm>
              <a:off x="3657600" y="1066680"/>
              <a:ext cx="2209680" cy="16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819240" y="1209600"/>
              <a:ext cx="1399680" cy="13809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95680" y="183816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81200" y="1952280"/>
              <a:ext cx="228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838080" y="40464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ne Face De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4978-C637-4E08-B601-53CABED3D0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mite la localización de estructuras en imágenes, mediante técnicas de parametr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í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2195640" y="4292640"/>
          <a:ext cx="3887640" cy="17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4292640"/>
                    <a:ext cx="3887640" cy="17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84FC-8144-43AF-99B3-8228CABD238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parámetros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para dos puntos colineales son los mismos (fig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m, c) define un punto en el espacio de parámetros (fig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puntos colineales p1 y p2 definen dos rectas distintas en el espacio de parámetros (fig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26920" y="3500280"/>
          <a:ext cx="7344000" cy="294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3500280"/>
                    <a:ext cx="7344000" cy="29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56CF-AF91-4EE5-9679-7DAF1B00D6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lgoritmo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uantizar el espacio de parámetros, definiendo rangos para m y c</a:t>
            </a:r>
            <a:r>
              <a:rPr b="1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m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icializar un arreglo A(c,m) en valores n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ra todos los puntos (x,y) en que el gradiente excede un umbral, incre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(c,m)= A(c,m)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ra el  par (m,c) que satisface c =-xm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máximos en A(c,m) corresponden a puntos colineale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a imagen y los valores corresponden a una medida del número de puntos en la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62C56-D994-40B6-AB32-C2FDBCE0CC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de representarse en forma po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= x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s(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+ y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n(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692360" y="2924280"/>
          <a:ext cx="5400720" cy="23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2924280"/>
                    <a:ext cx="5400720" cy="23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9675-30EC-4618-B27A-BD37D1A0F96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tección de bordes “ruidos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1785960" cy="280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38706" t="27818" r="32459" b="21772"/>
          <a:stretch/>
        </p:blipFill>
        <p:spPr>
          <a:xfrm>
            <a:off x="5148360" y="3141720"/>
            <a:ext cx="180000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042920" y="3141720"/>
            <a:ext cx="178596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3A0CB-B4F2-4224-A916-1402AB4080D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tección de otras distribuciones parametrizables, por ejemplo, elip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11631" t="19216" r="10819" b="11313"/>
          <a:stretch/>
        </p:blipFill>
        <p:spPr>
          <a:xfrm>
            <a:off x="971640" y="3141720"/>
            <a:ext cx="3384360" cy="2454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11541" t="22887" r="12049" b="11127"/>
          <a:stretch/>
        </p:blipFill>
        <p:spPr>
          <a:xfrm>
            <a:off x="4500720" y="3141720"/>
            <a:ext cx="360036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ADF4D-8036-4085-95CE-7F50339E410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533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arse Face De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indow size = 7 pix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1484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direc_gruesa_var_escalada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2209680" cy="1674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990720"/>
            <a:ext cx="5638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grisr_var" descr=""/>
          <p:cNvPicPr/>
          <p:nvPr/>
        </p:nvPicPr>
        <p:blipFill>
          <a:blip r:embed="rId2"/>
          <a:stretch/>
        </p:blipFill>
        <p:spPr>
          <a:xfrm>
            <a:off x="3429000" y="1219320"/>
            <a:ext cx="2209680" cy="1670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3368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057400" y="5181480"/>
            <a:ext cx="5334120" cy="1524240"/>
            <a:chOff x="2057400" y="5181480"/>
            <a:chExt cx="5334120" cy="1524240"/>
          </a:xfrm>
        </p:grpSpPr>
        <p:sp>
          <p:nvSpPr>
            <p:cNvPr id="146" name=""/>
            <p:cNvSpPr/>
            <p:nvPr/>
          </p:nvSpPr>
          <p:spPr>
            <a:xfrm>
              <a:off x="2057400" y="5181480"/>
              <a:ext cx="5334120" cy="152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2438280" y="5257800"/>
                  <a:ext cx="46483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</m:e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</m:e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/>
          <p:cNvSpPr/>
          <p:nvPr/>
        </p:nvSpPr>
        <p:spPr>
          <a:xfrm>
            <a:off x="7453440" y="56768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89548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781680" y="523800"/>
            <a:ext cx="2165400" cy="1465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934320" y="533520"/>
            <a:ext cx="106668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9B925-F720-4837-8D75-62BA0C7536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181080" y="257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arse Face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58720" y="4800600"/>
                <a:ext cx="807552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in range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≤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-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0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a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y-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0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b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≤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x range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s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rctg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-y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-x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  <m:r>
                                <m:t xml:space="preserve">≤</m:t>
                              </m:r>
                              <m:f>
                                <m:num>
                                  <m:r>
                                    <m:t xml:space="preserve">θ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09800" y="990720"/>
            <a:ext cx="257148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152280" y="762120"/>
            <a:ext cx="358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57240"/>
            <a:ext cx="2447640" cy="312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4880" y="1082520"/>
            <a:ext cx="1585800" cy="1998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089680" y="735120"/>
            <a:ext cx="3878280" cy="398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8EC56-4784-4B8E-8BD5-86781A4B2E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udio Perez</cp:lastModifiedBy>
  <dcterms:modified xsi:type="dcterms:W3CDTF">2005-10-19T08:07:09Z</dcterms:modified>
  <cp:revision>239</cp:revision>
  <dc:subject/>
  <dc:title>PowerPoint Presentation</dc:title>
</cp:coreProperties>
</file>