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BF42-A794-4400-9E74-D176179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0B9D-591A-4328-8CF4-4A4B680B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093A-6529-476E-A25F-D09843E6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AEC7-AE37-4FCE-91A5-A3153024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171-7E4E-41DF-A65A-D9192F58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DCE-AC17-40BD-96F1-83D4345A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866-A358-4B03-B6A6-6036170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9609-0FDE-4C1D-AB16-4FC4875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6C6A-06F7-407D-8A77-9043B15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563-5267-4721-BE5B-A6789D5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3B7-43A5-475E-982B-02007A5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EAAF-81DB-472A-89D4-932FA54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32B1-83B8-4EB7-9835-848831F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C17-F8DB-4FAD-8990-ADE45F7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7819-5E5A-48FD-89CE-5368023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400D-5E3F-43D5-B6B3-CC9F40A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CB2-3DFE-44DA-8086-FEB7AC3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CFEC-0C63-4192-B8F0-B714E7F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FB18-22F7-4F6C-A1EE-FF6012C8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B5AA-E628-4496-BC87-55C62FA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C35F-8FF1-48CF-ADA2-617E633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CBC9-90FD-487E-8A26-29602C2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E54A-B768-433F-B3F1-965DCD3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38FE-FE38-41E7-99DE-EDFFB59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D892-A4DD-411B-B018-BCC6D17691F0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934-BFA2-4094-87AA-B42A088CE36A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1699920"/>
            <a:ext cx="6019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Transformada de 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6075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Facultad de Ciencias Físicas y Matemática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Departamento de Ingeniería Eléctrica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Introducción al Procesamiento Digital de Imágene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EM7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9205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62520" y="2973240"/>
            <a:ext cx="9763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9" idx="3"/>
          </p:cNvCxnSpPr>
          <p:nvPr/>
        </p:nvCxnSpPr>
        <p:spPr>
          <a:xfrm>
            <a:off x="4938480" y="3773160"/>
            <a:ext cx="1767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63" idx="1"/>
          </p:cNvCxnSpPr>
          <p:nvPr/>
        </p:nvCxnSpPr>
        <p:spPr>
          <a:xfrm flipH="1">
            <a:off x="1980360" y="3746520"/>
            <a:ext cx="5411160" cy="2161080"/>
          </a:xfrm>
          <a:prstGeom prst="bentConnector5">
            <a:avLst>
              <a:gd name="adj1" fmla="val -4224"/>
              <a:gd name="adj2" fmla="val 50633"/>
              <a:gd name="adj3" fmla="val 104224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64" name="direc_gruesa_var_escalada" descr=""/>
          <p:cNvPicPr/>
          <p:nvPr/>
        </p:nvPicPr>
        <p:blipFill>
          <a:blip r:embed="rId2"/>
          <a:stretch/>
        </p:blipFill>
        <p:spPr>
          <a:xfrm>
            <a:off x="1676520" y="2973240"/>
            <a:ext cx="2057400" cy="155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81480" y="291780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981080" y="510696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952880" y="5106960"/>
            <a:ext cx="2133720" cy="1596960"/>
          </a:xfrm>
          <a:prstGeom prst="rect">
            <a:avLst/>
          </a:prstGeom>
          <a:ln w="0">
            <a:noFill/>
          </a:ln>
        </p:spPr>
      </p:pic>
      <p:cxnSp>
        <p:nvCxnSpPr>
          <p:cNvPr id="168" name=""/>
          <p:cNvCxnSpPr>
            <a:stCxn id="169" idx="3"/>
            <a:endCxn id="164" idx="1"/>
          </p:cNvCxnSpPr>
          <p:nvPr/>
        </p:nvCxnSpPr>
        <p:spPr>
          <a:xfrm flipH="1">
            <a:off x="1676160" y="1942920"/>
            <a:ext cx="3962880" cy="1810440"/>
          </a:xfrm>
          <a:prstGeom prst="bentConnector5">
            <a:avLst>
              <a:gd name="adj1" fmla="val -5759"/>
              <a:gd name="adj2" fmla="val 50517"/>
              <a:gd name="adj3" fmla="val 105759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0" y="9079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1143000"/>
            <a:ext cx="2133360" cy="1598760"/>
          </a:xfrm>
          <a:prstGeom prst="rect">
            <a:avLst/>
          </a:prstGeom>
          <a:ln w="0">
            <a:noFill/>
          </a:ln>
        </p:spPr>
      </p:pic>
      <p:cxnSp>
        <p:nvCxnSpPr>
          <p:cNvPr id="172" name=""/>
          <p:cNvCxnSpPr/>
          <p:nvPr/>
        </p:nvCxnSpPr>
        <p:spPr>
          <a:xfrm>
            <a:off x="3762360" y="3781080"/>
            <a:ext cx="1771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4114800" y="594360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404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74F6-D3D3-4292-B6CA-97BA2E5927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808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irec_fina_prom_var_escalada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grisr_fina_var_marcadaTilt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133720" cy="162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00600" y="3962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71600" y="3083040"/>
            <a:ext cx="3429000" cy="1964880"/>
            <a:chOff x="1371600" y="3083040"/>
            <a:chExt cx="3429000" cy="196488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343400" y="3083040"/>
              <a:ext cx="4572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4038840" y="3311280"/>
              <a:ext cx="76176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3733920" y="3616200"/>
              <a:ext cx="106668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2743200" y="3083040"/>
              <a:ext cx="457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2667240" y="3311280"/>
              <a:ext cx="628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2610000" y="3616200"/>
              <a:ext cx="7430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9"/>
            <a:stretch/>
          </p:blipFill>
          <p:spPr>
            <a:xfrm>
              <a:off x="1371600" y="3083040"/>
              <a:ext cx="381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371600" y="3311280"/>
              <a:ext cx="60984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1371600" y="3616200"/>
              <a:ext cx="914400" cy="8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1371600" y="3995640"/>
              <a:ext cx="10670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>
              <a:off x="2590920" y="3960720"/>
              <a:ext cx="8110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3657600" y="3954240"/>
              <a:ext cx="1143000" cy="10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 flipH="1">
            <a:off x="1143000" y="281952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19520"/>
            <a:ext cx="0" cy="1038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85776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gris_var2" descr=""/>
          <p:cNvPicPr/>
          <p:nvPr/>
        </p:nvPicPr>
        <p:blipFill>
          <a:blip r:embed="rId15"/>
          <a:stretch/>
        </p:blipFill>
        <p:spPr>
          <a:xfrm>
            <a:off x="1143000" y="10666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52680" y="19810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1981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15400" y="19810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957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5334120"/>
            <a:ext cx="5257800" cy="1295280"/>
            <a:chOff x="2286000" y="5334120"/>
            <a:chExt cx="5257800" cy="1295280"/>
          </a:xfrm>
        </p:grpSpPr>
        <p:sp>
          <p:nvSpPr>
            <p:cNvPr id="204" name=""/>
            <p:cNvSpPr/>
            <p:nvPr/>
          </p:nvSpPr>
          <p:spPr>
            <a:xfrm>
              <a:off x="2286000" y="5334120"/>
              <a:ext cx="52578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14600" y="5562720"/>
                  <a:ext cx="48006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R</m:t>
                              </m:r>
                              <m:r>
                                <m:t xml:space="preserve">Φ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b>
                            <m:sup/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O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O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</m:d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7529400" y="5829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1066680"/>
            <a:ext cx="2209680" cy="1660320"/>
            <a:chOff x="3657600" y="1066680"/>
            <a:chExt cx="2209680" cy="1660320"/>
          </a:xfrm>
        </p:grpSpPr>
        <p:pic>
          <p:nvPicPr>
            <p:cNvPr id="208" name="gris_var2" descr=""/>
            <p:cNvPicPr/>
            <p:nvPr/>
          </p:nvPicPr>
          <p:blipFill>
            <a:blip r:embed="rId16"/>
            <a:stretch/>
          </p:blipFill>
          <p:spPr>
            <a:xfrm>
              <a:off x="3657600" y="1066680"/>
              <a:ext cx="220968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19240" y="1209600"/>
              <a:ext cx="1399680" cy="1380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183816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200" y="1952280"/>
              <a:ext cx="228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404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8005-0B46-4AE7-8AAE-5B7BE7221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mite la localización de estructuras en imágenes, mediante técnicas de paramet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í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195640" y="4292640"/>
          <a:ext cx="38876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4292640"/>
                    <a:ext cx="38876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EE39-B4B2-4637-BD59-1C14688B39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arámetros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para dos puntos colineales son los mismos (fig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m, c) define un punto en el espacio de parámetros (fig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untos colineales p1 y p2 definen dos rectas distintas en el espacio de parámetros (fi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26920" y="3500280"/>
          <a:ext cx="7344000" cy="29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500280"/>
                    <a:ext cx="734400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46FF-7EDF-43C8-99C8-FB2519E512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goritmo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ntizar el espacio de parámetros, definiendo rangos para m y c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icializar un arreglo A(c,m) en valores n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todos los puntos (x,y) en que el gradiente excede un umbral, incr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(c,m)= A(c,m)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el  par (m,c) que satisface c =-xm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máximos en A(c,m) corresponden a puntos colineale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imagen y los valores corresponden a una medida del número de puntos en la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2512-D976-4648-9990-B1F6AAA93F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e representarse en forma po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= x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s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+ y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n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692360" y="2924280"/>
          <a:ext cx="5400720" cy="23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924280"/>
                    <a:ext cx="5400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A90C-9F45-499F-B9C4-0201150112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bordes “ruido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178596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8706" t="27818" r="32459" b="21772"/>
          <a:stretch/>
        </p:blipFill>
        <p:spPr>
          <a:xfrm>
            <a:off x="5148360" y="3141720"/>
            <a:ext cx="180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17859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54DE-DF57-4BC7-B938-2EEE524A01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otras distribuciones parametrizables, por ejemplo, elip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11631" t="19216" r="10819" b="11313"/>
          <a:stretch/>
        </p:blipFill>
        <p:spPr>
          <a:xfrm>
            <a:off x="971640" y="3141720"/>
            <a:ext cx="3384360" cy="245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11541" t="22887" r="12049" b="11127"/>
          <a:stretch/>
        </p:blipFill>
        <p:spPr>
          <a:xfrm>
            <a:off x="4500720" y="3141720"/>
            <a:ext cx="360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6109-A5B1-4C13-B601-0CEDE8BB7B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indow size = 7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48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irec_gruesa_var_escalada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907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risr_var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209680" cy="167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336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7400" y="5181480"/>
            <a:ext cx="5334120" cy="1524240"/>
            <a:chOff x="2057400" y="5181480"/>
            <a:chExt cx="5334120" cy="1524240"/>
          </a:xfrm>
        </p:grpSpPr>
        <p:sp>
          <p:nvSpPr>
            <p:cNvPr id="146" name=""/>
            <p:cNvSpPr/>
            <p:nvPr/>
          </p:nvSpPr>
          <p:spPr>
            <a:xfrm>
              <a:off x="2057400" y="5181480"/>
              <a:ext cx="533412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438280" y="5257800"/>
                  <a:ext cx="46483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7453440" y="5676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8954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927B-3249-44D8-9883-33A8BD00A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181080" y="25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8720" y="4800600"/>
                <a:ext cx="807552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in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-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a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y-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b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t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-y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-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θ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09800" y="990720"/>
            <a:ext cx="257148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52280" y="762120"/>
            <a:ext cx="358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240"/>
            <a:ext cx="2447640" cy="312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880" y="1082520"/>
            <a:ext cx="1585800" cy="1998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89680" y="735120"/>
            <a:ext cx="3878280" cy="39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001E-D28A-4BA4-8878-8D46907D4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Perez</cp:lastModifiedBy>
  <dcterms:modified xsi:type="dcterms:W3CDTF">2005-10-19T08:07:09Z</dcterms:modified>
  <cp:revision>239</cp:revision>
  <dc:subject/>
  <dc:title>PowerPoint Presentation</dc:title>
</cp:coreProperties>
</file>