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2FDB-3D7A-4C4D-8348-0867AD22D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8800" y="759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8839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2280" y="3806280"/>
            <a:ext cx="8839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804A-5027-42E4-A906-1BA3D57F1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828800" y="759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4313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1800" y="1219320"/>
            <a:ext cx="4313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52280" y="3806280"/>
            <a:ext cx="4313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1800" y="3806280"/>
            <a:ext cx="4313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863D-EBFF-42A4-A865-878A23E10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828800" y="759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2846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41000" y="1219320"/>
            <a:ext cx="2846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30080" y="1219320"/>
            <a:ext cx="2846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52280" y="3806280"/>
            <a:ext cx="2846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41000" y="3806280"/>
            <a:ext cx="2846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30080" y="3806280"/>
            <a:ext cx="2846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A625-A8AB-446F-BF21-F3860D7BD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828800" y="759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52280" y="1219320"/>
            <a:ext cx="883944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B4CA-E762-4C93-9FE1-F6FA604E3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828800" y="759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88394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0775-0502-4CCC-B742-59AC89DAA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8800" y="759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43135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1800" y="1219320"/>
            <a:ext cx="43135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875C-F353-4EF3-A822-46FDB09DE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828800" y="759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3CC6-16B9-461C-9234-C963E8821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828800" y="75960"/>
            <a:ext cx="73152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7002-B5C4-49E7-B605-A53D94A76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828800" y="759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4313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1800" y="1219320"/>
            <a:ext cx="43135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52280" y="3806280"/>
            <a:ext cx="4313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61EB-6C0F-4AB1-8095-04C7A8CF3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828800" y="759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43135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1800" y="1219320"/>
            <a:ext cx="4313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1800" y="3806280"/>
            <a:ext cx="4313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9560-34D8-470A-B5C2-F70738E95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828800" y="759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4313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1800" y="1219320"/>
            <a:ext cx="4313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52280" y="3806280"/>
            <a:ext cx="8839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7C82-8EFD-4624-BC3F-369176BCA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52280" y="1219320"/>
            <a:ext cx="88394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d9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0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828800" y="759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69198-9929-44A2-867E-9AAD5B2EF6D1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66976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400" spc="-1" strike="noStrike">
                <a:solidFill>
                  <a:srgbClr val="000000"/>
                </a:solidFill>
                <a:latin typeface="Monotype Corsiva"/>
              </a:rPr>
              <a:t>La Distribución Desde la Regulación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5664240"/>
            <a:ext cx="640080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Octubre de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04920" y="762120"/>
            <a:ext cx="1447560" cy="5638680"/>
          </a:xfrm>
          <a:prstGeom prst="rect">
            <a:avLst/>
          </a:prstGeom>
          <a:solidFill>
            <a:srgbClr val="f2f2f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080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828800" y="76320"/>
            <a:ext cx="73152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ffffff"/>
                </a:solidFill>
                <a:latin typeface="Monotype Corsiva"/>
              </a:rPr>
              <a:t>El Sistema de Distribución y el V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158920" y="1143000"/>
            <a:ext cx="4876920" cy="5029200"/>
          </a:xfrm>
          <a:prstGeom prst="verticalScroll">
            <a:avLst>
              <a:gd name="adj" fmla="val 9763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844720" y="1870200"/>
            <a:ext cx="358164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valor agregado por concepto de costos de distribución </a:t>
            </a:r>
            <a:r>
              <a:rPr b="1" i="1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</a:t>
            </a:r>
            <a:r>
              <a:rPr b="0" i="1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ará en empresas modelo</a:t>
            </a:r>
            <a:r>
              <a:rPr b="0" i="1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considerará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i="1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- </a:t>
            </a:r>
            <a:r>
              <a:rPr b="1" i="1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tos fijos</a:t>
            </a:r>
            <a:r>
              <a:rPr b="0" i="1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r concepto de gastos de administración, facturación y atención del usuario, independientes de su consumo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i="1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- </a:t>
            </a:r>
            <a:r>
              <a:rPr b="1" i="1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érdidas</a:t>
            </a:r>
            <a:r>
              <a:rPr b="0" i="1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edias de distribución en potencia y energía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i="1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- </a:t>
            </a:r>
            <a:r>
              <a:rPr b="1" i="1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tos estándares de inversión, mantención y operación</a:t>
            </a:r>
            <a:r>
              <a:rPr b="0" i="1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sociados a la distribución, por unidad de potencia suministrada. Los costos anuales de inversión se calcularán considerando el </a:t>
            </a:r>
            <a:r>
              <a:rPr b="1" i="1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or Nuevo de Reemplazo</a:t>
            </a:r>
            <a:r>
              <a:rPr b="0" i="1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de instalaciones adaptadas a la         demanda, su vida útil (30 años), y una </a:t>
            </a:r>
            <a:r>
              <a:rPr b="1" i="1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sa de actualización, igual al 10% real anual</a:t>
            </a:r>
            <a:r>
              <a:rPr b="0" i="1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427200" y="1189080"/>
            <a:ext cx="313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Artículo 106 del DFL N°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rot="10800000">
            <a:off x="6654960" y="3809520"/>
            <a:ext cx="304560" cy="2133720"/>
          </a:xfrm>
          <a:custGeom>
            <a:avLst/>
            <a:gdLst>
              <a:gd name="textAreaLeft" fmla="*/ 194760 w 304560"/>
              <a:gd name="textAreaRight" fmla="*/ 304920 w 304560"/>
              <a:gd name="textAreaTop" fmla="*/ 55440 h 2133720"/>
              <a:gd name="textAreaBottom" fmla="*/ 2078280 h 2133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113600" y="4556160"/>
            <a:ext cx="83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CD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CDB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d9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d9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828800" y="759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s-ES" sz="4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21" name=""/>
          <p:cNvSpPr/>
          <p:nvPr/>
        </p:nvSpPr>
        <p:spPr>
          <a:xfrm>
            <a:off x="304920" y="1066680"/>
            <a:ext cx="1447560" cy="5639040"/>
          </a:xfrm>
          <a:prstGeom prst="rect">
            <a:avLst/>
          </a:prstGeom>
          <a:solidFill>
            <a:srgbClr val="f2f2f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080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828800" y="76320"/>
            <a:ext cx="73152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ffffff"/>
                </a:solidFill>
                <a:latin typeface="Monotype Corsiva"/>
              </a:rPr>
              <a:t>El Sistema de Distribución y el V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d9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90720" y="137160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c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755000" y="1219320"/>
            <a:ext cx="116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0000"/>
                </a:solidFill>
                <a:latin typeface="Times New Roman"/>
              </a:rPr>
              <a:t>El V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362320" y="2514600"/>
            <a:ext cx="152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514600" y="2362320"/>
            <a:ext cx="76320" cy="7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2514600" y="2438280"/>
            <a:ext cx="7632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514600" y="2514600"/>
            <a:ext cx="7632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2514600" y="2590920"/>
            <a:ext cx="76320" cy="7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2666880" y="2361960"/>
            <a:ext cx="76320" cy="7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666880" y="2438280"/>
            <a:ext cx="7632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2666880" y="2514600"/>
            <a:ext cx="7632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666880" y="2590920"/>
            <a:ext cx="76320" cy="7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743200" y="2514600"/>
            <a:ext cx="152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438280" y="22860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819520" y="22860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981080" y="251460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95480" y="2514600"/>
            <a:ext cx="2895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791320" y="2514600"/>
            <a:ext cx="152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943600" y="2362320"/>
            <a:ext cx="76320" cy="7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5943600" y="2438280"/>
            <a:ext cx="7632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943600" y="2514600"/>
            <a:ext cx="7632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5943600" y="2590920"/>
            <a:ext cx="76320" cy="7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6095880" y="2361960"/>
            <a:ext cx="76320" cy="7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95880" y="2438280"/>
            <a:ext cx="7632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095880" y="2514600"/>
            <a:ext cx="7632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95880" y="2590920"/>
            <a:ext cx="76320" cy="7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172200" y="2514600"/>
            <a:ext cx="152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867280" y="22860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248520" y="22860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248520" y="2514600"/>
            <a:ext cx="152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086600" y="4038480"/>
            <a:ext cx="1371600" cy="1371600"/>
          </a:xfrm>
          <a:custGeom>
            <a:avLst/>
            <a:gdLst>
              <a:gd name="textAreaLeft" fmla="*/ 313200 w 1371600"/>
              <a:gd name="textAreaRight" fmla="*/ 1058400 w 1371600"/>
              <a:gd name="textAreaTop" fmla="*/ 313200 h 1371600"/>
              <a:gd name="textAreaBottom" fmla="*/ 105840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029200" y="2895480"/>
            <a:ext cx="1371600" cy="1371600"/>
          </a:xfrm>
          <a:custGeom>
            <a:avLst/>
            <a:gdLst>
              <a:gd name="textAreaLeft" fmla="*/ 313200 w 1371600"/>
              <a:gd name="textAreaRight" fmla="*/ 1058400 w 1371600"/>
              <a:gd name="textAreaTop" fmla="*/ 313200 h 1371600"/>
              <a:gd name="textAreaBottom" fmla="*/ 105840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75880" y="3413160"/>
            <a:ext cx="71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kW</a:t>
            </a:r>
            <a:r>
              <a:rPr b="1" lang="es-CL" sz="800" spc="-1" strike="noStrike">
                <a:solidFill>
                  <a:srgbClr val="000000"/>
                </a:solidFill>
                <a:latin typeface="Times New Roman"/>
              </a:rPr>
              <a:t>A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5715000" y="251460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38680" y="2057400"/>
            <a:ext cx="605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000000"/>
                </a:solidFill>
                <a:latin typeface="Times New Roman"/>
              </a:rPr>
              <a:t>110 [kV]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651760" y="2057400"/>
            <a:ext cx="547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000000"/>
                </a:solidFill>
                <a:latin typeface="Times New Roman"/>
              </a:rPr>
              <a:t>12 [kV]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487120" y="2057400"/>
            <a:ext cx="547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000000"/>
                </a:solidFill>
                <a:latin typeface="Times New Roman"/>
              </a:rPr>
              <a:t>12 [kV]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019920" y="2057400"/>
            <a:ext cx="635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000000"/>
                </a:solidFill>
                <a:latin typeface="Times New Roman"/>
              </a:rPr>
              <a:t>0,38 [kV]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679480" y="269712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735520" y="269712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116400" y="269712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772400" y="2514600"/>
            <a:ext cx="0" cy="1523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87280" y="2286000"/>
            <a:ext cx="54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900" spc="-1" strike="noStrike">
                <a:solidFill>
                  <a:srgbClr val="000000"/>
                </a:solidFill>
                <a:latin typeface="Times New Roman"/>
              </a:rPr>
              <a:t>Red A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782760" y="2286000"/>
            <a:ext cx="54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900" spc="-1" strike="noStrike">
                <a:solidFill>
                  <a:srgbClr val="000000"/>
                </a:solidFill>
                <a:latin typeface="Times New Roman"/>
              </a:rPr>
              <a:t>Red B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562720" y="563868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878360" y="548640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00000"/>
                </a:solidFill>
                <a:latin typeface="Times New Roman"/>
              </a:rPr>
              <a:t>CDB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2666520" y="5638680"/>
            <a:ext cx="2210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735360" y="518148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00000"/>
                </a:solidFill>
                <a:latin typeface="Times New Roman"/>
              </a:rPr>
              <a:t>CD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53341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2666880" y="53341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666880" y="51814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715000" y="5181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772400" y="5486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471440" y="4572000"/>
            <a:ext cx="71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kW</a:t>
            </a:r>
            <a:r>
              <a:rPr b="1" lang="es-CL" sz="800" spc="-1" strike="noStrike">
                <a:solidFill>
                  <a:srgbClr val="000000"/>
                </a:solidFill>
                <a:latin typeface="Times New Roman"/>
              </a:rPr>
              <a:t>B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828800" y="759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s-ES" sz="4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79" name=""/>
          <p:cNvSpPr/>
          <p:nvPr/>
        </p:nvSpPr>
        <p:spPr>
          <a:xfrm>
            <a:off x="304920" y="1066680"/>
            <a:ext cx="1447560" cy="5639040"/>
          </a:xfrm>
          <a:prstGeom prst="rect">
            <a:avLst/>
          </a:prstGeom>
          <a:solidFill>
            <a:srgbClr val="f2f2f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0808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828800" y="76320"/>
            <a:ext cx="73152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ffffff"/>
                </a:solidFill>
                <a:latin typeface="Monotype Corsiva"/>
              </a:rPr>
              <a:t>El Sistema de Distribución y el V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d9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90720" y="137160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c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686960" y="1219320"/>
            <a:ext cx="594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0000"/>
                </a:solidFill>
                <a:latin typeface="Times New Roman"/>
              </a:rPr>
              <a:t>¿Cómo se calculan los costos de distribució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629400" y="5438880"/>
            <a:ext cx="1523520" cy="732960"/>
            <a:chOff x="6629400" y="5438880"/>
            <a:chExt cx="1523520" cy="732960"/>
          </a:xfrm>
        </p:grpSpPr>
        <p:sp>
          <p:nvSpPr>
            <p:cNvPr id="186" name=""/>
            <p:cNvSpPr/>
            <p:nvPr/>
          </p:nvSpPr>
          <p:spPr>
            <a:xfrm>
              <a:off x="6718320" y="5492520"/>
              <a:ext cx="36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755040" y="5456880"/>
              <a:ext cx="16920" cy="1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>
              <a:off x="6754680" y="5474520"/>
              <a:ext cx="16920" cy="1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755040" y="5492520"/>
              <a:ext cx="16920" cy="1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>
              <a:off x="6754680" y="5510520"/>
              <a:ext cx="16920" cy="16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6790320" y="5456520"/>
              <a:ext cx="18000" cy="1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790320" y="5474520"/>
              <a:ext cx="18000" cy="1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6790320" y="5492520"/>
              <a:ext cx="18000" cy="1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790320" y="5510520"/>
              <a:ext cx="18000" cy="16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808680" y="5492520"/>
              <a:ext cx="3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736680" y="5438880"/>
              <a:ext cx="0" cy="10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827040" y="5438880"/>
              <a:ext cx="0" cy="10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629400" y="5492520"/>
              <a:ext cx="88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843960" y="5492520"/>
              <a:ext cx="681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525440" y="5492520"/>
              <a:ext cx="3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560720" y="5456880"/>
              <a:ext cx="18000" cy="1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>
              <a:off x="7560720" y="5474520"/>
              <a:ext cx="18000" cy="1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560720" y="5492520"/>
              <a:ext cx="18000" cy="1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>
              <a:off x="7560720" y="5510520"/>
              <a:ext cx="18000" cy="16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V="1">
              <a:off x="7597800" y="5456520"/>
              <a:ext cx="18000" cy="1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597800" y="5474520"/>
              <a:ext cx="18000" cy="1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7597800" y="5492520"/>
              <a:ext cx="18000" cy="1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597800" y="5510520"/>
              <a:ext cx="18000" cy="16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615800" y="5492520"/>
              <a:ext cx="3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543800" y="5438880"/>
              <a:ext cx="0" cy="10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632720" y="5438880"/>
              <a:ext cx="0" cy="10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632720" y="5492520"/>
              <a:ext cx="358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830720" y="5850360"/>
              <a:ext cx="322200" cy="321480"/>
            </a:xfrm>
            <a:custGeom>
              <a:avLst/>
              <a:gdLst>
                <a:gd name="textAreaLeft" fmla="*/ 73440 w 322200"/>
                <a:gd name="textAreaRight" fmla="*/ 248760 w 322200"/>
                <a:gd name="textAreaTop" fmla="*/ 73440 h 321480"/>
                <a:gd name="textAreaBottom" fmla="*/ 248040 h 321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62" y="11812"/>
                  </a:lnTo>
                  <a:lnTo>
                    <a:pt x="368" y="13595"/>
                  </a:lnTo>
                  <a:lnTo>
                    <a:pt x="3104" y="13909"/>
                  </a:lnTo>
                  <a:lnTo>
                    <a:pt x="1447" y="16200"/>
                  </a:lnTo>
                  <a:lnTo>
                    <a:pt x="4171" y="15795"/>
                  </a:lnTo>
                  <a:lnTo>
                    <a:pt x="3163" y="18437"/>
                  </a:lnTo>
                  <a:lnTo>
                    <a:pt x="5690" y="17340"/>
                  </a:lnTo>
                  <a:lnTo>
                    <a:pt x="5400" y="20153"/>
                  </a:lnTo>
                  <a:lnTo>
                    <a:pt x="7557" y="18440"/>
                  </a:lnTo>
                  <a:lnTo>
                    <a:pt x="8005" y="21232"/>
                  </a:lnTo>
                  <a:lnTo>
                    <a:pt x="9645" y="19019"/>
                  </a:lnTo>
                  <a:lnTo>
                    <a:pt x="10800" y="21600"/>
                  </a:lnTo>
                  <a:lnTo>
                    <a:pt x="11812" y="19038"/>
                  </a:lnTo>
                  <a:lnTo>
                    <a:pt x="13595" y="21232"/>
                  </a:lnTo>
                  <a:lnTo>
                    <a:pt x="13909" y="18496"/>
                  </a:lnTo>
                  <a:lnTo>
                    <a:pt x="16200" y="20153"/>
                  </a:lnTo>
                  <a:lnTo>
                    <a:pt x="15795" y="17429"/>
                  </a:lnTo>
                  <a:lnTo>
                    <a:pt x="18437" y="18437"/>
                  </a:lnTo>
                  <a:lnTo>
                    <a:pt x="17340" y="15910"/>
                  </a:lnTo>
                  <a:lnTo>
                    <a:pt x="20153" y="16200"/>
                  </a:lnTo>
                  <a:lnTo>
                    <a:pt x="18440" y="14043"/>
                  </a:lnTo>
                  <a:lnTo>
                    <a:pt x="21232" y="13595"/>
                  </a:lnTo>
                  <a:lnTo>
                    <a:pt x="19019" y="11955"/>
                  </a:lnTo>
                  <a:lnTo>
                    <a:pt x="21600" y="10800"/>
                  </a:lnTo>
                  <a:lnTo>
                    <a:pt x="19038" y="9788"/>
                  </a:lnTo>
                  <a:lnTo>
                    <a:pt x="21232" y="8005"/>
                  </a:lnTo>
                  <a:lnTo>
                    <a:pt x="18496" y="7691"/>
                  </a:lnTo>
                  <a:lnTo>
                    <a:pt x="20153" y="5400"/>
                  </a:lnTo>
                  <a:lnTo>
                    <a:pt x="17429" y="5805"/>
                  </a:lnTo>
                  <a:lnTo>
                    <a:pt x="18437" y="3163"/>
                  </a:lnTo>
                  <a:lnTo>
                    <a:pt x="15910" y="4260"/>
                  </a:lnTo>
                  <a:lnTo>
                    <a:pt x="16200" y="1447"/>
                  </a:lnTo>
                  <a:lnTo>
                    <a:pt x="14043" y="3160"/>
                  </a:lnTo>
                  <a:lnTo>
                    <a:pt x="13595" y="368"/>
                  </a:lnTo>
                  <a:lnTo>
                    <a:pt x="11955" y="2581"/>
                  </a:lnTo>
                  <a:lnTo>
                    <a:pt x="10800" y="0"/>
                  </a:lnTo>
                  <a:lnTo>
                    <a:pt x="9788" y="2562"/>
                  </a:lnTo>
                  <a:lnTo>
                    <a:pt x="8005" y="368"/>
                  </a:lnTo>
                  <a:lnTo>
                    <a:pt x="7691" y="3104"/>
                  </a:lnTo>
                  <a:lnTo>
                    <a:pt x="5400" y="1447"/>
                  </a:lnTo>
                  <a:lnTo>
                    <a:pt x="5805" y="4171"/>
                  </a:lnTo>
                  <a:lnTo>
                    <a:pt x="3163" y="3163"/>
                  </a:lnTo>
                  <a:lnTo>
                    <a:pt x="4260" y="5690"/>
                  </a:lnTo>
                  <a:lnTo>
                    <a:pt x="1447" y="5400"/>
                  </a:lnTo>
                  <a:lnTo>
                    <a:pt x="3160" y="7557"/>
                  </a:lnTo>
                  <a:lnTo>
                    <a:pt x="368" y="8005"/>
                  </a:lnTo>
                  <a:lnTo>
                    <a:pt x="2581" y="9645"/>
                  </a:lnTo>
                  <a:lnTo>
                    <a:pt x="0" y="1080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345800" y="5581080"/>
              <a:ext cx="323640" cy="322920"/>
            </a:xfrm>
            <a:custGeom>
              <a:avLst/>
              <a:gdLst>
                <a:gd name="textAreaLeft" fmla="*/ 73800 w 323640"/>
                <a:gd name="textAreaRight" fmla="*/ 249840 w 323640"/>
                <a:gd name="textAreaTop" fmla="*/ 73800 h 322920"/>
                <a:gd name="textAreaBottom" fmla="*/ 249120 h 322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62" y="11812"/>
                  </a:lnTo>
                  <a:lnTo>
                    <a:pt x="368" y="13595"/>
                  </a:lnTo>
                  <a:lnTo>
                    <a:pt x="3104" y="13909"/>
                  </a:lnTo>
                  <a:lnTo>
                    <a:pt x="1447" y="16200"/>
                  </a:lnTo>
                  <a:lnTo>
                    <a:pt x="4171" y="15795"/>
                  </a:lnTo>
                  <a:lnTo>
                    <a:pt x="3163" y="18437"/>
                  </a:lnTo>
                  <a:lnTo>
                    <a:pt x="5690" y="17340"/>
                  </a:lnTo>
                  <a:lnTo>
                    <a:pt x="5400" y="20153"/>
                  </a:lnTo>
                  <a:lnTo>
                    <a:pt x="7557" y="18440"/>
                  </a:lnTo>
                  <a:lnTo>
                    <a:pt x="8005" y="21232"/>
                  </a:lnTo>
                  <a:lnTo>
                    <a:pt x="9645" y="19019"/>
                  </a:lnTo>
                  <a:lnTo>
                    <a:pt x="10800" y="21600"/>
                  </a:lnTo>
                  <a:lnTo>
                    <a:pt x="11812" y="19038"/>
                  </a:lnTo>
                  <a:lnTo>
                    <a:pt x="13595" y="21232"/>
                  </a:lnTo>
                  <a:lnTo>
                    <a:pt x="13909" y="18496"/>
                  </a:lnTo>
                  <a:lnTo>
                    <a:pt x="16200" y="20153"/>
                  </a:lnTo>
                  <a:lnTo>
                    <a:pt x="15795" y="17429"/>
                  </a:lnTo>
                  <a:lnTo>
                    <a:pt x="18437" y="18437"/>
                  </a:lnTo>
                  <a:lnTo>
                    <a:pt x="17340" y="15910"/>
                  </a:lnTo>
                  <a:lnTo>
                    <a:pt x="20153" y="16200"/>
                  </a:lnTo>
                  <a:lnTo>
                    <a:pt x="18440" y="14043"/>
                  </a:lnTo>
                  <a:lnTo>
                    <a:pt x="21232" y="13595"/>
                  </a:lnTo>
                  <a:lnTo>
                    <a:pt x="19019" y="11955"/>
                  </a:lnTo>
                  <a:lnTo>
                    <a:pt x="21600" y="10800"/>
                  </a:lnTo>
                  <a:lnTo>
                    <a:pt x="19038" y="9788"/>
                  </a:lnTo>
                  <a:lnTo>
                    <a:pt x="21232" y="8005"/>
                  </a:lnTo>
                  <a:lnTo>
                    <a:pt x="18496" y="7691"/>
                  </a:lnTo>
                  <a:lnTo>
                    <a:pt x="20153" y="5400"/>
                  </a:lnTo>
                  <a:lnTo>
                    <a:pt x="17429" y="5805"/>
                  </a:lnTo>
                  <a:lnTo>
                    <a:pt x="18437" y="3163"/>
                  </a:lnTo>
                  <a:lnTo>
                    <a:pt x="15910" y="4260"/>
                  </a:lnTo>
                  <a:lnTo>
                    <a:pt x="16200" y="1447"/>
                  </a:lnTo>
                  <a:lnTo>
                    <a:pt x="14043" y="3160"/>
                  </a:lnTo>
                  <a:lnTo>
                    <a:pt x="13595" y="368"/>
                  </a:lnTo>
                  <a:lnTo>
                    <a:pt x="11955" y="2581"/>
                  </a:lnTo>
                  <a:lnTo>
                    <a:pt x="10800" y="0"/>
                  </a:lnTo>
                  <a:lnTo>
                    <a:pt x="9788" y="2562"/>
                  </a:lnTo>
                  <a:lnTo>
                    <a:pt x="8005" y="368"/>
                  </a:lnTo>
                  <a:lnTo>
                    <a:pt x="7691" y="3104"/>
                  </a:lnTo>
                  <a:lnTo>
                    <a:pt x="5400" y="1447"/>
                  </a:lnTo>
                  <a:lnTo>
                    <a:pt x="5805" y="4171"/>
                  </a:lnTo>
                  <a:lnTo>
                    <a:pt x="3163" y="3163"/>
                  </a:lnTo>
                  <a:lnTo>
                    <a:pt x="4260" y="5690"/>
                  </a:lnTo>
                  <a:lnTo>
                    <a:pt x="1447" y="5400"/>
                  </a:lnTo>
                  <a:lnTo>
                    <a:pt x="3160" y="7557"/>
                  </a:lnTo>
                  <a:lnTo>
                    <a:pt x="368" y="8005"/>
                  </a:lnTo>
                  <a:lnTo>
                    <a:pt x="2581" y="9645"/>
                  </a:lnTo>
                  <a:lnTo>
                    <a:pt x="0" y="1080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V="1">
              <a:off x="7507080" y="5492160"/>
              <a:ext cx="0" cy="88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992000" y="5492520"/>
              <a:ext cx="0" cy="357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2681280" y="4067280"/>
                <a:ext cx="378288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V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y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T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N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T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frc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T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T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PPB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6172200" y="1981080"/>
            <a:ext cx="2819520" cy="1979640"/>
          </a:xfrm>
          <a:prstGeom prst="rect">
            <a:avLst/>
          </a:prstGeom>
          <a:ln w="0">
            <a:noFill/>
          </a:ln>
        </p:spPr>
      </p:pic>
      <p:grpSp>
        <p:nvGrpSpPr>
          <p:cNvPr id="219" name=""/>
          <p:cNvGrpSpPr/>
          <p:nvPr/>
        </p:nvGrpSpPr>
        <p:grpSpPr>
          <a:xfrm>
            <a:off x="3505320" y="3152880"/>
            <a:ext cx="609480" cy="914400"/>
            <a:chOff x="3505320" y="3152880"/>
            <a:chExt cx="609480" cy="914400"/>
          </a:xfrm>
        </p:grpSpPr>
        <p:sp>
          <p:nvSpPr>
            <p:cNvPr id="220" name=""/>
            <p:cNvSpPr/>
            <p:nvPr/>
          </p:nvSpPr>
          <p:spPr>
            <a:xfrm>
              <a:off x="3505320" y="315288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114800" y="315288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 flipH="1">
            <a:off x="5791320" y="29718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791320" y="297180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5105520" y="3610080"/>
            <a:ext cx="1295280" cy="457200"/>
            <a:chOff x="5105520" y="3610080"/>
            <a:chExt cx="1295280" cy="457200"/>
          </a:xfrm>
        </p:grpSpPr>
        <p:sp>
          <p:nvSpPr>
            <p:cNvPr id="225" name=""/>
            <p:cNvSpPr/>
            <p:nvPr/>
          </p:nvSpPr>
          <p:spPr>
            <a:xfrm rot="5400000">
              <a:off x="5676840" y="3343320"/>
              <a:ext cx="152640" cy="1295280"/>
            </a:xfrm>
            <a:custGeom>
              <a:avLst/>
              <a:gdLst>
                <a:gd name="textAreaLeft" fmla="*/ 97560 w 152640"/>
                <a:gd name="textAreaRight" fmla="*/ 153000 w 152640"/>
                <a:gd name="textAreaTop" fmla="*/ 33480 h 1295280"/>
                <a:gd name="textAreaBottom" fmla="*/ 1261800 h 129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412240" y="3610080"/>
              <a:ext cx="686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CL" sz="1600" spc="-1" strike="noStrike">
                  <a:solidFill>
                    <a:srgbClr val="000000"/>
                  </a:solidFill>
                  <a:latin typeface="Times New Roman"/>
                </a:rPr>
                <a:t>AVN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6324480" y="4676760"/>
            <a:ext cx="1524240" cy="609480"/>
            <a:chOff x="6324480" y="4676760"/>
            <a:chExt cx="1524240" cy="609480"/>
          </a:xfrm>
        </p:grpSpPr>
        <p:sp>
          <p:nvSpPr>
            <p:cNvPr id="228" name=""/>
            <p:cNvSpPr/>
            <p:nvPr/>
          </p:nvSpPr>
          <p:spPr>
            <a:xfrm flipH="1">
              <a:off x="6324480" y="4676760"/>
              <a:ext cx="1524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848720" y="467676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038480" y="4905360"/>
            <a:ext cx="3276720" cy="838080"/>
            <a:chOff x="4038480" y="4905360"/>
            <a:chExt cx="3276720" cy="838080"/>
          </a:xfrm>
        </p:grpSpPr>
        <p:sp>
          <p:nvSpPr>
            <p:cNvPr id="231" name=""/>
            <p:cNvSpPr/>
            <p:nvPr/>
          </p:nvSpPr>
          <p:spPr>
            <a:xfrm>
              <a:off x="4038480" y="5743440"/>
              <a:ext cx="327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V="1">
              <a:off x="4038480" y="490536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4952880" y="4905000"/>
            <a:ext cx="2819520" cy="1143360"/>
            <a:chOff x="4952880" y="4905000"/>
            <a:chExt cx="2819520" cy="1143360"/>
          </a:xfrm>
        </p:grpSpPr>
        <p:sp>
          <p:nvSpPr>
            <p:cNvPr id="234" name=""/>
            <p:cNvSpPr/>
            <p:nvPr/>
          </p:nvSpPr>
          <p:spPr>
            <a:xfrm>
              <a:off x="4952880" y="6048360"/>
              <a:ext cx="2819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4952880" y="4905000"/>
              <a:ext cx="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6" name=""/>
          <p:cNvSpPr/>
          <p:nvPr/>
        </p:nvSpPr>
        <p:spPr>
          <a:xfrm>
            <a:off x="1830240" y="5562720"/>
            <a:ext cx="154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600" spc="-1" strike="noStrike">
                <a:solidFill>
                  <a:srgbClr val="000000"/>
                </a:solidFill>
                <a:latin typeface="Times New Roman"/>
              </a:rPr>
              <a:t>Valor Agregad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600" spc="-1" strike="noStrike">
                <a:solidFill>
                  <a:srgbClr val="000000"/>
                </a:solidFill>
                <a:latin typeface="Times New Roman"/>
              </a:rPr>
              <a:t>de Alta Tens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2514600" y="4676760"/>
            <a:ext cx="457200" cy="961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3"/>
          <a:stretch/>
        </p:blipFill>
        <p:spPr>
          <a:xfrm>
            <a:off x="457200" y="1905120"/>
            <a:ext cx="2971800" cy="22255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3606840" y="2244600"/>
                <a:ext cx="251460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DAT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V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50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500"/>
                            </p:stCondLst>
                            <p:childTnLst>
                              <p:par>
                                <p:cTn id="6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5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3000"/>
                            </p:stCondLst>
                            <p:childTnLst>
                              <p:par>
                                <p:cTn id="72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7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3500"/>
                            </p:stCondLst>
                            <p:childTnLst>
                              <p:par>
                                <p:cTn id="76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78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4000"/>
                            </p:stCondLst>
                            <p:childTnLst>
                              <p:par>
                                <p:cTn id="80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8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828800" y="759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s-ES" sz="4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241" name=""/>
          <p:cNvSpPr/>
          <p:nvPr/>
        </p:nvSpPr>
        <p:spPr>
          <a:xfrm>
            <a:off x="304920" y="1066680"/>
            <a:ext cx="1447560" cy="5639040"/>
          </a:xfrm>
          <a:prstGeom prst="rect">
            <a:avLst/>
          </a:prstGeom>
          <a:solidFill>
            <a:srgbClr val="f2f2f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0808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1828800" y="76320"/>
            <a:ext cx="73152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ffffff"/>
                </a:solidFill>
                <a:latin typeface="Monotype Corsiva"/>
              </a:rPr>
              <a:t>El Sistema de Distribución y el V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d9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90720" y="137160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c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686960" y="1219320"/>
            <a:ext cx="594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0000"/>
                </a:solidFill>
                <a:latin typeface="Times New Roman"/>
              </a:rPr>
              <a:t>¿Cómo se calculan los costos de distribució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6875640" y="5438880"/>
            <a:ext cx="1523520" cy="732960"/>
            <a:chOff x="6875640" y="5438880"/>
            <a:chExt cx="1523520" cy="732960"/>
          </a:xfrm>
        </p:grpSpPr>
        <p:sp>
          <p:nvSpPr>
            <p:cNvPr id="248" name=""/>
            <p:cNvSpPr/>
            <p:nvPr/>
          </p:nvSpPr>
          <p:spPr>
            <a:xfrm>
              <a:off x="6964560" y="5492520"/>
              <a:ext cx="36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001280" y="5456880"/>
              <a:ext cx="16920" cy="1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>
              <a:off x="7000920" y="5474520"/>
              <a:ext cx="16920" cy="1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001280" y="5492520"/>
              <a:ext cx="16920" cy="1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7000920" y="5510520"/>
              <a:ext cx="16920" cy="16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V="1">
              <a:off x="7036560" y="5456520"/>
              <a:ext cx="18000" cy="1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036560" y="5474520"/>
              <a:ext cx="18000" cy="1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V="1">
              <a:off x="7036560" y="5492520"/>
              <a:ext cx="18000" cy="1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036560" y="5510520"/>
              <a:ext cx="18000" cy="16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054920" y="5492520"/>
              <a:ext cx="3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982920" y="5438880"/>
              <a:ext cx="0" cy="10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073280" y="5438880"/>
              <a:ext cx="0" cy="10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875640" y="5492520"/>
              <a:ext cx="88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090200" y="5492520"/>
              <a:ext cx="681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771680" y="5492520"/>
              <a:ext cx="3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806960" y="5456880"/>
              <a:ext cx="18000" cy="1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H="1">
              <a:off x="7806960" y="5474520"/>
              <a:ext cx="18000" cy="1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806960" y="5492520"/>
              <a:ext cx="18000" cy="1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7806960" y="5510520"/>
              <a:ext cx="18000" cy="16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7844040" y="5456520"/>
              <a:ext cx="18000" cy="1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844040" y="5474520"/>
              <a:ext cx="18000" cy="1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>
              <a:off x="7844040" y="5492520"/>
              <a:ext cx="18000" cy="1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844040" y="5510520"/>
              <a:ext cx="18000" cy="16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862040" y="5492520"/>
              <a:ext cx="3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790040" y="5438880"/>
              <a:ext cx="0" cy="10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878960" y="5438880"/>
              <a:ext cx="0" cy="10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878960" y="5492520"/>
              <a:ext cx="358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8076960" y="5850360"/>
              <a:ext cx="322200" cy="321480"/>
            </a:xfrm>
            <a:custGeom>
              <a:avLst/>
              <a:gdLst>
                <a:gd name="textAreaLeft" fmla="*/ 73440 w 322200"/>
                <a:gd name="textAreaRight" fmla="*/ 248760 w 322200"/>
                <a:gd name="textAreaTop" fmla="*/ 73440 h 321480"/>
                <a:gd name="textAreaBottom" fmla="*/ 248040 h 321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62" y="11812"/>
                  </a:lnTo>
                  <a:lnTo>
                    <a:pt x="368" y="13595"/>
                  </a:lnTo>
                  <a:lnTo>
                    <a:pt x="3104" y="13909"/>
                  </a:lnTo>
                  <a:lnTo>
                    <a:pt x="1447" y="16200"/>
                  </a:lnTo>
                  <a:lnTo>
                    <a:pt x="4171" y="15795"/>
                  </a:lnTo>
                  <a:lnTo>
                    <a:pt x="3163" y="18437"/>
                  </a:lnTo>
                  <a:lnTo>
                    <a:pt x="5690" y="17340"/>
                  </a:lnTo>
                  <a:lnTo>
                    <a:pt x="5400" y="20153"/>
                  </a:lnTo>
                  <a:lnTo>
                    <a:pt x="7557" y="18440"/>
                  </a:lnTo>
                  <a:lnTo>
                    <a:pt x="8005" y="21232"/>
                  </a:lnTo>
                  <a:lnTo>
                    <a:pt x="9645" y="19019"/>
                  </a:lnTo>
                  <a:lnTo>
                    <a:pt x="10800" y="21600"/>
                  </a:lnTo>
                  <a:lnTo>
                    <a:pt x="11812" y="19038"/>
                  </a:lnTo>
                  <a:lnTo>
                    <a:pt x="13595" y="21232"/>
                  </a:lnTo>
                  <a:lnTo>
                    <a:pt x="13909" y="18496"/>
                  </a:lnTo>
                  <a:lnTo>
                    <a:pt x="16200" y="20153"/>
                  </a:lnTo>
                  <a:lnTo>
                    <a:pt x="15795" y="17429"/>
                  </a:lnTo>
                  <a:lnTo>
                    <a:pt x="18437" y="18437"/>
                  </a:lnTo>
                  <a:lnTo>
                    <a:pt x="17340" y="15910"/>
                  </a:lnTo>
                  <a:lnTo>
                    <a:pt x="20153" y="16200"/>
                  </a:lnTo>
                  <a:lnTo>
                    <a:pt x="18440" y="14043"/>
                  </a:lnTo>
                  <a:lnTo>
                    <a:pt x="21232" y="13595"/>
                  </a:lnTo>
                  <a:lnTo>
                    <a:pt x="19019" y="11955"/>
                  </a:lnTo>
                  <a:lnTo>
                    <a:pt x="21600" y="10800"/>
                  </a:lnTo>
                  <a:lnTo>
                    <a:pt x="19038" y="9788"/>
                  </a:lnTo>
                  <a:lnTo>
                    <a:pt x="21232" y="8005"/>
                  </a:lnTo>
                  <a:lnTo>
                    <a:pt x="18496" y="7691"/>
                  </a:lnTo>
                  <a:lnTo>
                    <a:pt x="20153" y="5400"/>
                  </a:lnTo>
                  <a:lnTo>
                    <a:pt x="17429" y="5805"/>
                  </a:lnTo>
                  <a:lnTo>
                    <a:pt x="18437" y="3163"/>
                  </a:lnTo>
                  <a:lnTo>
                    <a:pt x="15910" y="4260"/>
                  </a:lnTo>
                  <a:lnTo>
                    <a:pt x="16200" y="1447"/>
                  </a:lnTo>
                  <a:lnTo>
                    <a:pt x="14043" y="3160"/>
                  </a:lnTo>
                  <a:lnTo>
                    <a:pt x="13595" y="368"/>
                  </a:lnTo>
                  <a:lnTo>
                    <a:pt x="11955" y="2581"/>
                  </a:lnTo>
                  <a:lnTo>
                    <a:pt x="10800" y="0"/>
                  </a:lnTo>
                  <a:lnTo>
                    <a:pt x="9788" y="2562"/>
                  </a:lnTo>
                  <a:lnTo>
                    <a:pt x="8005" y="368"/>
                  </a:lnTo>
                  <a:lnTo>
                    <a:pt x="7691" y="3104"/>
                  </a:lnTo>
                  <a:lnTo>
                    <a:pt x="5400" y="1447"/>
                  </a:lnTo>
                  <a:lnTo>
                    <a:pt x="5805" y="4171"/>
                  </a:lnTo>
                  <a:lnTo>
                    <a:pt x="3163" y="3163"/>
                  </a:lnTo>
                  <a:lnTo>
                    <a:pt x="4260" y="5690"/>
                  </a:lnTo>
                  <a:lnTo>
                    <a:pt x="1447" y="5400"/>
                  </a:lnTo>
                  <a:lnTo>
                    <a:pt x="3160" y="7557"/>
                  </a:lnTo>
                  <a:lnTo>
                    <a:pt x="368" y="8005"/>
                  </a:lnTo>
                  <a:lnTo>
                    <a:pt x="2581" y="9645"/>
                  </a:lnTo>
                  <a:lnTo>
                    <a:pt x="0" y="1080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592040" y="5581080"/>
              <a:ext cx="323640" cy="322920"/>
            </a:xfrm>
            <a:custGeom>
              <a:avLst/>
              <a:gdLst>
                <a:gd name="textAreaLeft" fmla="*/ 73800 w 323640"/>
                <a:gd name="textAreaRight" fmla="*/ 249840 w 323640"/>
                <a:gd name="textAreaTop" fmla="*/ 73800 h 322920"/>
                <a:gd name="textAreaBottom" fmla="*/ 249120 h 322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62" y="11812"/>
                  </a:lnTo>
                  <a:lnTo>
                    <a:pt x="368" y="13595"/>
                  </a:lnTo>
                  <a:lnTo>
                    <a:pt x="3104" y="13909"/>
                  </a:lnTo>
                  <a:lnTo>
                    <a:pt x="1447" y="16200"/>
                  </a:lnTo>
                  <a:lnTo>
                    <a:pt x="4171" y="15795"/>
                  </a:lnTo>
                  <a:lnTo>
                    <a:pt x="3163" y="18437"/>
                  </a:lnTo>
                  <a:lnTo>
                    <a:pt x="5690" y="17340"/>
                  </a:lnTo>
                  <a:lnTo>
                    <a:pt x="5400" y="20153"/>
                  </a:lnTo>
                  <a:lnTo>
                    <a:pt x="7557" y="18440"/>
                  </a:lnTo>
                  <a:lnTo>
                    <a:pt x="8005" y="21232"/>
                  </a:lnTo>
                  <a:lnTo>
                    <a:pt x="9645" y="19019"/>
                  </a:lnTo>
                  <a:lnTo>
                    <a:pt x="10800" y="21600"/>
                  </a:lnTo>
                  <a:lnTo>
                    <a:pt x="11812" y="19038"/>
                  </a:lnTo>
                  <a:lnTo>
                    <a:pt x="13595" y="21232"/>
                  </a:lnTo>
                  <a:lnTo>
                    <a:pt x="13909" y="18496"/>
                  </a:lnTo>
                  <a:lnTo>
                    <a:pt x="16200" y="20153"/>
                  </a:lnTo>
                  <a:lnTo>
                    <a:pt x="15795" y="17429"/>
                  </a:lnTo>
                  <a:lnTo>
                    <a:pt x="18437" y="18437"/>
                  </a:lnTo>
                  <a:lnTo>
                    <a:pt x="17340" y="15910"/>
                  </a:lnTo>
                  <a:lnTo>
                    <a:pt x="20153" y="16200"/>
                  </a:lnTo>
                  <a:lnTo>
                    <a:pt x="18440" y="14043"/>
                  </a:lnTo>
                  <a:lnTo>
                    <a:pt x="21232" y="13595"/>
                  </a:lnTo>
                  <a:lnTo>
                    <a:pt x="19019" y="11955"/>
                  </a:lnTo>
                  <a:lnTo>
                    <a:pt x="21600" y="10800"/>
                  </a:lnTo>
                  <a:lnTo>
                    <a:pt x="19038" y="9788"/>
                  </a:lnTo>
                  <a:lnTo>
                    <a:pt x="21232" y="8005"/>
                  </a:lnTo>
                  <a:lnTo>
                    <a:pt x="18496" y="7691"/>
                  </a:lnTo>
                  <a:lnTo>
                    <a:pt x="20153" y="5400"/>
                  </a:lnTo>
                  <a:lnTo>
                    <a:pt x="17429" y="5805"/>
                  </a:lnTo>
                  <a:lnTo>
                    <a:pt x="18437" y="3163"/>
                  </a:lnTo>
                  <a:lnTo>
                    <a:pt x="15910" y="4260"/>
                  </a:lnTo>
                  <a:lnTo>
                    <a:pt x="16200" y="1447"/>
                  </a:lnTo>
                  <a:lnTo>
                    <a:pt x="14043" y="3160"/>
                  </a:lnTo>
                  <a:lnTo>
                    <a:pt x="13595" y="368"/>
                  </a:lnTo>
                  <a:lnTo>
                    <a:pt x="11955" y="2581"/>
                  </a:lnTo>
                  <a:lnTo>
                    <a:pt x="10800" y="0"/>
                  </a:lnTo>
                  <a:lnTo>
                    <a:pt x="9788" y="2562"/>
                  </a:lnTo>
                  <a:lnTo>
                    <a:pt x="8005" y="368"/>
                  </a:lnTo>
                  <a:lnTo>
                    <a:pt x="7691" y="3104"/>
                  </a:lnTo>
                  <a:lnTo>
                    <a:pt x="5400" y="1447"/>
                  </a:lnTo>
                  <a:lnTo>
                    <a:pt x="5805" y="4171"/>
                  </a:lnTo>
                  <a:lnTo>
                    <a:pt x="3163" y="3163"/>
                  </a:lnTo>
                  <a:lnTo>
                    <a:pt x="4260" y="5690"/>
                  </a:lnTo>
                  <a:lnTo>
                    <a:pt x="1447" y="5400"/>
                  </a:lnTo>
                  <a:lnTo>
                    <a:pt x="3160" y="7557"/>
                  </a:lnTo>
                  <a:lnTo>
                    <a:pt x="368" y="8005"/>
                  </a:lnTo>
                  <a:lnTo>
                    <a:pt x="2581" y="9645"/>
                  </a:lnTo>
                  <a:lnTo>
                    <a:pt x="0" y="1080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V="1">
              <a:off x="7753320" y="5492160"/>
              <a:ext cx="0" cy="88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8238240" y="5492520"/>
              <a:ext cx="0" cy="357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2900520" y="4025880"/>
                <a:ext cx="383688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V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y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T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N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T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frc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T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0" name=""/>
          <p:cNvSpPr/>
          <p:nvPr/>
        </p:nvSpPr>
        <p:spPr>
          <a:xfrm rot="5400000">
            <a:off x="5922360" y="3342960"/>
            <a:ext cx="152640" cy="1295640"/>
          </a:xfrm>
          <a:custGeom>
            <a:avLst/>
            <a:gdLst>
              <a:gd name="textAreaLeft" fmla="*/ 97560 w 152640"/>
              <a:gd name="textAreaRight" fmla="*/ 153000 w 15264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658120" y="3610080"/>
            <a:ext cx="68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600" spc="-1" strike="noStrike">
                <a:solidFill>
                  <a:srgbClr val="000000"/>
                </a:solidFill>
                <a:latin typeface="Times New Roman"/>
              </a:rPr>
              <a:t>AVN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9120" y="604836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199120" y="49053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6037200" y="277164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037200" y="277164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522600" y="29242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361040" y="292428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6799320" y="1752480"/>
          <a:ext cx="2232000" cy="3152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799320" y="1752480"/>
                    <a:ext cx="2232000" cy="31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90" name="" descr=""/>
          <p:cNvPicPr/>
          <p:nvPr/>
        </p:nvPicPr>
        <p:blipFill>
          <a:blip r:embed="rId4"/>
          <a:stretch/>
        </p:blipFill>
        <p:spPr>
          <a:xfrm>
            <a:off x="1773360" y="2133720"/>
            <a:ext cx="1716120" cy="20858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1690560" y="5216400"/>
                <a:ext cx="487692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DBT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V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T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V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T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PPBT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828800" y="759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s-ES" sz="4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293" name=""/>
          <p:cNvSpPr/>
          <p:nvPr/>
        </p:nvSpPr>
        <p:spPr>
          <a:xfrm>
            <a:off x="304920" y="1066680"/>
            <a:ext cx="1447560" cy="5639040"/>
          </a:xfrm>
          <a:prstGeom prst="rect">
            <a:avLst/>
          </a:prstGeom>
          <a:solidFill>
            <a:srgbClr val="f2f2f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0808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1828800" y="76320"/>
            <a:ext cx="73152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ffffff"/>
                </a:solidFill>
                <a:latin typeface="Monotype Corsiva"/>
              </a:rPr>
              <a:t>El Sistema de Distribución y el V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d9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990720" y="1295280"/>
            <a:ext cx="3611160" cy="459720"/>
            <a:chOff x="990720" y="1295280"/>
            <a:chExt cx="3611160" cy="459720"/>
          </a:xfrm>
        </p:grpSpPr>
        <p:sp>
          <p:nvSpPr>
            <p:cNvPr id="298" name=""/>
            <p:cNvSpPr/>
            <p:nvPr/>
          </p:nvSpPr>
          <p:spPr>
            <a:xfrm>
              <a:off x="990720" y="137124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c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752480" y="1295280"/>
              <a:ext cx="284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L" sz="2400" spc="-1" strike="noStrike">
                  <a:solidFill>
                    <a:srgbClr val="000000"/>
                  </a:solidFill>
                  <a:latin typeface="Times New Roman"/>
                </a:rPr>
                <a:t>¿Y cómo se indexan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00" name=""/>
              <p:cNvSpPr txBox="1"/>
              <p:nvPr/>
            </p:nvSpPr>
            <p:spPr>
              <a:xfrm>
                <a:off x="1828800" y="1828800"/>
                <a:ext cx="718488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DAT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FEE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FSTCD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FVAD</m:t>
                    </m:r>
                    <m:r>
                      <m:t xml:space="preserve">⋅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DAT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A</m:t>
                            </m:r>
                            <m:r>
                              <m:t xml:space="preserve">1</m:t>
                            </m:r>
                            <m:r>
                              <m:t xml:space="preserve">⋅</m:t>
                            </m:r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A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C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IPC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A</m:t>
                            </m:r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A</m:t>
                            </m:r>
                            <m:r>
                              <m:t xml:space="preserve">2</m:t>
                            </m:r>
                          </m:e>
                        </m:d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MN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IPMN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IA</m:t>
                        </m:r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t xml:space="preserve">B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CU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IPCU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IA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B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1805040" y="3336840"/>
                <a:ext cx="728640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DBT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FEE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FSTCD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FVAD</m:t>
                    </m:r>
                    <m:r>
                      <m:t xml:space="preserve">⋅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DBT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B</m:t>
                            </m:r>
                            <m:r>
                              <m:t xml:space="preserve">1</m:t>
                            </m:r>
                            <m:r>
                              <m:t xml:space="preserve">⋅</m:t>
                            </m:r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B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C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IPC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B</m:t>
                            </m:r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B</m:t>
                            </m:r>
                            <m:r>
                              <m:t xml:space="preserve">2</m:t>
                            </m:r>
                          </m:e>
                        </m:d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MN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IPMN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IB</m:t>
                        </m:r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t xml:space="preserve">B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CU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IPCU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IB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B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02" name=""/>
          <p:cNvSpPr/>
          <p:nvPr/>
        </p:nvSpPr>
        <p:spPr>
          <a:xfrm>
            <a:off x="463680" y="5730840"/>
            <a:ext cx="1056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0000"/>
                </a:solidFill>
                <a:latin typeface="Times New Roman"/>
              </a:rPr>
              <a:t>Se calcul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0000"/>
                </a:solidFill>
                <a:latin typeface="Times New Roman"/>
              </a:rPr>
              <a:t>cada 4 añ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33520" y="569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40200" y="4800600"/>
            <a:ext cx="14850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0000"/>
                </a:solidFill>
                <a:latin typeface="Times New Roman"/>
              </a:rPr>
              <a:t>VAD considera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200" spc="-1" strike="noStrike">
                <a:solidFill>
                  <a:srgbClr val="000000"/>
                </a:solidFill>
                <a:latin typeface="Times New Roman"/>
              </a:rPr>
              <a:t>E de Esca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200" spc="-1" strike="noStrike">
                <a:solidFill>
                  <a:srgbClr val="000000"/>
                </a:solidFill>
                <a:latin typeface="Times New Roman"/>
              </a:rPr>
              <a:t>Aportes de Tercer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200" spc="-1" strike="noStrike">
                <a:solidFill>
                  <a:srgbClr val="000000"/>
                </a:solidFill>
                <a:latin typeface="Times New Roman"/>
              </a:rPr>
              <a:t>Sectoriz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2895480" y="2514600"/>
                <a:ext cx="3699000" cy="3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DAT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IPC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IMPN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IPCu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DOL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2854440" y="4243320"/>
                <a:ext cx="3698640" cy="3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DBT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IPC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IMPN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IPCu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DOL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828800" y="759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s-ES" sz="4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308" name=""/>
          <p:cNvSpPr/>
          <p:nvPr/>
        </p:nvSpPr>
        <p:spPr>
          <a:xfrm>
            <a:off x="304920" y="1066680"/>
            <a:ext cx="1447560" cy="5639040"/>
          </a:xfrm>
          <a:prstGeom prst="rect">
            <a:avLst/>
          </a:prstGeom>
          <a:solidFill>
            <a:srgbClr val="f2f2f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0808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1828800" y="76320"/>
            <a:ext cx="73152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ffffff"/>
                </a:solidFill>
                <a:latin typeface="Monotype Corsiva"/>
              </a:rPr>
              <a:t>El Sistema de Distribución y el V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d9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990720" y="137160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c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749600" y="1219320"/>
            <a:ext cx="582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0000"/>
                </a:solidFill>
                <a:latin typeface="Times New Roman"/>
              </a:rPr>
              <a:t>¿Cómo se ve toda esta cháchara en la tarif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2055960" y="1752480"/>
                <a:ext cx="608940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$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T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F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PEBT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PEAT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Pe</m:t>
                    </m:r>
                    <m:r>
                      <m:t xml:space="preserve">⋅</m:t>
                    </m:r>
                    <m:r>
                      <m:t xml:space="preserve">E</m:t>
                    </m:r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PBT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PPAT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P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HUNB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E</m:t>
                    </m:r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DB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HUDB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15" name=""/>
          <p:cNvGrpSpPr/>
          <p:nvPr/>
        </p:nvGrpSpPr>
        <p:grpSpPr>
          <a:xfrm>
            <a:off x="2048040" y="2133720"/>
            <a:ext cx="6848280" cy="2286000"/>
            <a:chOff x="2048040" y="2133720"/>
            <a:chExt cx="6848280" cy="2286000"/>
          </a:xfrm>
        </p:grpSpPr>
        <p:sp>
          <p:nvSpPr>
            <p:cNvPr id="316" name=""/>
            <p:cNvSpPr/>
            <p:nvPr/>
          </p:nvSpPr>
          <p:spPr>
            <a:xfrm rot="5400000">
              <a:off x="3943080" y="1676520"/>
              <a:ext cx="152280" cy="152388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39600 h 1523880"/>
                <a:gd name="textAreaBottom" fmla="*/ 1484280 h 152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rot="5400000">
              <a:off x="5771880" y="1676520"/>
              <a:ext cx="152280" cy="152388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39600 h 1523880"/>
                <a:gd name="textAreaBottom" fmla="*/ 1484280 h 152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048040" y="3184560"/>
              <a:ext cx="755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L" sz="1000" spc="-1" strike="noStrike">
                  <a:solidFill>
                    <a:srgbClr val="000000"/>
                  </a:solidFill>
                  <a:latin typeface="Times New Roman"/>
                </a:rPr>
                <a:t>Cargo Fij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2571840" y="2133720"/>
              <a:ext cx="30456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390480" y="3168720"/>
              <a:ext cx="1259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L" sz="1000" spc="-1" strike="noStrike">
                  <a:solidFill>
                    <a:srgbClr val="000000"/>
                  </a:solidFill>
                  <a:latin typeface="Times New Roman"/>
                </a:rPr>
                <a:t>Compras de Energí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262120" y="3184560"/>
              <a:ext cx="1296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L" sz="1000" spc="-1" strike="noStrike">
                  <a:solidFill>
                    <a:srgbClr val="000000"/>
                  </a:solidFill>
                  <a:latin typeface="Times New Roman"/>
                </a:rPr>
                <a:t>Compras de Potenci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156440" y="3184560"/>
              <a:ext cx="1130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L" sz="1000" spc="-1" strike="noStrike">
                  <a:solidFill>
                    <a:srgbClr val="000000"/>
                  </a:solidFill>
                  <a:latin typeface="Times New Roman"/>
                </a:rPr>
                <a:t>AVNR y COy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372440" y="2362320"/>
              <a:ext cx="1440" cy="82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rot="16200000">
              <a:off x="3752640" y="3771720"/>
              <a:ext cx="152640" cy="11430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29520 h 1143000"/>
                <a:gd name="textAreaBottom" fmla="*/ 111348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rot="16200000">
              <a:off x="5581440" y="3238560"/>
              <a:ext cx="152640" cy="220968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57600 h 2209680"/>
                <a:gd name="textAreaBottom" fmla="*/ 2152080 h 2209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 flipV="1">
              <a:off x="2571840" y="3505320"/>
              <a:ext cx="45720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7676640" y="3429000"/>
              <a:ext cx="22860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rot="16200000">
              <a:off x="7867440" y="3390840"/>
              <a:ext cx="152640" cy="190512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49680 h 1905120"/>
                <a:gd name="textAreaBottom" fmla="*/ 1855440 h 190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4019040" y="2590200"/>
              <a:ext cx="180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5847840" y="2590200"/>
              <a:ext cx="180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V="1">
              <a:off x="3943440" y="3581280"/>
              <a:ext cx="144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V="1">
              <a:off x="5619600" y="3580920"/>
              <a:ext cx="763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3" name=""/>
          <p:cNvSpPr/>
          <p:nvPr/>
        </p:nvSpPr>
        <p:spPr>
          <a:xfrm>
            <a:off x="248400" y="5016600"/>
            <a:ext cx="14976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0000"/>
                </a:solidFill>
                <a:latin typeface="Times New Roman"/>
              </a:rPr>
              <a:t>Los Factores d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0000"/>
                </a:solidFill>
                <a:latin typeface="Times New Roman"/>
              </a:rPr>
              <a:t>Coincidenci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0000"/>
                </a:solidFill>
                <a:latin typeface="Times New Roman"/>
              </a:rPr>
              <a:t>TRASLADAN l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0000"/>
                </a:solidFill>
                <a:latin typeface="Times New Roman"/>
              </a:rPr>
              <a:t>Potencia a dond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0000"/>
                </a:solidFill>
                <a:latin typeface="Times New Roman"/>
              </a:rPr>
              <a:t>la quiero factur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4" name=""/>
              <p:cNvSpPr txBox="1"/>
              <p:nvPr/>
            </p:nvSpPr>
            <p:spPr>
              <a:xfrm>
                <a:off x="2038320" y="4419720"/>
                <a:ext cx="7010280" cy="32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$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T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PP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F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PEAT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Pe</m:t>
                    </m:r>
                    <m:r>
                      <m:t xml:space="preserve">⋅</m:t>
                    </m:r>
                    <m:r>
                      <m:t xml:space="preserve">E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FNPPA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PPAT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Pp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P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FDPPA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CDAT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335" name=""/>
          <p:cNvGrpSpPr/>
          <p:nvPr/>
        </p:nvGrpSpPr>
        <p:grpSpPr>
          <a:xfrm>
            <a:off x="2419200" y="4740120"/>
            <a:ext cx="6629040" cy="1507680"/>
            <a:chOff x="2419200" y="4740120"/>
            <a:chExt cx="6629040" cy="1507680"/>
          </a:xfrm>
        </p:grpSpPr>
        <p:grpSp>
          <p:nvGrpSpPr>
            <p:cNvPr id="336" name=""/>
            <p:cNvGrpSpPr/>
            <p:nvPr/>
          </p:nvGrpSpPr>
          <p:grpSpPr>
            <a:xfrm>
              <a:off x="5772240" y="4740120"/>
              <a:ext cx="3276000" cy="1507680"/>
              <a:chOff x="5772240" y="4740120"/>
              <a:chExt cx="3276000" cy="1507680"/>
            </a:xfrm>
          </p:grpSpPr>
          <p:grpSp>
            <p:nvGrpSpPr>
              <p:cNvPr id="337" name=""/>
              <p:cNvGrpSpPr/>
              <p:nvPr/>
            </p:nvGrpSpPr>
            <p:grpSpPr>
              <a:xfrm>
                <a:off x="5772240" y="4740120"/>
                <a:ext cx="3276000" cy="1507680"/>
                <a:chOff x="5772240" y="4740120"/>
                <a:chExt cx="3276000" cy="1507680"/>
              </a:xfrm>
            </p:grpSpPr>
            <p:sp>
              <p:nvSpPr>
                <p:cNvPr id="338" name=""/>
                <p:cNvSpPr/>
                <p:nvPr/>
              </p:nvSpPr>
              <p:spPr>
                <a:xfrm flipV="1">
                  <a:off x="5852520" y="4772880"/>
                  <a:ext cx="0" cy="1474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5772240" y="6181560"/>
                  <a:ext cx="32760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7644960" y="4740120"/>
                  <a:ext cx="647280" cy="1429560"/>
                </a:xfrm>
                <a:prstGeom prst="rect">
                  <a:avLst/>
                </a:prstGeom>
                <a:solidFill>
                  <a:srgbClr val="ffff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7644960" y="4740120"/>
                  <a:ext cx="0" cy="142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8292240" y="4740120"/>
                  <a:ext cx="0" cy="142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 flipH="1">
                  <a:off x="5952600" y="4844880"/>
                  <a:ext cx="2915280" cy="1286280"/>
                </a:xfrm>
                <a:custGeom>
                  <a:avLst/>
                  <a:gdLst/>
                  <a:ahLst/>
                  <a:rect l="l" t="t" r="r" b="b"/>
                  <a:pathLst>
                    <a:path w="3888" h="1840">
                      <a:moveTo>
                        <a:pt x="0" y="1768"/>
                      </a:moveTo>
                      <a:cubicBezTo>
                        <a:pt x="188" y="1616"/>
                        <a:pt x="376" y="1464"/>
                        <a:pt x="528" y="1288"/>
                      </a:cubicBezTo>
                      <a:cubicBezTo>
                        <a:pt x="680" y="1112"/>
                        <a:pt x="792" y="824"/>
                        <a:pt x="912" y="712"/>
                      </a:cubicBezTo>
                      <a:cubicBezTo>
                        <a:pt x="1032" y="600"/>
                        <a:pt x="1128" y="576"/>
                        <a:pt x="1248" y="616"/>
                      </a:cubicBezTo>
                      <a:cubicBezTo>
                        <a:pt x="1368" y="656"/>
                        <a:pt x="1504" y="912"/>
                        <a:pt x="1632" y="952"/>
                      </a:cubicBezTo>
                      <a:cubicBezTo>
                        <a:pt x="1760" y="992"/>
                        <a:pt x="1896" y="968"/>
                        <a:pt x="2016" y="856"/>
                      </a:cubicBezTo>
                      <a:cubicBezTo>
                        <a:pt x="2136" y="744"/>
                        <a:pt x="2272" y="408"/>
                        <a:pt x="2352" y="280"/>
                      </a:cubicBezTo>
                      <a:cubicBezTo>
                        <a:pt x="2432" y="152"/>
                        <a:pt x="2448" y="128"/>
                        <a:pt x="2496" y="88"/>
                      </a:cubicBezTo>
                      <a:cubicBezTo>
                        <a:pt x="2544" y="48"/>
                        <a:pt x="2576" y="0"/>
                        <a:pt x="2640" y="40"/>
                      </a:cubicBezTo>
                      <a:cubicBezTo>
                        <a:pt x="2704" y="80"/>
                        <a:pt x="2768" y="152"/>
                        <a:pt x="2880" y="328"/>
                      </a:cubicBezTo>
                      <a:cubicBezTo>
                        <a:pt x="2992" y="504"/>
                        <a:pt x="3184" y="864"/>
                        <a:pt x="3312" y="1096"/>
                      </a:cubicBezTo>
                      <a:cubicBezTo>
                        <a:pt x="3440" y="1328"/>
                        <a:pt x="3552" y="1600"/>
                        <a:pt x="3648" y="1720"/>
                      </a:cubicBezTo>
                      <a:cubicBezTo>
                        <a:pt x="3744" y="1840"/>
                        <a:pt x="3848" y="1800"/>
                        <a:pt x="3888" y="1816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6923880" y="4872960"/>
                  <a:ext cx="0" cy="130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8003880" y="5276520"/>
                  <a:ext cx="0" cy="905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6" name=""/>
              <p:cNvSpPr/>
              <p:nvPr/>
            </p:nvSpPr>
            <p:spPr>
              <a:xfrm>
                <a:off x="6229440" y="5308560"/>
                <a:ext cx="2361960" cy="787320"/>
              </a:xfrm>
              <a:custGeom>
                <a:avLst/>
                <a:gdLst/>
                <a:ahLst/>
                <a:rect l="l" t="t" r="r" b="b"/>
                <a:pathLst>
                  <a:path w="1488" h="496">
                    <a:moveTo>
                      <a:pt x="0" y="496"/>
                    </a:moveTo>
                    <a:cubicBezTo>
                      <a:pt x="68" y="392"/>
                      <a:pt x="136" y="288"/>
                      <a:pt x="192" y="208"/>
                    </a:cubicBezTo>
                    <a:cubicBezTo>
                      <a:pt x="248" y="128"/>
                      <a:pt x="272" y="0"/>
                      <a:pt x="336" y="16"/>
                    </a:cubicBezTo>
                    <a:cubicBezTo>
                      <a:pt x="400" y="32"/>
                      <a:pt x="496" y="248"/>
                      <a:pt x="576" y="304"/>
                    </a:cubicBezTo>
                    <a:cubicBezTo>
                      <a:pt x="656" y="360"/>
                      <a:pt x="744" y="368"/>
                      <a:pt x="816" y="352"/>
                    </a:cubicBezTo>
                    <a:cubicBezTo>
                      <a:pt x="888" y="336"/>
                      <a:pt x="960" y="200"/>
                      <a:pt x="1008" y="208"/>
                    </a:cubicBezTo>
                    <a:cubicBezTo>
                      <a:pt x="1056" y="216"/>
                      <a:pt x="1024" y="352"/>
                      <a:pt x="1104" y="400"/>
                    </a:cubicBezTo>
                    <a:cubicBezTo>
                      <a:pt x="1184" y="448"/>
                      <a:pt x="1424" y="480"/>
                      <a:pt x="1488" y="496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7" name=""/>
            <p:cNvGrpSpPr/>
            <p:nvPr/>
          </p:nvGrpSpPr>
          <p:grpSpPr>
            <a:xfrm>
              <a:off x="2419200" y="4800600"/>
              <a:ext cx="2676240" cy="1371600"/>
              <a:chOff x="2419200" y="4800600"/>
              <a:chExt cx="2676240" cy="1371600"/>
            </a:xfrm>
          </p:grpSpPr>
          <p:sp>
            <p:nvSpPr>
              <p:cNvPr id="348" name=""/>
              <p:cNvSpPr/>
              <p:nvPr/>
            </p:nvSpPr>
            <p:spPr>
              <a:xfrm>
                <a:off x="2419200" y="502920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634840" y="4956120"/>
                <a:ext cx="30240" cy="30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flipH="1">
                <a:off x="2634840" y="4986360"/>
                <a:ext cx="30240" cy="2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2634840" y="5016240"/>
                <a:ext cx="30240" cy="30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flipH="1">
                <a:off x="2634840" y="5046480"/>
                <a:ext cx="30240" cy="31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flipV="1">
                <a:off x="2696760" y="4956120"/>
                <a:ext cx="32040" cy="30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696760" y="4986360"/>
                <a:ext cx="32040" cy="2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flipV="1">
                <a:off x="2696760" y="5016240"/>
                <a:ext cx="32040" cy="30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2696760" y="5046480"/>
                <a:ext cx="32040" cy="31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2728800" y="5016240"/>
                <a:ext cx="64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2603160" y="4925880"/>
                <a:ext cx="0" cy="18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2761920" y="4925880"/>
                <a:ext cx="0" cy="18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793600" y="5016240"/>
                <a:ext cx="1197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990600" y="5016240"/>
                <a:ext cx="65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4055760" y="4956120"/>
                <a:ext cx="28440" cy="30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>
                <a:off x="4055400" y="4986360"/>
                <a:ext cx="28440" cy="2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4055760" y="5016240"/>
                <a:ext cx="28440" cy="30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>
                <a:off x="4055400" y="5046480"/>
                <a:ext cx="28440" cy="31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flipV="1">
                <a:off x="4117680" y="4956120"/>
                <a:ext cx="31680" cy="30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4117680" y="4986360"/>
                <a:ext cx="31680" cy="2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flipV="1">
                <a:off x="4117680" y="5016240"/>
                <a:ext cx="31680" cy="30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4117680" y="5046480"/>
                <a:ext cx="31680" cy="31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4149360" y="5016240"/>
                <a:ext cx="63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4024080" y="4925880"/>
                <a:ext cx="0" cy="18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4181040" y="4925880"/>
                <a:ext cx="0" cy="18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4181040" y="5016240"/>
                <a:ext cx="63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4528800" y="5624280"/>
                <a:ext cx="566640" cy="547920"/>
              </a:xfrm>
              <a:custGeom>
                <a:avLst/>
                <a:gdLst>
                  <a:gd name="textAreaLeft" fmla="*/ 129240 w 566640"/>
                  <a:gd name="textAreaRight" fmla="*/ 437400 w 566640"/>
                  <a:gd name="textAreaTop" fmla="*/ 124920 h 547920"/>
                  <a:gd name="textAreaBottom" fmla="*/ 423000 h 547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62" y="11812"/>
                    </a:lnTo>
                    <a:lnTo>
                      <a:pt x="368" y="13595"/>
                    </a:lnTo>
                    <a:lnTo>
                      <a:pt x="3104" y="13909"/>
                    </a:lnTo>
                    <a:lnTo>
                      <a:pt x="1447" y="16200"/>
                    </a:lnTo>
                    <a:lnTo>
                      <a:pt x="4171" y="15795"/>
                    </a:lnTo>
                    <a:lnTo>
                      <a:pt x="3163" y="18437"/>
                    </a:lnTo>
                    <a:lnTo>
                      <a:pt x="5690" y="17340"/>
                    </a:lnTo>
                    <a:lnTo>
                      <a:pt x="5400" y="20153"/>
                    </a:lnTo>
                    <a:lnTo>
                      <a:pt x="7557" y="18440"/>
                    </a:lnTo>
                    <a:lnTo>
                      <a:pt x="8005" y="21232"/>
                    </a:lnTo>
                    <a:lnTo>
                      <a:pt x="9645" y="19019"/>
                    </a:lnTo>
                    <a:lnTo>
                      <a:pt x="10800" y="21600"/>
                    </a:lnTo>
                    <a:lnTo>
                      <a:pt x="11812" y="19038"/>
                    </a:lnTo>
                    <a:lnTo>
                      <a:pt x="13595" y="21232"/>
                    </a:lnTo>
                    <a:lnTo>
                      <a:pt x="13909" y="18496"/>
                    </a:lnTo>
                    <a:lnTo>
                      <a:pt x="16200" y="20153"/>
                    </a:lnTo>
                    <a:lnTo>
                      <a:pt x="15795" y="17429"/>
                    </a:lnTo>
                    <a:lnTo>
                      <a:pt x="18437" y="18437"/>
                    </a:lnTo>
                    <a:lnTo>
                      <a:pt x="17340" y="15910"/>
                    </a:lnTo>
                    <a:lnTo>
                      <a:pt x="20153" y="16200"/>
                    </a:lnTo>
                    <a:lnTo>
                      <a:pt x="18440" y="14043"/>
                    </a:lnTo>
                    <a:lnTo>
                      <a:pt x="21232" y="13595"/>
                    </a:lnTo>
                    <a:lnTo>
                      <a:pt x="19019" y="11955"/>
                    </a:lnTo>
                    <a:lnTo>
                      <a:pt x="21600" y="10800"/>
                    </a:lnTo>
                    <a:lnTo>
                      <a:pt x="19038" y="9788"/>
                    </a:lnTo>
                    <a:lnTo>
                      <a:pt x="21232" y="8005"/>
                    </a:lnTo>
                    <a:lnTo>
                      <a:pt x="18496" y="7691"/>
                    </a:lnTo>
                    <a:lnTo>
                      <a:pt x="20153" y="5400"/>
                    </a:lnTo>
                    <a:lnTo>
                      <a:pt x="17429" y="5805"/>
                    </a:lnTo>
                    <a:lnTo>
                      <a:pt x="18437" y="3163"/>
                    </a:lnTo>
                    <a:lnTo>
                      <a:pt x="15910" y="4260"/>
                    </a:lnTo>
                    <a:lnTo>
                      <a:pt x="16200" y="1447"/>
                    </a:lnTo>
                    <a:lnTo>
                      <a:pt x="14043" y="3160"/>
                    </a:lnTo>
                    <a:lnTo>
                      <a:pt x="13595" y="368"/>
                    </a:lnTo>
                    <a:lnTo>
                      <a:pt x="11955" y="2581"/>
                    </a:lnTo>
                    <a:lnTo>
                      <a:pt x="10800" y="0"/>
                    </a:lnTo>
                    <a:lnTo>
                      <a:pt x="9788" y="2562"/>
                    </a:lnTo>
                    <a:lnTo>
                      <a:pt x="8005" y="368"/>
                    </a:lnTo>
                    <a:lnTo>
                      <a:pt x="7691" y="3104"/>
                    </a:lnTo>
                    <a:lnTo>
                      <a:pt x="5400" y="1447"/>
                    </a:lnTo>
                    <a:lnTo>
                      <a:pt x="5805" y="4171"/>
                    </a:lnTo>
                    <a:lnTo>
                      <a:pt x="3163" y="3163"/>
                    </a:lnTo>
                    <a:lnTo>
                      <a:pt x="4260" y="5690"/>
                    </a:lnTo>
                    <a:lnTo>
                      <a:pt x="1447" y="5400"/>
                    </a:lnTo>
                    <a:lnTo>
                      <a:pt x="3160" y="7557"/>
                    </a:lnTo>
                    <a:lnTo>
                      <a:pt x="368" y="8005"/>
                    </a:lnTo>
                    <a:lnTo>
                      <a:pt x="2581" y="9645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3676320" y="5168880"/>
                <a:ext cx="566640" cy="547560"/>
              </a:xfrm>
              <a:custGeom>
                <a:avLst/>
                <a:gdLst>
                  <a:gd name="textAreaLeft" fmla="*/ 129240 w 566640"/>
                  <a:gd name="textAreaRight" fmla="*/ 437400 w 566640"/>
                  <a:gd name="textAreaTop" fmla="*/ 124920 h 547560"/>
                  <a:gd name="textAreaBottom" fmla="*/ 422640 h 547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62" y="11812"/>
                    </a:lnTo>
                    <a:lnTo>
                      <a:pt x="368" y="13595"/>
                    </a:lnTo>
                    <a:lnTo>
                      <a:pt x="3104" y="13909"/>
                    </a:lnTo>
                    <a:lnTo>
                      <a:pt x="1447" y="16200"/>
                    </a:lnTo>
                    <a:lnTo>
                      <a:pt x="4171" y="15795"/>
                    </a:lnTo>
                    <a:lnTo>
                      <a:pt x="3163" y="18437"/>
                    </a:lnTo>
                    <a:lnTo>
                      <a:pt x="5690" y="17340"/>
                    </a:lnTo>
                    <a:lnTo>
                      <a:pt x="5400" y="20153"/>
                    </a:lnTo>
                    <a:lnTo>
                      <a:pt x="7557" y="18440"/>
                    </a:lnTo>
                    <a:lnTo>
                      <a:pt x="8005" y="21232"/>
                    </a:lnTo>
                    <a:lnTo>
                      <a:pt x="9645" y="19019"/>
                    </a:lnTo>
                    <a:lnTo>
                      <a:pt x="10800" y="21600"/>
                    </a:lnTo>
                    <a:lnTo>
                      <a:pt x="11812" y="19038"/>
                    </a:lnTo>
                    <a:lnTo>
                      <a:pt x="13595" y="21232"/>
                    </a:lnTo>
                    <a:lnTo>
                      <a:pt x="13909" y="18496"/>
                    </a:lnTo>
                    <a:lnTo>
                      <a:pt x="16200" y="20153"/>
                    </a:lnTo>
                    <a:lnTo>
                      <a:pt x="15795" y="17429"/>
                    </a:lnTo>
                    <a:lnTo>
                      <a:pt x="18437" y="18437"/>
                    </a:lnTo>
                    <a:lnTo>
                      <a:pt x="17340" y="15910"/>
                    </a:lnTo>
                    <a:lnTo>
                      <a:pt x="20153" y="16200"/>
                    </a:lnTo>
                    <a:lnTo>
                      <a:pt x="18440" y="14043"/>
                    </a:lnTo>
                    <a:lnTo>
                      <a:pt x="21232" y="13595"/>
                    </a:lnTo>
                    <a:lnTo>
                      <a:pt x="19019" y="11955"/>
                    </a:lnTo>
                    <a:lnTo>
                      <a:pt x="21600" y="10800"/>
                    </a:lnTo>
                    <a:lnTo>
                      <a:pt x="19038" y="9788"/>
                    </a:lnTo>
                    <a:lnTo>
                      <a:pt x="21232" y="8005"/>
                    </a:lnTo>
                    <a:lnTo>
                      <a:pt x="18496" y="7691"/>
                    </a:lnTo>
                    <a:lnTo>
                      <a:pt x="20153" y="5400"/>
                    </a:lnTo>
                    <a:lnTo>
                      <a:pt x="17429" y="5805"/>
                    </a:lnTo>
                    <a:lnTo>
                      <a:pt x="18437" y="3163"/>
                    </a:lnTo>
                    <a:lnTo>
                      <a:pt x="15910" y="4260"/>
                    </a:lnTo>
                    <a:lnTo>
                      <a:pt x="16200" y="1447"/>
                    </a:lnTo>
                    <a:lnTo>
                      <a:pt x="14043" y="3160"/>
                    </a:lnTo>
                    <a:lnTo>
                      <a:pt x="13595" y="368"/>
                    </a:lnTo>
                    <a:lnTo>
                      <a:pt x="11955" y="2581"/>
                    </a:lnTo>
                    <a:lnTo>
                      <a:pt x="10800" y="0"/>
                    </a:lnTo>
                    <a:lnTo>
                      <a:pt x="9788" y="2562"/>
                    </a:lnTo>
                    <a:lnTo>
                      <a:pt x="8005" y="368"/>
                    </a:lnTo>
                    <a:lnTo>
                      <a:pt x="7691" y="3104"/>
                    </a:lnTo>
                    <a:lnTo>
                      <a:pt x="5400" y="1447"/>
                    </a:lnTo>
                    <a:lnTo>
                      <a:pt x="5805" y="4171"/>
                    </a:lnTo>
                    <a:lnTo>
                      <a:pt x="3163" y="3163"/>
                    </a:lnTo>
                    <a:lnTo>
                      <a:pt x="4260" y="5690"/>
                    </a:lnTo>
                    <a:lnTo>
                      <a:pt x="1447" y="5400"/>
                    </a:lnTo>
                    <a:lnTo>
                      <a:pt x="3160" y="7557"/>
                    </a:lnTo>
                    <a:lnTo>
                      <a:pt x="368" y="8005"/>
                    </a:lnTo>
                    <a:lnTo>
                      <a:pt x="2581" y="9645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795120" y="5333760"/>
                <a:ext cx="3225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800" spc="-1" strike="noStrike">
                    <a:solidFill>
                      <a:srgbClr val="000000"/>
                    </a:solidFill>
                    <a:latin typeface="Times New Roman"/>
                  </a:rPr>
                  <a:t>A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flipV="1">
                <a:off x="3958920" y="501624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4811400" y="5016240"/>
                <a:ext cx="0" cy="608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3196440" y="4800600"/>
                <a:ext cx="54036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CL" sz="900" spc="-1" strike="noStrike">
                    <a:solidFill>
                      <a:srgbClr val="000000"/>
                    </a:solidFill>
                    <a:latin typeface="Times New Roman"/>
                  </a:rPr>
                  <a:t>Red A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4390560" y="4800600"/>
                <a:ext cx="54036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CL" sz="900" spc="-1" strike="noStrike">
                    <a:solidFill>
                      <a:srgbClr val="000000"/>
                    </a:solidFill>
                    <a:latin typeface="Times New Roman"/>
                  </a:rPr>
                  <a:t>Red B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4671360" y="5790960"/>
                <a:ext cx="3178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800" spc="-1" strike="noStrike">
                    <a:solidFill>
                      <a:srgbClr val="000000"/>
                    </a:solidFill>
                    <a:latin typeface="Times New Roman"/>
                  </a:rPr>
                  <a:t>B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6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266976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400" spc="-1" strike="noStrike">
                <a:solidFill>
                  <a:srgbClr val="000000"/>
                </a:solidFill>
                <a:latin typeface="Monotype Corsiva"/>
              </a:rPr>
              <a:t>La Distribución Desde la Regulación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1371600" y="5664240"/>
            <a:ext cx="640080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Octubre de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828800" y="759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ffffff"/>
                </a:solidFill>
                <a:latin typeface="Monotype Corsiva"/>
              </a:rPr>
              <a:t>¿Por Qué se Regul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88394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e estima una pérdida que sufriría el país en ausencia de regulación por US$ 2.500 mill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érdida social por menor producción y disipación de rentas monopólicas en el extranje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l propósito de la regulación no es sustituir la competencia sino emular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as industrias que se regulan corresponden a monopolios naturales y servicios públ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istribución de electric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ed básica de telefonía bás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istribución de agua po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828800" y="759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ffffff"/>
                </a:solidFill>
                <a:latin typeface="Monotype Corsiva"/>
              </a:rPr>
              <a:t>Tipos de Regulación de Prec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88394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Tarifa por costo de servici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Price C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Empresa Mode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828800" y="759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ffffff"/>
                </a:solidFill>
                <a:latin typeface="Monotype Corsiva"/>
              </a:rPr>
              <a:t>Tipos de Regulación de Prec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88394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Tarifa por costo de servici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Rate of Return Regulation o Cost Pl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Tradicionalmente utilizada en USA y en Chile hasta los años 6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a tarifa se construye sobre una empresa real cubriend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stos de explo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preciación de instal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entabilidad del capi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828800" y="759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ffffff"/>
                </a:solidFill>
                <a:latin typeface="Monotype Corsiva"/>
              </a:rPr>
              <a:t>Tipos de Regulación de Prec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88394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Tarifa por costo de servic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s una metodología que se basa más en costos contables que en económ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No provee incentivos para ahorro de costos y mejoras de efici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828800" y="759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ffffff"/>
                </a:solidFill>
                <a:latin typeface="Monotype Corsiva"/>
              </a:rPr>
              <a:t>Tipos de Regulación de Prec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88394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Regulación Price Cap o RPI-X o IPC-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e basa en empresas eficientes rea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Desacopla las ganancias de las empresa reguladas respecto sus costos fijando un precio tech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os precios, anualmente, se indexan según el IPC (Retail Price Index) menos la ganancia de eficiencia que el regulador considera alcanzable durante el período, equivalente al factor X%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828800" y="759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ffffff"/>
                </a:solidFill>
                <a:latin typeface="Monotype Corsiva"/>
              </a:rPr>
              <a:t>Tipos de Regulación de Prec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88394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Empresa Modelo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Yardstick compet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n los 80´no existiendo en la experiencia internacional, se introdujo en Chile este mode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mpetencia simulada entre las compañías presentes en la industria con sus empresas modelos o efic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ste modelo se traduce en tarifas estimadas de acuerdo a los costos de la empresa más eficiente que es posible construir con la tecnología disponible al momento de regul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mpresa modelo teór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828800" y="759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s-ES" sz="4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1066680"/>
            <a:ext cx="1447560" cy="5639040"/>
          </a:xfrm>
          <a:prstGeom prst="rect">
            <a:avLst/>
          </a:prstGeom>
          <a:solidFill>
            <a:srgbClr val="f2f2f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080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828800" y="76320"/>
            <a:ext cx="73152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ffffff"/>
                </a:solidFill>
                <a:latin typeface="Monotype Corsiva"/>
              </a:rPr>
              <a:t>¿Cómo se Construye la Tarif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d9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90720" y="137160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c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747800" y="1219320"/>
            <a:ext cx="68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Primero hay que conocer las curvas de la dis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90720" y="228600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c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747800" y="2133720"/>
            <a:ext cx="611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Luego hay que conocer la estructura de la tarif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90720" y="327672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c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0680" y="3124080"/>
            <a:ext cx="297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Y finalmente, juntar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5867280" y="2495520"/>
            <a:ext cx="2867040" cy="36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502240" y="1146240"/>
            <a:ext cx="3603600" cy="504504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828800" y="759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s-ES" sz="4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72" name=""/>
          <p:cNvSpPr/>
          <p:nvPr/>
        </p:nvSpPr>
        <p:spPr>
          <a:xfrm>
            <a:off x="304920" y="1066680"/>
            <a:ext cx="1447560" cy="5639040"/>
          </a:xfrm>
          <a:prstGeom prst="rect">
            <a:avLst/>
          </a:prstGeom>
          <a:solidFill>
            <a:srgbClr val="f2f2f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080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828800" y="76320"/>
            <a:ext cx="73152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ffffff"/>
                </a:solidFill>
                <a:latin typeface="Monotype Corsiva"/>
              </a:rPr>
              <a:t>El Sistema de Distribución y el V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d9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90720" y="137160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c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751040" y="1219320"/>
            <a:ext cx="329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Curvas de la dis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1905120" y="2819160"/>
            <a:ext cx="6933960" cy="3352680"/>
            <a:chOff x="1905120" y="2819160"/>
            <a:chExt cx="6933960" cy="3352680"/>
          </a:xfrm>
        </p:grpSpPr>
        <p:sp>
          <p:nvSpPr>
            <p:cNvPr id="79" name=""/>
            <p:cNvSpPr/>
            <p:nvPr/>
          </p:nvSpPr>
          <p:spPr>
            <a:xfrm flipV="1">
              <a:off x="2076480" y="2819160"/>
              <a:ext cx="0" cy="3352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905120" y="6019920"/>
              <a:ext cx="6933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644440" y="2743200"/>
            <a:ext cx="1816920" cy="3583440"/>
            <a:chOff x="5644440" y="2743200"/>
            <a:chExt cx="1816920" cy="3583440"/>
          </a:xfrm>
        </p:grpSpPr>
        <p:sp>
          <p:nvSpPr>
            <p:cNvPr id="82" name=""/>
            <p:cNvSpPr/>
            <p:nvPr/>
          </p:nvSpPr>
          <p:spPr>
            <a:xfrm>
              <a:off x="5867280" y="2743200"/>
              <a:ext cx="1371600" cy="324936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867280" y="2743200"/>
              <a:ext cx="0" cy="3249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238880" y="2743200"/>
              <a:ext cx="0" cy="3249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996960" y="5992560"/>
              <a:ext cx="46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L" sz="1400" spc="-1" strike="noStrike">
                  <a:solidFill>
                    <a:srgbClr val="000000"/>
                  </a:solidFill>
                  <a:latin typeface="Times New Roman"/>
                </a:rPr>
                <a:t>23</a:t>
              </a:r>
              <a:r>
                <a:rPr b="1" i="1" lang="es-CL" sz="1400" spc="-1" strike="noStrike" u="sng" baseline="30000">
                  <a:solidFill>
                    <a:srgbClr val="000000"/>
                  </a:solidFill>
                  <a:uFillTx/>
                  <a:latin typeface="Times New Roman"/>
                </a:rPr>
                <a:t>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44440" y="6019560"/>
              <a:ext cx="46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L" sz="1400" spc="-1" strike="noStrike">
                  <a:solidFill>
                    <a:srgbClr val="000000"/>
                  </a:solidFill>
                  <a:latin typeface="Times New Roman"/>
                </a:rPr>
                <a:t>18</a:t>
              </a:r>
              <a:r>
                <a:rPr b="1" i="1" lang="es-CL" sz="1400" spc="-1" strike="noStrike" u="sng" baseline="30000">
                  <a:solidFill>
                    <a:srgbClr val="000000"/>
                  </a:solidFill>
                  <a:uFillTx/>
                  <a:latin typeface="Times New Roman"/>
                </a:rPr>
                <a:t>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285640" y="2984400"/>
            <a:ext cx="6474960" cy="2921040"/>
            <a:chOff x="2285640" y="2984400"/>
            <a:chExt cx="6474960" cy="2921040"/>
          </a:xfrm>
        </p:grpSpPr>
        <p:sp>
          <p:nvSpPr>
            <p:cNvPr id="88" name=""/>
            <p:cNvSpPr/>
            <p:nvPr/>
          </p:nvSpPr>
          <p:spPr>
            <a:xfrm>
              <a:off x="8095320" y="5394240"/>
              <a:ext cx="665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L" sz="1000" spc="-1" strike="noStrike">
                  <a:solidFill>
                    <a:srgbClr val="000000"/>
                  </a:solidFill>
                  <a:latin typeface="Times New Roman"/>
                </a:rPr>
                <a:t>Chilectr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2285280" y="2984400"/>
              <a:ext cx="6172200" cy="2921040"/>
            </a:xfrm>
            <a:custGeom>
              <a:avLst/>
              <a:gdLst/>
              <a:ahLst/>
              <a:rect l="l" t="t" r="r" b="b"/>
              <a:pathLst>
                <a:path w="3888" h="1840">
                  <a:moveTo>
                    <a:pt x="0" y="1768"/>
                  </a:moveTo>
                  <a:cubicBezTo>
                    <a:pt x="188" y="1616"/>
                    <a:pt x="376" y="1464"/>
                    <a:pt x="528" y="1288"/>
                  </a:cubicBezTo>
                  <a:cubicBezTo>
                    <a:pt x="680" y="1112"/>
                    <a:pt x="792" y="824"/>
                    <a:pt x="912" y="712"/>
                  </a:cubicBezTo>
                  <a:cubicBezTo>
                    <a:pt x="1032" y="600"/>
                    <a:pt x="1128" y="576"/>
                    <a:pt x="1248" y="616"/>
                  </a:cubicBezTo>
                  <a:cubicBezTo>
                    <a:pt x="1368" y="656"/>
                    <a:pt x="1504" y="912"/>
                    <a:pt x="1632" y="952"/>
                  </a:cubicBezTo>
                  <a:cubicBezTo>
                    <a:pt x="1760" y="992"/>
                    <a:pt x="1896" y="968"/>
                    <a:pt x="2016" y="856"/>
                  </a:cubicBezTo>
                  <a:cubicBezTo>
                    <a:pt x="2136" y="744"/>
                    <a:pt x="2272" y="408"/>
                    <a:pt x="2352" y="280"/>
                  </a:cubicBezTo>
                  <a:cubicBezTo>
                    <a:pt x="2432" y="152"/>
                    <a:pt x="2448" y="128"/>
                    <a:pt x="2496" y="88"/>
                  </a:cubicBezTo>
                  <a:cubicBezTo>
                    <a:pt x="2544" y="48"/>
                    <a:pt x="2576" y="0"/>
                    <a:pt x="2640" y="40"/>
                  </a:cubicBezTo>
                  <a:cubicBezTo>
                    <a:pt x="2704" y="80"/>
                    <a:pt x="2768" y="152"/>
                    <a:pt x="2880" y="328"/>
                  </a:cubicBezTo>
                  <a:cubicBezTo>
                    <a:pt x="2992" y="504"/>
                    <a:pt x="3184" y="864"/>
                    <a:pt x="3312" y="1096"/>
                  </a:cubicBezTo>
                  <a:cubicBezTo>
                    <a:pt x="3440" y="1328"/>
                    <a:pt x="3552" y="1600"/>
                    <a:pt x="3648" y="1720"/>
                  </a:cubicBezTo>
                  <a:cubicBezTo>
                    <a:pt x="3744" y="1840"/>
                    <a:pt x="3848" y="1800"/>
                    <a:pt x="3888" y="1816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4191120" y="2895480"/>
            <a:ext cx="304560" cy="3124440"/>
            <a:chOff x="4191120" y="2895480"/>
            <a:chExt cx="304560" cy="3124440"/>
          </a:xfrm>
        </p:grpSpPr>
        <p:sp>
          <p:nvSpPr>
            <p:cNvPr id="91" name=""/>
            <p:cNvSpPr/>
            <p:nvPr/>
          </p:nvSpPr>
          <p:spPr>
            <a:xfrm>
              <a:off x="4191120" y="2895480"/>
              <a:ext cx="304560" cy="304920"/>
            </a:xfrm>
            <a:prstGeom prst="irregularSeal1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343400" y="3048120"/>
              <a:ext cx="0" cy="297180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6477120" y="3809880"/>
            <a:ext cx="304560" cy="2210040"/>
            <a:chOff x="6477120" y="3809880"/>
            <a:chExt cx="304560" cy="2210040"/>
          </a:xfrm>
        </p:grpSpPr>
        <p:sp>
          <p:nvSpPr>
            <p:cNvPr id="94" name=""/>
            <p:cNvSpPr/>
            <p:nvPr/>
          </p:nvSpPr>
          <p:spPr>
            <a:xfrm>
              <a:off x="6477120" y="3809880"/>
              <a:ext cx="304560" cy="304920"/>
            </a:xfrm>
            <a:prstGeom prst="irregularSeal1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629400" y="396252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2838600" y="2013120"/>
            <a:ext cx="3638520" cy="1796760"/>
            <a:chOff x="2838600" y="2013120"/>
            <a:chExt cx="3638520" cy="1796760"/>
          </a:xfrm>
        </p:grpSpPr>
        <p:sp>
          <p:nvSpPr>
            <p:cNvPr id="97" name=""/>
            <p:cNvSpPr/>
            <p:nvPr/>
          </p:nvSpPr>
          <p:spPr>
            <a:xfrm>
              <a:off x="3962520" y="2590920"/>
              <a:ext cx="3045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257800" y="2514600"/>
              <a:ext cx="121932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910760" y="2041560"/>
              <a:ext cx="430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600" spc="-1" strike="noStrike">
                  <a:solidFill>
                    <a:srgbClr val="000000"/>
                  </a:solidFill>
                  <a:latin typeface="Times New Roman"/>
                </a:rPr>
                <a:t>Pag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594960" y="2013120"/>
              <a:ext cx="430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600" spc="-1" strike="noStrike">
                  <a:solidFill>
                    <a:srgbClr val="000000"/>
                  </a:solidFill>
                  <a:latin typeface="Times New Roman"/>
                </a:rPr>
                <a:t>Pag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838600" y="2165400"/>
              <a:ext cx="509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600" spc="-1" strike="noStrike">
                  <a:solidFill>
                    <a:srgbClr val="000000"/>
                  </a:solidFill>
                  <a:latin typeface="Times New Roman"/>
                </a:rPr>
                <a:t>Tarif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612320" y="2228760"/>
              <a:ext cx="1274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Times New Roman"/>
                </a:rPr>
                <a:t>Compras en D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397480" y="20415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Times New Roman"/>
                </a:rPr>
                <a:t>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631320" y="2238480"/>
              <a:ext cx="627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Times New Roman"/>
                </a:rPr>
                <a:t>Red D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081320" y="201312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Times New Roman"/>
                </a:rPr>
                <a:t>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035600" y="201312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417200" y="2141640"/>
              <a:ext cx="119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398760" y="2141640"/>
              <a:ext cx="162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d9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Fernando Flatow y Rosa Serrano</dc:creator>
  <dc:description/>
  <dc:language>en-US</dc:language>
  <cp:lastModifiedBy>cl083723572</cp:lastModifiedBy>
  <dcterms:modified xsi:type="dcterms:W3CDTF">2005-11-29T12:46:33Z</dcterms:modified>
  <cp:revision>327</cp:revision>
  <dc:subject>Conceptos Tarifarios Básicos</dc:subject>
  <dc:title>Conceptos Tarifarios Básicos</dc:title>
</cp:coreProperties>
</file>