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D52-CD6B-4FB9-A8AA-A51FBC3D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E03-90F8-45A5-8341-AFD608CF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A201-8583-43B4-BD18-A5BC8885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767-4639-4DD4-B662-F5FE03C0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CD4-8B24-4894-B929-7FBADEFF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91F-FC73-4BF7-966D-01D43826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B57-B7D6-41DC-B482-D286E51B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76C-1171-484F-821E-8F5D8425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759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3E9-456A-4D32-BC74-D767436B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964-4E57-4A49-B3EC-9825C831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931-457B-4395-86F5-FA0C767C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0CD-C6D8-4A3D-B2F6-024D98F1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5CBD-4532-4D15-864C-2D05CA5BC91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762120"/>
            <a:ext cx="1447560" cy="56386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58920" y="1143000"/>
            <a:ext cx="4876920" cy="5029200"/>
          </a:xfrm>
          <a:prstGeom prst="verticalScroll">
            <a:avLst>
              <a:gd name="adj" fmla="val 976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44720" y="1870200"/>
            <a:ext cx="35816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lor agregado por concepto de costos de distribución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ará en empresas model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onsidera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fijo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concepto de gastos de administración, facturación y atención del usuario, independientes de su consum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rdida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as de distribución en potencia y energí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estándares de inversión, mantención y operación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os a la distribución, por unidad de potencia suministrada. Los costos anuales de inversión se calcularán considerando el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Nuevo de Reemplaz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 instalaciones adaptadas a la         demanda, su vida útil (30 años), y una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a de actualización, igual al 10% real anual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7200" y="118908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rtículo 106 del DFL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654960" y="3809520"/>
            <a:ext cx="304560" cy="2133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0" y="4556160"/>
            <a:ext cx="83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5000" y="121932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l V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14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14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666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666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514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5146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943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943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95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95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5146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4038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2895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75880" y="34131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15000" y="2514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38680" y="2057400"/>
            <a:ext cx="60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10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5176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712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2057400"/>
            <a:ext cx="63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0,38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7948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35520" y="2697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640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25146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728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276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5638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8360" y="54864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666520" y="5638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5360" y="51814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5334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666880" y="5334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71440" y="45720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B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629400" y="5438880"/>
            <a:ext cx="1523520" cy="732960"/>
            <a:chOff x="6629400" y="5438880"/>
            <a:chExt cx="1523520" cy="732960"/>
          </a:xfrm>
        </p:grpSpPr>
        <p:sp>
          <p:nvSpPr>
            <p:cNvPr id="186" name=""/>
            <p:cNvSpPr/>
            <p:nvPr/>
          </p:nvSpPr>
          <p:spPr>
            <a:xfrm>
              <a:off x="671832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5504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75468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5504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75468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79032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903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7903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903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08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366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27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2940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396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254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72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5607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7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5607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59780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9780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59780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9780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1580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327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3272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3072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4580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50708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9200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681280" y="4067280"/>
                <a:ext cx="37828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819520" cy="19796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3505320" y="3152880"/>
            <a:ext cx="609480" cy="914400"/>
            <a:chOff x="3505320" y="3152880"/>
            <a:chExt cx="609480" cy="914400"/>
          </a:xfrm>
        </p:grpSpPr>
        <p:sp>
          <p:nvSpPr>
            <p:cNvPr id="220" name=""/>
            <p:cNvSpPr/>
            <p:nvPr/>
          </p:nvSpPr>
          <p:spPr>
            <a:xfrm>
              <a:off x="3505320" y="31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31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H="1">
            <a:off x="57913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97180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105520" y="3610080"/>
            <a:ext cx="1295280" cy="457200"/>
            <a:chOff x="5105520" y="3610080"/>
            <a:chExt cx="1295280" cy="457200"/>
          </a:xfrm>
        </p:grpSpPr>
        <p:sp>
          <p:nvSpPr>
            <p:cNvPr id="225" name=""/>
            <p:cNvSpPr/>
            <p:nvPr/>
          </p:nvSpPr>
          <p:spPr>
            <a:xfrm rot="5400000">
              <a:off x="5676840" y="3343320"/>
              <a:ext cx="152640" cy="12952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2240" y="361008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000000"/>
                  </a:solidFill>
                  <a:latin typeface="Times New Roman"/>
                </a:rPr>
                <a:t>AVN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324480" y="4676760"/>
            <a:ext cx="1524240" cy="609480"/>
            <a:chOff x="6324480" y="4676760"/>
            <a:chExt cx="1524240" cy="609480"/>
          </a:xfrm>
        </p:grpSpPr>
        <p:sp>
          <p:nvSpPr>
            <p:cNvPr id="228" name=""/>
            <p:cNvSpPr/>
            <p:nvPr/>
          </p:nvSpPr>
          <p:spPr>
            <a:xfrm flipH="1">
              <a:off x="6324480" y="467676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48720" y="4676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038480" y="4905360"/>
            <a:ext cx="3276720" cy="838080"/>
            <a:chOff x="4038480" y="4905360"/>
            <a:chExt cx="3276720" cy="838080"/>
          </a:xfrm>
        </p:grpSpPr>
        <p:sp>
          <p:nvSpPr>
            <p:cNvPr id="231" name=""/>
            <p:cNvSpPr/>
            <p:nvPr/>
          </p:nvSpPr>
          <p:spPr>
            <a:xfrm>
              <a:off x="4038480" y="57434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038480" y="49053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52880" y="4905000"/>
            <a:ext cx="2819520" cy="1143360"/>
            <a:chOff x="4952880" y="4905000"/>
            <a:chExt cx="2819520" cy="1143360"/>
          </a:xfrm>
        </p:grpSpPr>
        <p:sp>
          <p:nvSpPr>
            <p:cNvPr id="234" name=""/>
            <p:cNvSpPr/>
            <p:nvPr/>
          </p:nvSpPr>
          <p:spPr>
            <a:xfrm>
              <a:off x="4952880" y="60483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952880" y="49050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830240" y="556272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Valor Agreg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de Alta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514600" y="4676760"/>
            <a:ext cx="457200" cy="96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2971800" cy="222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606840" y="2244600"/>
                <a:ext cx="2514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875640" y="5438880"/>
            <a:ext cx="1523520" cy="732960"/>
            <a:chOff x="6875640" y="5438880"/>
            <a:chExt cx="1523520" cy="732960"/>
          </a:xfrm>
        </p:grpSpPr>
        <p:sp>
          <p:nvSpPr>
            <p:cNvPr id="248" name=""/>
            <p:cNvSpPr/>
            <p:nvPr/>
          </p:nvSpPr>
          <p:spPr>
            <a:xfrm>
              <a:off x="696456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0128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00092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0128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0092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03656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65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0365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65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5492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29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732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7564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020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71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696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8069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069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8069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84404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4404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84404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404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620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90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7896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7896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7696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9204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75332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3824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900520" y="4025880"/>
                <a:ext cx="3836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 rot="5400000">
            <a:off x="5922360" y="3342960"/>
            <a:ext cx="152640" cy="129564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58120" y="361008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AVN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9120" y="604836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99120" y="4905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037200" y="27716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37200" y="27716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2600" y="29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61040" y="29242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799320" y="1752480"/>
          <a:ext cx="2232000" cy="31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99320" y="1752480"/>
                    <a:ext cx="22320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773360" y="2133720"/>
            <a:ext cx="1716120" cy="208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90560" y="5216400"/>
                <a:ext cx="4876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B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90720" y="1295280"/>
            <a:ext cx="3611160" cy="459720"/>
            <a:chOff x="990720" y="1295280"/>
            <a:chExt cx="3611160" cy="459720"/>
          </a:xfrm>
        </p:grpSpPr>
        <p:sp>
          <p:nvSpPr>
            <p:cNvPr id="298" name=""/>
            <p:cNvSpPr/>
            <p:nvPr/>
          </p:nvSpPr>
          <p:spPr>
            <a:xfrm>
              <a:off x="990720" y="1371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52480" y="1295280"/>
              <a:ext cx="28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400" spc="-1" strike="noStrike">
                  <a:solidFill>
                    <a:srgbClr val="000000"/>
                  </a:solidFill>
                  <a:latin typeface="Times New Roman"/>
                </a:rPr>
                <a:t>¿Y cómo se indexa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828800" y="1828800"/>
                <a:ext cx="7184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A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805040" y="3336840"/>
                <a:ext cx="7286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63680" y="5730840"/>
            <a:ext cx="105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Se calcu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ada 4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569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0200" y="4800600"/>
            <a:ext cx="1485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VAD conside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E de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Aportes de Terc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Secto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95480" y="2514600"/>
                <a:ext cx="3699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854440" y="4243320"/>
                <a:ext cx="3698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49600" y="1219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ve toda esta cháchara en la tarif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055960" y="1752480"/>
                <a:ext cx="6089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B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A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N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D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2048040" y="2133720"/>
            <a:ext cx="6848280" cy="2286000"/>
            <a:chOff x="2048040" y="2133720"/>
            <a:chExt cx="6848280" cy="2286000"/>
          </a:xfrm>
        </p:grpSpPr>
        <p:sp>
          <p:nvSpPr>
            <p:cNvPr id="316" name=""/>
            <p:cNvSpPr/>
            <p:nvPr/>
          </p:nvSpPr>
          <p:spPr>
            <a:xfrm rot="5400000">
              <a:off x="39430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57718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48040" y="3184560"/>
              <a:ext cx="75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argo Fi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2571840" y="2133720"/>
              <a:ext cx="304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90480" y="3168720"/>
              <a:ext cx="125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Energ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62120" y="3184560"/>
              <a:ext cx="129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Potenc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56440" y="3184560"/>
              <a:ext cx="113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AVNR y COy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72440" y="2362320"/>
              <a:ext cx="144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3752640" y="37717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5581440" y="3238560"/>
              <a:ext cx="152640" cy="22096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2571840" y="35053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7676640" y="34290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7867440" y="3390840"/>
              <a:ext cx="152640" cy="19051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0190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478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943440" y="35812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619600" y="35809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48400" y="5016600"/>
            <a:ext cx="149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os Factore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oinciden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TRASLADAN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Potencia a don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a quiero factu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38320" y="4419720"/>
                <a:ext cx="70102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N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D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5" name=""/>
          <p:cNvGrpSpPr/>
          <p:nvPr/>
        </p:nvGrpSpPr>
        <p:grpSpPr>
          <a:xfrm>
            <a:off x="2419200" y="4740120"/>
            <a:ext cx="6629040" cy="1507680"/>
            <a:chOff x="2419200" y="4740120"/>
            <a:chExt cx="6629040" cy="1507680"/>
          </a:xfrm>
        </p:grpSpPr>
        <p:grpSp>
          <p:nvGrpSpPr>
            <p:cNvPr id="336" name=""/>
            <p:cNvGrpSpPr/>
            <p:nvPr/>
          </p:nvGrpSpPr>
          <p:grpSpPr>
            <a:xfrm>
              <a:off x="5772240" y="4740120"/>
              <a:ext cx="3276000" cy="1507680"/>
              <a:chOff x="5772240" y="4740120"/>
              <a:chExt cx="3276000" cy="15076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5772240" y="4740120"/>
                <a:ext cx="3276000" cy="1507680"/>
                <a:chOff x="5772240" y="4740120"/>
                <a:chExt cx="3276000" cy="150768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5852520" y="4772880"/>
                  <a:ext cx="0" cy="147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772240" y="6181560"/>
                  <a:ext cx="327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644960" y="4740120"/>
                  <a:ext cx="647280" cy="1429560"/>
                </a:xfrm>
                <a:prstGeom prst="rect">
                  <a:avLst/>
                </a:prstGeom>
                <a:solidFill>
                  <a:srgbClr val="ffff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64496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29224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5952600" y="4844880"/>
                  <a:ext cx="2915280" cy="1286280"/>
                </a:xfrm>
                <a:custGeom>
                  <a:avLst/>
                  <a:gdLst/>
                  <a:ahLst/>
                  <a:rect l="l" t="t" r="r" b="b"/>
                  <a:pathLst>
                    <a:path w="3888" h="1840">
                      <a:moveTo>
                        <a:pt x="0" y="1768"/>
                      </a:moveTo>
                      <a:cubicBezTo>
                        <a:pt x="188" y="1616"/>
                        <a:pt x="376" y="1464"/>
                        <a:pt x="528" y="1288"/>
                      </a:cubicBezTo>
                      <a:cubicBezTo>
                        <a:pt x="680" y="1112"/>
                        <a:pt x="792" y="824"/>
                        <a:pt x="912" y="712"/>
                      </a:cubicBezTo>
                      <a:cubicBezTo>
                        <a:pt x="1032" y="600"/>
                        <a:pt x="1128" y="576"/>
                        <a:pt x="1248" y="616"/>
                      </a:cubicBezTo>
                      <a:cubicBezTo>
                        <a:pt x="1368" y="656"/>
                        <a:pt x="1504" y="912"/>
                        <a:pt x="1632" y="952"/>
                      </a:cubicBezTo>
                      <a:cubicBezTo>
                        <a:pt x="1760" y="992"/>
                        <a:pt x="1896" y="968"/>
                        <a:pt x="2016" y="856"/>
                      </a:cubicBezTo>
                      <a:cubicBezTo>
                        <a:pt x="2136" y="744"/>
                        <a:pt x="2272" y="408"/>
                        <a:pt x="2352" y="280"/>
                      </a:cubicBezTo>
                      <a:cubicBezTo>
                        <a:pt x="2432" y="152"/>
                        <a:pt x="2448" y="128"/>
                        <a:pt x="2496" y="88"/>
                      </a:cubicBezTo>
                      <a:cubicBezTo>
                        <a:pt x="2544" y="48"/>
                        <a:pt x="2576" y="0"/>
                        <a:pt x="2640" y="40"/>
                      </a:cubicBezTo>
                      <a:cubicBezTo>
                        <a:pt x="2704" y="80"/>
                        <a:pt x="2768" y="152"/>
                        <a:pt x="2880" y="328"/>
                      </a:cubicBezTo>
                      <a:cubicBezTo>
                        <a:pt x="2992" y="504"/>
                        <a:pt x="3184" y="864"/>
                        <a:pt x="3312" y="1096"/>
                      </a:cubicBezTo>
                      <a:cubicBezTo>
                        <a:pt x="3440" y="1328"/>
                        <a:pt x="3552" y="1600"/>
                        <a:pt x="3648" y="1720"/>
                      </a:cubicBezTo>
                      <a:cubicBezTo>
                        <a:pt x="3744" y="1840"/>
                        <a:pt x="3848" y="1800"/>
                        <a:pt x="3888" y="181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923880" y="4872960"/>
                  <a:ext cx="0" cy="130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003880" y="5276520"/>
                  <a:ext cx="0" cy="90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6229440" y="5308560"/>
                <a:ext cx="2361960" cy="787320"/>
              </a:xfrm>
              <a:custGeom>
                <a:avLst/>
                <a:gdLst/>
                <a:ahLst/>
                <a:rect l="l" t="t" r="r" b="b"/>
                <a:pathLst>
                  <a:path w="1488" h="496">
                    <a:moveTo>
                      <a:pt x="0" y="496"/>
                    </a:moveTo>
                    <a:cubicBezTo>
                      <a:pt x="68" y="392"/>
                      <a:pt x="136" y="288"/>
                      <a:pt x="192" y="208"/>
                    </a:cubicBezTo>
                    <a:cubicBezTo>
                      <a:pt x="248" y="128"/>
                      <a:pt x="272" y="0"/>
                      <a:pt x="336" y="16"/>
                    </a:cubicBezTo>
                    <a:cubicBezTo>
                      <a:pt x="400" y="32"/>
                      <a:pt x="496" y="248"/>
                      <a:pt x="576" y="304"/>
                    </a:cubicBezTo>
                    <a:cubicBezTo>
                      <a:pt x="656" y="360"/>
                      <a:pt x="744" y="368"/>
                      <a:pt x="816" y="352"/>
                    </a:cubicBezTo>
                    <a:cubicBezTo>
                      <a:pt x="888" y="336"/>
                      <a:pt x="960" y="200"/>
                      <a:pt x="1008" y="208"/>
                    </a:cubicBezTo>
                    <a:cubicBezTo>
                      <a:pt x="1056" y="216"/>
                      <a:pt x="1024" y="352"/>
                      <a:pt x="1104" y="400"/>
                    </a:cubicBezTo>
                    <a:cubicBezTo>
                      <a:pt x="1184" y="448"/>
                      <a:pt x="1424" y="480"/>
                      <a:pt x="1488" y="4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419200" y="4800600"/>
              <a:ext cx="2676240" cy="1371600"/>
              <a:chOff x="2419200" y="4800600"/>
              <a:chExt cx="2676240" cy="1371600"/>
            </a:xfrm>
          </p:grpSpPr>
          <p:sp>
            <p:nvSpPr>
              <p:cNvPr id="348" name=""/>
              <p:cNvSpPr/>
              <p:nvPr/>
            </p:nvSpPr>
            <p:spPr>
              <a:xfrm>
                <a:off x="2419200" y="5029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34840" y="495612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2634840" y="4986360"/>
                <a:ext cx="302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34840" y="501624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634840" y="5046480"/>
                <a:ext cx="302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696760" y="495612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96760" y="4986360"/>
                <a:ext cx="320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696760" y="501624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96760" y="5046480"/>
                <a:ext cx="320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28800" y="5016240"/>
                <a:ext cx="6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0316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6192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93600" y="5016240"/>
                <a:ext cx="119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90600" y="5016240"/>
                <a:ext cx="6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55760" y="495612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055400" y="4986360"/>
                <a:ext cx="284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055760" y="501624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055400" y="5046480"/>
                <a:ext cx="284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4117680" y="495612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17680" y="4986360"/>
                <a:ext cx="3168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17680" y="501624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17680" y="5046480"/>
                <a:ext cx="3168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49360" y="5016240"/>
                <a:ext cx="6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2408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8104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181040" y="5016240"/>
                <a:ext cx="63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28800" y="5624280"/>
                <a:ext cx="566640" cy="54792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920"/>
                  <a:gd name="textAreaBottom" fmla="*/ 423000 h 54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76320" y="5168880"/>
                <a:ext cx="566640" cy="54756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560"/>
                  <a:gd name="textAreaBottom" fmla="*/ 422640 h 5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5120" y="53337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A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3958920" y="50162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11400" y="5016240"/>
                <a:ext cx="0" cy="60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9644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A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39056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71360" y="5790960"/>
                <a:ext cx="31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B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Por Qué se Regul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estima una pérdida que sufriría el país en ausencia de regulación por US$ 2.50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érdida social por menor producción y disipación de rentas monopólicas en el extranj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ropósito de la regulación no es sustituir la competencia sino emul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industrias que se regulan corresponden a monopolios naturales y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d básica de telefonía bá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agua po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ce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ate of Return Regulation o Cost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dicionalmente utilizada en USA y en Chile hasta los años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arifa se construye sobre una empresa real cubrie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de expl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reciación de 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ntabilidad de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una metodología que se basa más en costos contables que en econó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rovee incentivos para ahorro de costos y mejoras de efi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gulación Price Cap o RPI-X o IPC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basa en empresas eficientes re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opla las ganancias de las empresa reguladas respecto sus costos fijando un precio te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precios, anualmente, se indexan según el IPC (Retail Price Index) menos la ganancia de eficiencia que el regulador considera alcanzable durante el período, equivalente al factor X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Yardstick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os 80´no existiendo en la experiencia internacional, se introdujo en Chile este mod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tencia simulada entre las compañías presentes en la industria con sus empresas modelos o 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modelo se traduce en tarifas estimadas de acuerdo a los costos de la empresa más eficiente que es posible construir con la tecnología disponible al momento de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mpresa modelo teó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Cómo se Construye la Tarif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47800" y="1219320"/>
            <a:ext cx="68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rimero hay que conocer las 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47800" y="213372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uego hay que conocer la estructura de la tari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0680" y="31240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Y finalmente, junta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67280" y="2495520"/>
            <a:ext cx="28670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02240" y="1146240"/>
            <a:ext cx="3603600" cy="5045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1040" y="121932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905120" y="2819160"/>
            <a:ext cx="6933960" cy="3352680"/>
            <a:chOff x="1905120" y="2819160"/>
            <a:chExt cx="6933960" cy="3352680"/>
          </a:xfrm>
        </p:grpSpPr>
        <p:sp>
          <p:nvSpPr>
            <p:cNvPr id="79" name=""/>
            <p:cNvSpPr/>
            <p:nvPr/>
          </p:nvSpPr>
          <p:spPr>
            <a:xfrm flipV="1">
              <a:off x="2076480" y="281916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5120" y="6019920"/>
              <a:ext cx="6933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44440" y="2743200"/>
            <a:ext cx="1816920" cy="3583440"/>
            <a:chOff x="5644440" y="2743200"/>
            <a:chExt cx="1816920" cy="3583440"/>
          </a:xfrm>
        </p:grpSpPr>
        <p:sp>
          <p:nvSpPr>
            <p:cNvPr id="82" name=""/>
            <p:cNvSpPr/>
            <p:nvPr/>
          </p:nvSpPr>
          <p:spPr>
            <a:xfrm>
              <a:off x="5867280" y="2743200"/>
              <a:ext cx="1371600" cy="3249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88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96960" y="5992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44440" y="6019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285640" y="2984400"/>
            <a:ext cx="6474960" cy="2921040"/>
            <a:chOff x="2285640" y="2984400"/>
            <a:chExt cx="6474960" cy="2921040"/>
          </a:xfrm>
        </p:grpSpPr>
        <p:sp>
          <p:nvSpPr>
            <p:cNvPr id="88" name=""/>
            <p:cNvSpPr/>
            <p:nvPr/>
          </p:nvSpPr>
          <p:spPr>
            <a:xfrm>
              <a:off x="8095320" y="539424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hilect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285280" y="2984400"/>
              <a:ext cx="6172200" cy="2921040"/>
            </a:xfrm>
            <a:custGeom>
              <a:avLst/>
              <a:gdLst/>
              <a:ahLst/>
              <a:rect l="l" t="t" r="r" b="b"/>
              <a:pathLst>
                <a:path w="3888" h="1840">
                  <a:moveTo>
                    <a:pt x="0" y="1768"/>
                  </a:moveTo>
                  <a:cubicBezTo>
                    <a:pt x="188" y="1616"/>
                    <a:pt x="376" y="1464"/>
                    <a:pt x="528" y="1288"/>
                  </a:cubicBezTo>
                  <a:cubicBezTo>
                    <a:pt x="680" y="1112"/>
                    <a:pt x="792" y="824"/>
                    <a:pt x="912" y="712"/>
                  </a:cubicBezTo>
                  <a:cubicBezTo>
                    <a:pt x="1032" y="600"/>
                    <a:pt x="1128" y="576"/>
                    <a:pt x="1248" y="616"/>
                  </a:cubicBezTo>
                  <a:cubicBezTo>
                    <a:pt x="1368" y="656"/>
                    <a:pt x="1504" y="912"/>
                    <a:pt x="1632" y="952"/>
                  </a:cubicBezTo>
                  <a:cubicBezTo>
                    <a:pt x="1760" y="992"/>
                    <a:pt x="1896" y="968"/>
                    <a:pt x="2016" y="856"/>
                  </a:cubicBezTo>
                  <a:cubicBezTo>
                    <a:pt x="2136" y="744"/>
                    <a:pt x="2272" y="408"/>
                    <a:pt x="2352" y="280"/>
                  </a:cubicBezTo>
                  <a:cubicBezTo>
                    <a:pt x="2432" y="152"/>
                    <a:pt x="2448" y="128"/>
                    <a:pt x="2496" y="88"/>
                  </a:cubicBezTo>
                  <a:cubicBezTo>
                    <a:pt x="2544" y="48"/>
                    <a:pt x="2576" y="0"/>
                    <a:pt x="2640" y="40"/>
                  </a:cubicBezTo>
                  <a:cubicBezTo>
                    <a:pt x="2704" y="80"/>
                    <a:pt x="2768" y="152"/>
                    <a:pt x="2880" y="328"/>
                  </a:cubicBezTo>
                  <a:cubicBezTo>
                    <a:pt x="2992" y="504"/>
                    <a:pt x="3184" y="864"/>
                    <a:pt x="3312" y="1096"/>
                  </a:cubicBezTo>
                  <a:cubicBezTo>
                    <a:pt x="3440" y="1328"/>
                    <a:pt x="3552" y="1600"/>
                    <a:pt x="3648" y="1720"/>
                  </a:cubicBezTo>
                  <a:cubicBezTo>
                    <a:pt x="3744" y="1840"/>
                    <a:pt x="3848" y="1800"/>
                    <a:pt x="3888" y="181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191120" y="2895480"/>
            <a:ext cx="304560" cy="3124440"/>
            <a:chOff x="4191120" y="2895480"/>
            <a:chExt cx="304560" cy="3124440"/>
          </a:xfrm>
        </p:grpSpPr>
        <p:sp>
          <p:nvSpPr>
            <p:cNvPr id="91" name=""/>
            <p:cNvSpPr/>
            <p:nvPr/>
          </p:nvSpPr>
          <p:spPr>
            <a:xfrm>
              <a:off x="4191120" y="28954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3400" y="30481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477120" y="3809880"/>
            <a:ext cx="304560" cy="2210040"/>
            <a:chOff x="6477120" y="3809880"/>
            <a:chExt cx="304560" cy="2210040"/>
          </a:xfrm>
        </p:grpSpPr>
        <p:sp>
          <p:nvSpPr>
            <p:cNvPr id="94" name=""/>
            <p:cNvSpPr/>
            <p:nvPr/>
          </p:nvSpPr>
          <p:spPr>
            <a:xfrm>
              <a:off x="6477120" y="38098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39625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38600" y="2013120"/>
            <a:ext cx="3638520" cy="1796760"/>
            <a:chOff x="2838600" y="2013120"/>
            <a:chExt cx="3638520" cy="1796760"/>
          </a:xfrm>
        </p:grpSpPr>
        <p:sp>
          <p:nvSpPr>
            <p:cNvPr id="97" name=""/>
            <p:cNvSpPr/>
            <p:nvPr/>
          </p:nvSpPr>
          <p:spPr>
            <a:xfrm>
              <a:off x="3962520" y="25909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251460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10760" y="204156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94960" y="201312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8600" y="216540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arif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2320" y="222876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ompras en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97480" y="20415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2238480"/>
              <a:ext cx="62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Red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81320" y="20131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5600" y="20131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17200" y="214164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98760" y="2141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Flatow y Rosa Serrano</dc:creator>
  <dc:description/>
  <dc:language>en-US</dc:language>
  <cp:lastModifiedBy>cl083723572</cp:lastModifiedBy>
  <dcterms:modified xsi:type="dcterms:W3CDTF">2005-11-29T12:46:33Z</dcterms:modified>
  <cp:revision>327</cp:revision>
  <dc:subject>Conceptos Tarifarios Básicos</dc:subject>
  <dc:title>Conceptos Tarifarios Básicos</dc:title>
</cp:coreProperties>
</file>