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EACBB-8D60-4DDF-8501-B59FC5DD1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C7B8A-4BEF-49D6-88EB-7E6D29191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60398-3DA4-49A9-953F-EB4107530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257F2-F42E-4816-AD11-4B05FD48B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F4FE7-8ABD-4D90-AB08-F6B9EB7DE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DA70E-2FF1-47E4-816B-2C3A265CF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EFDE6-3177-41C4-A8E7-64BAD3D82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0B825-7FC8-41BC-929F-F57D5FB61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E3C66-022D-4E58-A77B-5E63FCB42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F69B-9C86-40AF-933E-7CA44382D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3234-585A-477B-A4EE-5E392741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CC8C6-0AAF-4D07-8CF0-82395D9D1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943A-1FF0-41B3-9899-7BAB0F9FA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mtorres</cp:lastModifiedBy>
  <dcterms:modified xsi:type="dcterms:W3CDTF">2005-10-18T21:35:02Z</dcterms:modified>
  <cp:revision>41</cp:revision>
  <dc:subject/>
  <dc:title>Evaluación de Decisiones de Inversión</dc:title>
</cp:coreProperties>
</file>