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18B8A2-9DBD-489D-900F-8F6A3EF9BEE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045908D-761E-48F2-88BD-A879F9709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F4EC31A-88C8-443F-83E9-0194ECEC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96CE7B74-7DDA-44F2-A437-70FA71C9CB9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7131B8-89C5-4EF1-892E-02F20A436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9E6975-1D0D-4E8D-833A-0140E624B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32B4B-5D46-4420-81A0-DE1ECF4AD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55D9EF-47E0-4B65-94BA-F74A0C340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6A325-1D37-4AB8-8706-459DF52D6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038C6-5814-45D7-9D6C-DDFD18071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31E5F-E4FA-4239-85EA-551392C8F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ED6D08-705F-42E8-B226-4D7D72BE8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05EF7-1743-4E84-B185-E886554F9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0C9FA-5B4E-4587-B5FC-E7E3D0AB9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9C030-A398-43DE-A763-01B744743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1D3479-C610-4031-86C1-7D2487F869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9F2CBC-FAAD-4F4E-8555-FAECE867EC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B0E8A7-92E1-4173-9FA9-2DB1AA353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6848D87-7B46-4366-8537-3D3DC4D8A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977FE792-1932-43A5-A12E-201348286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B6E4003-C034-4F51-9939-FD0A8CED3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3F07D5E-8081-4267-861C-D90D4579F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13BA9D8-68A6-44F6-935F-3F1711002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DDD09D5-67B4-4A4A-91D8-9C3B35AD7F1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EFE9-6802-40D4-9EEA-1F4A20BEF4E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803A-71F0-477E-83FC-4507B5CB2DD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CC331E-B083-40CE-889E-772F2F908D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A170A1E3-D351-4A8E-B189-54A4F96BB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897A3F-86A1-46FE-A8C2-257E692B0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DBDD6BC-0B40-4DFD-9D2A-0C6EFCAA60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9D77EADE-A951-4B3B-B531-0EE0EF22A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F5C8FEFB-236E-4C60-99B0-34CBBCD42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CC27B6-9B08-4E87-B936-CEC9B2B9D6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76F36D9D-3F98-457B-AD3B-EFE22A6D3481}"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0AA66A-D88A-4AE0-9B88-7DEB1DE5D4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5A29A5-C36C-45FA-8117-6CDB99FA90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0829E5-C075-4761-91FB-3E7FA9A748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6)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04A3BF-CED1-46D9-9451-4515B354C4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11B66C25-0654-4D5F-B1AC-D165E3F404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9B83F-068B-43EC-97D4-9EEFA2F6AF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97579BA0-1CD7-4B23-9090-4050E095A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051C21-C4AC-4165-8EDE-D346D3A45E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5-10-04T04:11:19Z</dcterms:modified>
  <cp:revision>261</cp:revision>
  <dc:subject/>
  <dc:title>Módulo1_Tema1_Diplomado</dc:title>
</cp:coreProperties>
</file>