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31747D-A231-447A-8EE0-2ACE747649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BFFAE8FC-81FB-449B-8E3D-405D7E8B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BD6ADE69-4D5F-4062-A4FD-05A796E73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C1BF2614-F067-41B5-9AD9-7AD4486EF55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57032F-7732-4734-9666-AFD05FDD3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A4F3B-9FF3-4CA0-92CE-D0515073D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4C43E6-9BD1-47F6-9E3A-70032D094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19342-A76B-432C-94F6-A05379C87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C03C9-5A7B-4BE2-B887-EF948BE89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63C5C9-0B98-40CF-B73B-7611AA0C5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AD1A8-F62B-46B4-9756-99A35DE09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236394-2593-4271-9EED-8947074F7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1AB2E-D14C-47CA-84E0-D797949FB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A0A8B-E0FE-4B90-A5ED-6DA5668B5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F8D45D-148F-4F0D-8E30-8D407E3C5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20242A-BE9E-4757-8489-7893F02DE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D8470-5016-4DC8-A338-895E7749D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B05322-6286-430F-B72D-CE3706A20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80CDDC3-3959-4A25-9D37-8414913C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14006193-9B70-4599-B91D-B6F0157BE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24F511C-25C3-417F-BC49-AF7E82F6A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6A8CA38-0957-4D58-AC0C-D00F5178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FD0A45A0-5B5B-47D2-9C19-7D922A70A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1A6B97C-FB1A-4007-9527-10B5E058B4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0D33-5438-4D44-BA6D-6AF601E75A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B721-375D-4553-80EA-CDBB11A9FF7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812553-5CF0-4D55-A42F-47EE549864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26A9C8D7-D792-4BDF-9C7E-A81BBFA4F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4E2AD3-A7B8-40FD-BB72-F901C5F807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0018B37-5F39-4E7C-81F9-96332C0DA9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79ACCB85-876E-449D-A2B5-92C38CFBD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D4DC840C-378E-4345-9AA6-0F797E6C16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3B5EE8-E400-4F0E-9080-146BA9402B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75C350C2-C785-43C1-A0C1-8BE130526D0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D4F73B-FE9D-4BD2-95E5-21099E56CF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7DF2B6-B3F9-46C6-ABA9-FDA3FB6255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18A2C7-5D92-4DDD-B8A2-D33E9B7ADF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6)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EED45-63D4-4CE5-A8DA-5371983FB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E2B4EAFD-BBE6-46EB-AC54-EB57B2DAD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E31C41-8287-422A-A120-27D3600968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7533C461-9B95-457A-BABA-4AE02325EC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FEF0ACD-9A15-478C-923C-BB2D119665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5-10-04T04:11:19Z</dcterms:modified>
  <cp:revision>261</cp:revision>
  <dc:subject/>
  <dc:title>Módulo1_Tema1_Diplomado</dc:title>
</cp:coreProperties>
</file>