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6CFCFC-3CED-49A9-876D-18E3F49FFBE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C333AD2-34A6-4C1E-9224-9927A5785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49660C5D-11FE-4B58-BD69-F02C529B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B0D164C4-47C4-419A-8A5F-656C54CDCE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5C2466-9644-42A4-B760-EBED89241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C094B-7C81-499E-93EC-4838594C0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3772CC-6305-4904-8E0A-0364B7F86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26C76-2F19-44B0-AC93-49ECF9771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99F2E-4B21-4ECF-8811-C05DCA121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ACD2E-7422-453D-A2E6-EE8F93283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A9325-D4B4-4422-B29A-1D06A1A3E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9A51F7-B7E2-4C6B-905A-8CB7830B2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2FDAA-FE62-4B1B-A340-08D46C0E8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0ADA6-1BB5-4AC5-B45A-AD985E3AE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030BA1-0334-4457-A482-BCFA3921B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23AC27-94C1-44CC-A2C7-BC378B5DC4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3F1067-9D74-45E1-852F-A122534CFB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46E5DF-99CA-40DB-87A4-1242650E5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8D83D12-2F65-4E42-8A56-63D9C1468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26360F09-38D4-4919-BC15-B7DF15C24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711B96E-C4E4-4688-998D-C9499F31F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97841B6-C986-4F1C-9804-AB74A4D30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B976A3E-8892-4B1A-A119-373D32498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FEE30D3-64AE-432D-B856-7F4E2EE9FED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03E0-4243-40D5-A292-702E04AF548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AA79-A5D8-4B8E-8EF1-E501BC64F41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670B88-E606-4708-8FE5-6F85689E8C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440" y="1600200"/>
            <a:ext cx="807732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B58174-579F-49DC-BCD4-152806AC6F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042280-9755-446C-B334-EBBA26BB74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1FEB75-B4B2-448D-8114-AEE4C47F2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711A79B2-3D80-49C8-906B-D294374767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049391-A2E7-4C48-BDDA-98627D312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C2517BF8-59C4-4C29-A497-5EF810AC2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43D15C-5F9A-49F3-90FE-E47096100A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4B53E90C-E20C-4A37-9512-31ADBCDD97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68039415-C8AF-45CD-8356-37DA32A31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todos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9D3D3FAF-14DA-4D8A-8DF7-7091FE11DF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1306FA-8051-471E-BCD2-732222DC25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CE2897-1343-46A9-8D17-667CF52E99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72F8D195-009E-4214-AC93-29AF01BE16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63F1E7-5A28-4AA5-9C08-6059156ECC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8D719C9E-3D6F-4ECE-8329-5F37339C5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90332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CFD3C013-6984-44CB-B4D6-3C2DE9F38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286CD863-5F26-4114-B401-61F105D6C6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DD918FAB-21C3-4404-BB2E-37186D7323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2465469-F6F4-4028-B470-C5FE62AFD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D5BCD944-411B-45BB-8BF3-5548FA32C5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08E0717-5B35-4599-B6E4-80374068F5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E08419-A2A7-4B69-BD7A-46535172C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F5F88B-E671-4DA2-A2F6-6D6C98F120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03A9AA-13D0-403A-AA4F-5A5C970F32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49364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742473-41E8-4F0D-8968-D705E8F082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D2CE03-BCDA-4F97-873C-F413F760AC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3</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3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yback</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 añ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P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3A4709-2DA5-432E-AE11-A463676571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1DA119-E352-4DB2-AE5C-377C55F98F0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nflación (t)</a:t>
            </a:r>
            <a:r>
              <a:rPr b="0" lang="es-CL" sz="2000" spc="-1" strike="noStrike">
                <a:solidFill>
                  <a:srgbClr val="000000"/>
                </a:solidFill>
                <a:latin typeface="Arial"/>
              </a:rPr>
              <a:t>	</a:t>
            </a:r>
            <a:r>
              <a:rPr b="0" lang="es-CL"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nominal (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0831E6-54A7-455B-A1EF-3227CCC414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A305C7-A2F4-415D-8CAD-7A1ACBBF71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AF7DDBCA-4524-4022-A716-67DBFEF492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48092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281280" y="2724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15192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F28B041A-E7E9-4023-B179-4EF97DDA8F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077640" y="25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688AF1EE-ABA9-4645-A537-618E5366D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52600" y="4419720"/>
                <a:ext cx="303840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i</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06A44670-D0B3-4E5D-987C-6AF476109E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5-10-04T03:53:03Z</dcterms:modified>
  <cp:revision>254</cp:revision>
  <dc:subject/>
  <dc:title>Módulo1_Tema1_Diplomado</dc:title>
</cp:coreProperties>
</file>