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952-AC7B-4324-9351-F5DC695E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CA3-2062-4F47-A56E-F1297A86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A94-9A7E-4B60-9A9D-97128C7D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26C-2477-4015-AFA8-2C8DB613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265-B605-4C80-B41E-CC95FD85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62D-271D-4C4B-AA09-565CD880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3D8-41E4-4B5C-A6D8-8962B67A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133-928C-41F0-9D64-A6A920F2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4AA-0E7B-46E6-9B54-C6AD1D41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E99-19B1-47E2-94B3-7B33550E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3CF-1F25-4B27-9595-5C6DA5D3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87B-C03C-46C7-8F73-E4819226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8D63-6088-4CA9-AB44-B007F5DE0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mtorres</cp:lastModifiedBy>
  <dcterms:modified xsi:type="dcterms:W3CDTF">2005-08-21T23:54:25Z</dcterms:modified>
  <cp:revision>13</cp:revision>
  <dc:subject/>
  <dc:title>Gestión de Empresas de Telecomunicaciones EL 65J Apunte 3 Gestión Comercial</dc:title>
</cp:coreProperties>
</file>