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D3C-8D83-4B76-BD88-1CD9CB4F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EB8-A80A-46E7-A1CE-F1B3F3E3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B12-AC31-4BBD-AA43-61CBD82B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1BC-EB22-4B14-996B-BFF1A562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0B7-4A26-4C6A-870C-3C4C2BFD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13B-A48E-4068-8048-1C7D171E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E98-7E0C-4FBF-8CC1-8292468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617-D633-4529-9AFA-A806215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8A1-2DE2-4BD7-A64A-DD1605FD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E2A-BE06-4690-85E2-34EF107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DF8-1807-4D88-84D0-26F2089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93E-5F50-4549-AC5A-38B83E3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5E63-2022-4637-8AF4-21CF7697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5-08-21T23:54:25Z</dcterms:modified>
  <cp:revision>13</cp:revision>
  <dc:subject/>
  <dc:title>Gestión de Empresas de Telecomunicaciones EL 65J Apunte 3 Gestión Comercial</dc:title>
</cp:coreProperties>
</file>