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A1C-830D-4A41-87DF-843D1A05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A95-783C-454D-B72E-FF952361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C1A-493E-4EF1-94EF-0EBA9565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BDF-E689-4F8E-B939-50872166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D10-AB73-4DDF-B408-4DEA58D3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8F1-5BD5-4532-90BF-6AF008E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05F-36AA-45D5-8160-848596A4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DE7-477D-4CEB-9D20-BEAACADA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20F-1B9A-4523-82D4-2D9FCE43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B8F-1883-4453-9D14-C2753F1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DE0-B7BB-47EA-B3C3-3716A93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81B-1F24-4EA4-A339-81E65F20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981B-C021-4E89-B519-C083E7329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5-08-21T23:54:25Z</dcterms:modified>
  <cp:revision>13</cp:revision>
  <dc:subject/>
  <dc:title>Gestión de Empresas de Telecomunicaciones EL 65J Apunte 3 Gestión Comercial</dc:title>
</cp:coreProperties>
</file>