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C17-730F-4482-9232-8486E50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03B-B477-43B4-B6BF-90F0CD98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F95-D7F2-410B-9633-7AD6567E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B8E-5B46-4EB1-A49F-112F9C5B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203-026A-4271-BBE3-1140C110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568-D531-47C3-889D-2265DB6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269-0EEC-4C28-BC5B-0167352A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27C-29F8-44A5-9A15-53E642F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426-7B72-46EC-B02D-B58E709F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DEC-0591-42F9-B8EF-8B4C020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859-5739-4C4E-B6B9-C568685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0AE-C9AA-46DA-93D6-95F11AF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D17-E3F4-455C-9D73-985B66E2C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5-08-21T23:54:25Z</dcterms:modified>
  <cp:revision>13</cp:revision>
  <dc:subject/>
  <dc:title>Gestión de Empresas de Telecomunicaciones EL 65J Apunte 3 Gestión Comercial</dc:title>
</cp:coreProperties>
</file>