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C5F140-3F6C-4FB8-8CB1-83B68DC81B0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37B654A-91AA-43E9-A367-C008DE145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5B0DD33-269F-40CA-9092-852F7E965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8F7D84A-7B55-4399-90F3-F6EEC73B246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CCEA788-35BC-4A4C-AB4B-250DB5043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B9DAD4C-E73E-4F45-BEDE-B472ECE63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ABC9D6A-0030-49D6-92CF-A65B5F275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5415136-7E47-4995-9A72-D78A2605B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86E1A150-DA32-4467-B594-3F1495D73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BEED343-2CBC-4E1F-B855-B9918E966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5BA939D-3F25-424A-8300-E0704DF89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BE95ECE-D0C7-41CB-85BC-9CFC47F2086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CD9D-69FF-45D8-BC8A-8005AD4AD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5</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F0A323-34BD-45C3-9D35-34B7F79DF5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5" name="PlaceHolder 2"/>
          <p:cNvSpPr>
            <a:spLocks noGrp="1"/>
          </p:cNvSpPr>
          <p:nvPr>
            <p:ph/>
          </p:nvPr>
        </p:nvSpPr>
        <p:spPr>
          <a:xfrm>
            <a:off x="609120" y="1218960"/>
            <a:ext cx="8458200" cy="1785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6"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C30F66-AA4D-4275-86E5-0953FEFC97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3)</a:t>
            </a:r>
            <a:endParaRPr b="0" lang="en-US" sz="4000" spc="-1" strike="noStrike">
              <a:solidFill>
                <a:srgbClr val="000000"/>
              </a:solidFill>
              <a:latin typeface="Times New Roman"/>
            </a:endParaRPr>
          </a:p>
        </p:txBody>
      </p:sp>
      <p:graphicFrame>
        <p:nvGraphicFramePr>
          <p:cNvPr id="78" name=""/>
          <p:cNvGraphicFramePr/>
          <p:nvPr/>
        </p:nvGraphicFramePr>
        <p:xfrm>
          <a:off x="304920" y="1523880"/>
          <a:ext cx="8534160" cy="2314800"/>
        </p:xfrm>
        <a:graphic>
          <a:graphicData uri="http://schemas.openxmlformats.org/presentationml/2006/ole">
            <p:oleObj progId="Excel.Sheet.12" r:id="rId1" spid="">
              <p:embed/>
              <p:pic>
                <p:nvPicPr>
                  <p:cNvPr id="79" name="" descr=""/>
                  <p:cNvPicPr/>
                  <p:nvPr/>
                </p:nvPicPr>
                <p:blipFill>
                  <a:blip r:embed="rId2"/>
                  <a:stretch/>
                </p:blipFill>
                <p:spPr>
                  <a:xfrm>
                    <a:off x="304920" y="1523880"/>
                    <a:ext cx="8534160" cy="2314800"/>
                  </a:xfrm>
                  <a:prstGeom prst="rect">
                    <a:avLst/>
                  </a:prstGeom>
                  <a:ln w="0">
                    <a:noFill/>
                  </a:ln>
                </p:spPr>
              </p:pic>
            </p:oleObj>
          </a:graphicData>
        </a:graphic>
      </p:graphicFrame>
      <p:sp>
        <p:nvSpPr>
          <p:cNvPr id="80" name="PlaceHolder 2"/>
          <p:cNvSpPr>
            <a:spLocks noGrp="1"/>
          </p:cNvSpPr>
          <p:nvPr>
            <p:ph/>
          </p:nvPr>
        </p:nvSpPr>
        <p:spPr>
          <a:xfrm>
            <a:off x="533160" y="4114440"/>
            <a:ext cx="8458200" cy="26154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2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a través de portales y buscadores ha tenido un “segundo aire” Ejemplo: GOOGLE</a:t>
            </a:r>
            <a:endParaRPr b="0" lang="en-US" sz="1800" spc="-1" strike="noStrike">
              <a:solidFill>
                <a:srgbClr val="000000"/>
              </a:solidFill>
              <a:latin typeface="Times New Roman"/>
            </a:endParaRPr>
          </a:p>
        </p:txBody>
      </p:sp>
      <p:sp>
        <p:nvSpPr>
          <p:cNvPr id="81" name=""/>
          <p:cNvSpPr/>
          <p:nvPr/>
        </p:nvSpPr>
        <p:spPr>
          <a:xfrm>
            <a:off x="3124080" y="1219320"/>
            <a:ext cx="2743200" cy="2514600"/>
          </a:xfrm>
          <a:prstGeom prst="upArrow">
            <a:avLst>
              <a:gd name="adj1" fmla="val 50000"/>
              <a:gd name="adj2" fmla="val 25000"/>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10 mill ab.</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US$ 2000 mil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70%</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Bell no existe ¿Smartcom?</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 name=""/>
          <p:cNvSpPr/>
          <p:nvPr/>
        </p:nvSpPr>
        <p:spPr>
          <a:xfrm>
            <a:off x="6248520" y="1219320"/>
            <a:ext cx="2743200" cy="2514600"/>
          </a:xfrm>
          <a:prstGeom prst="upArrow">
            <a:avLst>
              <a:gd name="adj1" fmla="val 50000"/>
              <a:gd name="adj2" fmla="val 25000"/>
            </a:avLst>
          </a:prstGeom>
          <a:solidFill>
            <a:srgbClr val="ffcccc"/>
          </a:solidFill>
          <a:ln w="936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800.000 ab.</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US$ 300 mill</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Conmutado no</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ADSL y CM</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F2AD7130-2A5A-4ACD-BCAD-376C14E852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7"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8"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D31E0F-4856-41E9-8947-9BB4B87565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0"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91"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93"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4"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82FCFFA-E7DE-404B-BDD5-BCD8741D09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7"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21D50B2-890E-42D7-90F6-ABE3D001B3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9"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C7A6CA5-BA62-4F92-AFD9-9DDE0131A5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101"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102"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50A3341-3140-40CB-A051-31B0EDAB40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10"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11"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8"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9"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30"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1"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3"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4"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6"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7"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8"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9"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4"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5"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51"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52"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4"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22170DB-12FC-4C5F-A9F8-4C6E2212A8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60"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61"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8"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0"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1"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83"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4"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5"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6"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9"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200"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202"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203"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4"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6"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7"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F3FF5E9-6514-4B86-A907-11B0EC488E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estión de Empresas de Telecomunica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José Miguel Torres Tor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39471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ccccff"/>
                </a:solidFill>
                <a:uFillTx/>
                <a:latin typeface="Times New Roman"/>
                <a:hlinkClick r:id="rId1"/>
              </a:rPr>
              <a:t>Jose.torres@telefonicamoviles.c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lases los martes de 18:00 a 21:00 h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lases complementarias durante el semest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ctividades de evaluació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TP de lectur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contro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me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59C4ED1-B65B-4857-A612-514726D46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10"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5"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6"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33"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4"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5"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7"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8"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40"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41"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42"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43"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7"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4"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6"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E6B091A-142D-4567-A60A-3B907DD427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8"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5"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6"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7"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9"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0"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7"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8"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F2BEB10-5520-40DA-A1E4-023B62D0CC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1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81"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8"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9"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90"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92"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93"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4"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6"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301"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302" name=""/>
          <p:cNvGraphicFramePr/>
          <p:nvPr/>
        </p:nvGraphicFramePr>
        <p:xfrm>
          <a:off x="4267080" y="3562200"/>
          <a:ext cx="4648320" cy="857520"/>
        </p:xfrm>
        <a:graphic>
          <a:graphicData uri="http://schemas.openxmlformats.org/presentationml/2006/ole">
            <p:oleObj progId="Excel.Sheet.12" r:id="rId1" spid="">
              <p:embed/>
              <p:pic>
                <p:nvPicPr>
                  <p:cNvPr id="303"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3C9E902C-C7FC-4009-AC35-F380291CA6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5"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10"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11"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12"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4"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CA56528-C0FD-4F91-9A6F-3176294D17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6"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20"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6"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8"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5"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8"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41"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42"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43"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8001A4CC-8216-43BE-B05E-B0CE52BCD4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5"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50"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52"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4"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5"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61"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62"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63"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4"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5"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6"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7"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0928FB6-E7E2-424F-BF73-B81DE9DE34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9"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4233D42-2B71-4F10-902F-ABA9E32912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71"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72"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DA548DB-E2A4-4E30-861E-B06C910F8F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9"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9"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90"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91"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92"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93"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4"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5"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6"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7"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400"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401"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4"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627B3EEA-5147-4057-A43B-51EA50C278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7"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D6FF4FC-1E23-468A-A5A8-094D6E044A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295280" y="336600"/>
          <a:ext cx="6553440" cy="6184800"/>
        </p:xfrm>
        <a:graphic>
          <a:graphicData uri="http://schemas.openxmlformats.org/presentationml/2006/ole">
            <p:oleObj progId="Excel.Sheet.12" r:id="rId1" spid="">
              <p:embed/>
              <p:pic>
                <p:nvPicPr>
                  <p:cNvPr id="59" name="" descr=""/>
                  <p:cNvPicPr/>
                  <p:nvPr/>
                </p:nvPicPr>
                <p:blipFill>
                  <a:blip r:embed="rId2"/>
                  <a:stretch/>
                </p:blipFill>
                <p:spPr>
                  <a:xfrm>
                    <a:off x="1295280" y="336600"/>
                    <a:ext cx="6553440" cy="6184800"/>
                  </a:xfrm>
                  <a:prstGeom prst="rect">
                    <a:avLst/>
                  </a:prstGeom>
                  <a:ln w="0">
                    <a:noFill/>
                  </a:ln>
                </p:spPr>
              </p:pic>
            </p:oleObj>
          </a:graphicData>
        </a:graphic>
      </p:graphicFrame>
      <p:sp>
        <p:nvSpPr>
          <p:cNvPr id="2" name="PlaceHolder 1"/>
          <p:cNvSpPr>
            <a:spLocks noGrp="1"/>
          </p:cNvSpPr>
          <p:nvPr>
            <p:ph type="sldNum" idx="2"/>
          </p:nvPr>
        </p:nvSpPr>
        <p:spPr/>
        <p:txBody>
          <a:bodyPr/>
          <a:p>
            <a:fld id="{B565853C-6EE6-44BB-A7E1-CA756296E2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9"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1C951A58-7712-4499-831D-AACFE28525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6"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C586B11-CC2C-48CC-88CF-E380410D5A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20"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21"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22"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23"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4"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5"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DCB085A2-E5D3-445A-BA06-42C2551EC4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32" name="PE02097_" descr=""/>
          <p:cNvPicPr/>
          <p:nvPr/>
        </p:nvPicPr>
        <p:blipFill>
          <a:blip r:embed="rId1"/>
          <a:stretch/>
        </p:blipFill>
        <p:spPr>
          <a:xfrm>
            <a:off x="3657600" y="4575240"/>
            <a:ext cx="2282760" cy="1825560"/>
          </a:xfrm>
          <a:prstGeom prst="rect">
            <a:avLst/>
          </a:prstGeom>
          <a:ln w="0">
            <a:noFill/>
          </a:ln>
        </p:spPr>
      </p:pic>
      <p:sp>
        <p:nvSpPr>
          <p:cNvPr id="433"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240ECC27-9380-4DF9-B641-A5E47BE8B4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5"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8"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9"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40"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5" name=""/>
          <p:cNvGrpSpPr/>
          <p:nvPr/>
        </p:nvGrpSpPr>
        <p:grpSpPr>
          <a:xfrm>
            <a:off x="7086600" y="3371400"/>
            <a:ext cx="1371600" cy="1219680"/>
            <a:chOff x="7086600" y="3371400"/>
            <a:chExt cx="1371600" cy="1219680"/>
          </a:xfrm>
        </p:grpSpPr>
        <p:sp>
          <p:nvSpPr>
            <p:cNvPr id="446"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7124760" y="1847520"/>
            <a:ext cx="1371600" cy="1219680"/>
            <a:chOff x="7124760" y="1847520"/>
            <a:chExt cx="1371600" cy="1219680"/>
          </a:xfrm>
        </p:grpSpPr>
        <p:sp>
          <p:nvSpPr>
            <p:cNvPr id="450"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4"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5"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6"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7"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940D213-F608-4E28-8D60-7AA2DBFB82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6"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7"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8"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9"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70"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71" name=""/>
          <p:cNvGrpSpPr/>
          <p:nvPr/>
        </p:nvGrpSpPr>
        <p:grpSpPr>
          <a:xfrm>
            <a:off x="2629080" y="2457360"/>
            <a:ext cx="1828800" cy="1600200"/>
            <a:chOff x="2629080" y="2457360"/>
            <a:chExt cx="1828800" cy="1600200"/>
          </a:xfrm>
        </p:grpSpPr>
        <p:sp>
          <p:nvSpPr>
            <p:cNvPr id="472"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73"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4"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5" name=""/>
          <p:cNvGrpSpPr/>
          <p:nvPr/>
        </p:nvGrpSpPr>
        <p:grpSpPr>
          <a:xfrm>
            <a:off x="4952880" y="1104840"/>
            <a:ext cx="1828800" cy="1067040"/>
            <a:chOff x="4952880" y="1104840"/>
            <a:chExt cx="1828800" cy="1067040"/>
          </a:xfrm>
        </p:grpSpPr>
        <p:sp>
          <p:nvSpPr>
            <p:cNvPr id="476"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7"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8" name=""/>
          <p:cNvGrpSpPr/>
          <p:nvPr/>
        </p:nvGrpSpPr>
        <p:grpSpPr>
          <a:xfrm>
            <a:off x="7010280" y="1104840"/>
            <a:ext cx="1828800" cy="1066680"/>
            <a:chOff x="7010280" y="1104840"/>
            <a:chExt cx="1828800" cy="1066680"/>
          </a:xfrm>
        </p:grpSpPr>
        <p:sp>
          <p:nvSpPr>
            <p:cNvPr id="479"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80"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81" name=""/>
          <p:cNvGrpSpPr/>
          <p:nvPr/>
        </p:nvGrpSpPr>
        <p:grpSpPr>
          <a:xfrm>
            <a:off x="304920" y="1104840"/>
            <a:ext cx="1828800" cy="1371600"/>
            <a:chOff x="304920" y="1104840"/>
            <a:chExt cx="1828800" cy="1371600"/>
          </a:xfrm>
        </p:grpSpPr>
        <p:sp>
          <p:nvSpPr>
            <p:cNvPr id="482"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83"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4"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90"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91"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6202668-F763-47FB-BEED-24FCBB19F4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93"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2785D24-C6F1-4A18-9E0C-F5C22BAE4E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8"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9"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00"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501"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3C984C1-3E6A-494B-B81C-BF01A47F09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4"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1BA3C1-8927-444E-9D74-309D7C1961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6"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032A018-7F3C-4BFF-82B4-7533D29531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B64ED09-E65F-451E-ADB1-5CD2578935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8"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5"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32"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33"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4"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5"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7"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8"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40"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41"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42"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43"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9"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0"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61C06C5A-32FB-46D1-9D21-94F301DC16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52"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7"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9"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60"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2"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7"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9"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71"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72"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F3F37DE-83D0-4C96-85DE-6FFF99600F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7"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8"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9"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80"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81"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82"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FB7B9C0-03AD-4C0D-ABA8-4456EF3E17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7383B935-0030-4EEB-B739-C39F29CBC5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9"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9"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600"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601"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602"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603"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4"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5"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6"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7"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8"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9"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10"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CF7C2B09-3EDF-4E90-ADA9-42FE4870E4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1F771D9-4528-40A1-9776-DC91538483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10F937-84C0-4DB7-B6CF-4F6E038AAC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6"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A0731B-3E9B-4195-B1BB-F35D850806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8"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D98214-02AA-4D3A-864E-3814FCE692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20"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7602A51-738D-47ED-B279-47F10EDED0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180DEEE-3974-49F8-B640-263E1F1F18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22" name=""/>
          <p:cNvGraphicFramePr/>
          <p:nvPr/>
        </p:nvGraphicFramePr>
        <p:xfrm>
          <a:off x="914400" y="977760"/>
          <a:ext cx="4162320" cy="5639040"/>
        </p:xfrm>
        <a:graphic>
          <a:graphicData uri="http://schemas.openxmlformats.org/presentationml/2006/ole">
            <p:oleObj progId="Excel.Sheet.12" r:id="rId1" spid="">
              <p:embed/>
              <p:pic>
                <p:nvPicPr>
                  <p:cNvPr id="623"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4"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933C8A67-4698-4215-883E-E2F9E3B6D6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6"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8"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0"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4"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6"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18DED30-CF16-4542-A41E-D9A20C9E23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42"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4"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8"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50"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51"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53"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488FC4-6E2A-4986-A0DE-78143BF59F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62"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CDC5BBC-F4A4-4510-999B-82C8ADB7E5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4" name=""/>
          <p:cNvGrpSpPr/>
          <p:nvPr/>
        </p:nvGrpSpPr>
        <p:grpSpPr>
          <a:xfrm>
            <a:off x="914400" y="1447920"/>
            <a:ext cx="3429000" cy="2743200"/>
            <a:chOff x="914400" y="1447920"/>
            <a:chExt cx="3429000" cy="2743200"/>
          </a:xfrm>
        </p:grpSpPr>
        <p:sp>
          <p:nvSpPr>
            <p:cNvPr id="665"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8" name=""/>
          <p:cNvGrpSpPr/>
          <p:nvPr/>
        </p:nvGrpSpPr>
        <p:grpSpPr>
          <a:xfrm>
            <a:off x="5181480" y="1447920"/>
            <a:ext cx="3429000" cy="2743200"/>
            <a:chOff x="5181480" y="1447920"/>
            <a:chExt cx="3429000" cy="2743200"/>
          </a:xfrm>
        </p:grpSpPr>
        <p:sp>
          <p:nvSpPr>
            <p:cNvPr id="669"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73"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4"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5"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80"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81"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2"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3"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4"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5"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0"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1"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2"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3"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8"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9"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00"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01"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D34E9F-3B51-4A65-AC4C-162F9D1D2A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703"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4F6A12D-44B1-4A40-90A1-2B744E7967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9"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10"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11"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12"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13"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20"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21"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22"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23"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56D384E-88FD-4F76-BA2C-0036B8B8C6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7"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1"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32"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33"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4"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2CE6F16-A649-456D-AC72-3EAA07F26B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CAE8BD4-A7D8-4E24-83A6-504408D23E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42E3087-A2E8-4AF7-BFD2-0A37628EB0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1DD7136-D702-497A-826B-2A4D0DF293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40"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41"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8"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9"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50"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51"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52"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3"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5CEB152-0FAB-46CA-912A-FEB2FBEA15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5"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6"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60"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61"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62"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63"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4"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5"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B59298-68F8-4047-A968-875B725E00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9"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82E7C85D-B45E-4E45-A435-49323898C0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71"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CA78C6E-D6DC-42CB-8D21-F3B7279DAC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73"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4"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94D230-E9A1-468B-8B86-B228083195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6"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82"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83"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4"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5"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6"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C084C44-89F8-4BB6-92F7-04943E1F95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5716EB-E003-426C-BB73-5AD5F74416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F386A2-C8E8-407A-8999-4AD9D61A64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9DF6960-47EE-410E-A0A7-D5E88488F0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00A87E6-F1FF-4D08-AF23-33EF8EC674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145FC73-61C6-4A1C-B21A-D444233776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9"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870C72AA-DE1D-40FC-9898-1CAD62FE98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801"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49ED27F-6CFB-460C-BA28-9EB69381BD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803"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7"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8"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9"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10"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11"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12"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3"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4"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5"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6"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A5BB54E-3780-4592-BFC8-52DF30010E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8" name=""/>
          <p:cNvGraphicFramePr/>
          <p:nvPr/>
        </p:nvGraphicFramePr>
        <p:xfrm>
          <a:off x="304920" y="1828800"/>
          <a:ext cx="8610480" cy="2149560"/>
        </p:xfrm>
        <a:graphic>
          <a:graphicData uri="http://schemas.openxmlformats.org/presentationml/2006/ole">
            <p:oleObj progId="Excel.Sheet.12" r:id="rId1" spid="">
              <p:embed/>
              <p:pic>
                <p:nvPicPr>
                  <p:cNvPr id="819"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20"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58A155AB-C29F-4C81-B1BE-C984448EAC71}"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8871A9D-FA74-4DCD-88F3-1D9BEA104C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2B319D1-E64A-437D-BB1D-A5DD2EBF24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mtorres</cp:lastModifiedBy>
  <dcterms:modified xsi:type="dcterms:W3CDTF">2005-08-02T18:27:56Z</dcterms:modified>
  <cp:revision>66</cp:revision>
  <dc:subject/>
  <dc:title>Gestión de Empresas de Telecomunicaciones</dc:title>
</cp:coreProperties>
</file>