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EC759D-E3D5-4904-B2E0-C8CB2CCFB1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C90BEFC-C2E9-4D68-B23F-D6C8B86D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2EDD2CB-AA69-4B36-B95F-85FE6C39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2658865-63E8-4EE9-95BF-55A0473EF1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E338E95-C606-455B-8926-323B80F9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AB8AD0-505E-47A1-80F6-1DC0862AF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F8704F7-408E-41E8-8488-F2C2EBFF0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2A1C54C-5460-4C07-B5A0-F08D524C8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A930555-856B-48F8-91F5-2DE4BF8A1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C314ECA-FB31-426D-986E-E5388882B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3FBEBC-771D-4E6A-913A-590306209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2661C9-AAAF-45E9-8495-AC01049E37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C59-E8AD-4552-A0CF-2915677FB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5</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DF4EFD-5001-46F8-8A1A-0136FB387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5" name="PlaceHolder 2"/>
          <p:cNvSpPr>
            <a:spLocks noGrp="1"/>
          </p:cNvSpPr>
          <p:nvPr>
            <p:ph/>
          </p:nvPr>
        </p:nvSpPr>
        <p:spPr>
          <a:xfrm>
            <a:off x="609120" y="1218960"/>
            <a:ext cx="8458200" cy="1785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6"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FE7AA8-08FC-454A-83E5-CB99C082AC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3)</a:t>
            </a:r>
            <a:endParaRPr b="0" lang="en-US" sz="4000" spc="-1" strike="noStrike">
              <a:solidFill>
                <a:srgbClr val="000000"/>
              </a:solidFill>
              <a:latin typeface="Times New Roman"/>
            </a:endParaRPr>
          </a:p>
        </p:txBody>
      </p:sp>
      <p:graphicFrame>
        <p:nvGraphicFramePr>
          <p:cNvPr id="78" name=""/>
          <p:cNvGraphicFramePr/>
          <p:nvPr/>
        </p:nvGraphicFramePr>
        <p:xfrm>
          <a:off x="304920" y="1523880"/>
          <a:ext cx="8534160" cy="2314800"/>
        </p:xfrm>
        <a:graphic>
          <a:graphicData uri="http://schemas.openxmlformats.org/presentationml/2006/ole">
            <p:oleObj progId="Excel.Sheet.12" r:id="rId1" spid="">
              <p:embed/>
              <p:pic>
                <p:nvPicPr>
                  <p:cNvPr id="79" name="" descr=""/>
                  <p:cNvPicPr/>
                  <p:nvPr/>
                </p:nvPicPr>
                <p:blipFill>
                  <a:blip r:embed="rId2"/>
                  <a:stretch/>
                </p:blipFill>
                <p:spPr>
                  <a:xfrm>
                    <a:off x="304920" y="1523880"/>
                    <a:ext cx="8534160" cy="2314800"/>
                  </a:xfrm>
                  <a:prstGeom prst="rect">
                    <a:avLst/>
                  </a:prstGeom>
                  <a:ln w="0">
                    <a:noFill/>
                  </a:ln>
                </p:spPr>
              </p:pic>
            </p:oleObj>
          </a:graphicData>
        </a:graphic>
      </p:graphicFrame>
      <p:sp>
        <p:nvSpPr>
          <p:cNvPr id="80" name="PlaceHolder 2"/>
          <p:cNvSpPr>
            <a:spLocks noGrp="1"/>
          </p:cNvSpPr>
          <p:nvPr>
            <p:ph/>
          </p:nvPr>
        </p:nvSpPr>
        <p:spPr>
          <a:xfrm>
            <a:off x="533160" y="411444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81" name=""/>
          <p:cNvSpPr/>
          <p:nvPr/>
        </p:nvSpPr>
        <p:spPr>
          <a:xfrm>
            <a:off x="3124080" y="1219320"/>
            <a:ext cx="2743200" cy="2514600"/>
          </a:xfrm>
          <a:prstGeom prst="upArrow">
            <a:avLst>
              <a:gd name="adj1" fmla="val 50000"/>
              <a:gd name="adj2" fmla="val 25000"/>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10 mill 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US$ 2000 mil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70%</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Bell no existe ¿Smartco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a:off x="6248520" y="1219320"/>
            <a:ext cx="2743200" cy="2514600"/>
          </a:xfrm>
          <a:prstGeom prst="upArrow">
            <a:avLst>
              <a:gd name="adj1" fmla="val 50000"/>
              <a:gd name="adj2" fmla="val 25000"/>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800.000 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US$ 300 mil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Conmutado n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ADSL y C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8614F5C-270B-4842-8242-309208AF5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7"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8"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328CB4-8617-4805-88E6-30CBE9877D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0"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1"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3"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4"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5C9FBE8-E241-4C03-A6B1-D610DD3C1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7"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EE2D806-D6C9-4FCD-8173-D58C0BE2E6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9"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65AD840-133F-4D34-9058-B810E04E2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1"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2"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1B49783-BF96-43A1-980C-E27C6EDEEF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0"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1"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8"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9"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30"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1"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3"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4"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6"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7"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8"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9"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4"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5"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1"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2"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4"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2A0BBA6-034D-4572-9E27-C39151814D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0"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1"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8"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0"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1"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83"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4"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5"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6"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9"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0"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202"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203"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4"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6"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7"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6BC83F6-108A-4F3C-851A-4C73BB82C4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estión de Empresas de Telecomunic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osé Miguel Torres Tor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39471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ccccff"/>
                </a:solidFill>
                <a:uFillTx/>
                <a:latin typeface="Times New Roman"/>
                <a:hlinkClick r:id="rId1"/>
              </a:rPr>
              <a:t>Jose.torres@telefonicamoviles.c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lases los martes de 18:00 a 21:00 h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lases complementarias durante el semest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ctividades de evaluació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TP de lectur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contro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me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29C8E5-E52F-4DDA-BDCB-DFEDD0B91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0"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5"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6"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33"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4"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5"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7"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8"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0"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41"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2"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3"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7"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6"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69E1187-CA63-4549-AC62-555C4D6D8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8"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5"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6"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7"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9"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0"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7"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8"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4F89C8B-C9A4-4581-AF30-0E100CBF6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81"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8"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9"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90"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92"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93"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4"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01"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02" name=""/>
          <p:cNvGraphicFramePr/>
          <p:nvPr/>
        </p:nvGraphicFramePr>
        <p:xfrm>
          <a:off x="4267080" y="3562200"/>
          <a:ext cx="4648320" cy="857520"/>
        </p:xfrm>
        <a:graphic>
          <a:graphicData uri="http://schemas.openxmlformats.org/presentationml/2006/ole">
            <p:oleObj progId="Excel.Sheet.12" r:id="rId1" spid="">
              <p:embed/>
              <p:pic>
                <p:nvPicPr>
                  <p:cNvPr id="303"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92A7B382-8780-4C32-83FE-83793CAD6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5"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10"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11"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12"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4"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BD3EE57-3BE0-4745-B64A-774DADD4A7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6"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20"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6"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8"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5"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8"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41"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42"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43"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9FC2A80C-82A0-4532-9A6A-706C8CE5C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5"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50"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52"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4"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5"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1"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62"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63"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4"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5"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6"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7"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F37FCF9-177C-4F69-BD81-6D5E8209B2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9"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11233C-9FF3-4CAE-96E3-3AAFFAF780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71"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72"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224652-2BE0-4B9B-ADFD-9476FA54E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9"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9"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90"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91"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92"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93"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4"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5"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6"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7"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00"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01"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4"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F982C14-F3E0-448E-9290-713D1AAF75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7"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474605-CDF0-4B61-A131-DACF70AA6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295280" y="336600"/>
          <a:ext cx="6553440" cy="6184800"/>
        </p:xfrm>
        <a:graphic>
          <a:graphicData uri="http://schemas.openxmlformats.org/presentationml/2006/ole">
            <p:oleObj progId="Excel.Sheet.12" r:id="rId1" spid="">
              <p:embed/>
              <p:pic>
                <p:nvPicPr>
                  <p:cNvPr id="59" name="" descr=""/>
                  <p:cNvPicPr/>
                  <p:nvPr/>
                </p:nvPicPr>
                <p:blipFill>
                  <a:blip r:embed="rId2"/>
                  <a:stretch/>
                </p:blipFill>
                <p:spPr>
                  <a:xfrm>
                    <a:off x="1295280" y="336600"/>
                    <a:ext cx="6553440" cy="6184800"/>
                  </a:xfrm>
                  <a:prstGeom prst="rect">
                    <a:avLst/>
                  </a:prstGeom>
                  <a:ln w="0">
                    <a:noFill/>
                  </a:ln>
                </p:spPr>
              </p:pic>
            </p:oleObj>
          </a:graphicData>
        </a:graphic>
      </p:graphicFrame>
      <p:sp>
        <p:nvSpPr>
          <p:cNvPr id="2" name="PlaceHolder 1"/>
          <p:cNvSpPr>
            <a:spLocks noGrp="1"/>
          </p:cNvSpPr>
          <p:nvPr>
            <p:ph type="sldNum" idx="2"/>
          </p:nvPr>
        </p:nvSpPr>
        <p:spPr/>
        <p:txBody>
          <a:bodyPr/>
          <a:p>
            <a:fld id="{944A3FD7-4AB2-4113-89B7-3304334A6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9"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0D897FD7-CC0A-4E8A-AA71-2045F19893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6"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D3C291-09F3-424D-9EAA-906D9E4AA0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20"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21"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22"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23"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4"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5"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E040570D-6DB5-4F04-9A41-C2026CE51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32" name="PE02097_" descr=""/>
          <p:cNvPicPr/>
          <p:nvPr/>
        </p:nvPicPr>
        <p:blipFill>
          <a:blip r:embed="rId1"/>
          <a:stretch/>
        </p:blipFill>
        <p:spPr>
          <a:xfrm>
            <a:off x="3657600" y="4575240"/>
            <a:ext cx="2282760" cy="1825560"/>
          </a:xfrm>
          <a:prstGeom prst="rect">
            <a:avLst/>
          </a:prstGeom>
          <a:ln w="0">
            <a:noFill/>
          </a:ln>
        </p:spPr>
      </p:pic>
      <p:sp>
        <p:nvSpPr>
          <p:cNvPr id="433"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E3A68B47-F240-4F16-81BC-345673AE62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5"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8"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9"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40"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5" name=""/>
          <p:cNvGrpSpPr/>
          <p:nvPr/>
        </p:nvGrpSpPr>
        <p:grpSpPr>
          <a:xfrm>
            <a:off x="7086600" y="3371400"/>
            <a:ext cx="1371600" cy="1219680"/>
            <a:chOff x="7086600" y="3371400"/>
            <a:chExt cx="1371600" cy="1219680"/>
          </a:xfrm>
        </p:grpSpPr>
        <p:sp>
          <p:nvSpPr>
            <p:cNvPr id="446"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7124760" y="1847520"/>
            <a:ext cx="1371600" cy="1219680"/>
            <a:chOff x="7124760" y="1847520"/>
            <a:chExt cx="1371600" cy="1219680"/>
          </a:xfrm>
        </p:grpSpPr>
        <p:sp>
          <p:nvSpPr>
            <p:cNvPr id="450"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4"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5"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6"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7"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184F4BC-DB32-4CEF-A7EB-8FC7F520A9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6"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7"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8"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9"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70"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71" name=""/>
          <p:cNvGrpSpPr/>
          <p:nvPr/>
        </p:nvGrpSpPr>
        <p:grpSpPr>
          <a:xfrm>
            <a:off x="2629080" y="2457360"/>
            <a:ext cx="1828800" cy="1600200"/>
            <a:chOff x="2629080" y="2457360"/>
            <a:chExt cx="1828800" cy="1600200"/>
          </a:xfrm>
        </p:grpSpPr>
        <p:sp>
          <p:nvSpPr>
            <p:cNvPr id="472"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73"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4"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5" name=""/>
          <p:cNvGrpSpPr/>
          <p:nvPr/>
        </p:nvGrpSpPr>
        <p:grpSpPr>
          <a:xfrm>
            <a:off x="4952880" y="1104840"/>
            <a:ext cx="1828800" cy="1067040"/>
            <a:chOff x="4952880" y="1104840"/>
            <a:chExt cx="1828800" cy="1067040"/>
          </a:xfrm>
        </p:grpSpPr>
        <p:sp>
          <p:nvSpPr>
            <p:cNvPr id="476"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7"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8" name=""/>
          <p:cNvGrpSpPr/>
          <p:nvPr/>
        </p:nvGrpSpPr>
        <p:grpSpPr>
          <a:xfrm>
            <a:off x="7010280" y="1104840"/>
            <a:ext cx="1828800" cy="1066680"/>
            <a:chOff x="7010280" y="1104840"/>
            <a:chExt cx="1828800" cy="1066680"/>
          </a:xfrm>
        </p:grpSpPr>
        <p:sp>
          <p:nvSpPr>
            <p:cNvPr id="479"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80"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81" name=""/>
          <p:cNvGrpSpPr/>
          <p:nvPr/>
        </p:nvGrpSpPr>
        <p:grpSpPr>
          <a:xfrm>
            <a:off x="304920" y="1104840"/>
            <a:ext cx="1828800" cy="1371600"/>
            <a:chOff x="304920" y="1104840"/>
            <a:chExt cx="1828800" cy="1371600"/>
          </a:xfrm>
        </p:grpSpPr>
        <p:sp>
          <p:nvSpPr>
            <p:cNvPr id="482"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83"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4"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90"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91"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FC74BD-D030-46D6-84F0-6BEA1C68FC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7F0720A-F5DD-48A9-BB9E-0F0141DADB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8"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9"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00"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01"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78B6E28-29AB-47CC-99AD-A5034F3F29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4"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B149FB-63EF-4E20-A958-CA45BF0897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6"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B1D1FD-A504-498F-AF8D-70C9A704D0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1F1518-A496-457B-B397-5C1FB45903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8"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5"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32"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33"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4"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5"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7"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8"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0"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41"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42"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43"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9"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0"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139B211-8F9E-4504-BAE7-57D93C984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52"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7"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9"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60"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2"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7"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9"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71"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72"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8259BA2-446F-428A-B5D3-09A14C9C5F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7"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8"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9"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0"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1"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2"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DA9F1A-C010-438A-B1E6-EC118972CD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4507D04C-91A0-40FB-9F01-8E84BA7067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9"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9"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00"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01"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02"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03"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4"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5"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6"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7"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8"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9"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10"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15C8256-6870-4BC8-8E7F-CF882D55B2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FC356B1-2579-4D2A-B8F1-C9D097B2C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1DF86A-628F-4D06-A8B6-F659904711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6"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F190E7-163A-4687-B572-4C76CBEF99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8"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8EC222-7859-450A-A8DD-4B39CF0B2E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E44F97-ED7E-4260-BE64-CB5770D066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D1BBE9-8F9E-4AAF-A47B-AC97827932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22" name=""/>
          <p:cNvGraphicFramePr/>
          <p:nvPr/>
        </p:nvGraphicFramePr>
        <p:xfrm>
          <a:off x="914400" y="977760"/>
          <a:ext cx="4162320" cy="5639040"/>
        </p:xfrm>
        <a:graphic>
          <a:graphicData uri="http://schemas.openxmlformats.org/presentationml/2006/ole">
            <p:oleObj progId="Excel.Sheet.12" r:id="rId1" spid="">
              <p:embed/>
              <p:pic>
                <p:nvPicPr>
                  <p:cNvPr id="623"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4"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18EC5BC-0C4F-4103-9B15-66111C3C4E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6"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8"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0"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4"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6"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5474261-5CB3-4D6F-AE99-48146649E2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42"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4"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8"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50"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51"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53"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410E678-F5BD-4918-BDCC-3B6D245A9A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62"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89C3D5-D6E1-4D60-B76D-9520740653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4" name=""/>
          <p:cNvGrpSpPr/>
          <p:nvPr/>
        </p:nvGrpSpPr>
        <p:grpSpPr>
          <a:xfrm>
            <a:off x="914400" y="1447920"/>
            <a:ext cx="3429000" cy="2743200"/>
            <a:chOff x="914400" y="1447920"/>
            <a:chExt cx="3429000" cy="2743200"/>
          </a:xfrm>
        </p:grpSpPr>
        <p:sp>
          <p:nvSpPr>
            <p:cNvPr id="665"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5181480" y="1447920"/>
            <a:ext cx="3429000" cy="2743200"/>
            <a:chOff x="5181480" y="1447920"/>
            <a:chExt cx="3429000" cy="2743200"/>
          </a:xfrm>
        </p:grpSpPr>
        <p:sp>
          <p:nvSpPr>
            <p:cNvPr id="669"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73"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4"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5"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80"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81"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2"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3"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4"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5"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0"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1"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2"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3"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8"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9"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00"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01"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21D23E-DBA5-498A-8344-6983B4CAB1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FFF0AE3-AA42-453C-94A6-B3F1C6E1BF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9"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10"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11"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12"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13"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20"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21"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22"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23"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6F0A37F-4D84-4695-B8A3-513E243FE5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7"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1"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32"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33"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4"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999F09-67B2-4A03-9F49-67F06D23E8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822C65-2E16-430D-984B-37AA88A284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1502B9-1E0D-4F32-9D7D-1B56B838C2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D558FE-F3F7-4F8E-BE21-2EC0759547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41"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8"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9"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50"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51"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52"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3"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DC18FE-3180-433F-AD38-1CB9663898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5"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6"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60"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61"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62"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63"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4"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5"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A8346B-22E3-47AE-9EA1-2EAAADAFFD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1E9AEB2A-9DC8-4E19-B349-8ACB168A70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333B6E-3572-4C68-A77D-FEA70261B6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4"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49D7D7-A637-406D-8D73-0F2A959D1E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6"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82"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83"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4"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5"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6"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827F24-72AA-4216-A4A8-7F05568367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CE2BF7-9744-49B5-84E3-28C87D2F96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579BA5-7378-4D6B-858F-A73262FD9F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E31E26A-20A4-4CF8-978A-E1F0CEF47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23E653-4C37-42F8-9DB2-BDFBAFE7AD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AFE48E-D887-4D5F-9F2D-50C5A37454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8DA87A11-C1E0-4D42-B761-EF9AFF19E8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7189F6-0471-49FC-AF6C-5C41159B42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03"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7"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8"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9"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10"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11"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12"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3"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4"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5"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6"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FB9DF0-18B9-4B55-A861-F15F07173D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8" name=""/>
          <p:cNvGraphicFramePr/>
          <p:nvPr/>
        </p:nvGraphicFramePr>
        <p:xfrm>
          <a:off x="304920" y="1828800"/>
          <a:ext cx="8610480" cy="2149560"/>
        </p:xfrm>
        <a:graphic>
          <a:graphicData uri="http://schemas.openxmlformats.org/presentationml/2006/ole">
            <p:oleObj progId="Excel.Sheet.12" r:id="rId1" spid="">
              <p:embed/>
              <p:pic>
                <p:nvPicPr>
                  <p:cNvPr id="819"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20"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28F04248-882A-4A3F-B012-8C5D9E382E0C}"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8C43151-F54E-4509-9366-54064C585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7173B5-A043-41E4-A0CA-FDAAEBC63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mtorres</cp:lastModifiedBy>
  <dcterms:modified xsi:type="dcterms:W3CDTF">2005-08-02T18:27:56Z</dcterms:modified>
  <cp:revision>66</cp:revision>
  <dc:subject/>
  <dc:title>Gestión de Empresas de Telecomunicaciones</dc:title>
</cp:coreProperties>
</file>