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D520-86AF-4137-9A53-D8A17F8C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5E62-9D28-46B5-B5EE-5B231B16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2250-3BE0-4207-91AB-0D6C7EF0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D5E0-85F0-4F3F-8C08-5FBBACEA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EBA9-52FA-4457-969A-AA62EDB7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0B02-C101-47EA-820F-3B799CA2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6D8C-BEE0-42A4-971A-2DAA4831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A77E-3FE1-4728-A517-74B87E0D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9D53-9085-430E-9F0D-F903D78A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9C71-2DA0-40AF-BA81-5A81665A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D539-C62B-43A4-8F44-A850A13B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37C3-EF26-420C-B47A-69ED14CB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E660-CD39-4658-AA93-63955B2C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7AC1-E31B-44FB-A353-F93796F1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5245-5AC3-4705-8C45-B58C930F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56BC-87AA-4D16-993C-A71925C0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73DB-702D-4D34-B424-3200BFC3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82C4-1DD4-48F0-B1E4-C6DCE4A7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9468-397B-4A0E-9A79-26EA3BEC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366D-7308-4ED1-A59F-F7A7A684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EE97-1D87-4AE7-B336-244B35BF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664B-ED19-4F2B-A327-F888EB0F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93A2-4BBD-4155-A05A-4414524A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F122F-8E98-49A9-993E-9A854C76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CDC3-A3AD-4674-9348-6A6921563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7AF9-1D80-4440-86C8-4C025FBCE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detectables.co.uk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mts-forum.org/servlet/dycon/ztumts/umts/Live/en/umts/Resources_Licensing_UK" TargetMode="External"/><Relationship Id="rId2" Type="http://schemas.openxmlformats.org/officeDocument/2006/relationships/hyperlink" Target="http://www.3gpp2.org/Public_html/specs/index.cf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pv6-tf.com.pt/documentos/files/RFCs/rfc3314.tx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1773360"/>
            <a:ext cx="6227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5000" spc="-1" strike="noStrike">
                <a:solidFill>
                  <a:srgbClr val="ffffff"/>
                </a:solidFill>
                <a:latin typeface="Arial"/>
              </a:rPr>
              <a:t>UMT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packet driven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voice and for data transmi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cket based networks allow for an increased amount of traffic on a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ly time part of that medium is blocked is when a device is transmitting or recei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how often in your phone calls you actually sa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ural pause betwee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ing a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ing for a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ing of something to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s voice and data services the same as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 offered will be classed into one of the 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se classes certain defined Quality of Service (QOS) specifications are guaranteed like packet dela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3357720"/>
          <a:ext cx="8075520" cy="2233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Convers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Strea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ter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-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-effort, guarantee of qualit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Vid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P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, SMS, em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Data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ual data rates will be effec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ference (other devices, background, build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use of th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ount of other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 station / cell actually attach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d you are moving a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s of Cells and Base station to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cover a large area and will give slow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4 Kbps – max speed of 50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should cover a mediu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84 Kbps max speed 12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an 100 me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Mbps – max speed of 1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icult to pre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distances and bandwidth depend on loc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s of Cells and Base station to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s will operate in a hierarchy overlaying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24400" y="3068640"/>
            <a:ext cx="7634160" cy="5276160"/>
            <a:chOff x="824400" y="3068640"/>
            <a:chExt cx="7634160" cy="5276160"/>
          </a:xfrm>
        </p:grpSpPr>
        <p:grpSp>
          <p:nvGrpSpPr>
            <p:cNvPr id="136" name=""/>
            <p:cNvGrpSpPr/>
            <p:nvPr/>
          </p:nvGrpSpPr>
          <p:grpSpPr>
            <a:xfrm>
              <a:off x="826560" y="3289680"/>
              <a:ext cx="7597800" cy="5054760"/>
              <a:chOff x="826560" y="3289680"/>
              <a:chExt cx="7597800" cy="5054760"/>
            </a:xfrm>
          </p:grpSpPr>
          <p:sp>
            <p:nvSpPr>
              <p:cNvPr id="137" name=""/>
              <p:cNvSpPr/>
              <p:nvPr/>
            </p:nvSpPr>
            <p:spPr>
              <a:xfrm>
                <a:off x="830160" y="3290040"/>
                <a:ext cx="7594200" cy="505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38800" y="3302640"/>
                <a:ext cx="7576920" cy="50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26560" y="5826240"/>
                <a:ext cx="38156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633560" y="3289680"/>
                <a:ext cx="2520" cy="254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24400" y="3289680"/>
              <a:ext cx="7613640" cy="5055120"/>
              <a:chOff x="824400" y="3289680"/>
              <a:chExt cx="7613640" cy="5055120"/>
            </a:xfrm>
          </p:grpSpPr>
          <p:sp>
            <p:nvSpPr>
              <p:cNvPr id="142" name=""/>
              <p:cNvSpPr/>
              <p:nvPr/>
            </p:nvSpPr>
            <p:spPr>
              <a:xfrm>
                <a:off x="824400" y="3290040"/>
                <a:ext cx="7601040" cy="505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2" y="0"/>
                    </a:moveTo>
                    <a:arcTo wR="10800" hR="10800" stAng="-5402672" swAng="54026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2" y="0"/>
                    </a:moveTo>
                    <a:arcTo wR="10800" hR="10800" stAng="-5402672" swAng="5402672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3040" y="3302640"/>
                <a:ext cx="7583760" cy="502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2" y="0"/>
                    </a:moveTo>
                    <a:arcTo wR="10800" hR="10800" stAng="-5402664" swAng="54026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2" y="0"/>
                    </a:moveTo>
                    <a:arcTo wR="10800" hR="10800" stAng="-5402664" swAng="540266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4630680" y="3289680"/>
                <a:ext cx="3240" cy="254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19520" y="5826240"/>
                <a:ext cx="38185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847440" y="4810680"/>
              <a:ext cx="7570080" cy="2046600"/>
            </a:xfrm>
            <a:prstGeom prst="ellipse">
              <a:avLst/>
            </a:prstGeom>
            <a:solidFill>
              <a:srgbClr val="7fff8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13400" y="3306960"/>
              <a:ext cx="2520" cy="145116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741320" y="4088880"/>
              <a:ext cx="6685920" cy="3344400"/>
              <a:chOff x="1741320" y="4088880"/>
              <a:chExt cx="6685920" cy="3344400"/>
            </a:xfrm>
          </p:grpSpPr>
          <p:sp>
            <p:nvSpPr>
              <p:cNvPr id="149" name=""/>
              <p:cNvSpPr/>
              <p:nvPr/>
            </p:nvSpPr>
            <p:spPr>
              <a:xfrm>
                <a:off x="1741680" y="4089240"/>
                <a:ext cx="6685560" cy="334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69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696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751040" y="4101840"/>
                <a:ext cx="6666840" cy="331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69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6976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741320" y="5770080"/>
                <a:ext cx="33584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5090760" y="4088880"/>
                <a:ext cx="3240" cy="169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739160" y="4088880"/>
              <a:ext cx="6684120" cy="3344400"/>
              <a:chOff x="1739160" y="4088880"/>
              <a:chExt cx="6684120" cy="3344400"/>
            </a:xfrm>
          </p:grpSpPr>
          <p:sp>
            <p:nvSpPr>
              <p:cNvPr id="154" name=""/>
              <p:cNvSpPr/>
              <p:nvPr/>
            </p:nvSpPr>
            <p:spPr>
              <a:xfrm>
                <a:off x="1739160" y="4089240"/>
                <a:ext cx="6668640" cy="334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0" y="0"/>
                    </a:moveTo>
                    <a:arcTo wR="10800" hR="10800" stAng="-5403045" swAng="54030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0" y="0"/>
                    </a:moveTo>
                    <a:arcTo wR="10800" hR="10800" stAng="-5403045" swAng="5403045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47800" y="4101840"/>
                <a:ext cx="6651360" cy="331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0" y="0"/>
                    </a:moveTo>
                    <a:arcTo wR="10800" hR="10800" stAng="-5403029" swAng="540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0" y="0"/>
                    </a:moveTo>
                    <a:arcTo wR="10800" hR="10800" stAng="-5403029" swAng="5403029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079960" y="4088880"/>
                <a:ext cx="2520" cy="169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68080" y="5770080"/>
                <a:ext cx="33552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759680" y="5101200"/>
              <a:ext cx="6657840" cy="1334160"/>
            </a:xfrm>
            <a:prstGeom prst="ellipse">
              <a:avLst/>
            </a:prstGeom>
            <a:solidFill>
              <a:srgbClr val="ff8181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55840" y="4110840"/>
              <a:ext cx="3240" cy="9774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744360" y="4393440"/>
              <a:ext cx="4686840" cy="2628720"/>
              <a:chOff x="3744360" y="4393440"/>
              <a:chExt cx="4686840" cy="26287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744360" y="4393440"/>
                <a:ext cx="4686840" cy="2628720"/>
                <a:chOff x="3744360" y="4393440"/>
                <a:chExt cx="4686840" cy="262872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745080" y="4393440"/>
                  <a:ext cx="4681800" cy="2628720"/>
                  <a:chOff x="3745080" y="4393440"/>
                  <a:chExt cx="4681800" cy="26287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748680" y="4393800"/>
                    <a:ext cx="4678200" cy="262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5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5648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757320" y="4406400"/>
                    <a:ext cx="4660920" cy="260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56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5674"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>
                    <a:off x="3745080" y="5720760"/>
                    <a:ext cx="2357640" cy="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6090840" y="4393440"/>
                    <a:ext cx="3240" cy="133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3744360" y="4393440"/>
                  <a:ext cx="4686840" cy="2628720"/>
                  <a:chOff x="3744360" y="4393440"/>
                  <a:chExt cx="4686840" cy="26287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3744360" y="4393800"/>
                    <a:ext cx="4671360" cy="262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53000" y="4406400"/>
                    <a:ext cx="4654080" cy="2602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6085440" y="4393440"/>
                    <a:ext cx="3240" cy="133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076800" y="5720760"/>
                    <a:ext cx="2354400" cy="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3757320" y="5183640"/>
                <a:ext cx="4668120" cy="1068480"/>
              </a:xfrm>
              <a:prstGeom prst="ellipse">
                <a:avLst/>
              </a:prstGeom>
              <a:solidFill>
                <a:srgbClr val="fcfe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59520" y="4424040"/>
                <a:ext cx="11160" cy="7462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350680" y="4683960"/>
              <a:ext cx="3091680" cy="2014560"/>
              <a:chOff x="5350680" y="4683960"/>
              <a:chExt cx="3091680" cy="2014560"/>
            </a:xfrm>
          </p:grpSpPr>
          <p:sp>
            <p:nvSpPr>
              <p:cNvPr id="175" name=""/>
              <p:cNvSpPr/>
              <p:nvPr/>
            </p:nvSpPr>
            <p:spPr>
              <a:xfrm>
                <a:off x="5351040" y="4684320"/>
                <a:ext cx="3091320" cy="201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53"/>
                    </a:moveTo>
                    <a:arcTo wR="10800" hR="10800" stAng="-10785122" swAng="53851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53"/>
                    </a:moveTo>
                    <a:arcTo wR="10800" hR="10800" stAng="-10785122" swAng="5385122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60400" y="4696920"/>
                <a:ext cx="3072600" cy="198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53"/>
                    </a:moveTo>
                    <a:arcTo wR="10800" hR="10800" stAng="-10785013" swAng="53850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53"/>
                    </a:moveTo>
                    <a:arcTo wR="10800" hR="10800" stAng="-10785013" swAng="5385013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5350680" y="5700240"/>
                <a:ext cx="15642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6905880" y="4683960"/>
                <a:ext cx="3240" cy="10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330520" y="4683960"/>
              <a:ext cx="3128040" cy="2014560"/>
              <a:chOff x="5330520" y="4683960"/>
              <a:chExt cx="3128040" cy="201456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0520" y="4684320"/>
                <a:ext cx="3115440" cy="201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0" y="0"/>
                    </a:moveTo>
                    <a:arcTo wR="10800" hR="10800" stAng="-5406503" swAng="53915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0" y="0"/>
                    </a:moveTo>
                    <a:arcTo wR="10800" hR="10800" stAng="-5406503" swAng="5391583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342040" y="4696920"/>
                <a:ext cx="3092400" cy="198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0" y="0"/>
                    </a:moveTo>
                    <a:arcTo wR="10800" hR="10800" stAng="-5406455" swAng="53914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0" y="0"/>
                    </a:moveTo>
                    <a:arcTo wR="10800" hR="10800" stAng="-5406455" swAng="5391425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6894720" y="4683960"/>
                <a:ext cx="2520" cy="10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82840" y="5700240"/>
                <a:ext cx="15757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 flipH="1">
              <a:off x="6877080" y="4723920"/>
              <a:ext cx="5760" cy="5860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60400" y="5292360"/>
              <a:ext cx="3080520" cy="808920"/>
            </a:xfrm>
            <a:prstGeom prst="ellipse">
              <a:avLst/>
            </a:prstGeom>
            <a:solidFill>
              <a:srgbClr val="7fff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859680" y="3068640"/>
              <a:ext cx="1270440" cy="1405080"/>
              <a:chOff x="859680" y="3068640"/>
              <a:chExt cx="1270440" cy="1405080"/>
            </a:xfrm>
          </p:grpSpPr>
          <p:sp>
            <p:nvSpPr>
              <p:cNvPr id="187" name=""/>
              <p:cNvSpPr/>
              <p:nvPr/>
            </p:nvSpPr>
            <p:spPr>
              <a:xfrm>
                <a:off x="1390680" y="3780360"/>
                <a:ext cx="329760" cy="421200"/>
              </a:xfrm>
              <a:custGeom>
                <a:avLst/>
                <a:gdLst/>
                <a:ahLst/>
                <a:rect l="l" t="t" r="r" b="b"/>
                <a:pathLst>
                  <a:path w="223" h="193">
                    <a:moveTo>
                      <a:pt x="0" y="117"/>
                    </a:moveTo>
                    <a:lnTo>
                      <a:pt x="6" y="110"/>
                    </a:lnTo>
                    <a:lnTo>
                      <a:pt x="12" y="102"/>
                    </a:lnTo>
                    <a:lnTo>
                      <a:pt x="19" y="94"/>
                    </a:lnTo>
                    <a:lnTo>
                      <a:pt x="28" y="86"/>
                    </a:lnTo>
                    <a:lnTo>
                      <a:pt x="36" y="78"/>
                    </a:lnTo>
                    <a:lnTo>
                      <a:pt x="44" y="71"/>
                    </a:lnTo>
                    <a:lnTo>
                      <a:pt x="52" y="65"/>
                    </a:lnTo>
                    <a:lnTo>
                      <a:pt x="64" y="56"/>
                    </a:lnTo>
                    <a:lnTo>
                      <a:pt x="75" y="50"/>
                    </a:lnTo>
                    <a:lnTo>
                      <a:pt x="86" y="43"/>
                    </a:lnTo>
                    <a:lnTo>
                      <a:pt x="100" y="34"/>
                    </a:lnTo>
                    <a:lnTo>
                      <a:pt x="116" y="27"/>
                    </a:lnTo>
                    <a:lnTo>
                      <a:pt x="129" y="21"/>
                    </a:lnTo>
                    <a:lnTo>
                      <a:pt x="145" y="14"/>
                    </a:lnTo>
                    <a:lnTo>
                      <a:pt x="161" y="10"/>
                    </a:lnTo>
                    <a:lnTo>
                      <a:pt x="179" y="5"/>
                    </a:lnTo>
                    <a:lnTo>
                      <a:pt x="203" y="0"/>
                    </a:lnTo>
                    <a:lnTo>
                      <a:pt x="223" y="76"/>
                    </a:lnTo>
                    <a:lnTo>
                      <a:pt x="209" y="79"/>
                    </a:lnTo>
                    <a:lnTo>
                      <a:pt x="190" y="84"/>
                    </a:lnTo>
                    <a:lnTo>
                      <a:pt x="172" y="89"/>
                    </a:lnTo>
                    <a:lnTo>
                      <a:pt x="155" y="95"/>
                    </a:lnTo>
                    <a:lnTo>
                      <a:pt x="142" y="102"/>
                    </a:lnTo>
                    <a:lnTo>
                      <a:pt x="128" y="108"/>
                    </a:lnTo>
                    <a:lnTo>
                      <a:pt x="116" y="113"/>
                    </a:lnTo>
                    <a:lnTo>
                      <a:pt x="105" y="120"/>
                    </a:lnTo>
                    <a:lnTo>
                      <a:pt x="94" y="126"/>
                    </a:lnTo>
                    <a:lnTo>
                      <a:pt x="83" y="133"/>
                    </a:lnTo>
                    <a:lnTo>
                      <a:pt x="73" y="141"/>
                    </a:lnTo>
                    <a:lnTo>
                      <a:pt x="65" y="148"/>
                    </a:lnTo>
                    <a:lnTo>
                      <a:pt x="59" y="154"/>
                    </a:lnTo>
                    <a:lnTo>
                      <a:pt x="51" y="162"/>
                    </a:lnTo>
                    <a:lnTo>
                      <a:pt x="43" y="168"/>
                    </a:lnTo>
                    <a:lnTo>
                      <a:pt x="36" y="175"/>
                    </a:lnTo>
                    <a:lnTo>
                      <a:pt x="32" y="181"/>
                    </a:lnTo>
                    <a:lnTo>
                      <a:pt x="27" y="186"/>
                    </a:lnTo>
                    <a:lnTo>
                      <a:pt x="20" y="193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a0a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458360" y="3675960"/>
                <a:ext cx="182160" cy="338040"/>
                <a:chOff x="1458360" y="3675960"/>
                <a:chExt cx="182160" cy="338040"/>
              </a:xfrm>
            </p:grpSpPr>
            <p:sp>
              <p:nvSpPr>
                <p:cNvPr id="189" name=""/>
                <p:cNvSpPr/>
                <p:nvPr/>
              </p:nvSpPr>
              <p:spPr>
                <a:xfrm flipH="1">
                  <a:off x="1472760" y="3675960"/>
                  <a:ext cx="135360" cy="3380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flipV="1">
                  <a:off x="1458360" y="3789000"/>
                  <a:ext cx="182160" cy="950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604880" y="3675960"/>
                  <a:ext cx="18000" cy="2170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1470240" y="3884040"/>
                  <a:ext cx="169920" cy="129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1460520" y="3779640"/>
                  <a:ext cx="20520" cy="2336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293120" y="3597840"/>
                <a:ext cx="424440" cy="368280"/>
                <a:chOff x="1293120" y="3597840"/>
                <a:chExt cx="424440" cy="368280"/>
              </a:xfrm>
            </p:grpSpPr>
            <p:sp>
              <p:nvSpPr>
                <p:cNvPr id="195" name=""/>
                <p:cNvSpPr/>
                <p:nvPr/>
              </p:nvSpPr>
              <p:spPr>
                <a:xfrm flipV="1">
                  <a:off x="1293120" y="3606840"/>
                  <a:ext cx="424440" cy="359280"/>
                </a:xfrm>
                <a:prstGeom prst="line">
                  <a:avLst/>
                </a:prstGeom>
                <a:ln w="38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293120" y="3597840"/>
                  <a:ext cx="421560" cy="36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275480" y="3389400"/>
                <a:ext cx="323640" cy="362880"/>
                <a:chOff x="1275480" y="3389400"/>
                <a:chExt cx="323640" cy="36288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1275480" y="3389400"/>
                  <a:ext cx="323640" cy="362880"/>
                  <a:chOff x="1275480" y="3389400"/>
                  <a:chExt cx="323640" cy="36288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1275480" y="3389400"/>
                    <a:ext cx="25272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67">
                        <a:moveTo>
                          <a:pt x="0" y="79"/>
                        </a:moveTo>
                        <a:lnTo>
                          <a:pt x="123" y="0"/>
                        </a:lnTo>
                        <a:lnTo>
                          <a:pt x="171" y="89"/>
                        </a:lnTo>
                        <a:lnTo>
                          <a:pt x="48" y="167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c0e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457640" y="3398040"/>
                    <a:ext cx="141480" cy="21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99">
                        <a:moveTo>
                          <a:pt x="0" y="0"/>
                        </a:moveTo>
                        <a:lnTo>
                          <a:pt x="70" y="52"/>
                        </a:lnTo>
                        <a:lnTo>
                          <a:pt x="96" y="99"/>
                        </a:lnTo>
                        <a:lnTo>
                          <a:pt x="50" y="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351440" y="3588480"/>
                    <a:ext cx="24732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76">
                        <a:moveTo>
                          <a:pt x="0" y="76"/>
                        </a:moveTo>
                        <a:lnTo>
                          <a:pt x="125" y="0"/>
                        </a:lnTo>
                        <a:lnTo>
                          <a:pt x="170" y="9"/>
                        </a:lnTo>
                        <a:lnTo>
                          <a:pt x="76" y="62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1340280" y="3488400"/>
                  <a:ext cx="137520" cy="155160"/>
                  <a:chOff x="1340280" y="3488400"/>
                  <a:chExt cx="137520" cy="1551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1340280" y="3544920"/>
                    <a:ext cx="64440" cy="98640"/>
                  </a:xfrm>
                  <a:prstGeom prst="ellipse">
                    <a:avLst/>
                  </a:prstGeom>
                  <a:solidFill>
                    <a:srgbClr val="408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1410120" y="3488400"/>
                    <a:ext cx="67680" cy="99720"/>
                  </a:xfrm>
                  <a:prstGeom prst="ellipse">
                    <a:avLst/>
                  </a:prstGeom>
                  <a:solidFill>
                    <a:srgbClr val="408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859680" y="3732120"/>
                <a:ext cx="518760" cy="741600"/>
                <a:chOff x="859680" y="3732120"/>
                <a:chExt cx="518760" cy="7416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859680" y="3732120"/>
                  <a:ext cx="518760" cy="741600"/>
                </a:xfrm>
                <a:custGeom>
                  <a:avLst/>
                  <a:gdLst/>
                  <a:ahLst/>
                  <a:rect l="l" t="t" r="r" b="b"/>
                  <a:pathLst>
                    <a:path w="354" h="340">
                      <a:moveTo>
                        <a:pt x="0" y="158"/>
                      </a:moveTo>
                      <a:lnTo>
                        <a:pt x="253" y="0"/>
                      </a:lnTo>
                      <a:lnTo>
                        <a:pt x="354" y="182"/>
                      </a:lnTo>
                      <a:lnTo>
                        <a:pt x="101" y="34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891720" y="3789000"/>
                  <a:ext cx="464760" cy="644400"/>
                  <a:chOff x="891720" y="3789000"/>
                  <a:chExt cx="464760" cy="64440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924120" y="3789000"/>
                    <a:ext cx="388080" cy="644400"/>
                    <a:chOff x="924120" y="3789000"/>
                    <a:chExt cx="388080" cy="64440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1168200" y="3789000"/>
                      <a:ext cx="144000" cy="41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1103400" y="3853440"/>
                      <a:ext cx="149760" cy="40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041480" y="3909600"/>
                      <a:ext cx="147240" cy="407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982800" y="3957480"/>
                      <a:ext cx="149760" cy="41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924120" y="4022280"/>
                      <a:ext cx="144000" cy="411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891720" y="3826800"/>
                    <a:ext cx="464760" cy="576000"/>
                    <a:chOff x="891720" y="3826800"/>
                    <a:chExt cx="464760" cy="57600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flipV="1">
                      <a:off x="891720" y="3826800"/>
                      <a:ext cx="379440" cy="342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V="1">
                      <a:off x="920880" y="3896280"/>
                      <a:ext cx="379440" cy="350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V="1">
                      <a:off x="947520" y="3978720"/>
                      <a:ext cx="379440" cy="350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V="1">
                      <a:off x="982800" y="4047840"/>
                      <a:ext cx="373680" cy="354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9" name=""/>
              <p:cNvGrpSpPr/>
              <p:nvPr/>
            </p:nvGrpSpPr>
            <p:grpSpPr>
              <a:xfrm>
                <a:off x="1614960" y="3068640"/>
                <a:ext cx="515160" cy="741600"/>
                <a:chOff x="1614960" y="3068640"/>
                <a:chExt cx="515160" cy="7416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614960" y="3068640"/>
                  <a:ext cx="515160" cy="741600"/>
                </a:xfrm>
                <a:custGeom>
                  <a:avLst/>
                  <a:gdLst/>
                  <a:ahLst/>
                  <a:rect l="l" t="t" r="r" b="b"/>
                  <a:pathLst>
                    <a:path w="351" h="342">
                      <a:moveTo>
                        <a:pt x="0" y="160"/>
                      </a:moveTo>
                      <a:lnTo>
                        <a:pt x="252" y="0"/>
                      </a:lnTo>
                      <a:lnTo>
                        <a:pt x="351" y="183"/>
                      </a:lnTo>
                      <a:lnTo>
                        <a:pt x="100" y="342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" name=""/>
                <p:cNvGrpSpPr/>
                <p:nvPr/>
              </p:nvGrpSpPr>
              <p:grpSpPr>
                <a:xfrm>
                  <a:off x="1661400" y="3133440"/>
                  <a:ext cx="458640" cy="639360"/>
                  <a:chOff x="1661400" y="3133440"/>
                  <a:chExt cx="458640" cy="639360"/>
                </a:xfrm>
              </p:grpSpPr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1684440" y="3133440"/>
                    <a:ext cx="394200" cy="639360"/>
                    <a:chOff x="1684440" y="3133440"/>
                    <a:chExt cx="394200" cy="6393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1929240" y="3133440"/>
                      <a:ext cx="149400" cy="415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1866960" y="3194280"/>
                      <a:ext cx="146520" cy="40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1802160" y="3250080"/>
                      <a:ext cx="149760" cy="40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1740240" y="3301920"/>
                      <a:ext cx="153360" cy="411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1684440" y="3362760"/>
                      <a:ext cx="147240" cy="41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1661400" y="3172680"/>
                    <a:ext cx="458640" cy="570960"/>
                    <a:chOff x="1661400" y="3172680"/>
                    <a:chExt cx="458640" cy="5709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V="1">
                      <a:off x="1661400" y="3172680"/>
                      <a:ext cx="376920" cy="33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V="1">
                      <a:off x="1688040" y="3236760"/>
                      <a:ext cx="373320" cy="350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V="1">
                      <a:off x="1717200" y="3318840"/>
                      <a:ext cx="376200" cy="354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flipV="1">
                      <a:off x="1743840" y="3397320"/>
                      <a:ext cx="376200" cy="34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3" name=""/>
              <p:cNvSpPr/>
              <p:nvPr/>
            </p:nvSpPr>
            <p:spPr>
              <a:xfrm>
                <a:off x="1387440" y="3636720"/>
                <a:ext cx="120960" cy="334800"/>
              </a:xfrm>
              <a:custGeom>
                <a:avLst/>
                <a:gdLst/>
                <a:ahLst/>
                <a:rect l="l" t="t" r="r" b="b"/>
                <a:pathLst>
                  <a:path w="84" h="155">
                    <a:moveTo>
                      <a:pt x="29" y="0"/>
                    </a:moveTo>
                    <a:lnTo>
                      <a:pt x="84" y="0"/>
                    </a:lnTo>
                    <a:lnTo>
                      <a:pt x="72" y="22"/>
                    </a:lnTo>
                    <a:lnTo>
                      <a:pt x="66" y="42"/>
                    </a:lnTo>
                    <a:lnTo>
                      <a:pt x="61" y="68"/>
                    </a:lnTo>
                    <a:lnTo>
                      <a:pt x="60" y="84"/>
                    </a:lnTo>
                    <a:lnTo>
                      <a:pt x="60" y="105"/>
                    </a:lnTo>
                    <a:lnTo>
                      <a:pt x="60" y="117"/>
                    </a:lnTo>
                    <a:lnTo>
                      <a:pt x="60" y="130"/>
                    </a:lnTo>
                    <a:lnTo>
                      <a:pt x="61" y="141"/>
                    </a:lnTo>
                    <a:lnTo>
                      <a:pt x="64" y="155"/>
                    </a:lnTo>
                    <a:lnTo>
                      <a:pt x="5" y="155"/>
                    </a:lnTo>
                    <a:lnTo>
                      <a:pt x="4" y="145"/>
                    </a:lnTo>
                    <a:lnTo>
                      <a:pt x="0" y="133"/>
                    </a:lnTo>
                    <a:lnTo>
                      <a:pt x="0" y="120"/>
                    </a:lnTo>
                    <a:lnTo>
                      <a:pt x="0" y="107"/>
                    </a:lnTo>
                    <a:lnTo>
                      <a:pt x="0" y="96"/>
                    </a:lnTo>
                    <a:lnTo>
                      <a:pt x="2" y="86"/>
                    </a:lnTo>
                    <a:lnTo>
                      <a:pt x="4" y="74"/>
                    </a:lnTo>
                    <a:lnTo>
                      <a:pt x="5" y="62"/>
                    </a:lnTo>
                    <a:lnTo>
                      <a:pt x="8" y="49"/>
                    </a:lnTo>
                    <a:lnTo>
                      <a:pt x="13" y="35"/>
                    </a:lnTo>
                    <a:lnTo>
                      <a:pt x="18" y="24"/>
                    </a:lnTo>
                    <a:lnTo>
                      <a:pt x="23" y="1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06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43600" y="3515400"/>
                <a:ext cx="203040" cy="338760"/>
              </a:xfrm>
              <a:custGeom>
                <a:avLst/>
                <a:gdLst/>
                <a:ahLst/>
                <a:rect l="l" t="t" r="r" b="b"/>
                <a:pathLst>
                  <a:path w="139" h="156">
                    <a:moveTo>
                      <a:pt x="0" y="137"/>
                    </a:moveTo>
                    <a:lnTo>
                      <a:pt x="3" y="126"/>
                    </a:lnTo>
                    <a:lnTo>
                      <a:pt x="8" y="111"/>
                    </a:lnTo>
                    <a:lnTo>
                      <a:pt x="13" y="97"/>
                    </a:lnTo>
                    <a:lnTo>
                      <a:pt x="19" y="82"/>
                    </a:lnTo>
                    <a:lnTo>
                      <a:pt x="25" y="69"/>
                    </a:lnTo>
                    <a:lnTo>
                      <a:pt x="33" y="57"/>
                    </a:lnTo>
                    <a:lnTo>
                      <a:pt x="41" y="46"/>
                    </a:lnTo>
                    <a:lnTo>
                      <a:pt x="53" y="35"/>
                    </a:lnTo>
                    <a:lnTo>
                      <a:pt x="59" y="27"/>
                    </a:lnTo>
                    <a:lnTo>
                      <a:pt x="65" y="21"/>
                    </a:lnTo>
                    <a:lnTo>
                      <a:pt x="77" y="11"/>
                    </a:lnTo>
                    <a:lnTo>
                      <a:pt x="86" y="5"/>
                    </a:lnTo>
                    <a:lnTo>
                      <a:pt x="94" y="0"/>
                    </a:lnTo>
                    <a:lnTo>
                      <a:pt x="139" y="19"/>
                    </a:lnTo>
                    <a:lnTo>
                      <a:pt x="124" y="27"/>
                    </a:lnTo>
                    <a:lnTo>
                      <a:pt x="116" y="35"/>
                    </a:lnTo>
                    <a:lnTo>
                      <a:pt x="107" y="42"/>
                    </a:lnTo>
                    <a:lnTo>
                      <a:pt x="99" y="50"/>
                    </a:lnTo>
                    <a:lnTo>
                      <a:pt x="93" y="58"/>
                    </a:lnTo>
                    <a:lnTo>
                      <a:pt x="86" y="66"/>
                    </a:lnTo>
                    <a:lnTo>
                      <a:pt x="78" y="76"/>
                    </a:lnTo>
                    <a:lnTo>
                      <a:pt x="72" y="87"/>
                    </a:lnTo>
                    <a:lnTo>
                      <a:pt x="67" y="97"/>
                    </a:lnTo>
                    <a:lnTo>
                      <a:pt x="61" y="109"/>
                    </a:lnTo>
                    <a:lnTo>
                      <a:pt x="54" y="123"/>
                    </a:lnTo>
                    <a:lnTo>
                      <a:pt x="51" y="133"/>
                    </a:lnTo>
                    <a:lnTo>
                      <a:pt x="48" y="145"/>
                    </a:lnTo>
                    <a:lnTo>
                      <a:pt x="46" y="156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423080" y="4050000"/>
              <a:ext cx="316800" cy="1027440"/>
              <a:chOff x="1423080" y="4050000"/>
              <a:chExt cx="316800" cy="102744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579320" y="4050000"/>
                <a:ext cx="160560" cy="614880"/>
                <a:chOff x="1579320" y="4050000"/>
                <a:chExt cx="160560" cy="614880"/>
              </a:xfrm>
            </p:grpSpPr>
            <p:sp>
              <p:nvSpPr>
                <p:cNvPr id="237" name=""/>
                <p:cNvSpPr/>
                <p:nvPr/>
              </p:nvSpPr>
              <p:spPr>
                <a:xfrm flipV="1">
                  <a:off x="1579320" y="4214520"/>
                  <a:ext cx="114120" cy="45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585080" y="4050000"/>
                  <a:ext cx="154800" cy="334080"/>
                </a:xfrm>
                <a:custGeom>
                  <a:avLst/>
                  <a:gdLst/>
                  <a:ahLst/>
                  <a:rect l="l" t="t" r="r" b="b"/>
                  <a:pathLst>
                    <a:path w="107" h="153">
                      <a:moveTo>
                        <a:pt x="107" y="0"/>
                      </a:moveTo>
                      <a:lnTo>
                        <a:pt x="0" y="128"/>
                      </a:lnTo>
                      <a:lnTo>
                        <a:pt x="105" y="153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423080" y="4480200"/>
                <a:ext cx="163800" cy="597240"/>
                <a:chOff x="1423080" y="4480200"/>
                <a:chExt cx="163800" cy="59724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1469880" y="4480200"/>
                  <a:ext cx="117000" cy="43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23080" y="4748400"/>
                  <a:ext cx="161640" cy="329040"/>
                </a:xfrm>
                <a:custGeom>
                  <a:avLst/>
                  <a:gdLst/>
                  <a:ahLst/>
                  <a:rect l="l" t="t" r="r" b="b"/>
                  <a:pathLst>
                    <a:path w="109" h="152">
                      <a:moveTo>
                        <a:pt x="0" y="152"/>
                      </a:moveTo>
                      <a:lnTo>
                        <a:pt x="109" y="24"/>
                      </a:lnTo>
                      <a:lnTo>
                        <a:pt x="3" y="0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V="1">
                <a:off x="1587960" y="4480200"/>
                <a:ext cx="252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125360" y="5041080"/>
              <a:ext cx="559080" cy="763200"/>
              <a:chOff x="1125360" y="5041080"/>
              <a:chExt cx="559080" cy="76320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1125360" y="5071320"/>
                <a:ext cx="559080" cy="732960"/>
                <a:chOff x="1125360" y="5071320"/>
                <a:chExt cx="559080" cy="73296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1328400" y="5508720"/>
                  <a:ext cx="2160" cy="103320"/>
                  <a:chOff x="1328400" y="5508720"/>
                  <a:chExt cx="2160" cy="1033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1328400" y="5512320"/>
                    <a:ext cx="2160" cy="691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328400" y="5508720"/>
                    <a:ext cx="2160" cy="10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1242720" y="5452560"/>
                  <a:ext cx="43920" cy="129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460880" y="548316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28" y="14"/>
                      </a:lnTo>
                      <a:lnTo>
                        <a:pt x="28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378440" y="5426280"/>
                  <a:ext cx="32040" cy="2628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11" y="0"/>
                      </a:moveTo>
                      <a:lnTo>
                        <a:pt x="0" y="14"/>
                      </a:lnTo>
                      <a:lnTo>
                        <a:pt x="14" y="12"/>
                      </a:lnTo>
                      <a:lnTo>
                        <a:pt x="2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328400" y="5617080"/>
                  <a:ext cx="129600" cy="8640"/>
                </a:xfrm>
                <a:custGeom>
                  <a:avLst/>
                  <a:gdLst/>
                  <a:ahLst/>
                  <a:rect l="l" t="t" r="r" b="b"/>
                  <a:pathLst>
                    <a:path w="88" h="4">
                      <a:moveTo>
                        <a:pt x="0" y="0"/>
                      </a:moveTo>
                      <a:lnTo>
                        <a:pt x="88" y="0"/>
                      </a:lnTo>
                      <a:lnTo>
                        <a:pt x="88" y="4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234080" y="5231520"/>
                  <a:ext cx="50040" cy="64800"/>
                </a:xfrm>
                <a:custGeom>
                  <a:avLst/>
                  <a:gdLst/>
                  <a:ahLst/>
                  <a:rect l="l" t="t" r="r" b="b"/>
                  <a:pathLst>
                    <a:path w="36" h="28">
                      <a:moveTo>
                        <a:pt x="34" y="0"/>
                      </a:move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36" y="1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19320" y="5071320"/>
                  <a:ext cx="82080" cy="532800"/>
                </a:xfrm>
                <a:custGeom>
                  <a:avLst/>
                  <a:gdLst/>
                  <a:ahLst/>
                  <a:rect l="l" t="t" r="r" b="b"/>
                  <a:pathLst>
                    <a:path w="56" h="246">
                      <a:moveTo>
                        <a:pt x="56" y="0"/>
                      </a:moveTo>
                      <a:lnTo>
                        <a:pt x="0" y="15"/>
                      </a:lnTo>
                      <a:lnTo>
                        <a:pt x="0" y="246"/>
                      </a:lnTo>
                      <a:lnTo>
                        <a:pt x="11" y="246"/>
                      </a:lnTo>
                      <a:lnTo>
                        <a:pt x="11" y="36"/>
                      </a:lnTo>
                      <a:lnTo>
                        <a:pt x="56" y="23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216080" y="5604120"/>
                  <a:ext cx="468360" cy="113040"/>
                </a:xfrm>
                <a:custGeom>
                  <a:avLst/>
                  <a:gdLst/>
                  <a:ahLst/>
                  <a:rect l="l" t="t" r="r" b="b"/>
                  <a:pathLst>
                    <a:path w="318" h="52">
                      <a:moveTo>
                        <a:pt x="0" y="52"/>
                      </a:moveTo>
                      <a:lnTo>
                        <a:pt x="0" y="0"/>
                      </a:lnTo>
                      <a:lnTo>
                        <a:pt x="69" y="0"/>
                      </a:lnTo>
                      <a:lnTo>
                        <a:pt x="83" y="9"/>
                      </a:lnTo>
                      <a:lnTo>
                        <a:pt x="125" y="9"/>
                      </a:lnTo>
                      <a:lnTo>
                        <a:pt x="139" y="18"/>
                      </a:lnTo>
                      <a:lnTo>
                        <a:pt x="277" y="18"/>
                      </a:lnTo>
                      <a:lnTo>
                        <a:pt x="277" y="35"/>
                      </a:lnTo>
                      <a:lnTo>
                        <a:pt x="318" y="35"/>
                      </a:lnTo>
                      <a:lnTo>
                        <a:pt x="31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225440" y="5690880"/>
                  <a:ext cx="329400" cy="12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204560" y="5438880"/>
                  <a:ext cx="2520" cy="8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186560" y="5500080"/>
                  <a:ext cx="32400" cy="30240"/>
                </a:xfrm>
                <a:custGeom>
                  <a:avLst/>
                  <a:gdLst/>
                  <a:ahLst/>
                  <a:rect l="l" t="t" r="r" b="b"/>
                  <a:pathLst>
                    <a:path w="21" h="15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6" y="5"/>
                      </a:lnTo>
                      <a:lnTo>
                        <a:pt x="6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360440" y="5487120"/>
                  <a:ext cx="97560" cy="138600"/>
                </a:xfrm>
                <a:custGeom>
                  <a:avLst/>
                  <a:gdLst/>
                  <a:ahLst/>
                  <a:rect l="l" t="t" r="r" b="b"/>
                  <a:pathLst>
                    <a:path w="67" h="64">
                      <a:moveTo>
                        <a:pt x="0" y="0"/>
                      </a:moveTo>
                      <a:lnTo>
                        <a:pt x="67" y="64"/>
                      </a:lnTo>
                      <a:lnTo>
                        <a:pt x="57" y="63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34000" y="5564880"/>
                  <a:ext cx="82080" cy="15228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42" y="0"/>
                      </a:moveTo>
                      <a:lnTo>
                        <a:pt x="0" y="26"/>
                      </a:lnTo>
                      <a:lnTo>
                        <a:pt x="0" y="70"/>
                      </a:lnTo>
                      <a:lnTo>
                        <a:pt x="56" y="70"/>
                      </a:lnTo>
                      <a:lnTo>
                        <a:pt x="56" y="17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125360" y="5803920"/>
                  <a:ext cx="550800" cy="36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125360" y="5769360"/>
                  <a:ext cx="550800" cy="756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25360" y="5730120"/>
                  <a:ext cx="550800" cy="1260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605240" y="5686920"/>
                  <a:ext cx="61920" cy="2160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184040" y="5555880"/>
                  <a:ext cx="41400" cy="35280"/>
                </a:xfrm>
                <a:prstGeom prst="ellipse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328400" y="5483160"/>
                  <a:ext cx="23040" cy="1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295640" y="5452560"/>
                  <a:ext cx="162360" cy="151200"/>
                </a:xfrm>
                <a:custGeom>
                  <a:avLst/>
                  <a:gdLst/>
                  <a:ahLst/>
                  <a:rect l="l" t="t" r="r" b="b"/>
                  <a:pathLst>
                    <a:path w="110" h="71">
                      <a:moveTo>
                        <a:pt x="14" y="71"/>
                      </a:moveTo>
                      <a:lnTo>
                        <a:pt x="14" y="9"/>
                      </a:lnTo>
                      <a:lnTo>
                        <a:pt x="110" y="9"/>
                      </a:lnTo>
                      <a:lnTo>
                        <a:pt x="110" y="0"/>
                      </a:lnTo>
                      <a:lnTo>
                        <a:pt x="0" y="0"/>
                      </a:lnTo>
                      <a:lnTo>
                        <a:pt x="0" y="71"/>
                      </a:lnTo>
                      <a:lnTo>
                        <a:pt x="14" y="7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1175400" y="5317920"/>
                  <a:ext cx="178920" cy="146520"/>
                  <a:chOff x="1175400" y="5317920"/>
                  <a:chExt cx="178920" cy="14652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1189800" y="5317920"/>
                    <a:ext cx="164520" cy="1465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175400" y="5317920"/>
                    <a:ext cx="164520" cy="1465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1234080" y="5617080"/>
                  <a:ext cx="78480" cy="124920"/>
                  <a:chOff x="1234080" y="5617080"/>
                  <a:chExt cx="78480" cy="12492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1242360" y="5617080"/>
                    <a:ext cx="43560" cy="1249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1234080" y="5621760"/>
                    <a:ext cx="78480" cy="114840"/>
                    <a:chOff x="1234080" y="5621760"/>
                    <a:chExt cx="78480" cy="1148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1234080" y="564300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1234080" y="569808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1234080" y="567684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1234080" y="5659200"/>
                      <a:ext cx="78480" cy="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234080" y="562176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234080" y="571572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234080" y="5731920"/>
                      <a:ext cx="78480" cy="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0" name=""/>
                <p:cNvSpPr/>
                <p:nvPr/>
              </p:nvSpPr>
              <p:spPr>
                <a:xfrm>
                  <a:off x="1623240" y="5656320"/>
                  <a:ext cx="360" cy="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455480" y="5214240"/>
                <a:ext cx="102240" cy="107280"/>
                <a:chOff x="1455480" y="5214240"/>
                <a:chExt cx="102240" cy="1072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513800" y="5244480"/>
                  <a:ext cx="43920" cy="77040"/>
                </a:xfrm>
                <a:custGeom>
                  <a:avLst/>
                  <a:gdLst/>
                  <a:ahLst/>
                  <a:rect l="l" t="t" r="r" b="b"/>
                  <a:pathLst>
                    <a:path w="30" h="35">
                      <a:moveTo>
                        <a:pt x="25" y="0"/>
                      </a:moveTo>
                      <a:lnTo>
                        <a:pt x="0" y="29"/>
                      </a:lnTo>
                      <a:lnTo>
                        <a:pt x="5" y="35"/>
                      </a:lnTo>
                      <a:lnTo>
                        <a:pt x="30" y="1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0c0e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455480" y="5214240"/>
                  <a:ext cx="87840" cy="17280"/>
                </a:xfrm>
                <a:custGeom>
                  <a:avLst/>
                  <a:gdLst/>
                  <a:ahLst/>
                  <a:rect l="l" t="t" r="r" b="b"/>
                  <a:pathLst>
                    <a:path w="61" h="9">
                      <a:moveTo>
                        <a:pt x="59" y="0"/>
                      </a:moveTo>
                      <a:lnTo>
                        <a:pt x="0" y="5"/>
                      </a:lnTo>
                      <a:lnTo>
                        <a:pt x="8" y="9"/>
                      </a:lnTo>
                      <a:lnTo>
                        <a:pt x="61" y="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0c0e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251720" y="5041080"/>
                <a:ext cx="333360" cy="502200"/>
                <a:chOff x="1251720" y="5041080"/>
                <a:chExt cx="333360" cy="5022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251720" y="5041080"/>
                  <a:ext cx="333360" cy="502200"/>
                </a:xfrm>
                <a:custGeom>
                  <a:avLst/>
                  <a:gdLst/>
                  <a:ahLst/>
                  <a:rect l="l" t="t" r="r" b="b"/>
                  <a:pathLst>
                    <a:path w="226" h="230">
                      <a:moveTo>
                        <a:pt x="7" y="8"/>
                      </a:moveTo>
                      <a:lnTo>
                        <a:pt x="3" y="14"/>
                      </a:lnTo>
                      <a:lnTo>
                        <a:pt x="2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2" y="52"/>
                      </a:lnTo>
                      <a:lnTo>
                        <a:pt x="5" y="67"/>
                      </a:lnTo>
                      <a:lnTo>
                        <a:pt x="10" y="84"/>
                      </a:lnTo>
                      <a:lnTo>
                        <a:pt x="19" y="101"/>
                      </a:lnTo>
                      <a:lnTo>
                        <a:pt x="32" y="120"/>
                      </a:lnTo>
                      <a:lnTo>
                        <a:pt x="53" y="142"/>
                      </a:lnTo>
                      <a:lnTo>
                        <a:pt x="74" y="161"/>
                      </a:lnTo>
                      <a:lnTo>
                        <a:pt x="90" y="175"/>
                      </a:lnTo>
                      <a:lnTo>
                        <a:pt x="115" y="191"/>
                      </a:lnTo>
                      <a:lnTo>
                        <a:pt x="139" y="204"/>
                      </a:lnTo>
                      <a:lnTo>
                        <a:pt x="162" y="215"/>
                      </a:lnTo>
                      <a:lnTo>
                        <a:pt x="178" y="221"/>
                      </a:lnTo>
                      <a:lnTo>
                        <a:pt x="195" y="226"/>
                      </a:lnTo>
                      <a:lnTo>
                        <a:pt x="208" y="230"/>
                      </a:lnTo>
                      <a:lnTo>
                        <a:pt x="218" y="230"/>
                      </a:lnTo>
                      <a:lnTo>
                        <a:pt x="226" y="228"/>
                      </a:lnTo>
                      <a:lnTo>
                        <a:pt x="15" y="0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269720" y="5041080"/>
                  <a:ext cx="315360" cy="493200"/>
                </a:xfrm>
                <a:custGeom>
                  <a:avLst/>
                  <a:gdLst/>
                  <a:ahLst/>
                  <a:rect l="l" t="t" r="r" b="b"/>
                  <a:pathLst>
                    <a:path w="213" h="226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0" y="14"/>
                      </a:lnTo>
                      <a:lnTo>
                        <a:pt x="2" y="25"/>
                      </a:lnTo>
                      <a:lnTo>
                        <a:pt x="3" y="35"/>
                      </a:lnTo>
                      <a:lnTo>
                        <a:pt x="5" y="47"/>
                      </a:lnTo>
                      <a:lnTo>
                        <a:pt x="8" y="62"/>
                      </a:lnTo>
                      <a:lnTo>
                        <a:pt x="14" y="77"/>
                      </a:lnTo>
                      <a:lnTo>
                        <a:pt x="24" y="95"/>
                      </a:lnTo>
                      <a:lnTo>
                        <a:pt x="40" y="117"/>
                      </a:lnTo>
                      <a:lnTo>
                        <a:pt x="58" y="136"/>
                      </a:lnTo>
                      <a:lnTo>
                        <a:pt x="77" y="154"/>
                      </a:lnTo>
                      <a:lnTo>
                        <a:pt x="96" y="169"/>
                      </a:lnTo>
                      <a:lnTo>
                        <a:pt x="112" y="179"/>
                      </a:lnTo>
                      <a:lnTo>
                        <a:pt x="125" y="187"/>
                      </a:lnTo>
                      <a:lnTo>
                        <a:pt x="139" y="197"/>
                      </a:lnTo>
                      <a:lnTo>
                        <a:pt x="155" y="206"/>
                      </a:lnTo>
                      <a:lnTo>
                        <a:pt x="168" y="210"/>
                      </a:lnTo>
                      <a:lnTo>
                        <a:pt x="179" y="215"/>
                      </a:lnTo>
                      <a:lnTo>
                        <a:pt x="192" y="220"/>
                      </a:lnTo>
                      <a:lnTo>
                        <a:pt x="203" y="225"/>
                      </a:lnTo>
                      <a:lnTo>
                        <a:pt x="210" y="226"/>
                      </a:lnTo>
                      <a:lnTo>
                        <a:pt x="213" y="223"/>
                      </a:lnTo>
                      <a:lnTo>
                        <a:pt x="213" y="218"/>
                      </a:lnTo>
                      <a:lnTo>
                        <a:pt x="211" y="213"/>
                      </a:lnTo>
                      <a:lnTo>
                        <a:pt x="208" y="204"/>
                      </a:lnTo>
                      <a:lnTo>
                        <a:pt x="205" y="191"/>
                      </a:lnTo>
                      <a:lnTo>
                        <a:pt x="200" y="180"/>
                      </a:lnTo>
                      <a:lnTo>
                        <a:pt x="195" y="166"/>
                      </a:lnTo>
                      <a:lnTo>
                        <a:pt x="187" y="152"/>
                      </a:lnTo>
                      <a:lnTo>
                        <a:pt x="181" y="141"/>
                      </a:lnTo>
                      <a:lnTo>
                        <a:pt x="174" y="131"/>
                      </a:lnTo>
                      <a:lnTo>
                        <a:pt x="165" y="117"/>
                      </a:lnTo>
                      <a:lnTo>
                        <a:pt x="154" y="106"/>
                      </a:lnTo>
                      <a:lnTo>
                        <a:pt x="142" y="94"/>
                      </a:lnTo>
                      <a:lnTo>
                        <a:pt x="123" y="78"/>
                      </a:lnTo>
                      <a:lnTo>
                        <a:pt x="112" y="67"/>
                      </a:lnTo>
                      <a:lnTo>
                        <a:pt x="93" y="52"/>
                      </a:lnTo>
                      <a:lnTo>
                        <a:pt x="75" y="41"/>
                      </a:lnTo>
                      <a:lnTo>
                        <a:pt x="58" y="30"/>
                      </a:lnTo>
                      <a:lnTo>
                        <a:pt x="45" y="22"/>
                      </a:lnTo>
                      <a:lnTo>
                        <a:pt x="30" y="13"/>
                      </a:lnTo>
                      <a:lnTo>
                        <a:pt x="21" y="7"/>
                      </a:lnTo>
                      <a:lnTo>
                        <a:pt x="1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280880" y="5171040"/>
                <a:ext cx="323640" cy="316080"/>
                <a:chOff x="1280880" y="5171040"/>
                <a:chExt cx="323640" cy="3160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280880" y="5171040"/>
                  <a:ext cx="315360" cy="17640"/>
                </a:xfrm>
                <a:custGeom>
                  <a:avLst/>
                  <a:gdLst/>
                  <a:ahLst/>
                  <a:rect l="l" t="t" r="r" b="b"/>
                  <a:pathLst>
                    <a:path w="215" h="9">
                      <a:moveTo>
                        <a:pt x="0" y="0"/>
                      </a:moveTo>
                      <a:lnTo>
                        <a:pt x="215" y="5"/>
                      </a:lnTo>
                      <a:lnTo>
                        <a:pt x="213" y="9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93280" y="5231880"/>
                  <a:ext cx="111240" cy="255240"/>
                </a:xfrm>
                <a:custGeom>
                  <a:avLst/>
                  <a:gdLst/>
                  <a:ahLst/>
                  <a:rect l="l" t="t" r="r" b="b"/>
                  <a:pathLst>
                    <a:path w="75" h="118">
                      <a:moveTo>
                        <a:pt x="67" y="2"/>
                      </a:moveTo>
                      <a:lnTo>
                        <a:pt x="0" y="115"/>
                      </a:lnTo>
                      <a:lnTo>
                        <a:pt x="6" y="118"/>
                      </a:lnTo>
                      <a:lnTo>
                        <a:pt x="75" y="0"/>
                      </a:lnTo>
                      <a:lnTo>
                        <a:pt x="67" y="2"/>
                      </a:lnTo>
                      <a:close/>
                    </a:path>
                  </a:pathLst>
                </a:custGeom>
                <a:solidFill>
                  <a:srgbClr val="e0e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531800" y="5171040"/>
                <a:ext cx="132120" cy="81720"/>
                <a:chOff x="1531800" y="5171040"/>
                <a:chExt cx="132120" cy="817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531800" y="5183640"/>
                  <a:ext cx="91080" cy="69120"/>
                </a:xfrm>
                <a:custGeom>
                  <a:avLst/>
                  <a:gdLst/>
                  <a:ahLst/>
                  <a:rect l="l" t="t" r="r" b="b"/>
                  <a:pathLst>
                    <a:path w="62" h="31">
                      <a:moveTo>
                        <a:pt x="46" y="0"/>
                      </a:moveTo>
                      <a:lnTo>
                        <a:pt x="3" y="9"/>
                      </a:lnTo>
                      <a:lnTo>
                        <a:pt x="1" y="11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8" y="29"/>
                      </a:lnTo>
                      <a:lnTo>
                        <a:pt x="14" y="31"/>
                      </a:lnTo>
                      <a:lnTo>
                        <a:pt x="17" y="31"/>
                      </a:lnTo>
                      <a:lnTo>
                        <a:pt x="20" y="31"/>
                      </a:lnTo>
                      <a:lnTo>
                        <a:pt x="62" y="19"/>
                      </a:lnTo>
                      <a:lnTo>
                        <a:pt x="54" y="15"/>
                      </a:lnTo>
                      <a:lnTo>
                        <a:pt x="49" y="1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c0c0e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585080" y="5171040"/>
                  <a:ext cx="55080" cy="60120"/>
                </a:xfrm>
                <a:custGeom>
                  <a:avLst/>
                  <a:gdLst/>
                  <a:ahLst/>
                  <a:rect l="l" t="t" r="r" b="b"/>
                  <a:pathLst>
                    <a:path w="38" h="28">
                      <a:moveTo>
                        <a:pt x="22" y="3"/>
                      </a:moveTo>
                      <a:lnTo>
                        <a:pt x="20" y="2"/>
                      </a:lnTo>
                      <a:lnTo>
                        <a:pt x="16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2"/>
                      </a:lnTo>
                      <a:lnTo>
                        <a:pt x="3" y="16"/>
                      </a:lnTo>
                      <a:lnTo>
                        <a:pt x="5" y="19"/>
                      </a:lnTo>
                      <a:lnTo>
                        <a:pt x="8" y="22"/>
                      </a:lnTo>
                      <a:lnTo>
                        <a:pt x="12" y="24"/>
                      </a:lnTo>
                      <a:lnTo>
                        <a:pt x="16" y="25"/>
                      </a:lnTo>
                      <a:lnTo>
                        <a:pt x="20" y="27"/>
                      </a:lnTo>
                      <a:lnTo>
                        <a:pt x="27" y="28"/>
                      </a:lnTo>
                      <a:lnTo>
                        <a:pt x="32" y="28"/>
                      </a:lnTo>
                      <a:lnTo>
                        <a:pt x="36" y="27"/>
                      </a:lnTo>
                      <a:lnTo>
                        <a:pt x="38" y="24"/>
                      </a:lnTo>
                      <a:lnTo>
                        <a:pt x="38" y="22"/>
                      </a:lnTo>
                      <a:lnTo>
                        <a:pt x="36" y="18"/>
                      </a:lnTo>
                      <a:lnTo>
                        <a:pt x="33" y="13"/>
                      </a:lnTo>
                      <a:lnTo>
                        <a:pt x="27" y="7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599480" y="5179680"/>
                  <a:ext cx="64440" cy="46440"/>
                </a:xfrm>
                <a:custGeom>
                  <a:avLst/>
                  <a:gdLst/>
                  <a:ahLst/>
                  <a:rect l="l" t="t" r="r" b="b"/>
                  <a:pathLst>
                    <a:path w="43" h="23">
                      <a:moveTo>
                        <a:pt x="3" y="5"/>
                      </a:move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3" y="1"/>
                      </a:lnTo>
                      <a:lnTo>
                        <a:pt x="43" y="4"/>
                      </a:lnTo>
                      <a:lnTo>
                        <a:pt x="41" y="7"/>
                      </a:lnTo>
                      <a:lnTo>
                        <a:pt x="16" y="23"/>
                      </a:lnTo>
                      <a:lnTo>
                        <a:pt x="13" y="23"/>
                      </a:lnTo>
                      <a:lnTo>
                        <a:pt x="8" y="22"/>
                      </a:lnTo>
                      <a:lnTo>
                        <a:pt x="6" y="20"/>
                      </a:lnTo>
                      <a:lnTo>
                        <a:pt x="1" y="17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1" y="7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a0a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552320" y="5200920"/>
                  <a:ext cx="23040" cy="4284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6" y="15"/>
                      </a:lnTo>
                      <a:lnTo>
                        <a:pt x="10" y="17"/>
                      </a:lnTo>
                      <a:lnTo>
                        <a:pt x="11" y="19"/>
                      </a:lnTo>
                      <a:lnTo>
                        <a:pt x="13" y="19"/>
                      </a:lnTo>
                      <a:lnTo>
                        <a:pt x="16" y="2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567080" y="5192280"/>
                  <a:ext cx="32400" cy="4284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" y="10"/>
                      </a:lnTo>
                      <a:lnTo>
                        <a:pt x="3" y="13"/>
                      </a:lnTo>
                      <a:lnTo>
                        <a:pt x="8" y="16"/>
                      </a:lnTo>
                      <a:lnTo>
                        <a:pt x="12" y="18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22" y="2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2603520" y="5005800"/>
              <a:ext cx="1113840" cy="871200"/>
              <a:chOff x="2603520" y="5005800"/>
              <a:chExt cx="1113840" cy="87120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2915640" y="5005800"/>
                <a:ext cx="801720" cy="763200"/>
                <a:chOff x="2915640" y="5005800"/>
                <a:chExt cx="801720" cy="76320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3458520" y="5192280"/>
                  <a:ext cx="258840" cy="524160"/>
                  <a:chOff x="3458520" y="5192280"/>
                  <a:chExt cx="258840" cy="52416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3458520" y="5192280"/>
                    <a:ext cx="258840" cy="52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242">
                        <a:moveTo>
                          <a:pt x="53" y="11"/>
                        </a:moveTo>
                        <a:lnTo>
                          <a:pt x="59" y="8"/>
                        </a:lnTo>
                        <a:lnTo>
                          <a:pt x="67" y="4"/>
                        </a:lnTo>
                        <a:lnTo>
                          <a:pt x="77" y="2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105" y="2"/>
                        </a:lnTo>
                        <a:lnTo>
                          <a:pt x="112" y="3"/>
                        </a:lnTo>
                        <a:lnTo>
                          <a:pt x="120" y="5"/>
                        </a:lnTo>
                        <a:lnTo>
                          <a:pt x="126" y="9"/>
                        </a:lnTo>
                        <a:lnTo>
                          <a:pt x="129" y="11"/>
                        </a:lnTo>
                        <a:lnTo>
                          <a:pt x="128" y="25"/>
                        </a:lnTo>
                        <a:lnTo>
                          <a:pt x="126" y="40"/>
                        </a:lnTo>
                        <a:lnTo>
                          <a:pt x="126" y="52"/>
                        </a:lnTo>
                        <a:lnTo>
                          <a:pt x="126" y="63"/>
                        </a:lnTo>
                        <a:lnTo>
                          <a:pt x="128" y="73"/>
                        </a:lnTo>
                        <a:lnTo>
                          <a:pt x="129" y="81"/>
                        </a:lnTo>
                        <a:lnTo>
                          <a:pt x="129" y="87"/>
                        </a:lnTo>
                        <a:lnTo>
                          <a:pt x="131" y="94"/>
                        </a:lnTo>
                        <a:lnTo>
                          <a:pt x="133" y="101"/>
                        </a:lnTo>
                        <a:lnTo>
                          <a:pt x="134" y="107"/>
                        </a:lnTo>
                        <a:lnTo>
                          <a:pt x="137" y="113"/>
                        </a:lnTo>
                        <a:lnTo>
                          <a:pt x="141" y="123"/>
                        </a:lnTo>
                        <a:lnTo>
                          <a:pt x="144" y="135"/>
                        </a:lnTo>
                        <a:lnTo>
                          <a:pt x="150" y="151"/>
                        </a:lnTo>
                        <a:lnTo>
                          <a:pt x="157" y="166"/>
                        </a:lnTo>
                        <a:lnTo>
                          <a:pt x="165" y="182"/>
                        </a:lnTo>
                        <a:lnTo>
                          <a:pt x="169" y="190"/>
                        </a:lnTo>
                        <a:lnTo>
                          <a:pt x="176" y="200"/>
                        </a:lnTo>
                        <a:lnTo>
                          <a:pt x="176" y="231"/>
                        </a:lnTo>
                        <a:lnTo>
                          <a:pt x="165" y="235"/>
                        </a:lnTo>
                        <a:lnTo>
                          <a:pt x="153" y="237"/>
                        </a:lnTo>
                        <a:lnTo>
                          <a:pt x="137" y="239"/>
                        </a:lnTo>
                        <a:lnTo>
                          <a:pt x="118" y="241"/>
                        </a:lnTo>
                        <a:lnTo>
                          <a:pt x="99" y="242"/>
                        </a:lnTo>
                        <a:lnTo>
                          <a:pt x="73" y="242"/>
                        </a:lnTo>
                        <a:lnTo>
                          <a:pt x="54" y="239"/>
                        </a:lnTo>
                        <a:lnTo>
                          <a:pt x="33" y="238"/>
                        </a:lnTo>
                        <a:lnTo>
                          <a:pt x="19" y="236"/>
                        </a:lnTo>
                        <a:lnTo>
                          <a:pt x="11" y="235"/>
                        </a:lnTo>
                        <a:lnTo>
                          <a:pt x="0" y="230"/>
                        </a:lnTo>
                        <a:lnTo>
                          <a:pt x="0" y="200"/>
                        </a:lnTo>
                        <a:lnTo>
                          <a:pt x="5" y="194"/>
                        </a:lnTo>
                        <a:lnTo>
                          <a:pt x="9" y="186"/>
                        </a:lnTo>
                        <a:lnTo>
                          <a:pt x="14" y="178"/>
                        </a:lnTo>
                        <a:lnTo>
                          <a:pt x="22" y="163"/>
                        </a:lnTo>
                        <a:lnTo>
                          <a:pt x="29" y="151"/>
                        </a:lnTo>
                        <a:lnTo>
                          <a:pt x="33" y="140"/>
                        </a:lnTo>
                        <a:lnTo>
                          <a:pt x="38" y="128"/>
                        </a:lnTo>
                        <a:lnTo>
                          <a:pt x="43" y="114"/>
                        </a:lnTo>
                        <a:lnTo>
                          <a:pt x="48" y="99"/>
                        </a:lnTo>
                        <a:lnTo>
                          <a:pt x="51" y="85"/>
                        </a:lnTo>
                        <a:lnTo>
                          <a:pt x="53" y="72"/>
                        </a:lnTo>
                        <a:lnTo>
                          <a:pt x="56" y="59"/>
                        </a:lnTo>
                        <a:lnTo>
                          <a:pt x="56" y="46"/>
                        </a:lnTo>
                        <a:lnTo>
                          <a:pt x="56" y="34"/>
                        </a:lnTo>
                        <a:lnTo>
                          <a:pt x="56" y="23"/>
                        </a:lnTo>
                        <a:lnTo>
                          <a:pt x="53" y="11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458520" y="5192280"/>
                    <a:ext cx="202680" cy="52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242">
                        <a:moveTo>
                          <a:pt x="53" y="11"/>
                        </a:moveTo>
                        <a:lnTo>
                          <a:pt x="61" y="8"/>
                        </a:lnTo>
                        <a:lnTo>
                          <a:pt x="69" y="4"/>
                        </a:lnTo>
                        <a:lnTo>
                          <a:pt x="78" y="2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105" y="2"/>
                        </a:lnTo>
                        <a:lnTo>
                          <a:pt x="112" y="3"/>
                        </a:lnTo>
                        <a:lnTo>
                          <a:pt x="112" y="14"/>
                        </a:lnTo>
                        <a:lnTo>
                          <a:pt x="112" y="25"/>
                        </a:lnTo>
                        <a:lnTo>
                          <a:pt x="110" y="38"/>
                        </a:lnTo>
                        <a:lnTo>
                          <a:pt x="110" y="52"/>
                        </a:lnTo>
                        <a:lnTo>
                          <a:pt x="110" y="63"/>
                        </a:lnTo>
                        <a:lnTo>
                          <a:pt x="110" y="76"/>
                        </a:lnTo>
                        <a:lnTo>
                          <a:pt x="110" y="89"/>
                        </a:lnTo>
                        <a:lnTo>
                          <a:pt x="112" y="99"/>
                        </a:lnTo>
                        <a:lnTo>
                          <a:pt x="112" y="110"/>
                        </a:lnTo>
                        <a:lnTo>
                          <a:pt x="113" y="119"/>
                        </a:lnTo>
                        <a:lnTo>
                          <a:pt x="113" y="128"/>
                        </a:lnTo>
                        <a:lnTo>
                          <a:pt x="115" y="138"/>
                        </a:lnTo>
                        <a:lnTo>
                          <a:pt x="117" y="146"/>
                        </a:lnTo>
                        <a:lnTo>
                          <a:pt x="117" y="155"/>
                        </a:lnTo>
                        <a:lnTo>
                          <a:pt x="120" y="163"/>
                        </a:lnTo>
                        <a:lnTo>
                          <a:pt x="123" y="172"/>
                        </a:lnTo>
                        <a:lnTo>
                          <a:pt x="128" y="184"/>
                        </a:lnTo>
                        <a:lnTo>
                          <a:pt x="133" y="201"/>
                        </a:lnTo>
                        <a:lnTo>
                          <a:pt x="137" y="210"/>
                        </a:lnTo>
                        <a:lnTo>
                          <a:pt x="139" y="217"/>
                        </a:lnTo>
                        <a:lnTo>
                          <a:pt x="139" y="239"/>
                        </a:lnTo>
                        <a:lnTo>
                          <a:pt x="120" y="241"/>
                        </a:lnTo>
                        <a:lnTo>
                          <a:pt x="99" y="242"/>
                        </a:lnTo>
                        <a:lnTo>
                          <a:pt x="75" y="242"/>
                        </a:lnTo>
                        <a:lnTo>
                          <a:pt x="54" y="239"/>
                        </a:lnTo>
                        <a:lnTo>
                          <a:pt x="33" y="238"/>
                        </a:lnTo>
                        <a:lnTo>
                          <a:pt x="19" y="236"/>
                        </a:lnTo>
                        <a:lnTo>
                          <a:pt x="11" y="235"/>
                        </a:lnTo>
                        <a:lnTo>
                          <a:pt x="0" y="230"/>
                        </a:lnTo>
                        <a:lnTo>
                          <a:pt x="0" y="200"/>
                        </a:lnTo>
                        <a:lnTo>
                          <a:pt x="5" y="194"/>
                        </a:lnTo>
                        <a:lnTo>
                          <a:pt x="9" y="186"/>
                        </a:lnTo>
                        <a:lnTo>
                          <a:pt x="14" y="178"/>
                        </a:lnTo>
                        <a:lnTo>
                          <a:pt x="22" y="163"/>
                        </a:lnTo>
                        <a:lnTo>
                          <a:pt x="29" y="151"/>
                        </a:lnTo>
                        <a:lnTo>
                          <a:pt x="33" y="140"/>
                        </a:lnTo>
                        <a:lnTo>
                          <a:pt x="40" y="128"/>
                        </a:lnTo>
                        <a:lnTo>
                          <a:pt x="43" y="114"/>
                        </a:lnTo>
                        <a:lnTo>
                          <a:pt x="48" y="99"/>
                        </a:lnTo>
                        <a:lnTo>
                          <a:pt x="51" y="85"/>
                        </a:lnTo>
                        <a:lnTo>
                          <a:pt x="54" y="72"/>
                        </a:lnTo>
                        <a:lnTo>
                          <a:pt x="56" y="59"/>
                        </a:lnTo>
                        <a:lnTo>
                          <a:pt x="56" y="46"/>
                        </a:lnTo>
                        <a:lnTo>
                          <a:pt x="56" y="34"/>
                        </a:lnTo>
                        <a:lnTo>
                          <a:pt x="56" y="23"/>
                        </a:lnTo>
                        <a:lnTo>
                          <a:pt x="53" y="11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3225240" y="5093280"/>
                  <a:ext cx="323640" cy="645120"/>
                  <a:chOff x="3225240" y="5093280"/>
                  <a:chExt cx="323640" cy="6451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3225240" y="5093280"/>
                    <a:ext cx="323640" cy="64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298">
                        <a:moveTo>
                          <a:pt x="66" y="13"/>
                        </a:moveTo>
                        <a:lnTo>
                          <a:pt x="76" y="8"/>
                        </a:lnTo>
                        <a:lnTo>
                          <a:pt x="85" y="5"/>
                        </a:lnTo>
                        <a:lnTo>
                          <a:pt x="98" y="1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2" y="1"/>
                        </a:lnTo>
                        <a:lnTo>
                          <a:pt x="140" y="2"/>
                        </a:lnTo>
                        <a:lnTo>
                          <a:pt x="151" y="6"/>
                        </a:lnTo>
                        <a:lnTo>
                          <a:pt x="159" y="11"/>
                        </a:lnTo>
                        <a:lnTo>
                          <a:pt x="164" y="15"/>
                        </a:lnTo>
                        <a:lnTo>
                          <a:pt x="160" y="31"/>
                        </a:lnTo>
                        <a:lnTo>
                          <a:pt x="160" y="48"/>
                        </a:lnTo>
                        <a:lnTo>
                          <a:pt x="160" y="64"/>
                        </a:lnTo>
                        <a:lnTo>
                          <a:pt x="160" y="77"/>
                        </a:lnTo>
                        <a:lnTo>
                          <a:pt x="160" y="89"/>
                        </a:lnTo>
                        <a:lnTo>
                          <a:pt x="162" y="99"/>
                        </a:lnTo>
                        <a:lnTo>
                          <a:pt x="164" y="108"/>
                        </a:lnTo>
                        <a:lnTo>
                          <a:pt x="165" y="115"/>
                        </a:lnTo>
                        <a:lnTo>
                          <a:pt x="167" y="124"/>
                        </a:lnTo>
                        <a:lnTo>
                          <a:pt x="170" y="132"/>
                        </a:lnTo>
                        <a:lnTo>
                          <a:pt x="172" y="138"/>
                        </a:lnTo>
                        <a:lnTo>
                          <a:pt x="176" y="152"/>
                        </a:lnTo>
                        <a:lnTo>
                          <a:pt x="181" y="167"/>
                        </a:lnTo>
                        <a:lnTo>
                          <a:pt x="189" y="185"/>
                        </a:lnTo>
                        <a:lnTo>
                          <a:pt x="197" y="205"/>
                        </a:lnTo>
                        <a:lnTo>
                          <a:pt x="207" y="223"/>
                        </a:lnTo>
                        <a:lnTo>
                          <a:pt x="212" y="234"/>
                        </a:lnTo>
                        <a:lnTo>
                          <a:pt x="221" y="246"/>
                        </a:lnTo>
                        <a:lnTo>
                          <a:pt x="221" y="283"/>
                        </a:lnTo>
                        <a:lnTo>
                          <a:pt x="208" y="288"/>
                        </a:lnTo>
                        <a:lnTo>
                          <a:pt x="194" y="290"/>
                        </a:lnTo>
                        <a:lnTo>
                          <a:pt x="173" y="294"/>
                        </a:lnTo>
                        <a:lnTo>
                          <a:pt x="149" y="297"/>
                        </a:lnTo>
                        <a:lnTo>
                          <a:pt x="124" y="298"/>
                        </a:lnTo>
                        <a:lnTo>
                          <a:pt x="93" y="298"/>
                        </a:lnTo>
                        <a:lnTo>
                          <a:pt x="68" y="295"/>
                        </a:lnTo>
                        <a:lnTo>
                          <a:pt x="42" y="293"/>
                        </a:lnTo>
                        <a:lnTo>
                          <a:pt x="24" y="289"/>
                        </a:lnTo>
                        <a:lnTo>
                          <a:pt x="13" y="288"/>
                        </a:lnTo>
                        <a:lnTo>
                          <a:pt x="0" y="282"/>
                        </a:lnTo>
                        <a:lnTo>
                          <a:pt x="0" y="246"/>
                        </a:lnTo>
                        <a:lnTo>
                          <a:pt x="7" y="239"/>
                        </a:lnTo>
                        <a:lnTo>
                          <a:pt x="13" y="228"/>
                        </a:lnTo>
                        <a:lnTo>
                          <a:pt x="18" y="218"/>
                        </a:lnTo>
                        <a:lnTo>
                          <a:pt x="29" y="201"/>
                        </a:lnTo>
                        <a:lnTo>
                          <a:pt x="36" y="186"/>
                        </a:lnTo>
                        <a:lnTo>
                          <a:pt x="42" y="171"/>
                        </a:lnTo>
                        <a:lnTo>
                          <a:pt x="48" y="157"/>
                        </a:lnTo>
                        <a:lnTo>
                          <a:pt x="55" y="141"/>
                        </a:lnTo>
                        <a:lnTo>
                          <a:pt x="61" y="121"/>
                        </a:lnTo>
                        <a:lnTo>
                          <a:pt x="64" y="104"/>
                        </a:lnTo>
                        <a:lnTo>
                          <a:pt x="68" y="88"/>
                        </a:lnTo>
                        <a:lnTo>
                          <a:pt x="69" y="73"/>
                        </a:lnTo>
                        <a:lnTo>
                          <a:pt x="71" y="56"/>
                        </a:lnTo>
                        <a:lnTo>
                          <a:pt x="71" y="40"/>
                        </a:lnTo>
                        <a:lnTo>
                          <a:pt x="69" y="27"/>
                        </a:lnTo>
                        <a:lnTo>
                          <a:pt x="66" y="13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225240" y="5093280"/>
                    <a:ext cx="253440" cy="64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98">
                        <a:moveTo>
                          <a:pt x="68" y="13"/>
                        </a:moveTo>
                        <a:lnTo>
                          <a:pt x="76" y="8"/>
                        </a:lnTo>
                        <a:lnTo>
                          <a:pt x="85" y="5"/>
                        </a:lnTo>
                        <a:lnTo>
                          <a:pt x="98" y="1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3" y="1"/>
                        </a:lnTo>
                        <a:lnTo>
                          <a:pt x="140" y="2"/>
                        </a:lnTo>
                        <a:lnTo>
                          <a:pt x="140" y="17"/>
                        </a:lnTo>
                        <a:lnTo>
                          <a:pt x="140" y="31"/>
                        </a:lnTo>
                        <a:lnTo>
                          <a:pt x="138" y="46"/>
                        </a:lnTo>
                        <a:lnTo>
                          <a:pt x="138" y="62"/>
                        </a:lnTo>
                        <a:lnTo>
                          <a:pt x="138" y="78"/>
                        </a:lnTo>
                        <a:lnTo>
                          <a:pt x="138" y="94"/>
                        </a:lnTo>
                        <a:lnTo>
                          <a:pt x="138" y="109"/>
                        </a:lnTo>
                        <a:lnTo>
                          <a:pt x="138" y="121"/>
                        </a:lnTo>
                        <a:lnTo>
                          <a:pt x="140" y="135"/>
                        </a:lnTo>
                        <a:lnTo>
                          <a:pt x="141" y="147"/>
                        </a:lnTo>
                        <a:lnTo>
                          <a:pt x="141" y="157"/>
                        </a:lnTo>
                        <a:lnTo>
                          <a:pt x="143" y="169"/>
                        </a:lnTo>
                        <a:lnTo>
                          <a:pt x="144" y="179"/>
                        </a:lnTo>
                        <a:lnTo>
                          <a:pt x="146" y="190"/>
                        </a:lnTo>
                        <a:lnTo>
                          <a:pt x="149" y="201"/>
                        </a:lnTo>
                        <a:lnTo>
                          <a:pt x="152" y="211"/>
                        </a:lnTo>
                        <a:lnTo>
                          <a:pt x="159" y="227"/>
                        </a:lnTo>
                        <a:lnTo>
                          <a:pt x="165" y="247"/>
                        </a:lnTo>
                        <a:lnTo>
                          <a:pt x="172" y="259"/>
                        </a:lnTo>
                        <a:lnTo>
                          <a:pt x="173" y="267"/>
                        </a:lnTo>
                        <a:lnTo>
                          <a:pt x="173" y="294"/>
                        </a:lnTo>
                        <a:lnTo>
                          <a:pt x="149" y="297"/>
                        </a:lnTo>
                        <a:lnTo>
                          <a:pt x="124" y="298"/>
                        </a:lnTo>
                        <a:lnTo>
                          <a:pt x="93" y="298"/>
                        </a:lnTo>
                        <a:lnTo>
                          <a:pt x="68" y="295"/>
                        </a:lnTo>
                        <a:lnTo>
                          <a:pt x="42" y="293"/>
                        </a:lnTo>
                        <a:lnTo>
                          <a:pt x="24" y="289"/>
                        </a:lnTo>
                        <a:lnTo>
                          <a:pt x="13" y="288"/>
                        </a:lnTo>
                        <a:lnTo>
                          <a:pt x="0" y="282"/>
                        </a:lnTo>
                        <a:lnTo>
                          <a:pt x="0" y="246"/>
                        </a:lnTo>
                        <a:lnTo>
                          <a:pt x="7" y="239"/>
                        </a:lnTo>
                        <a:lnTo>
                          <a:pt x="13" y="228"/>
                        </a:lnTo>
                        <a:lnTo>
                          <a:pt x="18" y="218"/>
                        </a:lnTo>
                        <a:lnTo>
                          <a:pt x="29" y="201"/>
                        </a:lnTo>
                        <a:lnTo>
                          <a:pt x="36" y="186"/>
                        </a:lnTo>
                        <a:lnTo>
                          <a:pt x="42" y="171"/>
                        </a:lnTo>
                        <a:lnTo>
                          <a:pt x="50" y="157"/>
                        </a:lnTo>
                        <a:lnTo>
                          <a:pt x="55" y="141"/>
                        </a:lnTo>
                        <a:lnTo>
                          <a:pt x="61" y="121"/>
                        </a:lnTo>
                        <a:lnTo>
                          <a:pt x="66" y="104"/>
                        </a:lnTo>
                        <a:lnTo>
                          <a:pt x="68" y="88"/>
                        </a:lnTo>
                        <a:lnTo>
                          <a:pt x="69" y="73"/>
                        </a:lnTo>
                        <a:lnTo>
                          <a:pt x="71" y="56"/>
                        </a:lnTo>
                        <a:lnTo>
                          <a:pt x="71" y="40"/>
                        </a:lnTo>
                        <a:lnTo>
                          <a:pt x="69" y="27"/>
                        </a:lnTo>
                        <a:lnTo>
                          <a:pt x="68" y="13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2915640" y="5005800"/>
                  <a:ext cx="388800" cy="763200"/>
                  <a:chOff x="2915640" y="5005800"/>
                  <a:chExt cx="388800" cy="76320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2915640" y="5005800"/>
                    <a:ext cx="388800" cy="76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350">
                        <a:moveTo>
                          <a:pt x="80" y="16"/>
                        </a:moveTo>
                        <a:lnTo>
                          <a:pt x="89" y="9"/>
                        </a:lnTo>
                        <a:lnTo>
                          <a:pt x="101" y="5"/>
                        </a:lnTo>
                        <a:lnTo>
                          <a:pt x="117" y="1"/>
                        </a:lnTo>
                        <a:lnTo>
                          <a:pt x="131" y="0"/>
                        </a:lnTo>
                        <a:lnTo>
                          <a:pt x="145" y="0"/>
                        </a:lnTo>
                        <a:lnTo>
                          <a:pt x="158" y="1"/>
                        </a:lnTo>
                        <a:lnTo>
                          <a:pt x="166" y="3"/>
                        </a:lnTo>
                        <a:lnTo>
                          <a:pt x="179" y="7"/>
                        </a:lnTo>
                        <a:lnTo>
                          <a:pt x="189" y="12"/>
                        </a:lnTo>
                        <a:lnTo>
                          <a:pt x="193" y="17"/>
                        </a:lnTo>
                        <a:lnTo>
                          <a:pt x="192" y="36"/>
                        </a:lnTo>
                        <a:lnTo>
                          <a:pt x="190" y="56"/>
                        </a:lnTo>
                        <a:lnTo>
                          <a:pt x="190" y="76"/>
                        </a:lnTo>
                        <a:lnTo>
                          <a:pt x="190" y="90"/>
                        </a:lnTo>
                        <a:lnTo>
                          <a:pt x="192" y="105"/>
                        </a:lnTo>
                        <a:lnTo>
                          <a:pt x="193" y="117"/>
                        </a:lnTo>
                        <a:lnTo>
                          <a:pt x="195" y="127"/>
                        </a:lnTo>
                        <a:lnTo>
                          <a:pt x="197" y="136"/>
                        </a:lnTo>
                        <a:lnTo>
                          <a:pt x="200" y="146"/>
                        </a:lnTo>
                        <a:lnTo>
                          <a:pt x="201" y="155"/>
                        </a:lnTo>
                        <a:lnTo>
                          <a:pt x="205" y="163"/>
                        </a:lnTo>
                        <a:lnTo>
                          <a:pt x="209" y="179"/>
                        </a:lnTo>
                        <a:lnTo>
                          <a:pt x="216" y="196"/>
                        </a:lnTo>
                        <a:lnTo>
                          <a:pt x="225" y="218"/>
                        </a:lnTo>
                        <a:lnTo>
                          <a:pt x="235" y="240"/>
                        </a:lnTo>
                        <a:lnTo>
                          <a:pt x="246" y="263"/>
                        </a:lnTo>
                        <a:lnTo>
                          <a:pt x="253" y="275"/>
                        </a:lnTo>
                        <a:lnTo>
                          <a:pt x="264" y="290"/>
                        </a:lnTo>
                        <a:lnTo>
                          <a:pt x="264" y="333"/>
                        </a:lnTo>
                        <a:lnTo>
                          <a:pt x="248" y="339"/>
                        </a:lnTo>
                        <a:lnTo>
                          <a:pt x="230" y="342"/>
                        </a:lnTo>
                        <a:lnTo>
                          <a:pt x="206" y="347"/>
                        </a:lnTo>
                        <a:lnTo>
                          <a:pt x="177" y="349"/>
                        </a:lnTo>
                        <a:lnTo>
                          <a:pt x="147" y="350"/>
                        </a:lnTo>
                        <a:lnTo>
                          <a:pt x="110" y="350"/>
                        </a:lnTo>
                        <a:lnTo>
                          <a:pt x="80" y="348"/>
                        </a:lnTo>
                        <a:lnTo>
                          <a:pt x="49" y="345"/>
                        </a:lnTo>
                        <a:lnTo>
                          <a:pt x="29" y="340"/>
                        </a:lnTo>
                        <a:lnTo>
                          <a:pt x="16" y="339"/>
                        </a:lnTo>
                        <a:lnTo>
                          <a:pt x="0" y="332"/>
                        </a:lnTo>
                        <a:lnTo>
                          <a:pt x="0" y="290"/>
                        </a:lnTo>
                        <a:lnTo>
                          <a:pt x="6" y="282"/>
                        </a:lnTo>
                        <a:lnTo>
                          <a:pt x="14" y="268"/>
                        </a:lnTo>
                        <a:lnTo>
                          <a:pt x="22" y="257"/>
                        </a:lnTo>
                        <a:lnTo>
                          <a:pt x="33" y="236"/>
                        </a:lnTo>
                        <a:lnTo>
                          <a:pt x="41" y="219"/>
                        </a:lnTo>
                        <a:lnTo>
                          <a:pt x="49" y="203"/>
                        </a:lnTo>
                        <a:lnTo>
                          <a:pt x="57" y="184"/>
                        </a:lnTo>
                        <a:lnTo>
                          <a:pt x="64" y="166"/>
                        </a:lnTo>
                        <a:lnTo>
                          <a:pt x="72" y="142"/>
                        </a:lnTo>
                        <a:lnTo>
                          <a:pt x="77" y="122"/>
                        </a:lnTo>
                        <a:lnTo>
                          <a:pt x="80" y="104"/>
                        </a:lnTo>
                        <a:lnTo>
                          <a:pt x="83" y="87"/>
                        </a:lnTo>
                        <a:lnTo>
                          <a:pt x="85" y="66"/>
                        </a:lnTo>
                        <a:lnTo>
                          <a:pt x="85" y="47"/>
                        </a:lnTo>
                        <a:lnTo>
                          <a:pt x="83" y="32"/>
                        </a:lnTo>
                        <a:lnTo>
                          <a:pt x="80" y="16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915640" y="5005800"/>
                    <a:ext cx="303840" cy="76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350">
                        <a:moveTo>
                          <a:pt x="80" y="16"/>
                        </a:moveTo>
                        <a:lnTo>
                          <a:pt x="89" y="9"/>
                        </a:lnTo>
                        <a:lnTo>
                          <a:pt x="101" y="5"/>
                        </a:lnTo>
                        <a:lnTo>
                          <a:pt x="117" y="1"/>
                        </a:lnTo>
                        <a:lnTo>
                          <a:pt x="131" y="0"/>
                        </a:lnTo>
                        <a:lnTo>
                          <a:pt x="145" y="0"/>
                        </a:lnTo>
                        <a:lnTo>
                          <a:pt x="158" y="1"/>
                        </a:lnTo>
                        <a:lnTo>
                          <a:pt x="168" y="3"/>
                        </a:lnTo>
                        <a:lnTo>
                          <a:pt x="166" y="19"/>
                        </a:lnTo>
                        <a:lnTo>
                          <a:pt x="165" y="35"/>
                        </a:lnTo>
                        <a:lnTo>
                          <a:pt x="165" y="55"/>
                        </a:lnTo>
                        <a:lnTo>
                          <a:pt x="165" y="74"/>
                        </a:lnTo>
                        <a:lnTo>
                          <a:pt x="163" y="92"/>
                        </a:lnTo>
                        <a:lnTo>
                          <a:pt x="163" y="110"/>
                        </a:lnTo>
                        <a:lnTo>
                          <a:pt x="163" y="128"/>
                        </a:lnTo>
                        <a:lnTo>
                          <a:pt x="165" y="142"/>
                        </a:lnTo>
                        <a:lnTo>
                          <a:pt x="166" y="158"/>
                        </a:lnTo>
                        <a:lnTo>
                          <a:pt x="168" y="172"/>
                        </a:lnTo>
                        <a:lnTo>
                          <a:pt x="168" y="185"/>
                        </a:lnTo>
                        <a:lnTo>
                          <a:pt x="171" y="199"/>
                        </a:lnTo>
                        <a:lnTo>
                          <a:pt x="173" y="212"/>
                        </a:lnTo>
                        <a:lnTo>
                          <a:pt x="174" y="223"/>
                        </a:lnTo>
                        <a:lnTo>
                          <a:pt x="177" y="236"/>
                        </a:lnTo>
                        <a:lnTo>
                          <a:pt x="182" y="248"/>
                        </a:lnTo>
                        <a:lnTo>
                          <a:pt x="189" y="267"/>
                        </a:lnTo>
                        <a:lnTo>
                          <a:pt x="197" y="290"/>
                        </a:lnTo>
                        <a:lnTo>
                          <a:pt x="203" y="304"/>
                        </a:lnTo>
                        <a:lnTo>
                          <a:pt x="206" y="313"/>
                        </a:lnTo>
                        <a:lnTo>
                          <a:pt x="206" y="347"/>
                        </a:lnTo>
                        <a:lnTo>
                          <a:pt x="177" y="349"/>
                        </a:lnTo>
                        <a:lnTo>
                          <a:pt x="147" y="350"/>
                        </a:lnTo>
                        <a:lnTo>
                          <a:pt x="110" y="350"/>
                        </a:lnTo>
                        <a:lnTo>
                          <a:pt x="80" y="348"/>
                        </a:lnTo>
                        <a:lnTo>
                          <a:pt x="49" y="345"/>
                        </a:lnTo>
                        <a:lnTo>
                          <a:pt x="29" y="340"/>
                        </a:lnTo>
                        <a:lnTo>
                          <a:pt x="16" y="339"/>
                        </a:lnTo>
                        <a:lnTo>
                          <a:pt x="0" y="332"/>
                        </a:lnTo>
                        <a:lnTo>
                          <a:pt x="0" y="290"/>
                        </a:lnTo>
                        <a:lnTo>
                          <a:pt x="6" y="282"/>
                        </a:lnTo>
                        <a:lnTo>
                          <a:pt x="14" y="268"/>
                        </a:lnTo>
                        <a:lnTo>
                          <a:pt x="22" y="257"/>
                        </a:lnTo>
                        <a:lnTo>
                          <a:pt x="33" y="236"/>
                        </a:lnTo>
                        <a:lnTo>
                          <a:pt x="41" y="219"/>
                        </a:lnTo>
                        <a:lnTo>
                          <a:pt x="49" y="203"/>
                        </a:lnTo>
                        <a:lnTo>
                          <a:pt x="57" y="184"/>
                        </a:lnTo>
                        <a:lnTo>
                          <a:pt x="64" y="166"/>
                        </a:lnTo>
                        <a:lnTo>
                          <a:pt x="72" y="142"/>
                        </a:lnTo>
                        <a:lnTo>
                          <a:pt x="77" y="122"/>
                        </a:lnTo>
                        <a:lnTo>
                          <a:pt x="80" y="104"/>
                        </a:lnTo>
                        <a:lnTo>
                          <a:pt x="83" y="87"/>
                        </a:lnTo>
                        <a:lnTo>
                          <a:pt x="85" y="66"/>
                        </a:lnTo>
                        <a:lnTo>
                          <a:pt x="85" y="47"/>
                        </a:lnTo>
                        <a:lnTo>
                          <a:pt x="83" y="32"/>
                        </a:lnTo>
                        <a:lnTo>
                          <a:pt x="80" y="16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" name=""/>
              <p:cNvGrpSpPr/>
              <p:nvPr/>
            </p:nvGrpSpPr>
            <p:grpSpPr>
              <a:xfrm>
                <a:off x="2603520" y="5183640"/>
                <a:ext cx="1075680" cy="693360"/>
                <a:chOff x="2603520" y="5183640"/>
                <a:chExt cx="1075680" cy="6933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603520" y="5730120"/>
                  <a:ext cx="46800" cy="8640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0"/>
                      </a:moveTo>
                      <a:lnTo>
                        <a:pt x="0" y="9"/>
                      </a:lnTo>
                      <a:lnTo>
                        <a:pt x="0" y="22"/>
                      </a:lnTo>
                      <a:lnTo>
                        <a:pt x="5" y="22"/>
                      </a:lnTo>
                      <a:lnTo>
                        <a:pt x="5" y="41"/>
                      </a:lnTo>
                      <a:lnTo>
                        <a:pt x="13" y="41"/>
                      </a:lnTo>
                      <a:lnTo>
                        <a:pt x="13" y="22"/>
                      </a:lnTo>
                      <a:lnTo>
                        <a:pt x="31" y="2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606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2647440" y="5201280"/>
                  <a:ext cx="995400" cy="647640"/>
                  <a:chOff x="2647440" y="5201280"/>
                  <a:chExt cx="995400" cy="64764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3086280" y="5321880"/>
                    <a:ext cx="556560" cy="518040"/>
                    <a:chOff x="3086280" y="5321880"/>
                    <a:chExt cx="556560" cy="51804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3539520" y="5689440"/>
                      <a:ext cx="1033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49">
                          <a:moveTo>
                            <a:pt x="0" y="12"/>
                          </a:moveTo>
                          <a:lnTo>
                            <a:pt x="22" y="12"/>
                          </a:lnTo>
                          <a:lnTo>
                            <a:pt x="22" y="1"/>
                          </a:lnTo>
                          <a:lnTo>
                            <a:pt x="37" y="0"/>
                          </a:lnTo>
                          <a:lnTo>
                            <a:pt x="37" y="12"/>
                          </a:lnTo>
                          <a:lnTo>
                            <a:pt x="45" y="15"/>
                          </a:lnTo>
                          <a:lnTo>
                            <a:pt x="45" y="6"/>
                          </a:lnTo>
                          <a:lnTo>
                            <a:pt x="57" y="6"/>
                          </a:lnTo>
                          <a:lnTo>
                            <a:pt x="57" y="17"/>
                          </a:lnTo>
                          <a:lnTo>
                            <a:pt x="70" y="21"/>
                          </a:lnTo>
                          <a:lnTo>
                            <a:pt x="70" y="49"/>
                          </a:lnTo>
                          <a:lnTo>
                            <a:pt x="0" y="49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3086280" y="5321880"/>
                      <a:ext cx="466920" cy="518040"/>
                      <a:chOff x="3086280" y="5321880"/>
                      <a:chExt cx="466920" cy="518040"/>
                    </a:xfrm>
                  </p:grpSpPr>
                  <p:grpSp>
                    <p:nvGrpSpPr>
                      <p:cNvPr id="313" name=""/>
                      <p:cNvGrpSpPr/>
                      <p:nvPr/>
                    </p:nvGrpSpPr>
                    <p:grpSpPr>
                      <a:xfrm>
                        <a:off x="3465720" y="5511600"/>
                        <a:ext cx="87480" cy="314280"/>
                        <a:chOff x="3465720" y="5511600"/>
                        <a:chExt cx="87480" cy="314280"/>
                      </a:xfrm>
                    </p:grpSpPr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>
                          <a:off x="3465720" y="5511600"/>
                          <a:ext cx="87480" cy="31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" h="146">
                              <a:moveTo>
                                <a:pt x="0" y="0"/>
                              </a:moveTo>
                              <a:lnTo>
                                <a:pt x="21" y="10"/>
                              </a:lnTo>
                              <a:lnTo>
                                <a:pt x="21" y="29"/>
                              </a:lnTo>
                              <a:lnTo>
                                <a:pt x="47" y="37"/>
                              </a:lnTo>
                              <a:lnTo>
                                <a:pt x="47" y="27"/>
                              </a:lnTo>
                              <a:lnTo>
                                <a:pt x="59" y="30"/>
                              </a:lnTo>
                              <a:lnTo>
                                <a:pt x="59" y="132"/>
                              </a:lnTo>
                              <a:lnTo>
                                <a:pt x="0" y="14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>
                          <a:off x="3465720" y="5619960"/>
                          <a:ext cx="41040" cy="196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92">
                              <a:moveTo>
                                <a:pt x="0" y="0"/>
                              </a:moveTo>
                              <a:lnTo>
                                <a:pt x="29" y="12"/>
                              </a:lnTo>
                              <a:lnTo>
                                <a:pt x="29" y="89"/>
                              </a:lnTo>
                              <a:lnTo>
                                <a:pt x="19" y="92"/>
                              </a:lnTo>
                              <a:lnTo>
                                <a:pt x="19" y="15"/>
                              </a:lnTo>
                              <a:lnTo>
                                <a:pt x="0" y="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606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6" name=""/>
                      <p:cNvGrpSpPr/>
                      <p:nvPr/>
                    </p:nvGrpSpPr>
                    <p:grpSpPr>
                      <a:xfrm>
                        <a:off x="3086280" y="5321880"/>
                        <a:ext cx="410760" cy="518040"/>
                        <a:chOff x="3086280" y="5321880"/>
                        <a:chExt cx="410760" cy="518040"/>
                      </a:xfrm>
                    </p:grpSpPr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3086280" y="5321880"/>
                          <a:ext cx="320400" cy="51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9" h="240">
                              <a:moveTo>
                                <a:pt x="0" y="52"/>
                              </a:moveTo>
                              <a:lnTo>
                                <a:pt x="219" y="0"/>
                              </a:lnTo>
                              <a:lnTo>
                                <a:pt x="219" y="240"/>
                              </a:lnTo>
                              <a:lnTo>
                                <a:pt x="0" y="240"/>
                              </a:lnTo>
                              <a:lnTo>
                                <a:pt x="0" y="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3406680" y="5321880"/>
                          <a:ext cx="90360" cy="51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" h="239">
                              <a:moveTo>
                                <a:pt x="40" y="1"/>
                              </a:moveTo>
                              <a:lnTo>
                                <a:pt x="40" y="11"/>
                              </a:lnTo>
                              <a:lnTo>
                                <a:pt x="0" y="0"/>
                              </a:lnTo>
                              <a:lnTo>
                                <a:pt x="0" y="239"/>
                              </a:lnTo>
                              <a:lnTo>
                                <a:pt x="42" y="232"/>
                              </a:lnTo>
                              <a:lnTo>
                                <a:pt x="42" y="51"/>
                              </a:lnTo>
                              <a:lnTo>
                                <a:pt x="63" y="55"/>
                              </a:lnTo>
                              <a:lnTo>
                                <a:pt x="63" y="7"/>
                              </a:lnTo>
                              <a:lnTo>
                                <a:pt x="4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3227400" y="5360760"/>
                        <a:ext cx="70200" cy="370080"/>
                        <a:chOff x="3227400" y="5360760"/>
                        <a:chExt cx="70200" cy="370080"/>
                      </a:xfrm>
                    </p:grpSpPr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>
                          <a:off x="3227400" y="5360760"/>
                          <a:ext cx="49680" cy="305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42">
                              <a:moveTo>
                                <a:pt x="33" y="0"/>
                              </a:moveTo>
                              <a:lnTo>
                                <a:pt x="33" y="139"/>
                              </a:lnTo>
                              <a:lnTo>
                                <a:pt x="0" y="142"/>
                              </a:lnTo>
                              <a:lnTo>
                                <a:pt x="0" y="6"/>
                              </a:lnTo>
                              <a:lnTo>
                                <a:pt x="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>
                          <a:off x="3227400" y="5666400"/>
                          <a:ext cx="70200" cy="6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" h="29">
                              <a:moveTo>
                                <a:pt x="0" y="2"/>
                              </a:moveTo>
                              <a:lnTo>
                                <a:pt x="35" y="0"/>
                              </a:lnTo>
                              <a:lnTo>
                                <a:pt x="46" y="29"/>
                              </a:lnTo>
                              <a:lnTo>
                                <a:pt x="16" y="29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3277080" y="5360760"/>
                          <a:ext cx="20520" cy="37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" h="173">
                              <a:moveTo>
                                <a:pt x="0" y="0"/>
                              </a:moveTo>
                              <a:lnTo>
                                <a:pt x="15" y="1"/>
                              </a:lnTo>
                              <a:lnTo>
                                <a:pt x="15" y="173"/>
                              </a:lnTo>
                              <a:lnTo>
                                <a:pt x="0" y="13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3" name=""/>
                      <p:cNvGrpSpPr/>
                      <p:nvPr/>
                    </p:nvGrpSpPr>
                    <p:grpSpPr>
                      <a:xfrm>
                        <a:off x="3112920" y="5403960"/>
                        <a:ext cx="81000" cy="331920"/>
                        <a:chOff x="3112920" y="5403960"/>
                        <a:chExt cx="81000" cy="331920"/>
                      </a:xfrm>
                    </p:grpSpPr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3168360" y="5403960"/>
                          <a:ext cx="25560" cy="331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56">
                              <a:moveTo>
                                <a:pt x="0" y="0"/>
                              </a:moveTo>
                              <a:lnTo>
                                <a:pt x="0" y="124"/>
                              </a:lnTo>
                              <a:lnTo>
                                <a:pt x="17" y="156"/>
                              </a:lnTo>
                              <a:lnTo>
                                <a:pt x="17" y="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>
                          <a:off x="3115440" y="5403960"/>
                          <a:ext cx="52920" cy="27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129">
                              <a:moveTo>
                                <a:pt x="0" y="6"/>
                              </a:moveTo>
                              <a:lnTo>
                                <a:pt x="37" y="0"/>
                              </a:lnTo>
                              <a:lnTo>
                                <a:pt x="37" y="127"/>
                              </a:lnTo>
                              <a:lnTo>
                                <a:pt x="0" y="129"/>
                              </a:lnTo>
                              <a:lnTo>
                                <a:pt x="0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>
                          <a:off x="3112920" y="5671440"/>
                          <a:ext cx="78480" cy="6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32">
                              <a:moveTo>
                                <a:pt x="0" y="3"/>
                              </a:moveTo>
                              <a:lnTo>
                                <a:pt x="35" y="0"/>
                              </a:lnTo>
                              <a:lnTo>
                                <a:pt x="55" y="32"/>
                              </a:lnTo>
                              <a:lnTo>
                                <a:pt x="19" y="32"/>
                              </a:lnTo>
                              <a:lnTo>
                                <a:pt x="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7" name=""/>
                      <p:cNvGrpSpPr/>
                      <p:nvPr/>
                    </p:nvGrpSpPr>
                    <p:grpSpPr>
                      <a:xfrm>
                        <a:off x="3333600" y="5326560"/>
                        <a:ext cx="72360" cy="300600"/>
                        <a:chOff x="3333600" y="5326560"/>
                        <a:chExt cx="72360" cy="300600"/>
                      </a:xfrm>
                    </p:grpSpPr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>
                          <a:off x="3333600" y="5528520"/>
                          <a:ext cx="69120" cy="9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45">
                              <a:moveTo>
                                <a:pt x="0" y="1"/>
                              </a:moveTo>
                              <a:lnTo>
                                <a:pt x="34" y="0"/>
                              </a:lnTo>
                              <a:lnTo>
                                <a:pt x="50" y="45"/>
                              </a:lnTo>
                              <a:lnTo>
                                <a:pt x="18" y="45"/>
                              </a:lnTo>
                              <a:lnTo>
                                <a:pt x="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>
                          <a:off x="3333600" y="5326560"/>
                          <a:ext cx="43560" cy="20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96">
                              <a:moveTo>
                                <a:pt x="0" y="96"/>
                              </a:moveTo>
                              <a:lnTo>
                                <a:pt x="30" y="92"/>
                              </a:lnTo>
                              <a:lnTo>
                                <a:pt x="30" y="0"/>
                              </a:lnTo>
                              <a:lnTo>
                                <a:pt x="0" y="6"/>
                              </a:lnTo>
                              <a:lnTo>
                                <a:pt x="0" y="9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>
                          <a:off x="3377160" y="5326560"/>
                          <a:ext cx="28800" cy="30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138">
                              <a:moveTo>
                                <a:pt x="0" y="0"/>
                              </a:moveTo>
                              <a:lnTo>
                                <a:pt x="0" y="91"/>
                              </a:lnTo>
                              <a:lnTo>
                                <a:pt x="21" y="138"/>
                              </a:lnTo>
                              <a:lnTo>
                                <a:pt x="21" y="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1" name=""/>
                      <p:cNvGrpSpPr/>
                      <p:nvPr/>
                    </p:nvGrpSpPr>
                    <p:grpSpPr>
                      <a:xfrm>
                        <a:off x="3218760" y="5382360"/>
                        <a:ext cx="54720" cy="253800"/>
                        <a:chOff x="3218760" y="5382360"/>
                        <a:chExt cx="54720" cy="253800"/>
                      </a:xfrm>
                    </p:grpSpPr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3218760" y="5382360"/>
                          <a:ext cx="31680" cy="16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78">
                              <a:moveTo>
                                <a:pt x="0" y="4"/>
                              </a:moveTo>
                              <a:lnTo>
                                <a:pt x="21" y="0"/>
                              </a:lnTo>
                              <a:lnTo>
                                <a:pt x="21" y="78"/>
                              </a:lnTo>
                              <a:lnTo>
                                <a:pt x="0" y="78"/>
                              </a:lnTo>
                              <a:lnTo>
                                <a:pt x="0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>
                          <a:off x="3218760" y="5546160"/>
                          <a:ext cx="54720" cy="89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41">
                              <a:moveTo>
                                <a:pt x="0" y="0"/>
                              </a:moveTo>
                              <a:lnTo>
                                <a:pt x="19" y="0"/>
                              </a:lnTo>
                              <a:lnTo>
                                <a:pt x="37" y="41"/>
                              </a:lnTo>
                              <a:lnTo>
                                <a:pt x="18" y="4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840" bIns="42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>
                          <a:off x="3250440" y="5382360"/>
                          <a:ext cx="23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" h="119">
                              <a:moveTo>
                                <a:pt x="16" y="119"/>
                              </a:moveTo>
                              <a:lnTo>
                                <a:pt x="16" y="5"/>
                              </a:lnTo>
                              <a:lnTo>
                                <a:pt x="0" y="0"/>
                              </a:lnTo>
                              <a:lnTo>
                                <a:pt x="0" y="79"/>
                              </a:lnTo>
                              <a:lnTo>
                                <a:pt x="16" y="1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109320" y="5443200"/>
                        <a:ext cx="52560" cy="205560"/>
                        <a:chOff x="3109320" y="5443200"/>
                        <a:chExt cx="52560" cy="205560"/>
                      </a:xfrm>
                    </p:grpSpPr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3109320" y="5559120"/>
                          <a:ext cx="46800" cy="81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" h="38">
                              <a:moveTo>
                                <a:pt x="14" y="38"/>
                              </a:moveTo>
                              <a:lnTo>
                                <a:pt x="34" y="38"/>
                              </a:lnTo>
                              <a:lnTo>
                                <a:pt x="19" y="0"/>
                              </a:lnTo>
                              <a:lnTo>
                                <a:pt x="0" y="0"/>
                              </a:lnTo>
                              <a:lnTo>
                                <a:pt x="14" y="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920" bIns="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>
                          <a:off x="3109320" y="5443200"/>
                          <a:ext cx="28800" cy="11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54">
                              <a:moveTo>
                                <a:pt x="0" y="54"/>
                              </a:moveTo>
                              <a:lnTo>
                                <a:pt x="19" y="54"/>
                              </a:lnTo>
                              <a:lnTo>
                                <a:pt x="21" y="0"/>
                              </a:lnTo>
                              <a:lnTo>
                                <a:pt x="0" y="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>
                          <a:off x="3138120" y="5443200"/>
                          <a:ext cx="23760" cy="20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" h="96">
                              <a:moveTo>
                                <a:pt x="0" y="0"/>
                              </a:moveTo>
                              <a:lnTo>
                                <a:pt x="0" y="54"/>
                              </a:lnTo>
                              <a:lnTo>
                                <a:pt x="16" y="96"/>
                              </a:lnTo>
                              <a:lnTo>
                                <a:pt x="14" y="1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665440" y="5201280"/>
                    <a:ext cx="432000" cy="647640"/>
                    <a:chOff x="2665440" y="5201280"/>
                    <a:chExt cx="432000" cy="647640"/>
                  </a:xfrm>
                </p:grpSpPr>
                <p:grpSp>
                  <p:nvGrpSpPr>
                    <p:cNvPr id="340" name=""/>
                    <p:cNvGrpSpPr/>
                    <p:nvPr/>
                  </p:nvGrpSpPr>
                  <p:grpSpPr>
                    <a:xfrm>
                      <a:off x="2665440" y="5201280"/>
                      <a:ext cx="432000" cy="647640"/>
                      <a:chOff x="2665440" y="5201280"/>
                      <a:chExt cx="432000" cy="647640"/>
                    </a:xfrm>
                  </p:grpSpPr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3012120" y="5378400"/>
                        <a:ext cx="85320" cy="45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212">
                            <a:moveTo>
                              <a:pt x="16" y="0"/>
                            </a:moveTo>
                            <a:lnTo>
                              <a:pt x="16" y="25"/>
                            </a:lnTo>
                            <a:lnTo>
                              <a:pt x="0" y="21"/>
                            </a:lnTo>
                            <a:lnTo>
                              <a:pt x="0" y="212"/>
                            </a:lnTo>
                            <a:lnTo>
                              <a:pt x="58" y="210"/>
                            </a:lnTo>
                            <a:lnTo>
                              <a:pt x="58" y="25"/>
                            </a:lnTo>
                            <a:lnTo>
                              <a:pt x="16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2994120" y="5378400"/>
                        <a:ext cx="38520" cy="7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37">
                            <a:moveTo>
                              <a:pt x="26" y="0"/>
                            </a:moveTo>
                            <a:lnTo>
                              <a:pt x="0" y="6"/>
                            </a:lnTo>
                            <a:lnTo>
                              <a:pt x="0" y="37"/>
                            </a:lnTo>
                            <a:lnTo>
                              <a:pt x="26" y="37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2665440" y="5201280"/>
                        <a:ext cx="232200" cy="64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9" h="300">
                            <a:moveTo>
                              <a:pt x="0" y="55"/>
                            </a:moveTo>
                            <a:lnTo>
                              <a:pt x="159" y="0"/>
                            </a:lnTo>
                            <a:lnTo>
                              <a:pt x="159" y="300"/>
                            </a:lnTo>
                            <a:lnTo>
                              <a:pt x="0" y="294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2897640" y="5209920"/>
                        <a:ext cx="117360" cy="63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296">
                            <a:moveTo>
                              <a:pt x="0" y="0"/>
                            </a:moveTo>
                            <a:lnTo>
                              <a:pt x="12" y="3"/>
                            </a:lnTo>
                            <a:lnTo>
                              <a:pt x="30" y="2"/>
                            </a:lnTo>
                            <a:lnTo>
                              <a:pt x="49" y="6"/>
                            </a:lnTo>
                            <a:lnTo>
                              <a:pt x="49" y="17"/>
                            </a:lnTo>
                            <a:lnTo>
                              <a:pt x="80" y="30"/>
                            </a:lnTo>
                            <a:lnTo>
                              <a:pt x="80" y="285"/>
                            </a:lnTo>
                            <a:lnTo>
                              <a:pt x="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3044520" y="5404320"/>
                      <a:ext cx="4140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0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29" y="30"/>
                          </a:lnTo>
                          <a:lnTo>
                            <a:pt x="29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647440" y="5417280"/>
                    <a:ext cx="42840" cy="418680"/>
                    <a:chOff x="2647440" y="5417280"/>
                    <a:chExt cx="42840" cy="418680"/>
                  </a:xfrm>
                </p:grpSpPr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2647440" y="5417280"/>
                      <a:ext cx="42840" cy="418680"/>
                      <a:chOff x="2647440" y="5417280"/>
                      <a:chExt cx="42840" cy="418680"/>
                    </a:xfrm>
                  </p:grpSpPr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2647440" y="5417280"/>
                        <a:ext cx="25920" cy="41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94">
                            <a:moveTo>
                              <a:pt x="0" y="7"/>
                            </a:moveTo>
                            <a:lnTo>
                              <a:pt x="19" y="0"/>
                            </a:lnTo>
                            <a:lnTo>
                              <a:pt x="19" y="194"/>
                            </a:lnTo>
                            <a:lnTo>
                              <a:pt x="0" y="194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2682000" y="5430960"/>
                        <a:ext cx="8280" cy="392040"/>
                      </a:xfrm>
                      <a:prstGeom prst="rect">
                        <a:avLst/>
                      </a:prstGeom>
                      <a:solidFill>
                        <a:srgbClr val="00e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0" name=""/>
                    <p:cNvGrpSpPr/>
                    <p:nvPr/>
                  </p:nvGrpSpPr>
                  <p:grpSpPr>
                    <a:xfrm>
                      <a:off x="2682360" y="5430960"/>
                      <a:ext cx="1800" cy="179280"/>
                      <a:chOff x="2682360" y="5430960"/>
                      <a:chExt cx="1800" cy="179280"/>
                    </a:xfrm>
                  </p:grpSpPr>
                  <p:grpSp>
                    <p:nvGrpSpPr>
                      <p:cNvPr id="351" name=""/>
                      <p:cNvGrpSpPr/>
                      <p:nvPr/>
                    </p:nvGrpSpPr>
                    <p:grpSpPr>
                      <a:xfrm>
                        <a:off x="2682360" y="5430960"/>
                        <a:ext cx="1800" cy="79560"/>
                        <a:chOff x="2682360" y="5430960"/>
                        <a:chExt cx="1800" cy="79560"/>
                      </a:xfrm>
                    </p:grpSpPr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>
                          <a:off x="2682360" y="5430960"/>
                          <a:ext cx="1800" cy="334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>
                          <a:off x="2682360" y="5477040"/>
                          <a:ext cx="1800" cy="334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4" name=""/>
                      <p:cNvGrpSpPr/>
                      <p:nvPr/>
                    </p:nvGrpSpPr>
                    <p:grpSpPr>
                      <a:xfrm>
                        <a:off x="2682360" y="5533200"/>
                        <a:ext cx="1800" cy="77040"/>
                        <a:chOff x="2682360" y="5533200"/>
                        <a:chExt cx="1800" cy="77040"/>
                      </a:xfrm>
                    </p:grpSpPr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>
                          <a:off x="2682360" y="5533200"/>
                          <a:ext cx="1800" cy="298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>
                          <a:off x="2682360" y="5580360"/>
                          <a:ext cx="1800" cy="298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709720" y="5183640"/>
                  <a:ext cx="158400" cy="115920"/>
                  <a:chOff x="2709720" y="5183640"/>
                  <a:chExt cx="158400" cy="1159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709720" y="5256720"/>
                    <a:ext cx="11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9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8" y="16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797560" y="5213880"/>
                    <a:ext cx="11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8" y="17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756160" y="5231520"/>
                    <a:ext cx="11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0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8" y="17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856240" y="5183640"/>
                    <a:ext cx="11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0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8" y="17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2945160" y="5392080"/>
                  <a:ext cx="84240" cy="457560"/>
                  <a:chOff x="2945160" y="5392080"/>
                  <a:chExt cx="84240" cy="45756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945160" y="5392080"/>
                    <a:ext cx="84240" cy="457560"/>
                    <a:chOff x="2945160" y="5392080"/>
                    <a:chExt cx="84240" cy="45756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2971440" y="5392080"/>
                      <a:ext cx="57960" cy="45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13">
                          <a:moveTo>
                            <a:pt x="0" y="0"/>
                          </a:moveTo>
                          <a:lnTo>
                            <a:pt x="40" y="11"/>
                          </a:lnTo>
                          <a:lnTo>
                            <a:pt x="40" y="209"/>
                          </a:lnTo>
                          <a:lnTo>
                            <a:pt x="0" y="21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2945160" y="5392080"/>
                      <a:ext cx="26280" cy="45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13">
                          <a:moveTo>
                            <a:pt x="19" y="0"/>
                          </a:moveTo>
                          <a:lnTo>
                            <a:pt x="19" y="213"/>
                          </a:lnTo>
                          <a:lnTo>
                            <a:pt x="0" y="210"/>
                          </a:lnTo>
                          <a:lnTo>
                            <a:pt x="0" y="5"/>
                          </a:lnTo>
                          <a:lnTo>
                            <a:pt x="19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2991960" y="5460480"/>
                    <a:ext cx="360" cy="176040"/>
                    <a:chOff x="2991960" y="5460480"/>
                    <a:chExt cx="360" cy="176040"/>
                  </a:xfrm>
                </p:grpSpPr>
                <p:grpSp>
                  <p:nvGrpSpPr>
                    <p:cNvPr id="367" name=""/>
                    <p:cNvGrpSpPr/>
                    <p:nvPr/>
                  </p:nvGrpSpPr>
                  <p:grpSpPr>
                    <a:xfrm>
                      <a:off x="2991960" y="5460480"/>
                      <a:ext cx="360" cy="72000"/>
                      <a:chOff x="2991960" y="5460480"/>
                      <a:chExt cx="360" cy="72000"/>
                    </a:xfrm>
                  </p:grpSpPr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2991960" y="5460480"/>
                        <a:ext cx="360" cy="259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2991960" y="5503680"/>
                        <a:ext cx="360" cy="288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2991960" y="5555160"/>
                      <a:ext cx="360" cy="81360"/>
                      <a:chOff x="2991960" y="5555160"/>
                      <a:chExt cx="360" cy="8136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2991960" y="5555160"/>
                        <a:ext cx="360" cy="345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2991960" y="5602680"/>
                        <a:ext cx="360" cy="338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73" name=""/>
                <p:cNvSpPr/>
                <p:nvPr/>
              </p:nvSpPr>
              <p:spPr>
                <a:xfrm>
                  <a:off x="3013200" y="5543280"/>
                  <a:ext cx="135720" cy="294840"/>
                </a:xfrm>
                <a:custGeom>
                  <a:avLst/>
                  <a:gdLst/>
                  <a:ahLst/>
                  <a:rect l="l" t="t" r="r" b="b"/>
                  <a:pathLst>
                    <a:path w="93" h="136">
                      <a:moveTo>
                        <a:pt x="0" y="136"/>
                      </a:moveTo>
                      <a:lnTo>
                        <a:pt x="93" y="136"/>
                      </a:lnTo>
                      <a:lnTo>
                        <a:pt x="93" y="0"/>
                      </a:lnTo>
                      <a:lnTo>
                        <a:pt x="36" y="4"/>
                      </a:lnTo>
                      <a:lnTo>
                        <a:pt x="36" y="101"/>
                      </a:lnTo>
                      <a:lnTo>
                        <a:pt x="0" y="109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solidFill>
                  <a:srgbClr val="60402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591000" y="5656320"/>
                  <a:ext cx="29160" cy="16416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0" y="12"/>
                      </a:moveTo>
                      <a:lnTo>
                        <a:pt x="0" y="8"/>
                      </a:lnTo>
                      <a:lnTo>
                        <a:pt x="2" y="5"/>
                      </a:lnTo>
                      <a:lnTo>
                        <a:pt x="5" y="1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4" y="1"/>
                      </a:lnTo>
                      <a:lnTo>
                        <a:pt x="16" y="3"/>
                      </a:lnTo>
                      <a:lnTo>
                        <a:pt x="18" y="6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6" y="13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6" y="5"/>
                      </a:lnTo>
                      <a:lnTo>
                        <a:pt x="5" y="7"/>
                      </a:lnTo>
                      <a:lnTo>
                        <a:pt x="3" y="11"/>
                      </a:lnTo>
                      <a:lnTo>
                        <a:pt x="3" y="14"/>
                      </a:lnTo>
                      <a:lnTo>
                        <a:pt x="3" y="76"/>
                      </a:lnTo>
                      <a:lnTo>
                        <a:pt x="0" y="76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606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5" name=""/>
                <p:cNvGrpSpPr/>
                <p:nvPr/>
              </p:nvGrpSpPr>
              <p:grpSpPr>
                <a:xfrm>
                  <a:off x="3078360" y="5786280"/>
                  <a:ext cx="313560" cy="90720"/>
                  <a:chOff x="3078360" y="5786280"/>
                  <a:chExt cx="313560" cy="90720"/>
                </a:xfrm>
              </p:grpSpPr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3078360" y="5786280"/>
                    <a:ext cx="154800" cy="67680"/>
                    <a:chOff x="3078360" y="5786280"/>
                    <a:chExt cx="154800" cy="67680"/>
                  </a:xfrm>
                </p:grpSpPr>
                <p:grpSp>
                  <p:nvGrpSpPr>
                    <p:cNvPr id="377" name=""/>
                    <p:cNvGrpSpPr/>
                    <p:nvPr/>
                  </p:nvGrpSpPr>
                  <p:grpSpPr>
                    <a:xfrm>
                      <a:off x="3078360" y="5786280"/>
                      <a:ext cx="37440" cy="67680"/>
                      <a:chOff x="3078360" y="5786280"/>
                      <a:chExt cx="37440" cy="67680"/>
                    </a:xfrm>
                  </p:grpSpPr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3086640" y="5798520"/>
                        <a:ext cx="2016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3078360" y="5786280"/>
                        <a:ext cx="3744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33">
                            <a:moveTo>
                              <a:pt x="0" y="0"/>
                            </a:moveTo>
                            <a:lnTo>
                              <a:pt x="26" y="33"/>
                            </a:lnTo>
                            <a:lnTo>
                              <a:pt x="26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3116160" y="5786280"/>
                      <a:ext cx="40680" cy="67680"/>
                      <a:chOff x="3116160" y="5786280"/>
                      <a:chExt cx="40680" cy="676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3124440" y="5798520"/>
                        <a:ext cx="2340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3116160" y="5786280"/>
                        <a:ext cx="4068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3">
                            <a:moveTo>
                              <a:pt x="0" y="0"/>
                            </a:moveTo>
                            <a:lnTo>
                              <a:pt x="27" y="33"/>
                            </a:lnTo>
                            <a:lnTo>
                              <a:pt x="27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3157200" y="5786280"/>
                      <a:ext cx="40680" cy="67680"/>
                      <a:chOff x="3157200" y="5786280"/>
                      <a:chExt cx="40680" cy="6768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3165480" y="5798520"/>
                        <a:ext cx="2268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3157200" y="5786280"/>
                        <a:ext cx="4068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3">
                            <a:moveTo>
                              <a:pt x="0" y="0"/>
                            </a:moveTo>
                            <a:lnTo>
                              <a:pt x="29" y="33"/>
                            </a:lnTo>
                            <a:lnTo>
                              <a:pt x="29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6" name=""/>
                    <p:cNvGrpSpPr/>
                    <p:nvPr/>
                  </p:nvGrpSpPr>
                  <p:grpSpPr>
                    <a:xfrm>
                      <a:off x="3198600" y="5786280"/>
                      <a:ext cx="34560" cy="67680"/>
                      <a:chOff x="3198600" y="5786280"/>
                      <a:chExt cx="34560" cy="67680"/>
                    </a:xfrm>
                  </p:grpSpPr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3206880" y="5798520"/>
                        <a:ext cx="1692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3198600" y="5786280"/>
                        <a:ext cx="3456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3">
                            <a:moveTo>
                              <a:pt x="0" y="0"/>
                            </a:moveTo>
                            <a:lnTo>
                              <a:pt x="24" y="33"/>
                            </a:lnTo>
                            <a:lnTo>
                              <a:pt x="24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3234240" y="5786280"/>
                    <a:ext cx="157680" cy="67680"/>
                    <a:chOff x="3234240" y="5786280"/>
                    <a:chExt cx="157680" cy="67680"/>
                  </a:xfrm>
                </p:grpSpPr>
                <p:grpSp>
                  <p:nvGrpSpPr>
                    <p:cNvPr id="390" name=""/>
                    <p:cNvGrpSpPr/>
                    <p:nvPr/>
                  </p:nvGrpSpPr>
                  <p:grpSpPr>
                    <a:xfrm>
                      <a:off x="3234240" y="5786280"/>
                      <a:ext cx="39960" cy="67680"/>
                      <a:chOff x="3234240" y="5786280"/>
                      <a:chExt cx="39960" cy="67680"/>
                    </a:xfrm>
                  </p:grpSpPr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3242520" y="5798520"/>
                        <a:ext cx="2268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3234240" y="5786280"/>
                        <a:ext cx="3996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3">
                            <a:moveTo>
                              <a:pt x="0" y="0"/>
                            </a:moveTo>
                            <a:lnTo>
                              <a:pt x="27" y="33"/>
                            </a:lnTo>
                            <a:lnTo>
                              <a:pt x="27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3" name=""/>
                    <p:cNvGrpSpPr/>
                    <p:nvPr/>
                  </p:nvGrpSpPr>
                  <p:grpSpPr>
                    <a:xfrm>
                      <a:off x="3274560" y="5786280"/>
                      <a:ext cx="43560" cy="67680"/>
                      <a:chOff x="3274560" y="5786280"/>
                      <a:chExt cx="43560" cy="67680"/>
                    </a:xfrm>
                  </p:grpSpPr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3283560" y="5798520"/>
                        <a:ext cx="2556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3274560" y="5786280"/>
                        <a:ext cx="4356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33">
                            <a:moveTo>
                              <a:pt x="0" y="0"/>
                            </a:moveTo>
                            <a:lnTo>
                              <a:pt x="30" y="33"/>
                            </a:lnTo>
                            <a:lnTo>
                              <a:pt x="30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6" name=""/>
                    <p:cNvGrpSpPr/>
                    <p:nvPr/>
                  </p:nvGrpSpPr>
                  <p:grpSpPr>
                    <a:xfrm>
                      <a:off x="3318480" y="5786280"/>
                      <a:ext cx="34920" cy="67680"/>
                      <a:chOff x="3318480" y="5786280"/>
                      <a:chExt cx="34920" cy="67680"/>
                    </a:xfrm>
                  </p:grpSpPr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3327480" y="5798520"/>
                        <a:ext cx="1692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3318480" y="5786280"/>
                        <a:ext cx="3492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3">
                            <a:moveTo>
                              <a:pt x="0" y="0"/>
                            </a:moveTo>
                            <a:lnTo>
                              <a:pt x="24" y="33"/>
                            </a:lnTo>
                            <a:lnTo>
                              <a:pt x="24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9" name=""/>
                    <p:cNvGrpSpPr/>
                    <p:nvPr/>
                  </p:nvGrpSpPr>
                  <p:grpSpPr>
                    <a:xfrm>
                      <a:off x="3353760" y="5786280"/>
                      <a:ext cx="38160" cy="67680"/>
                      <a:chOff x="3353760" y="5786280"/>
                      <a:chExt cx="38160" cy="67680"/>
                    </a:xfrm>
                  </p:grpSpPr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3362760" y="5798520"/>
                        <a:ext cx="1944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3353760" y="5786280"/>
                        <a:ext cx="3816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33">
                            <a:moveTo>
                              <a:pt x="0" y="0"/>
                            </a:moveTo>
                            <a:lnTo>
                              <a:pt x="26" y="33"/>
                            </a:lnTo>
                            <a:lnTo>
                              <a:pt x="26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02" name=""/>
                  <p:cNvSpPr/>
                  <p:nvPr/>
                </p:nvSpPr>
                <p:spPr>
                  <a:xfrm>
                    <a:off x="317844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29904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216240" y="5786280"/>
                    <a:ext cx="324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260520" y="5786280"/>
                    <a:ext cx="324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13704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09888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33432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375360" y="5786280"/>
                    <a:ext cx="324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0" name=""/>
                <p:cNvSpPr/>
                <p:nvPr/>
              </p:nvSpPr>
              <p:spPr>
                <a:xfrm>
                  <a:off x="3019320" y="5755680"/>
                  <a:ext cx="341640" cy="30240"/>
                </a:xfrm>
                <a:custGeom>
                  <a:avLst/>
                  <a:gdLst/>
                  <a:ahLst/>
                  <a:rect l="l" t="t" r="r" b="b"/>
                  <a:pathLst>
                    <a:path w="232" h="15">
                      <a:moveTo>
                        <a:pt x="0" y="12"/>
                      </a:moveTo>
                      <a:lnTo>
                        <a:pt x="15" y="0"/>
                      </a:lnTo>
                      <a:lnTo>
                        <a:pt x="231" y="0"/>
                      </a:lnTo>
                      <a:lnTo>
                        <a:pt x="232" y="1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523680" y="5626080"/>
                  <a:ext cx="32040" cy="225000"/>
                </a:xfrm>
                <a:custGeom>
                  <a:avLst/>
                  <a:gdLst/>
                  <a:ahLst/>
                  <a:rect l="l" t="t" r="r" b="b"/>
                  <a:pathLst>
                    <a:path w="22" h="104">
                      <a:moveTo>
                        <a:pt x="0" y="17"/>
                      </a:moveTo>
                      <a:lnTo>
                        <a:pt x="0" y="13"/>
                      </a:lnTo>
                      <a:lnTo>
                        <a:pt x="1" y="6"/>
                      </a:lnTo>
                      <a:lnTo>
                        <a:pt x="4" y="3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0" y="8"/>
                      </a:lnTo>
                      <a:lnTo>
                        <a:pt x="22" y="11"/>
                      </a:lnTo>
                      <a:lnTo>
                        <a:pt x="22" y="14"/>
                      </a:lnTo>
                      <a:lnTo>
                        <a:pt x="22" y="19"/>
                      </a:lnTo>
                      <a:lnTo>
                        <a:pt x="17" y="19"/>
                      </a:lnTo>
                      <a:lnTo>
                        <a:pt x="17" y="13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1" y="6"/>
                      </a:lnTo>
                      <a:lnTo>
                        <a:pt x="8" y="8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4" y="20"/>
                      </a:lnTo>
                      <a:lnTo>
                        <a:pt x="4" y="104"/>
                      </a:lnTo>
                      <a:lnTo>
                        <a:pt x="0" y="10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606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"/>
                <p:cNvGrpSpPr/>
                <p:nvPr/>
              </p:nvGrpSpPr>
              <p:grpSpPr>
                <a:xfrm>
                  <a:off x="3458880" y="5794920"/>
                  <a:ext cx="52200" cy="60120"/>
                  <a:chOff x="3458880" y="5794920"/>
                  <a:chExt cx="52200" cy="601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3458880" y="5807520"/>
                    <a:ext cx="31680" cy="34920"/>
                  </a:xfrm>
                  <a:prstGeom prst="rect">
                    <a:avLst/>
                  </a:prstGeom>
                  <a:solidFill>
                    <a:srgbClr val="0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499200" y="5794920"/>
                    <a:ext cx="118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0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8" y="29"/>
                        </a:lnTo>
                        <a:lnTo>
                          <a:pt x="8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>
                  <a:off x="3659400" y="5686920"/>
                  <a:ext cx="19800" cy="117000"/>
                </a:xfrm>
                <a:custGeom>
                  <a:avLst/>
                  <a:gdLst/>
                  <a:ahLst/>
                  <a:rect l="l" t="t" r="r" b="b"/>
                  <a:pathLst>
                    <a:path w="14" h="54">
                      <a:moveTo>
                        <a:pt x="0" y="10"/>
                      </a:move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6"/>
                      </a:lnTo>
                      <a:lnTo>
                        <a:pt x="3" y="8"/>
                      </a:lnTo>
                      <a:lnTo>
                        <a:pt x="3" y="11"/>
                      </a:lnTo>
                      <a:lnTo>
                        <a:pt x="3" y="54"/>
                      </a:lnTo>
                      <a:lnTo>
                        <a:pt x="0" y="54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606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3446640" y="5629680"/>
                  <a:ext cx="28440" cy="228240"/>
                  <a:chOff x="3446640" y="5629680"/>
                  <a:chExt cx="28440" cy="228240"/>
                </a:xfrm>
              </p:grpSpPr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3446640" y="5781600"/>
                    <a:ext cx="28080" cy="76320"/>
                    <a:chOff x="3446640" y="5781600"/>
                    <a:chExt cx="28080" cy="7632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3454920" y="5828040"/>
                      <a:ext cx="198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3446640" y="5815440"/>
                      <a:ext cx="172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7">
                          <a:moveTo>
                            <a:pt x="0" y="0"/>
                          </a:moveTo>
                          <a:lnTo>
                            <a:pt x="13" y="17"/>
                          </a:lnTo>
                          <a:lnTo>
                            <a:pt x="13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3454920" y="5794200"/>
                      <a:ext cx="360" cy="8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3446640" y="5781600"/>
                      <a:ext cx="172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6">
                          <a:moveTo>
                            <a:pt x="0" y="0"/>
                          </a:moveTo>
                          <a:lnTo>
                            <a:pt x="13" y="16"/>
                          </a:lnTo>
                          <a:lnTo>
                            <a:pt x="13" y="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3446640" y="5703120"/>
                    <a:ext cx="28440" cy="81360"/>
                    <a:chOff x="3446640" y="5703120"/>
                    <a:chExt cx="28440" cy="8136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3449880" y="5746680"/>
                      <a:ext cx="25200" cy="378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3446640" y="5737680"/>
                      <a:ext cx="1728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9">
                          <a:moveTo>
                            <a:pt x="0" y="0"/>
                          </a:moveTo>
                          <a:lnTo>
                            <a:pt x="13" y="19"/>
                          </a:lnTo>
                          <a:lnTo>
                            <a:pt x="13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3454920" y="5716440"/>
                      <a:ext cx="360" cy="7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3446640" y="5703120"/>
                      <a:ext cx="17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6">
                          <a:moveTo>
                            <a:pt x="0" y="0"/>
                          </a:moveTo>
                          <a:lnTo>
                            <a:pt x="13" y="16"/>
                          </a:lnTo>
                          <a:lnTo>
                            <a:pt x="13" y="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446640" y="5629680"/>
                    <a:ext cx="28440" cy="81000"/>
                    <a:chOff x="3446640" y="5629680"/>
                    <a:chExt cx="28440" cy="8100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449880" y="5680800"/>
                      <a:ext cx="25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446640" y="5668200"/>
                      <a:ext cx="172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6">
                          <a:moveTo>
                            <a:pt x="0" y="0"/>
                          </a:moveTo>
                          <a:lnTo>
                            <a:pt x="13" y="16"/>
                          </a:lnTo>
                          <a:lnTo>
                            <a:pt x="13" y="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454920" y="5643000"/>
                      <a:ext cx="360" cy="126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446640" y="5629680"/>
                      <a:ext cx="172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9">
                          <a:moveTo>
                            <a:pt x="0" y="0"/>
                          </a:moveTo>
                          <a:lnTo>
                            <a:pt x="13" y="19"/>
                          </a:lnTo>
                          <a:lnTo>
                            <a:pt x="13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2" name=""/>
                <p:cNvSpPr/>
                <p:nvPr/>
              </p:nvSpPr>
              <p:spPr>
                <a:xfrm>
                  <a:off x="2638800" y="5474520"/>
                  <a:ext cx="728280" cy="259560"/>
                </a:xfrm>
                <a:custGeom>
                  <a:avLst/>
                  <a:gdLst/>
                  <a:ahLst/>
                  <a:rect l="l" t="t" r="r" b="b"/>
                  <a:pathLst>
                    <a:path w="494" h="122">
                      <a:moveTo>
                        <a:pt x="494" y="0"/>
                      </a:moveTo>
                      <a:lnTo>
                        <a:pt x="494" y="22"/>
                      </a:lnTo>
                      <a:lnTo>
                        <a:pt x="301" y="41"/>
                      </a:lnTo>
                      <a:lnTo>
                        <a:pt x="256" y="115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240" y="97"/>
                      </a:lnTo>
                      <a:lnTo>
                        <a:pt x="291" y="21"/>
                      </a:lnTo>
                      <a:lnTo>
                        <a:pt x="494" y="0"/>
                      </a:lnTo>
                      <a:close/>
                    </a:path>
                  </a:pathLst>
                </a:custGeom>
                <a:solidFill>
                  <a:srgbClr val="a0806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3163680" y="5379120"/>
                  <a:ext cx="79200" cy="150480"/>
                  <a:chOff x="3163680" y="5379120"/>
                  <a:chExt cx="79200" cy="1504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3189600" y="5382720"/>
                    <a:ext cx="5328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9">
                        <a:moveTo>
                          <a:pt x="20" y="0"/>
                        </a:moveTo>
                        <a:lnTo>
                          <a:pt x="37" y="10"/>
                        </a:lnTo>
                        <a:lnTo>
                          <a:pt x="37" y="30"/>
                        </a:lnTo>
                        <a:lnTo>
                          <a:pt x="21" y="31"/>
                        </a:lnTo>
                        <a:lnTo>
                          <a:pt x="13" y="65"/>
                        </a:lnTo>
                        <a:lnTo>
                          <a:pt x="0" y="6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80ff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3163680" y="5379120"/>
                    <a:ext cx="558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71">
                        <a:moveTo>
                          <a:pt x="21" y="6"/>
                        </a:moveTo>
                        <a:lnTo>
                          <a:pt x="38" y="0"/>
                        </a:lnTo>
                        <a:lnTo>
                          <a:pt x="17" y="70"/>
                        </a:lnTo>
                        <a:lnTo>
                          <a:pt x="0" y="71"/>
                        </a:lnTo>
                        <a:lnTo>
                          <a:pt x="21" y="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3278880" y="5339880"/>
                  <a:ext cx="93240" cy="168120"/>
                  <a:chOff x="3278880" y="5339880"/>
                  <a:chExt cx="93240" cy="16812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3278880" y="5339880"/>
                    <a:ext cx="6696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8">
                        <a:moveTo>
                          <a:pt x="24" y="4"/>
                        </a:moveTo>
                        <a:lnTo>
                          <a:pt x="45" y="0"/>
                        </a:lnTo>
                        <a:lnTo>
                          <a:pt x="23" y="77"/>
                        </a:lnTo>
                        <a:lnTo>
                          <a:pt x="0" y="78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3313800" y="5339880"/>
                    <a:ext cx="5832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6">
                        <a:moveTo>
                          <a:pt x="23" y="0"/>
                        </a:moveTo>
                        <a:lnTo>
                          <a:pt x="0" y="76"/>
                        </a:lnTo>
                        <a:lnTo>
                          <a:pt x="15" y="69"/>
                        </a:lnTo>
                        <a:lnTo>
                          <a:pt x="23" y="35"/>
                        </a:lnTo>
                        <a:lnTo>
                          <a:pt x="40" y="34"/>
                        </a:lnTo>
                        <a:lnTo>
                          <a:pt x="40" y="1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80ff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3379320" y="5790960"/>
                  <a:ext cx="75600" cy="76680"/>
                  <a:chOff x="3379320" y="5790960"/>
                  <a:chExt cx="75600" cy="766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3379320" y="5803560"/>
                    <a:ext cx="46440" cy="51480"/>
                  </a:xfrm>
                  <a:prstGeom prst="rect">
                    <a:avLst/>
                  </a:prstGeom>
                  <a:solidFill>
                    <a:srgbClr val="0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34400" y="5790960"/>
                    <a:ext cx="2052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7">
                        <a:moveTo>
                          <a:pt x="0" y="0"/>
                        </a:moveTo>
                        <a:lnTo>
                          <a:pt x="0" y="37"/>
                        </a:lnTo>
                        <a:lnTo>
                          <a:pt x="14" y="36"/>
                        </a:lnTo>
                        <a:lnTo>
                          <a:pt x="14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3078360" y="5569920"/>
                  <a:ext cx="226080" cy="294120"/>
                  <a:chOff x="3078360" y="5569920"/>
                  <a:chExt cx="226080" cy="29412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3078360" y="5582520"/>
                    <a:ext cx="108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9">
                        <a:moveTo>
                          <a:pt x="0" y="4"/>
                        </a:moveTo>
                        <a:lnTo>
                          <a:pt x="66" y="0"/>
                        </a:lnTo>
                        <a:lnTo>
                          <a:pt x="74" y="7"/>
                        </a:lnTo>
                        <a:lnTo>
                          <a:pt x="7" y="9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078360" y="5591160"/>
                    <a:ext cx="86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0" y="124"/>
                        </a:moveTo>
                        <a:lnTo>
                          <a:pt x="0" y="0"/>
                        </a:lnTo>
                        <a:lnTo>
                          <a:pt x="5" y="6"/>
                        </a:lnTo>
                        <a:lnTo>
                          <a:pt x="5" y="124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00c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174840" y="5582520"/>
                    <a:ext cx="118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0">
                        <a:moveTo>
                          <a:pt x="0" y="130"/>
                        </a:moveTo>
                        <a:lnTo>
                          <a:pt x="0" y="0"/>
                        </a:lnTo>
                        <a:lnTo>
                          <a:pt x="8" y="8"/>
                        </a:lnTo>
                        <a:lnTo>
                          <a:pt x="8" y="130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00c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3174840" y="5569920"/>
                    <a:ext cx="129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3">
                        <a:moveTo>
                          <a:pt x="0" y="5"/>
                        </a:moveTo>
                        <a:lnTo>
                          <a:pt x="77" y="0"/>
                        </a:lnTo>
                        <a:lnTo>
                          <a:pt x="88" y="8"/>
                        </a:lnTo>
                        <a:lnTo>
                          <a:pt x="8" y="13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295800" y="5569920"/>
                    <a:ext cx="864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6">
                        <a:moveTo>
                          <a:pt x="0" y="136"/>
                        </a:moveTo>
                        <a:lnTo>
                          <a:pt x="0" y="0"/>
                        </a:lnTo>
                        <a:lnTo>
                          <a:pt x="7" y="8"/>
                        </a:lnTo>
                        <a:lnTo>
                          <a:pt x="7" y="136"/>
                        </a:lnTo>
                        <a:lnTo>
                          <a:pt x="0" y="136"/>
                        </a:lnTo>
                        <a:close/>
                      </a:path>
                    </a:pathLst>
                  </a:custGeom>
                  <a:solidFill>
                    <a:srgbClr val="00c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2650320" y="5786280"/>
                  <a:ext cx="296280" cy="81720"/>
                  <a:chOff x="2650320" y="5786280"/>
                  <a:chExt cx="296280" cy="81720"/>
                </a:xfrm>
              </p:grpSpPr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2650320" y="5786280"/>
                    <a:ext cx="146160" cy="62640"/>
                    <a:chOff x="2650320" y="5786280"/>
                    <a:chExt cx="146160" cy="62640"/>
                  </a:xfrm>
                </p:grpSpPr>
                <p:grpSp>
                  <p:nvGrpSpPr>
                    <p:cNvPr id="450" name=""/>
                    <p:cNvGrpSpPr/>
                    <p:nvPr/>
                  </p:nvGrpSpPr>
                  <p:grpSpPr>
                    <a:xfrm>
                      <a:off x="2650320" y="5786280"/>
                      <a:ext cx="32040" cy="62640"/>
                      <a:chOff x="2650320" y="5786280"/>
                      <a:chExt cx="32040" cy="62640"/>
                    </a:xfrm>
                  </p:grpSpPr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2659320" y="5798520"/>
                        <a:ext cx="1440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2650320" y="5786280"/>
                        <a:ext cx="3204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30">
                            <a:moveTo>
                              <a:pt x="0" y="0"/>
                            </a:moveTo>
                            <a:lnTo>
                              <a:pt x="23" y="30"/>
                            </a:lnTo>
                            <a:lnTo>
                              <a:pt x="23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3" name=""/>
                    <p:cNvGrpSpPr/>
                    <p:nvPr/>
                  </p:nvGrpSpPr>
                  <p:grpSpPr>
                    <a:xfrm>
                      <a:off x="2682720" y="5786280"/>
                      <a:ext cx="37440" cy="62640"/>
                      <a:chOff x="2682720" y="5786280"/>
                      <a:chExt cx="37440" cy="62640"/>
                    </a:xfrm>
                  </p:grpSpPr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2691000" y="5798520"/>
                        <a:ext cx="2016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2682720" y="5786280"/>
                        <a:ext cx="3744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0">
                            <a:moveTo>
                              <a:pt x="0" y="0"/>
                            </a:moveTo>
                            <a:lnTo>
                              <a:pt x="27" y="30"/>
                            </a:lnTo>
                            <a:lnTo>
                              <a:pt x="27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6" name=""/>
                    <p:cNvGrpSpPr/>
                    <p:nvPr/>
                  </p:nvGrpSpPr>
                  <p:grpSpPr>
                    <a:xfrm>
                      <a:off x="2720520" y="5786280"/>
                      <a:ext cx="40680" cy="62640"/>
                      <a:chOff x="2720520" y="5786280"/>
                      <a:chExt cx="40680" cy="62640"/>
                    </a:xfrm>
                  </p:grpSpPr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2729520" y="5798520"/>
                        <a:ext cx="2268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2720520" y="5786280"/>
                        <a:ext cx="4068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0">
                            <a:moveTo>
                              <a:pt x="0" y="0"/>
                            </a:moveTo>
                            <a:lnTo>
                              <a:pt x="27" y="30"/>
                            </a:lnTo>
                            <a:lnTo>
                              <a:pt x="27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9" name=""/>
                    <p:cNvGrpSpPr/>
                    <p:nvPr/>
                  </p:nvGrpSpPr>
                  <p:grpSpPr>
                    <a:xfrm>
                      <a:off x="2761920" y="5786280"/>
                      <a:ext cx="34560" cy="62640"/>
                      <a:chOff x="2761920" y="5786280"/>
                      <a:chExt cx="34560" cy="62640"/>
                    </a:xfrm>
                  </p:grpSpPr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2770200" y="5798520"/>
                        <a:ext cx="1764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2761920" y="5786280"/>
                        <a:ext cx="3456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0">
                            <a:moveTo>
                              <a:pt x="0" y="0"/>
                            </a:moveTo>
                            <a:lnTo>
                              <a:pt x="24" y="30"/>
                            </a:lnTo>
                            <a:lnTo>
                              <a:pt x="24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2797560" y="5786280"/>
                    <a:ext cx="149040" cy="62640"/>
                    <a:chOff x="2797560" y="5786280"/>
                    <a:chExt cx="149040" cy="62640"/>
                  </a:xfrm>
                </p:grpSpPr>
                <p:grpSp>
                  <p:nvGrpSpPr>
                    <p:cNvPr id="463" name=""/>
                    <p:cNvGrpSpPr/>
                    <p:nvPr/>
                  </p:nvGrpSpPr>
                  <p:grpSpPr>
                    <a:xfrm>
                      <a:off x="2797560" y="5786280"/>
                      <a:ext cx="40680" cy="62640"/>
                      <a:chOff x="2797560" y="5786280"/>
                      <a:chExt cx="40680" cy="62640"/>
                    </a:xfrm>
                  </p:grpSpPr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2805840" y="5798520"/>
                        <a:ext cx="2268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"/>
                      <p:cNvSpPr/>
                      <p:nvPr/>
                    </p:nvSpPr>
                    <p:spPr>
                      <a:xfrm>
                        <a:off x="2797560" y="5786280"/>
                        <a:ext cx="4068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0">
                            <a:moveTo>
                              <a:pt x="0" y="0"/>
                            </a:moveTo>
                            <a:lnTo>
                              <a:pt x="27" y="30"/>
                            </a:lnTo>
                            <a:lnTo>
                              <a:pt x="27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6" name=""/>
                    <p:cNvGrpSpPr/>
                    <p:nvPr/>
                  </p:nvGrpSpPr>
                  <p:grpSpPr>
                    <a:xfrm>
                      <a:off x="2838600" y="5786280"/>
                      <a:ext cx="34920" cy="62640"/>
                      <a:chOff x="2838600" y="5786280"/>
                      <a:chExt cx="34920" cy="62640"/>
                    </a:xfrm>
                  </p:grpSpPr>
                  <p:sp>
                    <p:nvSpPr>
                      <p:cNvPr id="467" name=""/>
                      <p:cNvSpPr/>
                      <p:nvPr/>
                    </p:nvSpPr>
                    <p:spPr>
                      <a:xfrm>
                        <a:off x="2846880" y="5798520"/>
                        <a:ext cx="1692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8" name=""/>
                      <p:cNvSpPr/>
                      <p:nvPr/>
                    </p:nvSpPr>
                    <p:spPr>
                      <a:xfrm>
                        <a:off x="2838600" y="5786280"/>
                        <a:ext cx="3492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0">
                            <a:moveTo>
                              <a:pt x="0" y="0"/>
                            </a:moveTo>
                            <a:lnTo>
                              <a:pt x="24" y="30"/>
                            </a:lnTo>
                            <a:lnTo>
                              <a:pt x="24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9" name=""/>
                    <p:cNvGrpSpPr/>
                    <p:nvPr/>
                  </p:nvGrpSpPr>
                  <p:grpSpPr>
                    <a:xfrm>
                      <a:off x="2873880" y="5786280"/>
                      <a:ext cx="34920" cy="62640"/>
                      <a:chOff x="2873880" y="5786280"/>
                      <a:chExt cx="34920" cy="62640"/>
                    </a:xfrm>
                  </p:grpSpPr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2882160" y="5798520"/>
                        <a:ext cx="1692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>
                        <a:off x="2873880" y="5786280"/>
                        <a:ext cx="3492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30">
                            <a:moveTo>
                              <a:pt x="0" y="0"/>
                            </a:moveTo>
                            <a:lnTo>
                              <a:pt x="26" y="30"/>
                            </a:lnTo>
                            <a:lnTo>
                              <a:pt x="26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2" name=""/>
                    <p:cNvGrpSpPr/>
                    <p:nvPr/>
                  </p:nvGrpSpPr>
                  <p:grpSpPr>
                    <a:xfrm>
                      <a:off x="2909160" y="5786280"/>
                      <a:ext cx="37440" cy="62640"/>
                      <a:chOff x="2909160" y="5786280"/>
                      <a:chExt cx="37440" cy="62640"/>
                    </a:xfrm>
                  </p:grpSpPr>
                  <p:sp>
                    <p:nvSpPr>
                      <p:cNvPr id="473" name=""/>
                      <p:cNvSpPr/>
                      <p:nvPr/>
                    </p:nvSpPr>
                    <p:spPr>
                      <a:xfrm>
                        <a:off x="2917440" y="5798520"/>
                        <a:ext cx="2016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4" name=""/>
                      <p:cNvSpPr/>
                      <p:nvPr/>
                    </p:nvSpPr>
                    <p:spPr>
                      <a:xfrm>
                        <a:off x="2909160" y="5786280"/>
                        <a:ext cx="3744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30">
                            <a:moveTo>
                              <a:pt x="0" y="0"/>
                            </a:moveTo>
                            <a:lnTo>
                              <a:pt x="25" y="30"/>
                            </a:lnTo>
                            <a:lnTo>
                              <a:pt x="25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2745000" y="5786280"/>
                    <a:ext cx="252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856600" y="5786280"/>
                    <a:ext cx="324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783160" y="5786280"/>
                    <a:ext cx="252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815200" y="5786280"/>
                    <a:ext cx="324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709720" y="5786280"/>
                    <a:ext cx="252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670840" y="5786280"/>
                    <a:ext cx="324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894400" y="5786280"/>
                    <a:ext cx="324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933280" y="5786280"/>
                    <a:ext cx="252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3" name=""/>
            <p:cNvGrpSpPr/>
            <p:nvPr/>
          </p:nvGrpSpPr>
          <p:grpSpPr>
            <a:xfrm>
              <a:off x="4146840" y="5041080"/>
              <a:ext cx="1096560" cy="657360"/>
              <a:chOff x="4146840" y="5041080"/>
              <a:chExt cx="1096560" cy="65736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4146840" y="5041080"/>
                <a:ext cx="1096560" cy="657360"/>
                <a:chOff x="4146840" y="5041080"/>
                <a:chExt cx="1096560" cy="65736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4146840" y="5041080"/>
                  <a:ext cx="1096560" cy="574560"/>
                  <a:chOff x="4146840" y="5041080"/>
                  <a:chExt cx="1096560" cy="574560"/>
                </a:xfrm>
              </p:grpSpPr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4146840" y="5041080"/>
                    <a:ext cx="1049040" cy="554040"/>
                    <a:chOff x="4146840" y="5041080"/>
                    <a:chExt cx="1049040" cy="554040"/>
                  </a:xfrm>
                </p:grpSpPr>
                <p:grpSp>
                  <p:nvGrpSpPr>
                    <p:cNvPr id="487" name=""/>
                    <p:cNvGrpSpPr/>
                    <p:nvPr/>
                  </p:nvGrpSpPr>
                  <p:grpSpPr>
                    <a:xfrm>
                      <a:off x="4146840" y="5041080"/>
                      <a:ext cx="1049040" cy="554040"/>
                      <a:chOff x="4146840" y="5041080"/>
                      <a:chExt cx="1049040" cy="554040"/>
                    </a:xfrm>
                  </p:grpSpPr>
                  <p:grpSp>
                    <p:nvGrpSpPr>
                      <p:cNvPr id="488" name=""/>
                      <p:cNvGrpSpPr/>
                      <p:nvPr/>
                    </p:nvGrpSpPr>
                    <p:grpSpPr>
                      <a:xfrm>
                        <a:off x="4146840" y="5062320"/>
                        <a:ext cx="1049040" cy="532800"/>
                        <a:chOff x="4146840" y="5062320"/>
                        <a:chExt cx="1049040" cy="532800"/>
                      </a:xfrm>
                    </p:grpSpPr>
                    <p:grpSp>
                      <p:nvGrpSpPr>
                        <p:cNvPr id="489" name=""/>
                        <p:cNvGrpSpPr/>
                        <p:nvPr/>
                      </p:nvGrpSpPr>
                      <p:grpSpPr>
                        <a:xfrm>
                          <a:off x="4146840" y="5062320"/>
                          <a:ext cx="1049040" cy="532800"/>
                          <a:chOff x="4146840" y="5062320"/>
                          <a:chExt cx="1049040" cy="532800"/>
                        </a:xfrm>
                      </p:grpSpPr>
                      <p:grpSp>
                        <p:nvGrpSpPr>
                          <p:cNvPr id="490" name=""/>
                          <p:cNvGrpSpPr/>
                          <p:nvPr/>
                        </p:nvGrpSpPr>
                        <p:grpSpPr>
                          <a:xfrm>
                            <a:off x="4146840" y="5062320"/>
                            <a:ext cx="821160" cy="532800"/>
                            <a:chOff x="4146840" y="5062320"/>
                            <a:chExt cx="821160" cy="532800"/>
                          </a:xfrm>
                        </p:grpSpPr>
                        <p:sp>
                          <p:nvSpPr>
                            <p:cNvPr id="491" name=""/>
                            <p:cNvSpPr/>
                            <p:nvPr/>
                          </p:nvSpPr>
                          <p:spPr>
                            <a:xfrm>
                              <a:off x="4146840" y="5062320"/>
                              <a:ext cx="821160" cy="532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59" h="249">
                                  <a:moveTo>
                                    <a:pt x="0" y="224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407" y="0"/>
                                  </a:lnTo>
                                  <a:lnTo>
                                    <a:pt x="559" y="75"/>
                                  </a:lnTo>
                                  <a:lnTo>
                                    <a:pt x="559" y="210"/>
                                  </a:lnTo>
                                  <a:lnTo>
                                    <a:pt x="280" y="249"/>
                                  </a:lnTo>
                                  <a:lnTo>
                                    <a:pt x="0" y="22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3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92" name=""/>
                            <p:cNvGrpSpPr/>
                            <p:nvPr/>
                          </p:nvGrpSpPr>
                          <p:grpSpPr>
                            <a:xfrm>
                              <a:off x="4146840" y="5062320"/>
                              <a:ext cx="799560" cy="531720"/>
                              <a:chOff x="4146840" y="5062320"/>
                              <a:chExt cx="799560" cy="531720"/>
                            </a:xfrm>
                          </p:grpSpPr>
                          <p:sp>
                            <p:nvSpPr>
                              <p:cNvPr id="493" name=""/>
                              <p:cNvSpPr/>
                              <p:nvPr/>
                            </p:nvSpPr>
                            <p:spPr>
                              <a:xfrm>
                                <a:off x="4394160" y="5263560"/>
                                <a:ext cx="161280" cy="330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9" h="154">
                                    <a:moveTo>
                                      <a:pt x="109" y="74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1" y="136"/>
                                    </a:lnTo>
                                    <a:lnTo>
                                      <a:pt x="109" y="154"/>
                                    </a:lnTo>
                                    <a:lnTo>
                                      <a:pt x="109" y="7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4" name=""/>
                              <p:cNvSpPr/>
                              <p:nvPr/>
                            </p:nvSpPr>
                            <p:spPr>
                              <a:xfrm>
                                <a:off x="4146840" y="5062320"/>
                                <a:ext cx="223200" cy="475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52" h="222">
                                    <a:moveTo>
                                      <a:pt x="0" y="0"/>
                                    </a:moveTo>
                                    <a:lnTo>
                                      <a:pt x="152" y="76"/>
                                    </a:lnTo>
                                    <a:lnTo>
                                      <a:pt x="152" y="210"/>
                                    </a:lnTo>
                                    <a:lnTo>
                                      <a:pt x="0" y="22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5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5" name=""/>
                              <p:cNvSpPr/>
                              <p:nvPr/>
                            </p:nvSpPr>
                            <p:spPr>
                              <a:xfrm>
                                <a:off x="4334760" y="5181840"/>
                                <a:ext cx="602640" cy="81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11" h="38">
                                    <a:moveTo>
                                      <a:pt x="0" y="8"/>
                                    </a:moveTo>
                                    <a:lnTo>
                                      <a:pt x="392" y="0"/>
                                    </a:lnTo>
                                    <a:lnTo>
                                      <a:pt x="411" y="26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0" y="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7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4920" bIns="34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6" name=""/>
                              <p:cNvSpPr/>
                              <p:nvPr/>
                            </p:nvSpPr>
                            <p:spPr>
                              <a:xfrm>
                                <a:off x="4155480" y="5332680"/>
                                <a:ext cx="85320" cy="4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9" h="22">
                                    <a:moveTo>
                                      <a:pt x="0" y="8"/>
                                    </a:moveTo>
                                    <a:lnTo>
                                      <a:pt x="59" y="22"/>
                                    </a:lnTo>
                                    <a:lnTo>
                                      <a:pt x="59" y="0"/>
                                    </a:lnTo>
                                    <a:lnTo>
                                      <a:pt x="0" y="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" bIns="-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7" name=""/>
                              <p:cNvSpPr/>
                              <p:nvPr/>
                            </p:nvSpPr>
                            <p:spPr>
                              <a:xfrm>
                                <a:off x="4146840" y="5345280"/>
                                <a:ext cx="97200" cy="21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7" h="103">
                                    <a:moveTo>
                                      <a:pt x="0" y="0"/>
                                    </a:moveTo>
                                    <a:lnTo>
                                      <a:pt x="67" y="17"/>
                                    </a:lnTo>
                                    <a:lnTo>
                                      <a:pt x="67" y="103"/>
                                    </a:lnTo>
                                    <a:lnTo>
                                      <a:pt x="0" y="93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98" name=""/>
                              <p:cNvGrpSpPr/>
                              <p:nvPr/>
                            </p:nvGrpSpPr>
                            <p:grpSpPr>
                              <a:xfrm>
                                <a:off x="4146840" y="5293800"/>
                                <a:ext cx="96840" cy="84600"/>
                                <a:chOff x="4146840" y="5293800"/>
                                <a:chExt cx="96840" cy="84600"/>
                              </a:xfrm>
                            </p:grpSpPr>
                            <p:sp>
                              <p:nvSpPr>
                                <p:cNvPr id="499" name=""/>
                                <p:cNvSpPr/>
                                <p:nvPr/>
                              </p:nvSpPr>
                              <p:spPr>
                                <a:xfrm>
                                  <a:off x="4146840" y="5293800"/>
                                  <a:ext cx="96840" cy="84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5" h="41">
                                      <a:moveTo>
                                        <a:pt x="64" y="41"/>
                                      </a:moveTo>
                                      <a:lnTo>
                                        <a:pt x="0" y="24"/>
                                      </a:lnTo>
                                      <a:lnTo>
                                        <a:pt x="0" y="0"/>
                                      </a:lnTo>
                                      <a:lnTo>
                                        <a:pt x="65" y="14"/>
                                      </a:lnTo>
                                    </a:path>
                                  </a:pathLst>
                                </a:custGeom>
                                <a:noFill/>
                                <a:ln w="1440">
                                  <a:solidFill>
                                    <a:srgbClr val="3f1f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7800" bIns="37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0" name=""/>
                                <p:cNvSpPr/>
                                <p:nvPr/>
                              </p:nvSpPr>
                              <p:spPr>
                                <a:xfrm>
                                  <a:off x="4225680" y="5318640"/>
                                  <a:ext cx="3240" cy="55800"/>
                                </a:xfrm>
                                <a:prstGeom prst="line">
                                  <a:avLst/>
                                </a:prstGeom>
                                <a:ln w="144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9000" bIns="9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1" name=""/>
                                <p:cNvSpPr/>
                                <p:nvPr/>
                              </p:nvSpPr>
                              <p:spPr>
                                <a:xfrm>
                                  <a:off x="4205160" y="5311080"/>
                                  <a:ext cx="3240" cy="54720"/>
                                </a:xfrm>
                                <a:prstGeom prst="line">
                                  <a:avLst/>
                                </a:prstGeom>
                                <a:ln w="144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2" name=""/>
                                <p:cNvSpPr/>
                                <p:nvPr/>
                              </p:nvSpPr>
                              <p:spPr>
                                <a:xfrm>
                                  <a:off x="4187880" y="5306040"/>
                                  <a:ext cx="2520" cy="50760"/>
                                </a:xfrm>
                                <a:prstGeom prst="line">
                                  <a:avLst/>
                                </a:prstGeom>
                                <a:ln w="144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960" bIns="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3" name=""/>
                                <p:cNvSpPr/>
                                <p:nvPr/>
                              </p:nvSpPr>
                              <p:spPr>
                                <a:xfrm>
                                  <a:off x="4169880" y="5302440"/>
                                  <a:ext cx="3240" cy="50760"/>
                                </a:xfrm>
                                <a:prstGeom prst="line">
                                  <a:avLst/>
                                </a:prstGeom>
                                <a:ln w="144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960" bIns="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504" name=""/>
                              <p:cNvSpPr/>
                              <p:nvPr/>
                            </p:nvSpPr>
                            <p:spPr>
                              <a:xfrm>
                                <a:off x="4323240" y="5177880"/>
                                <a:ext cx="623160" cy="29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26" h="14">
                                    <a:moveTo>
                                      <a:pt x="0" y="10"/>
                                    </a:moveTo>
                                    <a:lnTo>
                                      <a:pt x="426" y="0"/>
                                    </a:lnTo>
                                    <a:lnTo>
                                      <a:pt x="426" y="4"/>
                                    </a:lnTo>
                                    <a:lnTo>
                                      <a:pt x="2" y="14"/>
                                    </a:lnTo>
                                    <a:lnTo>
                                      <a:pt x="0" y="1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3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920" bIns="-16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05" name=""/>
                          <p:cNvGrpSpPr/>
                          <p:nvPr/>
                        </p:nvGrpSpPr>
                        <p:grpSpPr>
                          <a:xfrm>
                            <a:off x="4697280" y="5208480"/>
                            <a:ext cx="498600" cy="298440"/>
                            <a:chOff x="4697280" y="5208480"/>
                            <a:chExt cx="498600" cy="298440"/>
                          </a:xfrm>
                        </p:grpSpPr>
                        <p:grpSp>
                          <p:nvGrpSpPr>
                            <p:cNvPr id="506" name=""/>
                            <p:cNvGrpSpPr/>
                            <p:nvPr/>
                          </p:nvGrpSpPr>
                          <p:grpSpPr>
                            <a:xfrm>
                              <a:off x="4697280" y="5208480"/>
                              <a:ext cx="498600" cy="277200"/>
                              <a:chOff x="4697280" y="5208480"/>
                              <a:chExt cx="498600" cy="277200"/>
                            </a:xfrm>
                          </p:grpSpPr>
                          <p:sp>
                            <p:nvSpPr>
                              <p:cNvPr id="507" name=""/>
                              <p:cNvSpPr/>
                              <p:nvPr/>
                            </p:nvSpPr>
                            <p:spPr>
                              <a:xfrm>
                                <a:off x="4899600" y="5208480"/>
                                <a:ext cx="281520" cy="277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4" h="131">
                                    <a:moveTo>
                                      <a:pt x="194" y="130"/>
                                    </a:moveTo>
                                    <a:lnTo>
                                      <a:pt x="194" y="59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0" y="17"/>
                                    </a:lnTo>
                                    <a:lnTo>
                                      <a:pt x="104" y="71"/>
                                    </a:lnTo>
                                    <a:lnTo>
                                      <a:pt x="179" y="68"/>
                                    </a:lnTo>
                                    <a:lnTo>
                                      <a:pt x="179" y="131"/>
                                    </a:lnTo>
                                    <a:lnTo>
                                      <a:pt x="194" y="13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5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8" name=""/>
                              <p:cNvSpPr/>
                              <p:nvPr/>
                            </p:nvSpPr>
                            <p:spPr>
                              <a:xfrm>
                                <a:off x="4697280" y="5229720"/>
                                <a:ext cx="490320" cy="145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34" h="66">
                                    <a:moveTo>
                                      <a:pt x="0" y="7"/>
                                    </a:moveTo>
                                    <a:lnTo>
                                      <a:pt x="224" y="0"/>
                                    </a:lnTo>
                                    <a:lnTo>
                                      <a:pt x="334" y="49"/>
                                    </a:lnTo>
                                    <a:lnTo>
                                      <a:pt x="136" y="66"/>
                                    </a:lnTo>
                                    <a:lnTo>
                                      <a:pt x="0" y="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7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9" name=""/>
                              <p:cNvSpPr/>
                              <p:nvPr/>
                            </p:nvSpPr>
                            <p:spPr>
                              <a:xfrm>
                                <a:off x="5011560" y="5336280"/>
                                <a:ext cx="18432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6" h="16">
                                    <a:moveTo>
                                      <a:pt x="0" y="11"/>
                                    </a:moveTo>
                                    <a:lnTo>
                                      <a:pt x="120" y="0"/>
                                    </a:lnTo>
                                    <a:lnTo>
                                      <a:pt x="126" y="4"/>
                                    </a:lnTo>
                                    <a:lnTo>
                                      <a:pt x="2" y="16"/>
                                    </a:lnTo>
                                    <a:lnTo>
                                      <a:pt x="0" y="1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3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10" name=""/>
                            <p:cNvGrpSpPr/>
                            <p:nvPr/>
                          </p:nvGrpSpPr>
                          <p:grpSpPr>
                            <a:xfrm>
                              <a:off x="5085000" y="5349240"/>
                              <a:ext cx="81360" cy="157680"/>
                              <a:chOff x="5085000" y="5349240"/>
                              <a:chExt cx="81360" cy="157680"/>
                            </a:xfrm>
                          </p:grpSpPr>
                          <p:sp>
                            <p:nvSpPr>
                              <p:cNvPr id="511" name=""/>
                              <p:cNvSpPr/>
                              <p:nvPr/>
                            </p:nvSpPr>
                            <p:spPr>
                              <a:xfrm>
                                <a:off x="5085000" y="5349240"/>
                                <a:ext cx="81360" cy="157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6" h="75">
                                    <a:moveTo>
                                      <a:pt x="0" y="5"/>
                                    </a:moveTo>
                                    <a:lnTo>
                                      <a:pt x="56" y="0"/>
                                    </a:lnTo>
                                    <a:lnTo>
                                      <a:pt x="56" y="66"/>
                                    </a:lnTo>
                                    <a:lnTo>
                                      <a:pt x="0" y="75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3f1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2" name=""/>
                              <p:cNvSpPr/>
                              <p:nvPr/>
                            </p:nvSpPr>
                            <p:spPr>
                              <a:xfrm>
                                <a:off x="5090760" y="5357880"/>
                                <a:ext cx="6660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63">
                                    <a:moveTo>
                                      <a:pt x="0" y="5"/>
                                    </a:moveTo>
                                    <a:lnTo>
                                      <a:pt x="45" y="0"/>
                                    </a:lnTo>
                                    <a:lnTo>
                                      <a:pt x="45" y="56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d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13" name=""/>
                        <p:cNvGrpSpPr/>
                        <p:nvPr/>
                      </p:nvGrpSpPr>
                      <p:grpSpPr>
                        <a:xfrm>
                          <a:off x="4547160" y="5376600"/>
                          <a:ext cx="364680" cy="218520"/>
                          <a:chOff x="4547160" y="5376600"/>
                          <a:chExt cx="364680" cy="218520"/>
                        </a:xfrm>
                      </p:grpSpPr>
                      <p:sp>
                        <p:nvSpPr>
                          <p:cNvPr id="514" name=""/>
                          <p:cNvSpPr/>
                          <p:nvPr/>
                        </p:nvSpPr>
                        <p:spPr>
                          <a:xfrm>
                            <a:off x="4559040" y="5384160"/>
                            <a:ext cx="340560" cy="21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2" h="98">
                                <a:moveTo>
                                  <a:pt x="0" y="21"/>
                                </a:moveTo>
                                <a:lnTo>
                                  <a:pt x="232" y="0"/>
                                </a:lnTo>
                                <a:lnTo>
                                  <a:pt x="232" y="65"/>
                                </a:lnTo>
                                <a:lnTo>
                                  <a:pt x="0" y="98"/>
                                </a:lnTo>
                                <a:lnTo>
                                  <a:pt x="0" y="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bfd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5" name=""/>
                          <p:cNvSpPr/>
                          <p:nvPr/>
                        </p:nvSpPr>
                        <p:spPr>
                          <a:xfrm>
                            <a:off x="4776480" y="5397840"/>
                            <a:ext cx="11880" cy="145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" h="69">
                                <a:moveTo>
                                  <a:pt x="0" y="1"/>
                                </a:moveTo>
                                <a:lnTo>
                                  <a:pt x="0" y="69"/>
                                </a:lnTo>
                                <a:lnTo>
                                  <a:pt x="8" y="67"/>
                                </a:lnTo>
                                <a:lnTo>
                                  <a:pt x="8" y="0"/>
                                </a:lnTo>
                                <a:lnTo>
                                  <a:pt x="0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6" name=""/>
                          <p:cNvSpPr/>
                          <p:nvPr/>
                        </p:nvSpPr>
                        <p:spPr>
                          <a:xfrm>
                            <a:off x="4664160" y="5419080"/>
                            <a:ext cx="11880" cy="145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" h="69">
                                <a:moveTo>
                                  <a:pt x="0" y="1"/>
                                </a:moveTo>
                                <a:lnTo>
                                  <a:pt x="0" y="69"/>
                                </a:lnTo>
                                <a:lnTo>
                                  <a:pt x="8" y="67"/>
                                </a:lnTo>
                                <a:lnTo>
                                  <a:pt x="8" y="0"/>
                                </a:lnTo>
                                <a:lnTo>
                                  <a:pt x="0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7" name=""/>
                          <p:cNvSpPr/>
                          <p:nvPr/>
                        </p:nvSpPr>
                        <p:spPr>
                          <a:xfrm>
                            <a:off x="4547160" y="5376600"/>
                            <a:ext cx="364680" cy="59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8" h="28">
                                <a:moveTo>
                                  <a:pt x="0" y="21"/>
                                </a:moveTo>
                                <a:lnTo>
                                  <a:pt x="237" y="0"/>
                                </a:lnTo>
                                <a:lnTo>
                                  <a:pt x="248" y="6"/>
                                </a:lnTo>
                                <a:lnTo>
                                  <a:pt x="8" y="28"/>
                                </a:lnTo>
                                <a:lnTo>
                                  <a:pt x="0" y="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18" name=""/>
                      <p:cNvGrpSpPr/>
                      <p:nvPr/>
                    </p:nvGrpSpPr>
                    <p:grpSpPr>
                      <a:xfrm>
                        <a:off x="4423680" y="5041080"/>
                        <a:ext cx="439560" cy="338400"/>
                        <a:chOff x="4423680" y="5041080"/>
                        <a:chExt cx="439560" cy="338400"/>
                      </a:xfrm>
                    </p:grpSpPr>
                    <p:grpSp>
                      <p:nvGrpSpPr>
                        <p:cNvPr id="519" name=""/>
                        <p:cNvGrpSpPr/>
                        <p:nvPr/>
                      </p:nvGrpSpPr>
                      <p:grpSpPr>
                        <a:xfrm>
                          <a:off x="4444200" y="5281920"/>
                          <a:ext cx="243360" cy="97560"/>
                          <a:chOff x="4444200" y="5281920"/>
                          <a:chExt cx="243360" cy="97560"/>
                        </a:xfrm>
                      </p:grpSpPr>
                      <p:sp>
                        <p:nvSpPr>
                          <p:cNvPr id="520" name=""/>
                          <p:cNvSpPr/>
                          <p:nvPr/>
                        </p:nvSpPr>
                        <p:spPr>
                          <a:xfrm>
                            <a:off x="4519800" y="5281920"/>
                            <a:ext cx="167760" cy="9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3" h="45">
                                <a:moveTo>
                                  <a:pt x="0" y="5"/>
                                </a:moveTo>
                                <a:lnTo>
                                  <a:pt x="0" y="45"/>
                                </a:lnTo>
                                <a:lnTo>
                                  <a:pt x="102" y="38"/>
                                </a:lnTo>
                                <a:lnTo>
                                  <a:pt x="102" y="6"/>
                                </a:lnTo>
                                <a:lnTo>
                                  <a:pt x="113" y="6"/>
                                </a:lnTo>
                                <a:lnTo>
                                  <a:pt x="113" y="0"/>
                                </a:lnTo>
                                <a:lnTo>
                                  <a:pt x="0" y="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1" name=""/>
                          <p:cNvSpPr/>
                          <p:nvPr/>
                        </p:nvSpPr>
                        <p:spPr>
                          <a:xfrm>
                            <a:off x="4444200" y="5294160"/>
                            <a:ext cx="75600" cy="84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" h="40">
                                <a:moveTo>
                                  <a:pt x="52" y="0"/>
                                </a:moveTo>
                                <a:lnTo>
                                  <a:pt x="52" y="40"/>
                                </a:lnTo>
                                <a:lnTo>
                                  <a:pt x="0" y="6"/>
                                </a:lnTo>
                                <a:lnTo>
                                  <a:pt x="5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8160" bIns="38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2" name=""/>
                          <p:cNvSpPr/>
                          <p:nvPr/>
                        </p:nvSpPr>
                        <p:spPr>
                          <a:xfrm>
                            <a:off x="4534560" y="5303160"/>
                            <a:ext cx="53280" cy="58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" h="28">
                                <a:moveTo>
                                  <a:pt x="0" y="1"/>
                                </a:moveTo>
                                <a:lnTo>
                                  <a:pt x="0" y="28"/>
                                </a:lnTo>
                                <a:lnTo>
                                  <a:pt x="37" y="26"/>
                                </a:lnTo>
                                <a:lnTo>
                                  <a:pt x="37" y="0"/>
                                </a:lnTo>
                                <a:lnTo>
                                  <a:pt x="0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bfd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3" name=""/>
                          <p:cNvSpPr/>
                          <p:nvPr/>
                        </p:nvSpPr>
                        <p:spPr>
                          <a:xfrm>
                            <a:off x="4605120" y="5294160"/>
                            <a:ext cx="49680" cy="59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5" h="28">
                                <a:moveTo>
                                  <a:pt x="0" y="3"/>
                                </a:moveTo>
                                <a:lnTo>
                                  <a:pt x="0" y="28"/>
                                </a:lnTo>
                                <a:lnTo>
                                  <a:pt x="35" y="26"/>
                                </a:lnTo>
                                <a:lnTo>
                                  <a:pt x="35" y="0"/>
                                </a:lnTo>
                                <a:lnTo>
                                  <a:pt x="0" y="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bfd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960" bIns="12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24" name=""/>
                        <p:cNvGrpSpPr/>
                        <p:nvPr/>
                      </p:nvGrpSpPr>
                      <p:grpSpPr>
                        <a:xfrm>
                          <a:off x="4423680" y="5041080"/>
                          <a:ext cx="439560" cy="216720"/>
                          <a:chOff x="4423680" y="5041080"/>
                          <a:chExt cx="439560" cy="216720"/>
                        </a:xfrm>
                      </p:grpSpPr>
                      <p:grpSp>
                        <p:nvGrpSpPr>
                          <p:cNvPr id="525" name=""/>
                          <p:cNvGrpSpPr/>
                          <p:nvPr/>
                        </p:nvGrpSpPr>
                        <p:grpSpPr>
                          <a:xfrm>
                            <a:off x="4423680" y="5190480"/>
                            <a:ext cx="439560" cy="67320"/>
                            <a:chOff x="4423680" y="5190480"/>
                            <a:chExt cx="439560" cy="67320"/>
                          </a:xfrm>
                        </p:grpSpPr>
                        <p:grpSp>
                          <p:nvGrpSpPr>
                            <p:cNvPr id="526" name=""/>
                            <p:cNvGrpSpPr/>
                            <p:nvPr/>
                          </p:nvGrpSpPr>
                          <p:grpSpPr>
                            <a:xfrm>
                              <a:off x="4775760" y="5190480"/>
                              <a:ext cx="87480" cy="50040"/>
                              <a:chOff x="4775760" y="5190480"/>
                              <a:chExt cx="87480" cy="50040"/>
                            </a:xfrm>
                          </p:grpSpPr>
                          <p:sp>
                            <p:nvSpPr>
                              <p:cNvPr id="527" name=""/>
                              <p:cNvSpPr/>
                              <p:nvPr/>
                            </p:nvSpPr>
                            <p:spPr>
                              <a:xfrm>
                                <a:off x="4775760" y="5190480"/>
                                <a:ext cx="87480" cy="50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9" h="26">
                                    <a:moveTo>
                                      <a:pt x="0" y="1"/>
                                    </a:moveTo>
                                    <a:lnTo>
                                      <a:pt x="0" y="26"/>
                                    </a:lnTo>
                                    <a:lnTo>
                                      <a:pt x="59" y="24"/>
                                    </a:lnTo>
                                    <a:lnTo>
                                      <a:pt x="59" y="0"/>
                                    </a:lnTo>
                                    <a:lnTo>
                                      <a:pt x="0" y="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df"/>
                              </a:solidFill>
                              <a:ln w="144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240" bIns="32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8" name=""/>
                              <p:cNvSpPr/>
                              <p:nvPr/>
                            </p:nvSpPr>
                            <p:spPr>
                              <a:xfrm>
                                <a:off x="4819320" y="5190480"/>
                                <a:ext cx="2520" cy="46080"/>
                              </a:xfrm>
                              <a:prstGeom prst="line">
                                <a:avLst/>
                              </a:prstGeom>
                              <a:ln w="144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" bIns="-7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29" name=""/>
                            <p:cNvGrpSpPr/>
                            <p:nvPr/>
                          </p:nvGrpSpPr>
                          <p:grpSpPr>
                            <a:xfrm>
                              <a:off x="4423680" y="5199120"/>
                              <a:ext cx="87480" cy="58680"/>
                              <a:chOff x="4423680" y="5199120"/>
                              <a:chExt cx="87480" cy="58680"/>
                            </a:xfrm>
                          </p:grpSpPr>
                          <p:sp>
                            <p:nvSpPr>
                              <p:cNvPr id="530" name=""/>
                              <p:cNvSpPr/>
                              <p:nvPr/>
                            </p:nvSpPr>
                            <p:spPr>
                              <a:xfrm>
                                <a:off x="4423680" y="5199120"/>
                                <a:ext cx="87480" cy="58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9" h="28">
                                    <a:moveTo>
                                      <a:pt x="0" y="1"/>
                                    </a:moveTo>
                                    <a:lnTo>
                                      <a:pt x="0" y="28"/>
                                    </a:lnTo>
                                    <a:lnTo>
                                      <a:pt x="59" y="26"/>
                                    </a:lnTo>
                                    <a:lnTo>
                                      <a:pt x="59" y="0"/>
                                    </a:lnTo>
                                    <a:lnTo>
                                      <a:pt x="0" y="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df"/>
                              </a:solidFill>
                              <a:ln w="144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880" bIns="118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1" name=""/>
                              <p:cNvSpPr/>
                              <p:nvPr/>
                            </p:nvSpPr>
                            <p:spPr>
                              <a:xfrm>
                                <a:off x="4467240" y="5202720"/>
                                <a:ext cx="2520" cy="54720"/>
                              </a:xfrm>
                              <a:prstGeom prst="line">
                                <a:avLst/>
                              </a:prstGeom>
                              <a:ln w="144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7920" bIns="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32" name=""/>
                          <p:cNvGrpSpPr/>
                          <p:nvPr/>
                        </p:nvGrpSpPr>
                        <p:grpSpPr>
                          <a:xfrm>
                            <a:off x="4473360" y="5041080"/>
                            <a:ext cx="248760" cy="122400"/>
                            <a:chOff x="4473360" y="5041080"/>
                            <a:chExt cx="248760" cy="122400"/>
                          </a:xfrm>
                        </p:grpSpPr>
                        <p:grpSp>
                          <p:nvGrpSpPr>
                            <p:cNvPr id="533" name=""/>
                            <p:cNvGrpSpPr/>
                            <p:nvPr/>
                          </p:nvGrpSpPr>
                          <p:grpSpPr>
                            <a:xfrm>
                              <a:off x="4473360" y="5041080"/>
                              <a:ext cx="181080" cy="57600"/>
                              <a:chOff x="4473360" y="5041080"/>
                              <a:chExt cx="181080" cy="57600"/>
                            </a:xfrm>
                          </p:grpSpPr>
                          <p:sp>
                            <p:nvSpPr>
                              <p:cNvPr id="534" name=""/>
                              <p:cNvSpPr/>
                              <p:nvPr/>
                            </p:nvSpPr>
                            <p:spPr>
                              <a:xfrm>
                                <a:off x="4475880" y="5044680"/>
                                <a:ext cx="178200" cy="54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3" h="26">
                                    <a:moveTo>
                                      <a:pt x="0" y="0"/>
                                    </a:moveTo>
                                    <a:lnTo>
                                      <a:pt x="35" y="19"/>
                                    </a:lnTo>
                                    <a:lnTo>
                                      <a:pt x="123" y="19"/>
                                    </a:lnTo>
                                    <a:lnTo>
                                      <a:pt x="123" y="26"/>
                                    </a:lnTo>
                                    <a:lnTo>
                                      <a:pt x="35" y="26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5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7200" bIns="72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5" name=""/>
                              <p:cNvSpPr/>
                              <p:nvPr/>
                            </p:nvSpPr>
                            <p:spPr>
                              <a:xfrm>
                                <a:off x="4473360" y="5041080"/>
                                <a:ext cx="181080" cy="41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4" h="19">
                                    <a:moveTo>
                                      <a:pt x="0" y="0"/>
                                    </a:moveTo>
                                    <a:lnTo>
                                      <a:pt x="36" y="19"/>
                                    </a:lnTo>
                                    <a:lnTo>
                                      <a:pt x="124" y="19"/>
                                    </a:lnTo>
                                    <a:lnTo>
                                      <a:pt x="86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9fbf"/>
                              </a:solidFill>
                              <a:ln w="144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5040" bIns="-5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6" name=""/>
                              <p:cNvSpPr/>
                              <p:nvPr/>
                            </p:nvSpPr>
                            <p:spPr>
                              <a:xfrm>
                                <a:off x="4540320" y="5041080"/>
                                <a:ext cx="52200" cy="41760"/>
                              </a:xfrm>
                              <a:prstGeom prst="line">
                                <a:avLst/>
                              </a:prstGeom>
                              <a:ln w="144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5040" bIns="-5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37" name=""/>
                            <p:cNvGrpSpPr/>
                            <p:nvPr/>
                          </p:nvGrpSpPr>
                          <p:grpSpPr>
                            <a:xfrm>
                              <a:off x="4537800" y="5108400"/>
                              <a:ext cx="184320" cy="55080"/>
                              <a:chOff x="4537800" y="5108400"/>
                              <a:chExt cx="184320" cy="55080"/>
                            </a:xfrm>
                          </p:grpSpPr>
                          <p:sp>
                            <p:nvSpPr>
                              <p:cNvPr id="538" name=""/>
                              <p:cNvSpPr/>
                              <p:nvPr/>
                            </p:nvSpPr>
                            <p:spPr>
                              <a:xfrm>
                                <a:off x="4540320" y="5113080"/>
                                <a:ext cx="181440" cy="50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3" h="24">
                                    <a:moveTo>
                                      <a:pt x="0" y="0"/>
                                    </a:moveTo>
                                    <a:lnTo>
                                      <a:pt x="37" y="18"/>
                                    </a:lnTo>
                                    <a:lnTo>
                                      <a:pt x="123" y="18"/>
                                    </a:lnTo>
                                    <a:lnTo>
                                      <a:pt x="123" y="24"/>
                                    </a:lnTo>
                                    <a:lnTo>
                                      <a:pt x="35" y="24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5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9" name=""/>
                              <p:cNvSpPr/>
                              <p:nvPr/>
                            </p:nvSpPr>
                            <p:spPr>
                              <a:xfrm>
                                <a:off x="4537800" y="5108400"/>
                                <a:ext cx="184320" cy="37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5" h="19">
                                    <a:moveTo>
                                      <a:pt x="0" y="0"/>
                                    </a:moveTo>
                                    <a:lnTo>
                                      <a:pt x="39" y="19"/>
                                    </a:lnTo>
                                    <a:lnTo>
                                      <a:pt x="125" y="19"/>
                                    </a:lnTo>
                                    <a:lnTo>
                                      <a:pt x="88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9fbf"/>
                              </a:solidFill>
                              <a:ln w="144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000" bIns="-9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"/>
                              <p:cNvSpPr/>
                              <p:nvPr/>
                            </p:nvSpPr>
                            <p:spPr>
                              <a:xfrm>
                                <a:off x="4604760" y="5108400"/>
                                <a:ext cx="52200" cy="37800"/>
                              </a:xfrm>
                              <a:prstGeom prst="line">
                                <a:avLst/>
                              </a:prstGeom>
                              <a:ln w="144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000" bIns="-9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541" name=""/>
                    <p:cNvGrpSpPr/>
                    <p:nvPr/>
                  </p:nvGrpSpPr>
                  <p:grpSpPr>
                    <a:xfrm>
                      <a:off x="4901040" y="5066280"/>
                      <a:ext cx="187200" cy="478080"/>
                      <a:chOff x="4901040" y="5066280"/>
                      <a:chExt cx="187200" cy="478080"/>
                    </a:xfrm>
                  </p:grpSpPr>
                  <p:grpSp>
                    <p:nvGrpSpPr>
                      <p:cNvPr id="542" name=""/>
                      <p:cNvGrpSpPr/>
                      <p:nvPr/>
                    </p:nvGrpSpPr>
                    <p:grpSpPr>
                      <a:xfrm>
                        <a:off x="4959360" y="5066280"/>
                        <a:ext cx="28440" cy="20520"/>
                        <a:chOff x="4959360" y="5066280"/>
                        <a:chExt cx="28440" cy="20520"/>
                      </a:xfrm>
                    </p:grpSpPr>
                    <p:sp>
                      <p:nvSpPr>
                        <p:cNvPr id="543" name=""/>
                        <p:cNvSpPr/>
                        <p:nvPr/>
                      </p:nvSpPr>
                      <p:spPr>
                        <a:xfrm>
                          <a:off x="4959360" y="5070960"/>
                          <a:ext cx="1152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" h="9">
                              <a:moveTo>
                                <a:pt x="8" y="0"/>
                              </a:moveTo>
                              <a:lnTo>
                                <a:pt x="0" y="1"/>
                              </a:lnTo>
                              <a:lnTo>
                                <a:pt x="0" y="9"/>
                              </a:lnTo>
                              <a:lnTo>
                                <a:pt x="8" y="9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4970880" y="5066280"/>
                          <a:ext cx="1692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" h="10">
                              <a:moveTo>
                                <a:pt x="0" y="1"/>
                              </a:moveTo>
                              <a:lnTo>
                                <a:pt x="0" y="10"/>
                              </a:lnTo>
                              <a:lnTo>
                                <a:pt x="13" y="10"/>
                              </a:lnTo>
                              <a:lnTo>
                                <a:pt x="13" y="0"/>
                              </a:lnTo>
                              <a:lnTo>
                                <a:pt x="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5" name=""/>
                      <p:cNvGrpSpPr/>
                      <p:nvPr/>
                    </p:nvGrpSpPr>
                    <p:grpSpPr>
                      <a:xfrm>
                        <a:off x="5018040" y="5066280"/>
                        <a:ext cx="31680" cy="20520"/>
                        <a:chOff x="5018040" y="5066280"/>
                        <a:chExt cx="31680" cy="20520"/>
                      </a:xfrm>
                    </p:grpSpPr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>
                          <a:off x="5018040" y="5070960"/>
                          <a:ext cx="1152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9">
                              <a:moveTo>
                                <a:pt x="10" y="0"/>
                              </a:moveTo>
                              <a:lnTo>
                                <a:pt x="0" y="1"/>
                              </a:lnTo>
                              <a:lnTo>
                                <a:pt x="0" y="9"/>
                              </a:lnTo>
                              <a:lnTo>
                                <a:pt x="10" y="9"/>
                              </a:lnTo>
                              <a:lnTo>
                                <a:pt x="1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>
                          <a:off x="5029560" y="5066280"/>
                          <a:ext cx="2016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" h="10">
                              <a:moveTo>
                                <a:pt x="0" y="1"/>
                              </a:moveTo>
                              <a:lnTo>
                                <a:pt x="0" y="10"/>
                              </a:lnTo>
                              <a:lnTo>
                                <a:pt x="15" y="10"/>
                              </a:lnTo>
                              <a:lnTo>
                                <a:pt x="15" y="0"/>
                              </a:lnTo>
                              <a:lnTo>
                                <a:pt x="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8" name=""/>
                      <p:cNvGrpSpPr/>
                      <p:nvPr/>
                    </p:nvGrpSpPr>
                    <p:grpSpPr>
                      <a:xfrm>
                        <a:off x="4901040" y="5083560"/>
                        <a:ext cx="187200" cy="460800"/>
                        <a:chOff x="4901040" y="5083560"/>
                        <a:chExt cx="187200" cy="460800"/>
                      </a:xfrm>
                    </p:grpSpPr>
                    <p:sp>
                      <p:nvSpPr>
                        <p:cNvPr id="549" name=""/>
                        <p:cNvSpPr/>
                        <p:nvPr/>
                      </p:nvSpPr>
                      <p:spPr>
                        <a:xfrm>
                          <a:off x="4944600" y="5083560"/>
                          <a:ext cx="143640" cy="46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" h="215">
                              <a:moveTo>
                                <a:pt x="0" y="3"/>
                              </a:moveTo>
                              <a:lnTo>
                                <a:pt x="0" y="215"/>
                              </a:lnTo>
                              <a:lnTo>
                                <a:pt x="99" y="200"/>
                              </a:lnTo>
                              <a:lnTo>
                                <a:pt x="99" y="0"/>
                              </a:lnTo>
                              <a:lnTo>
                                <a:pt x="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" name=""/>
                        <p:cNvSpPr/>
                        <p:nvPr/>
                      </p:nvSpPr>
                      <p:spPr>
                        <a:xfrm>
                          <a:off x="4901040" y="5087160"/>
                          <a:ext cx="43560" cy="45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10">
                              <a:moveTo>
                                <a:pt x="31" y="0"/>
                              </a:moveTo>
                              <a:lnTo>
                                <a:pt x="0" y="1"/>
                              </a:lnTo>
                              <a:lnTo>
                                <a:pt x="0" y="201"/>
                              </a:lnTo>
                              <a:lnTo>
                                <a:pt x="31" y="210"/>
                              </a:lnTo>
                              <a:lnTo>
                                <a:pt x="3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551" name=""/>
                  <p:cNvSpPr/>
                  <p:nvPr/>
                </p:nvSpPr>
                <p:spPr>
                  <a:xfrm>
                    <a:off x="4559760" y="5486400"/>
                    <a:ext cx="6836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60">
                        <a:moveTo>
                          <a:pt x="0" y="49"/>
                        </a:moveTo>
                        <a:lnTo>
                          <a:pt x="232" y="15"/>
                        </a:lnTo>
                        <a:lnTo>
                          <a:pt x="261" y="26"/>
                        </a:lnTo>
                        <a:lnTo>
                          <a:pt x="360" y="13"/>
                        </a:lnTo>
                        <a:lnTo>
                          <a:pt x="360" y="9"/>
                        </a:lnTo>
                        <a:lnTo>
                          <a:pt x="424" y="0"/>
                        </a:lnTo>
                        <a:lnTo>
                          <a:pt x="464" y="9"/>
                        </a:lnTo>
                        <a:lnTo>
                          <a:pt x="326" y="30"/>
                        </a:lnTo>
                        <a:lnTo>
                          <a:pt x="441" y="50"/>
                        </a:lnTo>
                        <a:lnTo>
                          <a:pt x="395" y="60"/>
                        </a:lnTo>
                        <a:lnTo>
                          <a:pt x="240" y="36"/>
                        </a:lnTo>
                        <a:lnTo>
                          <a:pt x="93" y="58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4240800" y="5123520"/>
                  <a:ext cx="459360" cy="574920"/>
                  <a:chOff x="4240800" y="5123520"/>
                  <a:chExt cx="459360" cy="57492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4240800" y="5123520"/>
                    <a:ext cx="459360" cy="445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204">
                        <a:moveTo>
                          <a:pt x="0" y="0"/>
                        </a:moveTo>
                        <a:lnTo>
                          <a:pt x="301" y="204"/>
                        </a:lnTo>
                        <a:lnTo>
                          <a:pt x="314" y="204"/>
                        </a:lnTo>
                        <a:lnTo>
                          <a:pt x="1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682520" y="5563800"/>
                    <a:ext cx="1728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61">
                        <a:moveTo>
                          <a:pt x="0" y="1"/>
                        </a:moveTo>
                        <a:lnTo>
                          <a:pt x="0" y="61"/>
                        </a:lnTo>
                        <a:lnTo>
                          <a:pt x="11" y="58"/>
                        </a:lnTo>
                        <a:lnTo>
                          <a:pt x="11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585320" y="5486400"/>
                    <a:ext cx="180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4">
                        <a:moveTo>
                          <a:pt x="0" y="0"/>
                        </a:moveTo>
                        <a:lnTo>
                          <a:pt x="0" y="84"/>
                        </a:lnTo>
                        <a:lnTo>
                          <a:pt x="12" y="80"/>
                        </a:lnTo>
                        <a:lnTo>
                          <a:pt x="12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494240" y="5391360"/>
                    <a:ext cx="172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2">
                        <a:moveTo>
                          <a:pt x="0" y="0"/>
                        </a:moveTo>
                        <a:lnTo>
                          <a:pt x="0" y="112"/>
                        </a:lnTo>
                        <a:lnTo>
                          <a:pt x="11" y="108"/>
                        </a:lnTo>
                        <a:lnTo>
                          <a:pt x="11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408920" y="5313600"/>
                    <a:ext cx="1728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6">
                        <a:moveTo>
                          <a:pt x="0" y="0"/>
                        </a:moveTo>
                        <a:lnTo>
                          <a:pt x="0" y="136"/>
                        </a:lnTo>
                        <a:lnTo>
                          <a:pt x="12" y="132"/>
                        </a:lnTo>
                        <a:lnTo>
                          <a:pt x="1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240800" y="5123520"/>
                    <a:ext cx="441720" cy="57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264">
                        <a:moveTo>
                          <a:pt x="0" y="210"/>
                        </a:moveTo>
                        <a:lnTo>
                          <a:pt x="0" y="0"/>
                        </a:lnTo>
                        <a:lnTo>
                          <a:pt x="299" y="204"/>
                        </a:lnTo>
                        <a:lnTo>
                          <a:pt x="299" y="264"/>
                        </a:lnTo>
                        <a:lnTo>
                          <a:pt x="286" y="264"/>
                        </a:lnTo>
                        <a:lnTo>
                          <a:pt x="286" y="207"/>
                        </a:lnTo>
                        <a:lnTo>
                          <a:pt x="233" y="172"/>
                        </a:lnTo>
                        <a:lnTo>
                          <a:pt x="233" y="250"/>
                        </a:lnTo>
                        <a:lnTo>
                          <a:pt x="219" y="250"/>
                        </a:lnTo>
                        <a:lnTo>
                          <a:pt x="219" y="163"/>
                        </a:lnTo>
                        <a:lnTo>
                          <a:pt x="173" y="131"/>
                        </a:lnTo>
                        <a:lnTo>
                          <a:pt x="173" y="234"/>
                        </a:lnTo>
                        <a:lnTo>
                          <a:pt x="158" y="234"/>
                        </a:lnTo>
                        <a:lnTo>
                          <a:pt x="158" y="122"/>
                        </a:lnTo>
                        <a:lnTo>
                          <a:pt x="117" y="93"/>
                        </a:lnTo>
                        <a:lnTo>
                          <a:pt x="117" y="225"/>
                        </a:lnTo>
                        <a:lnTo>
                          <a:pt x="0" y="21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9" name=""/>
              <p:cNvGrpSpPr/>
              <p:nvPr/>
            </p:nvGrpSpPr>
            <p:grpSpPr>
              <a:xfrm>
                <a:off x="4347360" y="5513040"/>
                <a:ext cx="294480" cy="155160"/>
                <a:chOff x="4347360" y="5513040"/>
                <a:chExt cx="294480" cy="1551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4494960" y="5555880"/>
                  <a:ext cx="146880" cy="112320"/>
                </a:xfrm>
                <a:custGeom>
                  <a:avLst/>
                  <a:gdLst/>
                  <a:ahLst/>
                  <a:rect l="l" t="t" r="r" b="b"/>
                  <a:pathLst>
                    <a:path w="101" h="53">
                      <a:moveTo>
                        <a:pt x="2" y="37"/>
                      </a:moveTo>
                      <a:lnTo>
                        <a:pt x="5" y="33"/>
                      </a:lnTo>
                      <a:lnTo>
                        <a:pt x="10" y="30"/>
                      </a:lnTo>
                      <a:lnTo>
                        <a:pt x="16" y="27"/>
                      </a:lnTo>
                      <a:lnTo>
                        <a:pt x="21" y="25"/>
                      </a:lnTo>
                      <a:lnTo>
                        <a:pt x="26" y="22"/>
                      </a:lnTo>
                      <a:lnTo>
                        <a:pt x="29" y="19"/>
                      </a:lnTo>
                      <a:lnTo>
                        <a:pt x="34" y="16"/>
                      </a:lnTo>
                      <a:lnTo>
                        <a:pt x="37" y="14"/>
                      </a:lnTo>
                      <a:lnTo>
                        <a:pt x="38" y="12"/>
                      </a:lnTo>
                      <a:lnTo>
                        <a:pt x="38" y="9"/>
                      </a:lnTo>
                      <a:lnTo>
                        <a:pt x="42" y="5"/>
                      </a:lnTo>
                      <a:lnTo>
                        <a:pt x="46" y="3"/>
                      </a:lnTo>
                      <a:lnTo>
                        <a:pt x="51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6" y="1"/>
                      </a:lnTo>
                      <a:lnTo>
                        <a:pt x="69" y="5"/>
                      </a:lnTo>
                      <a:lnTo>
                        <a:pt x="70" y="9"/>
                      </a:lnTo>
                      <a:lnTo>
                        <a:pt x="70" y="11"/>
                      </a:lnTo>
                      <a:lnTo>
                        <a:pt x="69" y="15"/>
                      </a:lnTo>
                      <a:lnTo>
                        <a:pt x="70" y="17"/>
                      </a:lnTo>
                      <a:lnTo>
                        <a:pt x="74" y="19"/>
                      </a:lnTo>
                      <a:lnTo>
                        <a:pt x="78" y="22"/>
                      </a:lnTo>
                      <a:lnTo>
                        <a:pt x="82" y="26"/>
                      </a:lnTo>
                      <a:lnTo>
                        <a:pt x="83" y="30"/>
                      </a:lnTo>
                      <a:lnTo>
                        <a:pt x="85" y="32"/>
                      </a:lnTo>
                      <a:lnTo>
                        <a:pt x="88" y="33"/>
                      </a:lnTo>
                      <a:lnTo>
                        <a:pt x="93" y="33"/>
                      </a:lnTo>
                      <a:lnTo>
                        <a:pt x="96" y="34"/>
                      </a:lnTo>
                      <a:lnTo>
                        <a:pt x="99" y="38"/>
                      </a:lnTo>
                      <a:lnTo>
                        <a:pt x="101" y="41"/>
                      </a:lnTo>
                      <a:lnTo>
                        <a:pt x="99" y="44"/>
                      </a:lnTo>
                      <a:lnTo>
                        <a:pt x="96" y="48"/>
                      </a:lnTo>
                      <a:lnTo>
                        <a:pt x="93" y="49"/>
                      </a:lnTo>
                      <a:lnTo>
                        <a:pt x="86" y="50"/>
                      </a:lnTo>
                      <a:lnTo>
                        <a:pt x="82" y="52"/>
                      </a:lnTo>
                      <a:lnTo>
                        <a:pt x="77" y="53"/>
                      </a:lnTo>
                      <a:lnTo>
                        <a:pt x="69" y="53"/>
                      </a:lnTo>
                      <a:lnTo>
                        <a:pt x="61" y="52"/>
                      </a:lnTo>
                      <a:lnTo>
                        <a:pt x="56" y="52"/>
                      </a:lnTo>
                      <a:lnTo>
                        <a:pt x="50" y="52"/>
                      </a:lnTo>
                      <a:lnTo>
                        <a:pt x="43" y="53"/>
                      </a:lnTo>
                      <a:lnTo>
                        <a:pt x="38" y="53"/>
                      </a:lnTo>
                      <a:lnTo>
                        <a:pt x="32" y="53"/>
                      </a:lnTo>
                      <a:lnTo>
                        <a:pt x="24" y="49"/>
                      </a:lnTo>
                      <a:lnTo>
                        <a:pt x="18" y="48"/>
                      </a:lnTo>
                      <a:lnTo>
                        <a:pt x="8" y="47"/>
                      </a:lnTo>
                      <a:lnTo>
                        <a:pt x="3" y="47"/>
                      </a:lnTo>
                      <a:lnTo>
                        <a:pt x="0" y="44"/>
                      </a:lnTo>
                      <a:lnTo>
                        <a:pt x="0" y="41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4347360" y="5513040"/>
                  <a:ext cx="147600" cy="116280"/>
                </a:xfrm>
                <a:custGeom>
                  <a:avLst/>
                  <a:gdLst/>
                  <a:ahLst/>
                  <a:rect l="l" t="t" r="r" b="b"/>
                  <a:pathLst>
                    <a:path w="101" h="52">
                      <a:moveTo>
                        <a:pt x="2" y="37"/>
                      </a:moveTo>
                      <a:lnTo>
                        <a:pt x="7" y="33"/>
                      </a:lnTo>
                      <a:lnTo>
                        <a:pt x="11" y="29"/>
                      </a:lnTo>
                      <a:lnTo>
                        <a:pt x="18" y="27"/>
                      </a:lnTo>
                      <a:lnTo>
                        <a:pt x="23" y="24"/>
                      </a:lnTo>
                      <a:lnTo>
                        <a:pt x="26" y="22"/>
                      </a:lnTo>
                      <a:lnTo>
                        <a:pt x="31" y="18"/>
                      </a:lnTo>
                      <a:lnTo>
                        <a:pt x="34" y="16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40" y="8"/>
                      </a:lnTo>
                      <a:lnTo>
                        <a:pt x="43" y="5"/>
                      </a:lnTo>
                      <a:lnTo>
                        <a:pt x="47" y="2"/>
                      </a:lnTo>
                      <a:lnTo>
                        <a:pt x="51" y="0"/>
                      </a:lnTo>
                      <a:lnTo>
                        <a:pt x="58" y="0"/>
                      </a:lnTo>
                      <a:lnTo>
                        <a:pt x="63" y="0"/>
                      </a:lnTo>
                      <a:lnTo>
                        <a:pt x="67" y="2"/>
                      </a:lnTo>
                      <a:lnTo>
                        <a:pt x="69" y="5"/>
                      </a:lnTo>
                      <a:lnTo>
                        <a:pt x="72" y="8"/>
                      </a:lnTo>
                      <a:lnTo>
                        <a:pt x="72" y="11"/>
                      </a:lnTo>
                      <a:lnTo>
                        <a:pt x="69" y="14"/>
                      </a:lnTo>
                      <a:lnTo>
                        <a:pt x="71" y="17"/>
                      </a:lnTo>
                      <a:lnTo>
                        <a:pt x="75" y="19"/>
                      </a:lnTo>
                      <a:lnTo>
                        <a:pt x="79" y="22"/>
                      </a:lnTo>
                      <a:lnTo>
                        <a:pt x="83" y="27"/>
                      </a:lnTo>
                      <a:lnTo>
                        <a:pt x="83" y="29"/>
                      </a:lnTo>
                      <a:lnTo>
                        <a:pt x="87" y="32"/>
                      </a:lnTo>
                      <a:lnTo>
                        <a:pt x="90" y="33"/>
                      </a:lnTo>
                      <a:lnTo>
                        <a:pt x="95" y="34"/>
                      </a:lnTo>
                      <a:lnTo>
                        <a:pt x="98" y="35"/>
                      </a:lnTo>
                      <a:lnTo>
                        <a:pt x="99" y="38"/>
                      </a:lnTo>
                      <a:lnTo>
                        <a:pt x="101" y="40"/>
                      </a:lnTo>
                      <a:lnTo>
                        <a:pt x="101" y="44"/>
                      </a:lnTo>
                      <a:lnTo>
                        <a:pt x="98" y="48"/>
                      </a:lnTo>
                      <a:lnTo>
                        <a:pt x="93" y="49"/>
                      </a:lnTo>
                      <a:lnTo>
                        <a:pt x="88" y="50"/>
                      </a:lnTo>
                      <a:lnTo>
                        <a:pt x="83" y="51"/>
                      </a:lnTo>
                      <a:lnTo>
                        <a:pt x="77" y="52"/>
                      </a:lnTo>
                      <a:lnTo>
                        <a:pt x="71" y="52"/>
                      </a:lnTo>
                      <a:lnTo>
                        <a:pt x="63" y="52"/>
                      </a:lnTo>
                      <a:lnTo>
                        <a:pt x="56" y="51"/>
                      </a:lnTo>
                      <a:lnTo>
                        <a:pt x="50" y="51"/>
                      </a:lnTo>
                      <a:lnTo>
                        <a:pt x="45" y="52"/>
                      </a:lnTo>
                      <a:lnTo>
                        <a:pt x="40" y="52"/>
                      </a:lnTo>
                      <a:lnTo>
                        <a:pt x="34" y="52"/>
                      </a:lnTo>
                      <a:lnTo>
                        <a:pt x="26" y="50"/>
                      </a:lnTo>
                      <a:lnTo>
                        <a:pt x="19" y="48"/>
                      </a:lnTo>
                      <a:lnTo>
                        <a:pt x="10" y="48"/>
                      </a:lnTo>
                      <a:lnTo>
                        <a:pt x="5" y="46"/>
                      </a:lnTo>
                      <a:lnTo>
                        <a:pt x="0" y="44"/>
                      </a:lnTo>
                      <a:lnTo>
                        <a:pt x="0" y="40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430160" y="5534280"/>
                  <a:ext cx="126000" cy="108360"/>
                </a:xfrm>
                <a:custGeom>
                  <a:avLst/>
                  <a:gdLst/>
                  <a:ahLst/>
                  <a:rect l="l" t="t" r="r" b="b"/>
                  <a:pathLst>
                    <a:path w="87" h="52">
                      <a:moveTo>
                        <a:pt x="2" y="36"/>
                      </a:moveTo>
                      <a:lnTo>
                        <a:pt x="5" y="32"/>
                      </a:lnTo>
                      <a:lnTo>
                        <a:pt x="8" y="29"/>
                      </a:lnTo>
                      <a:lnTo>
                        <a:pt x="13" y="26"/>
                      </a:lnTo>
                      <a:lnTo>
                        <a:pt x="18" y="24"/>
                      </a:lnTo>
                      <a:lnTo>
                        <a:pt x="21" y="21"/>
                      </a:lnTo>
                      <a:lnTo>
                        <a:pt x="24" y="19"/>
                      </a:lnTo>
                      <a:lnTo>
                        <a:pt x="29" y="15"/>
                      </a:lnTo>
                      <a:lnTo>
                        <a:pt x="32" y="14"/>
                      </a:lnTo>
                      <a:lnTo>
                        <a:pt x="32" y="13"/>
                      </a:lnTo>
                      <a:lnTo>
                        <a:pt x="34" y="9"/>
                      </a:lnTo>
                      <a:lnTo>
                        <a:pt x="35" y="4"/>
                      </a:lnTo>
                      <a:lnTo>
                        <a:pt x="39" y="3"/>
                      </a:lnTo>
                      <a:lnTo>
                        <a:pt x="43" y="0"/>
                      </a:lnTo>
                      <a:lnTo>
                        <a:pt x="66" y="31"/>
                      </a:lnTo>
                      <a:lnTo>
                        <a:pt x="74" y="31"/>
                      </a:lnTo>
                      <a:lnTo>
                        <a:pt x="75" y="32"/>
                      </a:lnTo>
                      <a:lnTo>
                        <a:pt x="80" y="33"/>
                      </a:lnTo>
                      <a:lnTo>
                        <a:pt x="83" y="35"/>
                      </a:lnTo>
                      <a:lnTo>
                        <a:pt x="85" y="37"/>
                      </a:lnTo>
                      <a:lnTo>
                        <a:pt x="87" y="40"/>
                      </a:lnTo>
                      <a:lnTo>
                        <a:pt x="85" y="43"/>
                      </a:lnTo>
                      <a:lnTo>
                        <a:pt x="83" y="47"/>
                      </a:lnTo>
                      <a:lnTo>
                        <a:pt x="79" y="48"/>
                      </a:lnTo>
                      <a:lnTo>
                        <a:pt x="75" y="49"/>
                      </a:lnTo>
                      <a:lnTo>
                        <a:pt x="71" y="51"/>
                      </a:lnTo>
                      <a:lnTo>
                        <a:pt x="66" y="52"/>
                      </a:lnTo>
                      <a:lnTo>
                        <a:pt x="59" y="52"/>
                      </a:lnTo>
                      <a:lnTo>
                        <a:pt x="53" y="52"/>
                      </a:lnTo>
                      <a:lnTo>
                        <a:pt x="48" y="51"/>
                      </a:lnTo>
                      <a:lnTo>
                        <a:pt x="42" y="51"/>
                      </a:lnTo>
                      <a:lnTo>
                        <a:pt x="37" y="52"/>
                      </a:lnTo>
                      <a:lnTo>
                        <a:pt x="32" y="52"/>
                      </a:lnTo>
                      <a:lnTo>
                        <a:pt x="27" y="52"/>
                      </a:lnTo>
                      <a:lnTo>
                        <a:pt x="21" y="49"/>
                      </a:lnTo>
                      <a:lnTo>
                        <a:pt x="16" y="47"/>
                      </a:lnTo>
                      <a:lnTo>
                        <a:pt x="7" y="47"/>
                      </a:lnTo>
                      <a:lnTo>
                        <a:pt x="3" y="46"/>
                      </a:lnTo>
                      <a:lnTo>
                        <a:pt x="0" y="43"/>
                      </a:lnTo>
                      <a:lnTo>
                        <a:pt x="0" y="40"/>
                      </a:lnTo>
                      <a:lnTo>
                        <a:pt x="2" y="36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417920" y="5560920"/>
                  <a:ext cx="126720" cy="82080"/>
                </a:xfrm>
                <a:custGeom>
                  <a:avLst/>
                  <a:gdLst/>
                  <a:ahLst/>
                  <a:rect l="l" t="t" r="r" b="b"/>
                  <a:pathLst>
                    <a:path w="87" h="39">
                      <a:moveTo>
                        <a:pt x="2" y="23"/>
                      </a:moveTo>
                      <a:lnTo>
                        <a:pt x="5" y="19"/>
                      </a:lnTo>
                      <a:lnTo>
                        <a:pt x="8" y="16"/>
                      </a:lnTo>
                      <a:lnTo>
                        <a:pt x="15" y="13"/>
                      </a:lnTo>
                      <a:lnTo>
                        <a:pt x="19" y="11"/>
                      </a:lnTo>
                      <a:lnTo>
                        <a:pt x="23" y="8"/>
                      </a:lnTo>
                      <a:lnTo>
                        <a:pt x="26" y="5"/>
                      </a:lnTo>
                      <a:lnTo>
                        <a:pt x="31" y="3"/>
                      </a:lnTo>
                      <a:lnTo>
                        <a:pt x="39" y="5"/>
                      </a:lnTo>
                      <a:lnTo>
                        <a:pt x="43" y="0"/>
                      </a:lnTo>
                      <a:lnTo>
                        <a:pt x="59" y="1"/>
                      </a:lnTo>
                      <a:lnTo>
                        <a:pt x="61" y="3"/>
                      </a:lnTo>
                      <a:lnTo>
                        <a:pt x="64" y="6"/>
                      </a:lnTo>
                      <a:lnTo>
                        <a:pt x="67" y="8"/>
                      </a:lnTo>
                      <a:lnTo>
                        <a:pt x="71" y="12"/>
                      </a:lnTo>
                      <a:lnTo>
                        <a:pt x="72" y="16"/>
                      </a:lnTo>
                      <a:lnTo>
                        <a:pt x="74" y="18"/>
                      </a:lnTo>
                      <a:lnTo>
                        <a:pt x="77" y="19"/>
                      </a:lnTo>
                      <a:lnTo>
                        <a:pt x="80" y="19"/>
                      </a:lnTo>
                      <a:lnTo>
                        <a:pt x="83" y="22"/>
                      </a:lnTo>
                      <a:lnTo>
                        <a:pt x="85" y="24"/>
                      </a:lnTo>
                      <a:lnTo>
                        <a:pt x="87" y="27"/>
                      </a:lnTo>
                      <a:lnTo>
                        <a:pt x="87" y="30"/>
                      </a:lnTo>
                      <a:lnTo>
                        <a:pt x="83" y="33"/>
                      </a:lnTo>
                      <a:lnTo>
                        <a:pt x="80" y="35"/>
                      </a:lnTo>
                      <a:lnTo>
                        <a:pt x="75" y="35"/>
                      </a:lnTo>
                      <a:lnTo>
                        <a:pt x="71" y="38"/>
                      </a:lnTo>
                      <a:lnTo>
                        <a:pt x="66" y="39"/>
                      </a:lnTo>
                      <a:lnTo>
                        <a:pt x="59" y="39"/>
                      </a:lnTo>
                      <a:lnTo>
                        <a:pt x="53" y="38"/>
                      </a:lnTo>
                      <a:lnTo>
                        <a:pt x="48" y="38"/>
                      </a:lnTo>
                      <a:lnTo>
                        <a:pt x="43" y="38"/>
                      </a:lnTo>
                      <a:lnTo>
                        <a:pt x="39" y="39"/>
                      </a:lnTo>
                      <a:lnTo>
                        <a:pt x="34" y="39"/>
                      </a:lnTo>
                      <a:lnTo>
                        <a:pt x="29" y="39"/>
                      </a:lnTo>
                      <a:lnTo>
                        <a:pt x="23" y="35"/>
                      </a:lnTo>
                      <a:lnTo>
                        <a:pt x="16" y="34"/>
                      </a:lnTo>
                      <a:lnTo>
                        <a:pt x="8" y="33"/>
                      </a:lnTo>
                      <a:lnTo>
                        <a:pt x="3" y="33"/>
                      </a:lnTo>
                      <a:lnTo>
                        <a:pt x="0" y="30"/>
                      </a:lnTo>
                      <a:lnTo>
                        <a:pt x="0" y="27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424040" y="5534280"/>
                  <a:ext cx="126000" cy="116280"/>
                </a:xfrm>
                <a:custGeom>
                  <a:avLst/>
                  <a:gdLst/>
                  <a:ahLst/>
                  <a:rect l="l" t="t" r="r" b="b"/>
                  <a:pathLst>
                    <a:path w="86" h="52">
                      <a:moveTo>
                        <a:pt x="2" y="35"/>
                      </a:moveTo>
                      <a:lnTo>
                        <a:pt x="5" y="33"/>
                      </a:lnTo>
                      <a:lnTo>
                        <a:pt x="8" y="29"/>
                      </a:lnTo>
                      <a:lnTo>
                        <a:pt x="14" y="27"/>
                      </a:lnTo>
                      <a:lnTo>
                        <a:pt x="19" y="23"/>
                      </a:lnTo>
                      <a:lnTo>
                        <a:pt x="22" y="20"/>
                      </a:lnTo>
                      <a:lnTo>
                        <a:pt x="26" y="18"/>
                      </a:lnTo>
                      <a:lnTo>
                        <a:pt x="29" y="16"/>
                      </a:lnTo>
                      <a:lnTo>
                        <a:pt x="34" y="13"/>
                      </a:lnTo>
                      <a:lnTo>
                        <a:pt x="34" y="12"/>
                      </a:lnTo>
                      <a:lnTo>
                        <a:pt x="34" y="8"/>
                      </a:lnTo>
                      <a:lnTo>
                        <a:pt x="37" y="4"/>
                      </a:lnTo>
                      <a:lnTo>
                        <a:pt x="40" y="2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8" y="1"/>
                      </a:lnTo>
                      <a:lnTo>
                        <a:pt x="59" y="3"/>
                      </a:lnTo>
                      <a:lnTo>
                        <a:pt x="61" y="8"/>
                      </a:lnTo>
                      <a:lnTo>
                        <a:pt x="61" y="11"/>
                      </a:lnTo>
                      <a:lnTo>
                        <a:pt x="59" y="14"/>
                      </a:lnTo>
                      <a:lnTo>
                        <a:pt x="61" y="17"/>
                      </a:lnTo>
                      <a:lnTo>
                        <a:pt x="64" y="18"/>
                      </a:lnTo>
                      <a:lnTo>
                        <a:pt x="67" y="22"/>
                      </a:lnTo>
                      <a:lnTo>
                        <a:pt x="70" y="25"/>
                      </a:lnTo>
                      <a:lnTo>
                        <a:pt x="72" y="29"/>
                      </a:lnTo>
                      <a:lnTo>
                        <a:pt x="74" y="31"/>
                      </a:lnTo>
                      <a:lnTo>
                        <a:pt x="77" y="33"/>
                      </a:lnTo>
                      <a:lnTo>
                        <a:pt x="82" y="33"/>
                      </a:lnTo>
                      <a:lnTo>
                        <a:pt x="83" y="34"/>
                      </a:lnTo>
                      <a:lnTo>
                        <a:pt x="86" y="36"/>
                      </a:lnTo>
                      <a:lnTo>
                        <a:pt x="86" y="40"/>
                      </a:lnTo>
                      <a:lnTo>
                        <a:pt x="86" y="42"/>
                      </a:lnTo>
                      <a:lnTo>
                        <a:pt x="83" y="46"/>
                      </a:lnTo>
                      <a:lnTo>
                        <a:pt x="80" y="49"/>
                      </a:lnTo>
                      <a:lnTo>
                        <a:pt x="75" y="49"/>
                      </a:lnTo>
                      <a:lnTo>
                        <a:pt x="70" y="50"/>
                      </a:lnTo>
                      <a:lnTo>
                        <a:pt x="66" y="51"/>
                      </a:lnTo>
                      <a:lnTo>
                        <a:pt x="59" y="51"/>
                      </a:lnTo>
                      <a:lnTo>
                        <a:pt x="53" y="51"/>
                      </a:lnTo>
                      <a:lnTo>
                        <a:pt x="48" y="50"/>
                      </a:lnTo>
                      <a:lnTo>
                        <a:pt x="43" y="50"/>
                      </a:lnTo>
                      <a:lnTo>
                        <a:pt x="38" y="51"/>
                      </a:lnTo>
                      <a:lnTo>
                        <a:pt x="34" y="52"/>
                      </a:lnTo>
                      <a:lnTo>
                        <a:pt x="29" y="51"/>
                      </a:lnTo>
                      <a:lnTo>
                        <a:pt x="22" y="49"/>
                      </a:lnTo>
                      <a:lnTo>
                        <a:pt x="16" y="47"/>
                      </a:lnTo>
                      <a:lnTo>
                        <a:pt x="8" y="46"/>
                      </a:lnTo>
                      <a:lnTo>
                        <a:pt x="3" y="46"/>
                      </a:lnTo>
                      <a:lnTo>
                        <a:pt x="0" y="44"/>
                      </a:lnTo>
                      <a:lnTo>
                        <a:pt x="0" y="40"/>
                      </a:lnTo>
                      <a:lnTo>
                        <a:pt x="2" y="35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4385520" y="5235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85520" y="523188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385520" y="5235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385520" y="523188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977840" y="5019480"/>
              <a:ext cx="636120" cy="868320"/>
              <a:chOff x="1977840" y="5019480"/>
              <a:chExt cx="636120" cy="86832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977840" y="5019480"/>
                <a:ext cx="636120" cy="475560"/>
                <a:chOff x="1977840" y="5019480"/>
                <a:chExt cx="636120" cy="47556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1977840" y="5019480"/>
                  <a:ext cx="636120" cy="475560"/>
                  <a:chOff x="1977840" y="5019480"/>
                  <a:chExt cx="636120" cy="47556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H="1" flipV="1">
                    <a:off x="2607840" y="5240160"/>
                    <a:ext cx="2520" cy="1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flipV="1">
                    <a:off x="2578320" y="5152320"/>
                    <a:ext cx="11160" cy="17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flipV="1">
                    <a:off x="2508120" y="5083920"/>
                    <a:ext cx="1440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flipV="1">
                    <a:off x="2430720" y="5049720"/>
                    <a:ext cx="32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flipV="1">
                    <a:off x="2355120" y="5023080"/>
                    <a:ext cx="1728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292840" y="5019480"/>
                    <a:ext cx="5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280960" y="5019480"/>
                    <a:ext cx="1440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204640" y="5027040"/>
                    <a:ext cx="504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2136600" y="504972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2121480" y="5049720"/>
                    <a:ext cx="2052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2054520" y="5087880"/>
                    <a:ext cx="1728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1998360" y="5166360"/>
                    <a:ext cx="5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1995480" y="517932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1977840" y="52527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977840" y="5256720"/>
                    <a:ext cx="2520" cy="12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998360" y="533520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998360" y="5335200"/>
                    <a:ext cx="11880" cy="1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060640" y="5416920"/>
                    <a:ext cx="1728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136600" y="5460120"/>
                    <a:ext cx="324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136600" y="5460120"/>
                    <a:ext cx="1800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195280" y="5482440"/>
                    <a:ext cx="5004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287080" y="5490360"/>
                    <a:ext cx="864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295720" y="5490360"/>
                    <a:ext cx="900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>
                    <a:off x="2345760" y="5482080"/>
                    <a:ext cx="5004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>
                    <a:off x="2445840" y="5464800"/>
                    <a:ext cx="5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451960" y="546012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V="1">
                    <a:off x="2519280" y="5421600"/>
                    <a:ext cx="1188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>
                    <a:off x="2581560" y="5338800"/>
                    <a:ext cx="8640" cy="12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V="1">
                    <a:off x="2590200" y="5330520"/>
                    <a:ext cx="32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>
                    <a:off x="2610720" y="5256720"/>
                    <a:ext cx="32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2062800" y="5092560"/>
                  <a:ext cx="476640" cy="353880"/>
                  <a:chOff x="2062800" y="5092560"/>
                  <a:chExt cx="476640" cy="35388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flipH="1" flipV="1">
                    <a:off x="2533320" y="5247360"/>
                    <a:ext cx="3240" cy="17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flipV="1">
                    <a:off x="2503800" y="5182560"/>
                    <a:ext cx="324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 flipV="1">
                    <a:off x="2489400" y="5170320"/>
                    <a:ext cx="1188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 flipV="1">
                    <a:off x="2416320" y="5123160"/>
                    <a:ext cx="5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413080" y="51141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flipV="1">
                    <a:off x="2328120" y="5092560"/>
                    <a:ext cx="4104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2338920" y="5096520"/>
                    <a:ext cx="32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2248560" y="509292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2189520" y="510948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2118600" y="5144760"/>
                    <a:ext cx="1116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2112840" y="515268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2062800" y="522612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063160" y="5234760"/>
                    <a:ext cx="252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068920" y="5313240"/>
                    <a:ext cx="576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071800" y="5321160"/>
                    <a:ext cx="86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136600" y="539100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204640" y="5425200"/>
                    <a:ext cx="1440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219040" y="542988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280600" y="5442840"/>
                    <a:ext cx="1440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V="1">
                    <a:off x="2354760" y="5437440"/>
                    <a:ext cx="1728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V="1">
                    <a:off x="2439360" y="5408640"/>
                    <a:ext cx="900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V="1">
                    <a:off x="2507760" y="5334840"/>
                    <a:ext cx="11160" cy="1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536920" y="52653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2159640" y="5153040"/>
                  <a:ext cx="291600" cy="198360"/>
                  <a:chOff x="2159640" y="5153040"/>
                  <a:chExt cx="291600" cy="19836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flipH="1" flipV="1">
                    <a:off x="2445480" y="5218200"/>
                    <a:ext cx="5760" cy="55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 flipV="1">
                    <a:off x="2377800" y="5173920"/>
                    <a:ext cx="1116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flipV="1">
                    <a:off x="2286360" y="5153040"/>
                    <a:ext cx="500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2228040" y="5161680"/>
                    <a:ext cx="1728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2162880" y="521352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2159640" y="5222520"/>
                    <a:ext cx="32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169000" y="52959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175120" y="5299920"/>
                    <a:ext cx="11160" cy="13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245320" y="5342760"/>
                    <a:ext cx="576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251080" y="534780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319480" y="534780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328120" y="534780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>
                    <a:off x="2398680" y="532980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>
                    <a:off x="2404080" y="5320800"/>
                    <a:ext cx="900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448720" y="52527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2" name=""/>
              <p:cNvSpPr/>
              <p:nvPr/>
            </p:nvSpPr>
            <p:spPr>
              <a:xfrm>
                <a:off x="2166120" y="5622840"/>
                <a:ext cx="221040" cy="3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151360" y="5722200"/>
                <a:ext cx="250560" cy="3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190240" y="5509800"/>
                <a:ext cx="17964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201760" y="5410080"/>
                <a:ext cx="150120" cy="3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60440" y="5257440"/>
                <a:ext cx="2916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310840" y="5314680"/>
                <a:ext cx="114840" cy="542160"/>
              </a:xfrm>
              <a:custGeom>
                <a:avLst/>
                <a:gdLst/>
                <a:ahLst/>
                <a:rect l="l" t="t" r="r" b="b"/>
                <a:pathLst>
                  <a:path w="79" h="249">
                    <a:moveTo>
                      <a:pt x="0" y="0"/>
                    </a:moveTo>
                    <a:lnTo>
                      <a:pt x="72" y="249"/>
                    </a:lnTo>
                    <a:lnTo>
                      <a:pt x="79" y="249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125440" y="5314680"/>
                <a:ext cx="120240" cy="542160"/>
              </a:xfrm>
              <a:custGeom>
                <a:avLst/>
                <a:gdLst/>
                <a:ahLst/>
                <a:rect l="l" t="t" r="r" b="b"/>
                <a:pathLst>
                  <a:path w="82" h="249">
                    <a:moveTo>
                      <a:pt x="82" y="0"/>
                    </a:moveTo>
                    <a:lnTo>
                      <a:pt x="6" y="249"/>
                    </a:lnTo>
                    <a:lnTo>
                      <a:pt x="0" y="249"/>
                    </a:lnTo>
                    <a:lnTo>
                      <a:pt x="75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225160" y="5314680"/>
                <a:ext cx="130320" cy="11196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0" y="0"/>
                    </a:moveTo>
                    <a:lnTo>
                      <a:pt x="82" y="51"/>
                    </a:lnTo>
                    <a:lnTo>
                      <a:pt x="88" y="51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201760" y="5314680"/>
                <a:ext cx="129600" cy="111960"/>
              </a:xfrm>
              <a:custGeom>
                <a:avLst/>
                <a:gdLst/>
                <a:ahLst/>
                <a:rect l="l" t="t" r="r" b="b"/>
                <a:pathLst>
                  <a:path w="90" h="51">
                    <a:moveTo>
                      <a:pt x="90" y="0"/>
                    </a:moveTo>
                    <a:lnTo>
                      <a:pt x="7" y="51"/>
                    </a:lnTo>
                    <a:lnTo>
                      <a:pt x="0" y="51"/>
                    </a:lnTo>
                    <a:lnTo>
                      <a:pt x="83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201760" y="5427000"/>
                <a:ext cx="159120" cy="104040"/>
              </a:xfrm>
              <a:custGeom>
                <a:avLst/>
                <a:gdLst/>
                <a:ahLst/>
                <a:rect l="l" t="t" r="r" b="b"/>
                <a:pathLst>
                  <a:path w="109" h="49">
                    <a:moveTo>
                      <a:pt x="7" y="0"/>
                    </a:moveTo>
                    <a:lnTo>
                      <a:pt x="109" y="49"/>
                    </a:lnTo>
                    <a:lnTo>
                      <a:pt x="103" y="49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90240" y="5427000"/>
                <a:ext cx="164880" cy="104040"/>
              </a:xfrm>
              <a:custGeom>
                <a:avLst/>
                <a:gdLst/>
                <a:ahLst/>
                <a:rect l="l" t="t" r="r" b="b"/>
                <a:pathLst>
                  <a:path w="110" h="49">
                    <a:moveTo>
                      <a:pt x="104" y="0"/>
                    </a:moveTo>
                    <a:lnTo>
                      <a:pt x="0" y="49"/>
                    </a:lnTo>
                    <a:lnTo>
                      <a:pt x="6" y="49"/>
                    </a:lnTo>
                    <a:lnTo>
                      <a:pt x="110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90240" y="5522400"/>
                <a:ext cx="196920" cy="122040"/>
              </a:xfrm>
              <a:custGeom>
                <a:avLst/>
                <a:gdLst/>
                <a:ahLst/>
                <a:rect l="l" t="t" r="r" b="b"/>
                <a:pathLst>
                  <a:path w="135" h="57">
                    <a:moveTo>
                      <a:pt x="0" y="0"/>
                    </a:moveTo>
                    <a:lnTo>
                      <a:pt x="128" y="57"/>
                    </a:lnTo>
                    <a:lnTo>
                      <a:pt x="135" y="5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66120" y="5522400"/>
                <a:ext cx="203760" cy="122040"/>
              </a:xfrm>
              <a:custGeom>
                <a:avLst/>
                <a:gdLst/>
                <a:ahLst/>
                <a:rect l="l" t="t" r="r" b="b"/>
                <a:pathLst>
                  <a:path w="137" h="57">
                    <a:moveTo>
                      <a:pt x="137" y="0"/>
                    </a:moveTo>
                    <a:lnTo>
                      <a:pt x="6" y="57"/>
                    </a:lnTo>
                    <a:lnTo>
                      <a:pt x="0" y="57"/>
                    </a:lnTo>
                    <a:lnTo>
                      <a:pt x="131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166120" y="5635800"/>
                <a:ext cx="235800" cy="104040"/>
              </a:xfrm>
              <a:custGeom>
                <a:avLst/>
                <a:gdLst/>
                <a:ahLst/>
                <a:rect l="l" t="t" r="r" b="b"/>
                <a:pathLst>
                  <a:path w="160" h="48">
                    <a:moveTo>
                      <a:pt x="0" y="0"/>
                    </a:moveTo>
                    <a:lnTo>
                      <a:pt x="153" y="48"/>
                    </a:lnTo>
                    <a:lnTo>
                      <a:pt x="160" y="4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151360" y="5635800"/>
                <a:ext cx="233280" cy="104040"/>
              </a:xfrm>
              <a:custGeom>
                <a:avLst/>
                <a:gdLst/>
                <a:ahLst/>
                <a:rect l="l" t="t" r="r" b="b"/>
                <a:pathLst>
                  <a:path w="158" h="48">
                    <a:moveTo>
                      <a:pt x="158" y="0"/>
                    </a:moveTo>
                    <a:lnTo>
                      <a:pt x="6" y="48"/>
                    </a:lnTo>
                    <a:lnTo>
                      <a:pt x="0" y="48"/>
                    </a:lnTo>
                    <a:lnTo>
                      <a:pt x="150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201760" y="5288040"/>
                <a:ext cx="144360" cy="48240"/>
              </a:xfrm>
              <a:prstGeom prst="rect">
                <a:avLst/>
              </a:prstGeom>
              <a:solidFill>
                <a:srgbClr val="00000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01320" y="5817960"/>
                <a:ext cx="353520" cy="6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2028600" y="403308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tell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92600" y="5966280"/>
              <a:ext cx="86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cro-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83800" y="5749560"/>
              <a:ext cx="80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cro-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49720" y="465876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015600" y="4897440"/>
              <a:ext cx="84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-Bui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75200" y="567576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o-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56760" y="346752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88680" y="4358160"/>
              <a:ext cx="77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urb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6909840" y="4949640"/>
              <a:ext cx="1042560" cy="962280"/>
              <a:chOff x="6909840" y="4949640"/>
              <a:chExt cx="1042560" cy="96228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7366680" y="4949640"/>
                <a:ext cx="585720" cy="961560"/>
                <a:chOff x="7366680" y="4949640"/>
                <a:chExt cx="585720" cy="961560"/>
              </a:xfrm>
            </p:grpSpPr>
            <p:grpSp>
              <p:nvGrpSpPr>
                <p:cNvPr id="669" name=""/>
                <p:cNvGrpSpPr/>
                <p:nvPr/>
              </p:nvGrpSpPr>
              <p:grpSpPr>
                <a:xfrm>
                  <a:off x="7366680" y="4949640"/>
                  <a:ext cx="585720" cy="961560"/>
                  <a:chOff x="7366680" y="4949640"/>
                  <a:chExt cx="585720" cy="961560"/>
                </a:xfrm>
              </p:grpSpPr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7528680" y="4949640"/>
                    <a:ext cx="237600" cy="63720"/>
                    <a:chOff x="7528680" y="4949640"/>
                    <a:chExt cx="237600" cy="637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7589880" y="4949640"/>
                      <a:ext cx="17640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27">
                          <a:moveTo>
                            <a:pt x="0" y="0"/>
                          </a:moveTo>
                          <a:lnTo>
                            <a:pt x="122" y="10"/>
                          </a:lnTo>
                          <a:lnTo>
                            <a:pt x="122" y="27"/>
                          </a:lnTo>
                          <a:lnTo>
                            <a:pt x="0" y="1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7528680" y="4958280"/>
                      <a:ext cx="6732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26">
                          <a:moveTo>
                            <a:pt x="46" y="0"/>
                          </a:moveTo>
                          <a:lnTo>
                            <a:pt x="46" y="15"/>
                          </a:lnTo>
                          <a:lnTo>
                            <a:pt x="0" y="26"/>
                          </a:lnTo>
                          <a:lnTo>
                            <a:pt x="0" y="11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7539840" y="4962240"/>
                      <a:ext cx="471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0" y="21"/>
                          </a:moveTo>
                          <a:lnTo>
                            <a:pt x="0" y="8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7366680" y="4971240"/>
                    <a:ext cx="585720" cy="939960"/>
                    <a:chOff x="7366680" y="4971240"/>
                    <a:chExt cx="585720" cy="93996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7366680" y="4975920"/>
                      <a:ext cx="232920" cy="9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433">
                          <a:moveTo>
                            <a:pt x="0" y="43"/>
                          </a:moveTo>
                          <a:lnTo>
                            <a:pt x="157" y="0"/>
                          </a:lnTo>
                          <a:lnTo>
                            <a:pt x="155" y="433"/>
                          </a:lnTo>
                          <a:lnTo>
                            <a:pt x="0" y="43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7590240" y="4971240"/>
                      <a:ext cx="362160" cy="9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4" h="434">
                          <a:moveTo>
                            <a:pt x="0" y="0"/>
                          </a:moveTo>
                          <a:lnTo>
                            <a:pt x="198" y="14"/>
                          </a:lnTo>
                          <a:lnTo>
                            <a:pt x="198" y="414"/>
                          </a:lnTo>
                          <a:lnTo>
                            <a:pt x="216" y="416"/>
                          </a:lnTo>
                          <a:lnTo>
                            <a:pt x="224" y="426"/>
                          </a:lnTo>
                          <a:lnTo>
                            <a:pt x="244" y="434"/>
                          </a:lnTo>
                          <a:lnTo>
                            <a:pt x="0" y="43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7590240" y="4975920"/>
                      <a:ext cx="356400" cy="9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430">
                          <a:moveTo>
                            <a:pt x="0" y="0"/>
                          </a:moveTo>
                          <a:lnTo>
                            <a:pt x="196" y="15"/>
                          </a:lnTo>
                          <a:lnTo>
                            <a:pt x="196" y="412"/>
                          </a:lnTo>
                          <a:lnTo>
                            <a:pt x="212" y="414"/>
                          </a:lnTo>
                          <a:lnTo>
                            <a:pt x="220" y="424"/>
                          </a:lnTo>
                          <a:lnTo>
                            <a:pt x="241" y="430"/>
                          </a:lnTo>
                          <a:lnTo>
                            <a:pt x="0" y="4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7369920" y="4975920"/>
                  <a:ext cx="520200" cy="934560"/>
                  <a:chOff x="7369920" y="4975920"/>
                  <a:chExt cx="520200" cy="934560"/>
                </a:xfrm>
              </p:grpSpPr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7590240" y="4975920"/>
                    <a:ext cx="299880" cy="909000"/>
                    <a:chOff x="7590240" y="4975920"/>
                    <a:chExt cx="299880" cy="9090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7590240" y="5672880"/>
                      <a:ext cx="299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24">
                          <a:moveTo>
                            <a:pt x="0" y="0"/>
                          </a:moveTo>
                          <a:lnTo>
                            <a:pt x="203" y="2"/>
                          </a:lnTo>
                          <a:lnTo>
                            <a:pt x="201" y="24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7590240" y="5837040"/>
                      <a:ext cx="297000" cy="47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7590240" y="5781240"/>
                      <a:ext cx="29700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7590240" y="5729040"/>
                      <a:ext cx="299880" cy="43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7590240" y="5621040"/>
                      <a:ext cx="2970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21">
                          <a:moveTo>
                            <a:pt x="0" y="0"/>
                          </a:moveTo>
                          <a:lnTo>
                            <a:pt x="201" y="2"/>
                          </a:lnTo>
                          <a:lnTo>
                            <a:pt x="201" y="21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7590240" y="5564160"/>
                      <a:ext cx="29700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26">
                          <a:moveTo>
                            <a:pt x="0" y="0"/>
                          </a:moveTo>
                          <a:lnTo>
                            <a:pt x="203" y="7"/>
                          </a:lnTo>
                          <a:lnTo>
                            <a:pt x="203" y="26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7590240" y="5511960"/>
                      <a:ext cx="29988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24">
                          <a:moveTo>
                            <a:pt x="2" y="0"/>
                          </a:moveTo>
                          <a:lnTo>
                            <a:pt x="205" y="7"/>
                          </a:lnTo>
                          <a:lnTo>
                            <a:pt x="205" y="24"/>
                          </a:lnTo>
                          <a:lnTo>
                            <a:pt x="0" y="19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7590240" y="5456160"/>
                      <a:ext cx="29700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0">
                          <a:moveTo>
                            <a:pt x="0" y="0"/>
                          </a:moveTo>
                          <a:lnTo>
                            <a:pt x="203" y="12"/>
                          </a:lnTo>
                          <a:lnTo>
                            <a:pt x="203" y="30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7590240" y="5403960"/>
                      <a:ext cx="29700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0">
                          <a:moveTo>
                            <a:pt x="0" y="0"/>
                          </a:moveTo>
                          <a:lnTo>
                            <a:pt x="203" y="13"/>
                          </a:lnTo>
                          <a:lnTo>
                            <a:pt x="203" y="30"/>
                          </a:lnTo>
                          <a:lnTo>
                            <a:pt x="0" y="2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7590240" y="5343120"/>
                      <a:ext cx="29700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6">
                          <a:moveTo>
                            <a:pt x="0" y="0"/>
                          </a:moveTo>
                          <a:lnTo>
                            <a:pt x="203" y="16"/>
                          </a:lnTo>
                          <a:lnTo>
                            <a:pt x="203" y="36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7590240" y="5290920"/>
                      <a:ext cx="29988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34">
                          <a:moveTo>
                            <a:pt x="0" y="0"/>
                          </a:moveTo>
                          <a:lnTo>
                            <a:pt x="203" y="15"/>
                          </a:lnTo>
                          <a:lnTo>
                            <a:pt x="205" y="34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7590240" y="5235120"/>
                      <a:ext cx="29700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34">
                          <a:moveTo>
                            <a:pt x="0" y="0"/>
                          </a:moveTo>
                          <a:lnTo>
                            <a:pt x="201" y="16"/>
                          </a:lnTo>
                          <a:lnTo>
                            <a:pt x="201" y="34"/>
                          </a:lnTo>
                          <a:lnTo>
                            <a:pt x="1" y="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7590240" y="5182920"/>
                      <a:ext cx="29700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36">
                          <a:moveTo>
                            <a:pt x="0" y="0"/>
                          </a:moveTo>
                          <a:lnTo>
                            <a:pt x="201" y="17"/>
                          </a:lnTo>
                          <a:lnTo>
                            <a:pt x="201" y="36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7590240" y="5123160"/>
                      <a:ext cx="29700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8">
                          <a:moveTo>
                            <a:pt x="2" y="0"/>
                          </a:moveTo>
                          <a:lnTo>
                            <a:pt x="203" y="19"/>
                          </a:lnTo>
                          <a:lnTo>
                            <a:pt x="203" y="38"/>
                          </a:lnTo>
                          <a:lnTo>
                            <a:pt x="0" y="2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7590240" y="5074920"/>
                      <a:ext cx="29700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3">
                          <a:moveTo>
                            <a:pt x="0" y="0"/>
                          </a:moveTo>
                          <a:lnTo>
                            <a:pt x="203" y="17"/>
                          </a:lnTo>
                          <a:lnTo>
                            <a:pt x="203" y="33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7590240" y="5019120"/>
                      <a:ext cx="297000" cy="7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4">
                          <a:moveTo>
                            <a:pt x="0" y="0"/>
                          </a:moveTo>
                          <a:lnTo>
                            <a:pt x="203" y="16"/>
                          </a:lnTo>
                          <a:lnTo>
                            <a:pt x="203" y="34"/>
                          </a:lnTo>
                          <a:lnTo>
                            <a:pt x="2" y="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7590240" y="4975920"/>
                      <a:ext cx="29700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3">
                          <a:moveTo>
                            <a:pt x="0" y="0"/>
                          </a:moveTo>
                          <a:lnTo>
                            <a:pt x="203" y="16"/>
                          </a:lnTo>
                          <a:lnTo>
                            <a:pt x="203" y="33"/>
                          </a:lnTo>
                          <a:lnTo>
                            <a:pt x="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7619400" y="4979520"/>
                    <a:ext cx="232200" cy="930960"/>
                    <a:chOff x="7619400" y="4979520"/>
                    <a:chExt cx="232200" cy="93096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7848360" y="5004720"/>
                      <a:ext cx="3240" cy="89244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7813080" y="4997160"/>
                      <a:ext cx="3240" cy="90432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7781040" y="4992120"/>
                      <a:ext cx="2520" cy="90936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7751880" y="4988160"/>
                      <a:ext cx="2520" cy="92196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7716600" y="4983120"/>
                      <a:ext cx="2520" cy="92700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7687080" y="4979520"/>
                      <a:ext cx="2520" cy="91800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7651800" y="4979520"/>
                      <a:ext cx="2520" cy="91800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7619400" y="4979520"/>
                      <a:ext cx="3240" cy="93096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7369920" y="5010120"/>
                    <a:ext cx="231840" cy="831240"/>
                    <a:chOff x="7369920" y="5010120"/>
                    <a:chExt cx="231840" cy="83124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>
                      <a:off x="7369920" y="5010120"/>
                      <a:ext cx="231840" cy="90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>
                      <a:off x="7374600" y="5061960"/>
                      <a:ext cx="226440" cy="82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7369920" y="5122800"/>
                      <a:ext cx="21708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38">
                          <a:moveTo>
                            <a:pt x="148" y="0"/>
                          </a:moveTo>
                          <a:lnTo>
                            <a:pt x="2" y="38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>
                      <a:off x="7369920" y="5173920"/>
                      <a:ext cx="231840" cy="78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flipH="1">
                      <a:off x="7369920" y="5226120"/>
                      <a:ext cx="231840" cy="69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flipH="1">
                      <a:off x="7369920" y="5283000"/>
                      <a:ext cx="231840" cy="59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flipH="1">
                      <a:off x="7369920" y="5338800"/>
                      <a:ext cx="231840" cy="5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flipH="1">
                      <a:off x="7369920" y="5394960"/>
                      <a:ext cx="231840" cy="47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 flipH="1">
                      <a:off x="7369920" y="5446800"/>
                      <a:ext cx="231840" cy="43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flipH="1">
                      <a:off x="7369920" y="5503680"/>
                      <a:ext cx="231840" cy="38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flipH="1">
                      <a:off x="7369920" y="5559840"/>
                      <a:ext cx="231840" cy="25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 flipH="1">
                      <a:off x="7369920" y="5615640"/>
                      <a:ext cx="231840" cy="2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flipH="1">
                      <a:off x="7369920" y="5667840"/>
                      <a:ext cx="231840" cy="2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 flipH="1">
                      <a:off x="7378560" y="5723640"/>
                      <a:ext cx="223200" cy="8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flipH="1">
                      <a:off x="7378560" y="5775840"/>
                      <a:ext cx="223200" cy="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>
                      <a:off x="7378560" y="5836680"/>
                      <a:ext cx="223200" cy="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23" name=""/>
              <p:cNvGrpSpPr/>
              <p:nvPr/>
            </p:nvGrpSpPr>
            <p:grpSpPr>
              <a:xfrm>
                <a:off x="6909840" y="5162040"/>
                <a:ext cx="409320" cy="749880"/>
                <a:chOff x="6909840" y="5162040"/>
                <a:chExt cx="409320" cy="74988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7056720" y="5166720"/>
                  <a:ext cx="262440" cy="745200"/>
                </a:xfrm>
                <a:custGeom>
                  <a:avLst/>
                  <a:gdLst/>
                  <a:ahLst/>
                  <a:rect l="l" t="t" r="r" b="b"/>
                  <a:pathLst>
                    <a:path w="179" h="343">
                      <a:moveTo>
                        <a:pt x="0" y="0"/>
                      </a:moveTo>
                      <a:lnTo>
                        <a:pt x="177" y="11"/>
                      </a:lnTo>
                      <a:lnTo>
                        <a:pt x="179" y="343"/>
                      </a:lnTo>
                      <a:lnTo>
                        <a:pt x="0" y="3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056720" y="5162040"/>
                  <a:ext cx="256320" cy="741240"/>
                </a:xfrm>
                <a:custGeom>
                  <a:avLst/>
                  <a:gdLst/>
                  <a:ahLst/>
                  <a:rect l="l" t="t" r="r" b="b"/>
                  <a:pathLst>
                    <a:path w="174" h="342">
                      <a:moveTo>
                        <a:pt x="0" y="0"/>
                      </a:moveTo>
                      <a:lnTo>
                        <a:pt x="174" y="11"/>
                      </a:lnTo>
                      <a:lnTo>
                        <a:pt x="174" y="342"/>
                      </a:lnTo>
                      <a:lnTo>
                        <a:pt x="0" y="3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6" name=""/>
                <p:cNvGrpSpPr/>
                <p:nvPr/>
              </p:nvGrpSpPr>
              <p:grpSpPr>
                <a:xfrm>
                  <a:off x="6909840" y="5162040"/>
                  <a:ext cx="396000" cy="748800"/>
                  <a:chOff x="6909840" y="5162040"/>
                  <a:chExt cx="396000" cy="748800"/>
                </a:xfrm>
              </p:grpSpPr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6909840" y="5162040"/>
                    <a:ext cx="152280" cy="748800"/>
                    <a:chOff x="6909840" y="5162040"/>
                    <a:chExt cx="152280" cy="748800"/>
                  </a:xfrm>
                </p:grpSpPr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6909840" y="5162040"/>
                      <a:ext cx="152280" cy="74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344">
                          <a:moveTo>
                            <a:pt x="0" y="27"/>
                          </a:moveTo>
                          <a:lnTo>
                            <a:pt x="104" y="0"/>
                          </a:lnTo>
                          <a:lnTo>
                            <a:pt x="104" y="344"/>
                          </a:lnTo>
                          <a:lnTo>
                            <a:pt x="0" y="344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flipH="1">
                      <a:off x="7014240" y="5179680"/>
                      <a:ext cx="3240" cy="72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6964920" y="5201280"/>
                      <a:ext cx="3240" cy="709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7003440" y="5854680"/>
                      <a:ext cx="316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6953400" y="5854680"/>
                      <a:ext cx="316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7071120" y="5213520"/>
                    <a:ext cx="234720" cy="687240"/>
                    <a:chOff x="7071120" y="5213520"/>
                    <a:chExt cx="234720" cy="687240"/>
                  </a:xfrm>
                </p:grpSpPr>
                <p:grpSp>
                  <p:nvGrpSpPr>
                    <p:cNvPr id="734" name=""/>
                    <p:cNvGrpSpPr/>
                    <p:nvPr/>
                  </p:nvGrpSpPr>
                  <p:grpSpPr>
                    <a:xfrm>
                      <a:off x="7094880" y="5849640"/>
                      <a:ext cx="186840" cy="51120"/>
                      <a:chOff x="7094880" y="5849640"/>
                      <a:chExt cx="186840" cy="51120"/>
                    </a:xfrm>
                  </p:grpSpPr>
                  <p:sp>
                    <p:nvSpPr>
                      <p:cNvPr id="735" name=""/>
                      <p:cNvSpPr/>
                      <p:nvPr/>
                    </p:nvSpPr>
                    <p:spPr>
                      <a:xfrm>
                        <a:off x="7205760" y="5849640"/>
                        <a:ext cx="32400" cy="51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7249320" y="5849640"/>
                        <a:ext cx="32400" cy="51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7094880" y="5849640"/>
                        <a:ext cx="34200" cy="51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7138440" y="5849640"/>
                        <a:ext cx="37800" cy="51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9" name=""/>
                    <p:cNvGrpSpPr/>
                    <p:nvPr/>
                  </p:nvGrpSpPr>
                  <p:grpSpPr>
                    <a:xfrm>
                      <a:off x="7071120" y="5218560"/>
                      <a:ext cx="234720" cy="604440"/>
                      <a:chOff x="7071120" y="5218560"/>
                      <a:chExt cx="234720" cy="604440"/>
                    </a:xfrm>
                  </p:grpSpPr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7074360" y="5218560"/>
                        <a:ext cx="23112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2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7074360" y="525672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1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1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>
                        <a:off x="7074360" y="5286960"/>
                        <a:ext cx="231120" cy="4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2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3" name=""/>
                      <p:cNvSpPr/>
                      <p:nvPr/>
                    </p:nvSpPr>
                    <p:spPr>
                      <a:xfrm>
                        <a:off x="7074360" y="5321160"/>
                        <a:ext cx="231120" cy="5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3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3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4" name=""/>
                      <p:cNvSpPr/>
                      <p:nvPr/>
                    </p:nvSpPr>
                    <p:spPr>
                      <a:xfrm>
                        <a:off x="7074360" y="536040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9">
                            <a:moveTo>
                              <a:pt x="0" y="0"/>
                            </a:moveTo>
                            <a:lnTo>
                              <a:pt x="157" y="9"/>
                            </a:lnTo>
                            <a:lnTo>
                              <a:pt x="157" y="19"/>
                            </a:lnTo>
                            <a:lnTo>
                              <a:pt x="0" y="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5" name=""/>
                      <p:cNvSpPr/>
                      <p:nvPr/>
                    </p:nvSpPr>
                    <p:spPr>
                      <a:xfrm>
                        <a:off x="7074360" y="5391000"/>
                        <a:ext cx="23112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2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6" name=""/>
                      <p:cNvSpPr/>
                      <p:nvPr/>
                    </p:nvSpPr>
                    <p:spPr>
                      <a:xfrm>
                        <a:off x="7074360" y="5425200"/>
                        <a:ext cx="231120" cy="4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2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2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7" name=""/>
                      <p:cNvSpPr/>
                      <p:nvPr/>
                    </p:nvSpPr>
                    <p:spPr>
                      <a:xfrm>
                        <a:off x="7074360" y="5459400"/>
                        <a:ext cx="23112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0">
                            <a:moveTo>
                              <a:pt x="0" y="0"/>
                            </a:moveTo>
                            <a:lnTo>
                              <a:pt x="157" y="8"/>
                            </a:lnTo>
                            <a:lnTo>
                              <a:pt x="157" y="20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7074360" y="549000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0">
                            <a:moveTo>
                              <a:pt x="0" y="0"/>
                            </a:moveTo>
                            <a:lnTo>
                              <a:pt x="157" y="9"/>
                            </a:lnTo>
                            <a:lnTo>
                              <a:pt x="157" y="20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9" name=""/>
                      <p:cNvSpPr/>
                      <p:nvPr/>
                    </p:nvSpPr>
                    <p:spPr>
                      <a:xfrm>
                        <a:off x="7074360" y="552528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0">
                            <a:moveTo>
                              <a:pt x="0" y="0"/>
                            </a:moveTo>
                            <a:lnTo>
                              <a:pt x="157" y="8"/>
                            </a:lnTo>
                            <a:lnTo>
                              <a:pt x="157" y="20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0" name=""/>
                      <p:cNvSpPr/>
                      <p:nvPr/>
                    </p:nvSpPr>
                    <p:spPr>
                      <a:xfrm>
                        <a:off x="7074360" y="5563440"/>
                        <a:ext cx="2311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8">
                            <a:moveTo>
                              <a:pt x="0" y="0"/>
                            </a:moveTo>
                            <a:lnTo>
                              <a:pt x="157" y="7"/>
                            </a:lnTo>
                            <a:lnTo>
                              <a:pt x="157" y="18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1" name=""/>
                      <p:cNvSpPr/>
                      <p:nvPr/>
                    </p:nvSpPr>
                    <p:spPr>
                      <a:xfrm>
                        <a:off x="7074360" y="559872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0">
                            <a:moveTo>
                              <a:pt x="0" y="0"/>
                            </a:moveTo>
                            <a:lnTo>
                              <a:pt x="157" y="9"/>
                            </a:lnTo>
                            <a:lnTo>
                              <a:pt x="157" y="20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7074360" y="5636880"/>
                        <a:ext cx="2311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9">
                            <a:moveTo>
                              <a:pt x="0" y="0"/>
                            </a:moveTo>
                            <a:lnTo>
                              <a:pt x="157" y="7"/>
                            </a:lnTo>
                            <a:lnTo>
                              <a:pt x="157" y="19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7074360" y="5676120"/>
                        <a:ext cx="231120" cy="3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7">
                            <a:moveTo>
                              <a:pt x="0" y="0"/>
                            </a:moveTo>
                            <a:lnTo>
                              <a:pt x="157" y="6"/>
                            </a:lnTo>
                            <a:lnTo>
                              <a:pt x="157" y="17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4" name=""/>
                      <p:cNvSpPr/>
                      <p:nvPr/>
                    </p:nvSpPr>
                    <p:spPr>
                      <a:xfrm>
                        <a:off x="7071120" y="5715360"/>
                        <a:ext cx="23472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7">
                            <a:moveTo>
                              <a:pt x="0" y="0"/>
                            </a:moveTo>
                            <a:lnTo>
                              <a:pt x="160" y="6"/>
                            </a:lnTo>
                            <a:lnTo>
                              <a:pt x="160" y="17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7071120" y="5753520"/>
                        <a:ext cx="2347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5">
                            <a:moveTo>
                              <a:pt x="0" y="0"/>
                            </a:moveTo>
                            <a:lnTo>
                              <a:pt x="160" y="4"/>
                            </a:lnTo>
                            <a:lnTo>
                              <a:pt x="160" y="15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6" name=""/>
                      <p:cNvSpPr/>
                      <p:nvPr/>
                    </p:nvSpPr>
                    <p:spPr>
                      <a:xfrm>
                        <a:off x="7071120" y="5792760"/>
                        <a:ext cx="2347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5">
                            <a:moveTo>
                              <a:pt x="0" y="0"/>
                            </a:moveTo>
                            <a:lnTo>
                              <a:pt x="160" y="3"/>
                            </a:lnTo>
                            <a:lnTo>
                              <a:pt x="160" y="15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57" name=""/>
                    <p:cNvGrpSpPr/>
                    <p:nvPr/>
                  </p:nvGrpSpPr>
                  <p:grpSpPr>
                    <a:xfrm>
                      <a:off x="7124400" y="5213520"/>
                      <a:ext cx="124560" cy="651960"/>
                      <a:chOff x="7124400" y="5213520"/>
                      <a:chExt cx="124560" cy="651960"/>
                    </a:xfrm>
                  </p:grpSpPr>
                  <p:grpSp>
                    <p:nvGrpSpPr>
                      <p:cNvPr id="758" name=""/>
                      <p:cNvGrpSpPr/>
                      <p:nvPr/>
                    </p:nvGrpSpPr>
                    <p:grpSpPr>
                      <a:xfrm>
                        <a:off x="7124400" y="5213520"/>
                        <a:ext cx="22680" cy="651960"/>
                        <a:chOff x="7124400" y="5213520"/>
                        <a:chExt cx="22680" cy="651960"/>
                      </a:xfrm>
                    </p:grpSpPr>
                    <p:sp>
                      <p:nvSpPr>
                        <p:cNvPr id="759" name=""/>
                        <p:cNvSpPr/>
                        <p:nvPr/>
                      </p:nvSpPr>
                      <p:spPr>
                        <a:xfrm flipV="1">
                          <a:off x="7124400" y="5213520"/>
                          <a:ext cx="2520" cy="65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flipV="1">
                          <a:off x="7143840" y="5213520"/>
                          <a:ext cx="3240" cy="65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61" name=""/>
                      <p:cNvGrpSpPr/>
                      <p:nvPr/>
                    </p:nvGrpSpPr>
                    <p:grpSpPr>
                      <a:xfrm>
                        <a:off x="7220520" y="5218200"/>
                        <a:ext cx="28440" cy="646920"/>
                        <a:chOff x="7220520" y="5218200"/>
                        <a:chExt cx="28440" cy="646920"/>
                      </a:xfrm>
                    </p:grpSpPr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 flipV="1">
                          <a:off x="7220520" y="5218200"/>
                          <a:ext cx="3240" cy="646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 flipV="1">
                          <a:off x="7246440" y="5225760"/>
                          <a:ext cx="2520" cy="639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764" name=""/>
            <p:cNvGrpSpPr/>
            <p:nvPr/>
          </p:nvGrpSpPr>
          <p:grpSpPr>
            <a:xfrm>
              <a:off x="7126920" y="6157440"/>
              <a:ext cx="342720" cy="242280"/>
              <a:chOff x="7126920" y="6157440"/>
              <a:chExt cx="342720" cy="242280"/>
            </a:xfrm>
          </p:grpSpPr>
          <p:sp>
            <p:nvSpPr>
              <p:cNvPr id="765" name=""/>
              <p:cNvSpPr/>
              <p:nvPr/>
            </p:nvSpPr>
            <p:spPr>
              <a:xfrm>
                <a:off x="7126920" y="6157440"/>
                <a:ext cx="46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rush Script MT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466400" y="6187680"/>
                <a:ext cx="324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data rates are in Meg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er Second and Kil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rms of data rate the measure of a kilo bit is 1000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the 1024 which is used for data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Mega Bits per Second = 244 Kilo Bytes per second (rough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1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s of Cells and Base station to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s will operate in a hierarchy overlaying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co Cells will operate in a Time division Duplex (TDD)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DD mode will use the same frequency to send and receive with a time frame being allo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other cells will operate in Frequency Division Duplex (FDD)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DD will operate in the same manner as GSM, with a different frequencies for the Uplink and Down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ransmitters/base stations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tures taken from (</a:t>
            </a: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  <a:hlinkClick r:id="rId1"/>
              </a:rPr>
              <a:t>www.undetectables.co.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Photo"/>
          <p:cNvPicPr/>
          <p:nvPr/>
        </p:nvPicPr>
        <p:blipFill>
          <a:blip r:embed="rId2"/>
          <a:stretch/>
        </p:blipFill>
        <p:spPr>
          <a:xfrm>
            <a:off x="468360" y="3284640"/>
            <a:ext cx="2879640" cy="33130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Photo"/>
          <p:cNvPicPr/>
          <p:nvPr/>
        </p:nvPicPr>
        <p:blipFill>
          <a:blip r:embed="rId3"/>
          <a:stretch/>
        </p:blipFill>
        <p:spPr>
          <a:xfrm>
            <a:off x="3708360" y="2924280"/>
            <a:ext cx="5113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643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dio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cated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2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K 3G Winners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867564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3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UMTS at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io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TS uses Wideband-Code Division Multiple Access (W-C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known as “IMT-2000 Direct Spre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remely complex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s 10x the current 2G processing po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ulation is done with Quadrature phase shift keying (QP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encodes 2 bits with each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s two modes of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equency Division Duplex (F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 Division Duplex (T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in the same manner as the CDMA used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MA allows multiple users to communicate at the same time over the same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of the devices is given a “Chipping code” this is known by the device and the base s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chipping code is then used to identify the signal and allows the BS to receive the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hipping code is used to adjust the frequency of data transferred during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ssential point of CDMA is the use of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eband CDMA operates the same but this takes place over a wider area of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TS uses 5MHz for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MA (narrowband) uses 200 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communications are secure by the nature that unless the chipping code is known, the sequence of the data can not be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ions can take place as soon as the device is ready and frequency reuse factor is now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 Reuse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the distance which needs to be left between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 same frequency is reused and the chipping code which is used is change and unique to a 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requency can be reused in adjoining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orary Base stations can be added to the infrastructure if required, as long as the chipping code was 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consider a group of people speaking, Chinese, English and Ita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se all speak at the same volume you can then listen for the parts which you under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English person starts talking louder than the rest, the all you will hear is Ital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other languages will be drown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MA Works on the sam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point of CDMA is the power control, so that the power sent out is just enough to allow data transfer to take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 side effect of this technology this controlling of the power that the radio interface uses, also saves the battery on the de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624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 – UT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re network for 3G will remain the same as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 purely cost issue, in the future the infrastructure will be upgr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179280" y="4365720"/>
          <a:ext cx="8713800" cy="1703160"/>
        </p:xfrm>
        <a:graphic>
          <a:graphicData uri="http://schemas.openxmlformats.org/drawingml/2006/table">
            <a:tbl>
              <a:tblPr/>
              <a:tblGrid>
                <a:gridCol w="4359240"/>
                <a:gridCol w="435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M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device/station (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Equipment (U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Station (B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-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Station Controller (BS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 Network Controller (RN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TS Terrestrial Radio Access Network (UTR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vice which wishes to communicate need’s to request access to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to prevent too many devices communicating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though CDMA will theoretically allow a very large number of user to communicate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ctually happens is the quality of the calls is reduced consid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 issue for voice but is a disaster for data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4358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TS will use a soft handover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SM used a hard handover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handover the device is always attached to at least one 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95280" y="3716280"/>
            <a:ext cx="2612880" cy="2879640"/>
            <a:chOff x="395280" y="3716280"/>
            <a:chExt cx="2612880" cy="2879640"/>
          </a:xfrm>
        </p:grpSpPr>
        <p:sp>
          <p:nvSpPr>
            <p:cNvPr id="802" name=""/>
            <p:cNvSpPr/>
            <p:nvPr/>
          </p:nvSpPr>
          <p:spPr>
            <a:xfrm>
              <a:off x="395280" y="3716280"/>
              <a:ext cx="237636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973800" y="4003560"/>
              <a:ext cx="953280" cy="1577520"/>
              <a:chOff x="973800" y="4003560"/>
              <a:chExt cx="953280" cy="1577520"/>
            </a:xfrm>
          </p:grpSpPr>
          <p:sp>
            <p:nvSpPr>
              <p:cNvPr id="804" name=""/>
              <p:cNvSpPr/>
              <p:nvPr/>
            </p:nvSpPr>
            <p:spPr>
              <a:xfrm>
                <a:off x="1044360" y="4003560"/>
                <a:ext cx="288720" cy="9349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73800" y="4938480"/>
                <a:ext cx="95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Node-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2054880" y="4003560"/>
              <a:ext cx="953280" cy="1577520"/>
              <a:chOff x="2054880" y="4003560"/>
              <a:chExt cx="953280" cy="1577520"/>
            </a:xfrm>
          </p:grpSpPr>
          <p:sp>
            <p:nvSpPr>
              <p:cNvPr id="807" name=""/>
              <p:cNvSpPr/>
              <p:nvPr/>
            </p:nvSpPr>
            <p:spPr>
              <a:xfrm>
                <a:off x="2125440" y="4003560"/>
                <a:ext cx="288720" cy="9349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054880" y="4938480"/>
                <a:ext cx="95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Node-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9" name="" descr=""/>
            <p:cNvPicPr/>
            <p:nvPr/>
          </p:nvPicPr>
          <p:blipFill>
            <a:blip r:embed="rId1"/>
            <a:stretch/>
          </p:blipFill>
          <p:spPr>
            <a:xfrm>
              <a:off x="1116000" y="5516640"/>
              <a:ext cx="3268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1116000" y="5227560"/>
              <a:ext cx="71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3359160" y="3716280"/>
            <a:ext cx="2376360" cy="287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3637800" y="4005360"/>
            <a:ext cx="953280" cy="1303200"/>
            <a:chOff x="3637800" y="4005360"/>
            <a:chExt cx="953280" cy="1303200"/>
          </a:xfrm>
        </p:grpSpPr>
        <p:sp>
          <p:nvSpPr>
            <p:cNvPr id="813" name=""/>
            <p:cNvSpPr/>
            <p:nvPr/>
          </p:nvSpPr>
          <p:spPr>
            <a:xfrm>
              <a:off x="3708360" y="4005360"/>
              <a:ext cx="288720" cy="9349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637800" y="49402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de-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4790520" y="4005360"/>
            <a:ext cx="953280" cy="1577520"/>
            <a:chOff x="4790520" y="4005360"/>
            <a:chExt cx="953280" cy="1577520"/>
          </a:xfrm>
        </p:grpSpPr>
        <p:sp>
          <p:nvSpPr>
            <p:cNvPr id="816" name=""/>
            <p:cNvSpPr/>
            <p:nvPr/>
          </p:nvSpPr>
          <p:spPr>
            <a:xfrm>
              <a:off x="4861080" y="4005360"/>
              <a:ext cx="288720" cy="9349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90520" y="494028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de-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4440240" y="5587920"/>
            <a:ext cx="326880" cy="7891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4079880" y="522756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527880" y="3716280"/>
            <a:ext cx="2376360" cy="287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6950880" y="4005360"/>
            <a:ext cx="953280" cy="1577520"/>
            <a:chOff x="6950880" y="4005360"/>
            <a:chExt cx="953280" cy="1577520"/>
          </a:xfrm>
        </p:grpSpPr>
        <p:sp>
          <p:nvSpPr>
            <p:cNvPr id="822" name=""/>
            <p:cNvSpPr/>
            <p:nvPr/>
          </p:nvSpPr>
          <p:spPr>
            <a:xfrm>
              <a:off x="7021440" y="4005360"/>
              <a:ext cx="288720" cy="9349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50880" y="494028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de-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7959240" y="4005360"/>
            <a:ext cx="953280" cy="1577520"/>
            <a:chOff x="7959240" y="4005360"/>
            <a:chExt cx="953280" cy="1577520"/>
          </a:xfrm>
        </p:grpSpPr>
        <p:sp>
          <p:nvSpPr>
            <p:cNvPr id="825" name=""/>
            <p:cNvSpPr/>
            <p:nvPr/>
          </p:nvSpPr>
          <p:spPr>
            <a:xfrm>
              <a:off x="8029800" y="4005360"/>
              <a:ext cx="288720" cy="9349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59240" y="494028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de-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8183520" y="5516640"/>
            <a:ext cx="327240" cy="7887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8256600" y="515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4656240" y="515628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rtual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part of the ITU standard the Virtual Home Environment (VHE) will be sup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2G a VLR was used to allow the transfer of pers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HE will take this one stage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provide a common look and fee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independent of the location, connecting network and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envisaged that this will be used on both circuit switched and packet switch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is will be achieved is undecided at the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638000"/>
            <a:ext cx="8785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ream (inten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G and 2.5G systems are incompatible around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wide devices need to have multiple technologies inside of them, i.e. tri-band phones, dual-mode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single standard that would be accepte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device should be able to work anywher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4160" y="57355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i="1" lang="en-GB" sz="2800" spc="-1" strike="noStrike">
                <a:solidFill>
                  <a:srgbClr val="cc0066"/>
                </a:solidFill>
                <a:latin typeface="Arial"/>
              </a:rPr>
              <a:t>Access to Information from Anyplace, Anyti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507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G UMTS is working in one part of the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le of man has the equipment to use 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quipment is run and operated by 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icense spectrum used on this island was given free by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ual devices used were given to some of the is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idea was to trial the equipment in a limited m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 they wanted to see if there was a pattern of usage for the technology i.e. the killer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 it is known now they have not found the single killer app, like SMS was for G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we consider Japan for the killer app it was emai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G bandwidth is not needed for emai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ails of the 3G license auction (U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umts-forum.org/servlet/dycon/ztumts/umts/Live/en/umts/Resources_Licensing_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TS standards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3gpp2.org/Public_html/specs/index.c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63800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eam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wide positioning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le to pinpoint a device and direct services t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ly to be used for “Push”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d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um 2048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urope by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 2001 (this was achie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usage by 2005 (not going to hap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standards with some operators in America and the rest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future market forces may move towards a singl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.e. VHS and Betamax video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wide identical available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on the encoding/decoding techniqu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fluenc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s who have invested in one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3G stand was written by the International Telecommunication Union (I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was referred to as IMT-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to the standards was the available data over the ai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Mbps in fixed or in-building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84 kbps in pedestrian or urban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4 kbps in wide area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data rates in large geographic area systems (satell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arts of th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and Network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iffs and B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ain technical implementations were ag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-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2000 -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D-SCDMA –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versal Mobile Telecommunication system (UM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s upon the successful European GS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porates the developments made for the GPRS and EDG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ve areas of standard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r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ynchronous Transfer Method (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been defined as the core network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 allows circuit switched transfer of data using pac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speed data transfer – currently maximum 10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arantee of quality of service for the duration of packet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packets used called cells for the transfer of data to minimise the impact on the routers, network and swit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guments are being pushed for the core network to allow 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RFC331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eptember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would allow packets to be transferred directly from the internet to the device with no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Pv6 does contain QOS headers, which can be used with the correctly configured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3G devices could have a single IP address that would not nee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zuela Patricio</cp:lastModifiedBy>
  <dcterms:modified xsi:type="dcterms:W3CDTF">2005-11-07T01:30:13Z</dcterms:modified>
  <cp:revision>144</cp:revision>
  <dc:subject/>
  <dc:title>PowerPoint Presentation</dc:title>
</cp:coreProperties>
</file>